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99D-5E23-44D3-AAA8-F6FBE2BD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31B-8447-40F7-B178-3D3D44F1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91F-D4DE-412B-9FF7-1D304CC8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2E6-087B-4957-B6B9-B17995DB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A442-AFB9-4D94-9C52-C76CDDBE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559C-F2B0-4301-B4D5-8ECFB70F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DD1C-F225-4561-B7BD-45D8B9C4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3995-5555-450F-B6A2-E2253EFA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B277-B8D7-4F7E-BF9A-65935264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55BA-4F35-43B8-A650-08282B23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F512-46FB-4393-8B64-17F4999A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DD3-58B9-4040-AEA1-29DF237B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CA71-7EC7-496F-980C-0876818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23C2-632A-42D6-A407-9EE1FFB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A7A7-A596-4E23-9CF9-0B9F694F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1494-55B9-4D70-BCFF-332AA579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8E64-D7CE-4410-BA9A-05B5CF29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E44-E87F-48EC-9BCA-29B76B60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CD6-59AC-4C81-9417-69B19604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521-7BF0-411B-8469-CC0341D6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E54-150A-42C5-A9B1-D2039521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863-9AD3-4B46-B8EC-26057F6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7CF-AE1F-4DE1-85AB-534EC303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7F5-C388-4434-A98E-80EBFFF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8088-8342-40A4-B818-77483E169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E93A-D077-4ABA-B362-6B436DF9F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carchile.cl/ntg/personajes/1611/article-94939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wikiderecho.cl/wiki/Imagen:GGV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educarchile.cl/ntg/personajes/1611/article-95011.html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Sistemas</a:t>
            </a: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olíticos </a:t>
            </a: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y </a:t>
            </a: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olíticas Públicas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71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ahoma"/>
              </a:rPr>
              <a:t>La crisis de un modelo social y su context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88000" y="2133720"/>
            <a:ext cx="40320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límites de la integ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agotamiento de la alianza gobern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Una época de transform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cambios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16360" y="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ahoma"/>
              </a:rPr>
              <a:t>El agotamiento de las políticas </a:t>
            </a:r>
            <a:r>
              <a:rPr b="1" lang="es-CL" sz="2800" spc="-1" strike="noStrike">
                <a:solidFill>
                  <a:srgbClr val="e5ffff"/>
                </a:solidFill>
                <a:latin typeface="Tahoma"/>
              </a:rPr>
              <a:t>públ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127160"/>
            <a:ext cx="450072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“Revolución en 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experimento chile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“Gatopard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reforma agr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promoción po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sindical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uevos actores: pobres del campo y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Líneas de expl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teoría de la modern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Un desarrollo capitalista insufic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Teoría de la Depend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asfixia del merc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88000" y="18900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Perspectiv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viabilidad de las políticas públicas: Los límites de la foc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¿Camino de integració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fredo Jocelyn Holt et, Al. “El siglo XX Chileno” Ed, Sudamericana 1998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Gabriel Salazar. “Las anchas alamedas”. Ed. LOM 1994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omás Moulian. “Chile anatomía del un mito” Ed. LOM 1997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os sistemas políticos: condiciones estructur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minación v/s Particip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servación y Cambio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es dimensiones del confli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sistema político y el control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32160" y="0"/>
            <a:ext cx="58118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327672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tado v/s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concepto de merc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mercado como asignador de recurs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sistema político y el Est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bienestar social como mis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bienestar desde el Estado: </a:t>
            </a:r>
            <a:r>
              <a:rPr b="0" i="1" lang="es-ES" sz="2100" spc="-1" strike="noStrike">
                <a:solidFill>
                  <a:srgbClr val="ffffff"/>
                </a:solidFill>
                <a:latin typeface="Tahoma"/>
              </a:rPr>
              <a:t>el caso de la educación y la salu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Las políticas públicas y el Est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Los sistemas políticos en Ch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La Sociedad Oligárqu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fundamentos: El Orden tradi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Legitimidad: la cultura de la do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erfil Social: estructura y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sistema político: la endoga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a lógica aristocrática: que gobiernen los mej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got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Crisis y Transform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La constitución de 1925: régimen presidencial y sufragio “universal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Auge y caída de la dictadura de Carlos Ibáñez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Marmaduke Grove y la República Social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Crisis política y soci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Nuevos grupos sociales en ascens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Un nuevo rol para es Esta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Arturo Alessandri Palma"/>
          <p:cNvPicPr/>
          <p:nvPr/>
        </p:nvPicPr>
        <p:blipFill>
          <a:blip r:embed="rId2"/>
          <a:stretch/>
        </p:blipFill>
        <p:spPr>
          <a:xfrm>
            <a:off x="6804000" y="981000"/>
            <a:ext cx="234000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32360" y="3716280"/>
            <a:ext cx="4211640" cy="314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armaduke Grove instaló una emisora en La Moneda"/>
          <p:cNvPicPr/>
          <p:nvPr/>
        </p:nvPicPr>
        <p:blipFill>
          <a:blip r:embed="rId4"/>
          <a:stretch/>
        </p:blipFill>
        <p:spPr>
          <a:xfrm>
            <a:off x="4930920" y="981000"/>
            <a:ext cx="1946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907920"/>
            <a:ext cx="3168360" cy="378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907920"/>
            <a:ext cx="3059280" cy="3789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907920"/>
            <a:ext cx="2916360" cy="3789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4869000"/>
            <a:ext cx="6912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dustrialización: un modelo virt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urbanización: el proceso migr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nuevo sistema político: la institucion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Frente Popular: La moder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Un nuevo modelo de políticas públic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lares de la intervenció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ción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Integración, modernización y expectativa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risis social como frus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onstrucción de las expect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limitación de la integ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11-07T01:05:03Z</dcterms:modified>
  <cp:revision>15</cp:revision>
  <dc:subject/>
  <dc:title>La Sociedad del Trabajo</dc:title>
</cp:coreProperties>
</file>