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356-24BD-4CE2-8210-F94B6B68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56D-5186-447A-9E85-242F4B4C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239-C172-4FD0-9E48-0E1F751F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7A2-5CF0-4410-94BB-12A850D0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58EE-27AE-4489-A98B-3C36096D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5894-D1B6-4C85-997E-34BAFEDB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5818-9652-407B-906E-AE4F5185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D938-23EC-4814-BA85-B344FB8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705-5AC4-4912-9CB0-B9AB39F9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A81C-1C3A-45EE-BB2B-A7D3F889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492F-79EB-46F8-9489-23B1791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37A-E54B-47C5-8B01-AA170AA6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F3BC-D49B-4728-80EE-A6E58B3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42D9-3A88-436A-A040-1F08103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0D6D-642D-4DEB-B109-61C8AE6C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CC2F-6EF6-4E37-99A4-ED6E1FF6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88B7-A0A5-46FE-A988-B832F4AB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FF7-899F-48BD-92EB-A5C42F1C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805-2878-4AFB-850D-AB37D43A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3E5-0B30-46F8-B7D6-9D55F8E9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FD6-4C6D-4149-97E2-1F8DFA76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568-087B-4936-A4DF-488ED78E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0D6-544E-44A0-AAD8-FCD25D1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B5A-925B-4392-82EF-6CAFA57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63BF-F128-4714-AFA3-BA764B721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2F0-8465-4C91-A2CC-D6FC9165F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Trayectorias Labor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Curso de Sociolog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logou" descr="Universidad de Chile"/>
          <p:cNvPicPr/>
          <p:nvPr/>
        </p:nvPicPr>
        <p:blipFill>
          <a:blip r:embed="rId2"/>
          <a:stretch/>
        </p:blipFill>
        <p:spPr>
          <a:xfrm>
            <a:off x="755640" y="765000"/>
            <a:ext cx="111744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Características y Objetiv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vestigación consiste en registrar y analizar las posiciones sucesivas en las relaciones de trabajo durante la vida o un periodo determin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objetivo central de este tipo de estudios se relaciona con las condiciones de trabajo que enfrentan las personas en su vida laboral y la protección con que cuentan, para de allí inferir la significación que esta actividad tiene para la perso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ite entender qué mecanismos actúan en las personas pertenecientes a los grupos más desfavorecidos, para obstaculizar su movilidad social, tendiendo a perpetuarse en su condi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Aplicaciones de estos Estudi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etodología para el análisis de la pobreza y exclusión social: El análisis longitudinal v/s el análisis sincrón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dencia la discriminación de género en el mercado del trabaj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dencia los cambios acontecidos en el contexto de las migraciones pobl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Método de Investig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trevista en profundidad: debe registrar las distintas maneras en que la persona ha resuelto el problema de la reproducción material. Poniendo especial atención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lecer una secuencia cronológ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gistrar las decisiones de cambio y su motiv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01800" indent="-90180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dentificar los periodos sin empleo y las estrategias de sobrevivencia aplic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Cronologí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objetivo de registrar una cronología exhaustiva, es evitar que se produzcan omisiones involuntarias u olvidos también involuntarios del entrevist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importante estar atentos al deseo, necesidad o decisión del entrevistado de omitir ciertos perio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s Razones del Cambio de Empl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objetivo de registrar las razones que inducen una decisión de cambiar de empleo o actividad, es identificar si el cambio es resultado de una decisión personal o un imperativo de las circunsta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el análisis longitudinal debiera observarse un conjunto de hitos que marcan las transiciones. Se espera que a mayor calificación los hitos se expliquen más por razones personales que por circunstancias del medio y vice ver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eriodos sin emple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de identificar estos periodos y sus características es especialmente importante en el caso de las muje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muchos momentos se encuentran desarrollando actividades domésticas, que son combinadas con actividades remuneradas, pero que se ocultan en el contexto de “lo doméstico” (Trabajo a domicili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periodos sin empleo deben acompañar el análisis longitudinal y se espera que estén presentes con regular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Me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uscamos conocer casos de personas que han buscado distintas formas de enfrentar las necesidades materiales que cotidianamente nos afect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Buscamos inferir las variables que ayudan a explicar la trayectoria seguida y las alternativas posibles. Registrar la huella que la trayectoria deja en las personas y cómo influye en la configuración de su cosmo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19:17Z</dcterms:created>
  <dc:creator>Patricio Escobar</dc:creator>
  <dc:description/>
  <dc:language>en-US</dc:language>
  <cp:lastModifiedBy>Patricio Escobar S.</cp:lastModifiedBy>
  <dcterms:modified xsi:type="dcterms:W3CDTF">2008-08-29T00:55:51Z</dcterms:modified>
  <cp:revision>10</cp:revision>
  <dc:subject/>
  <dc:title>Sociología</dc:title>
</cp:coreProperties>
</file>