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A42A-CD8B-49DC-8339-793E162B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183-FC02-4230-A8B5-AC18D494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45A-D54B-4BBF-8939-6B3B83EA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2BBB-D384-40B9-A4D0-0896A437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3EC4-53C8-4C9A-AF45-41288BC9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7E69-0159-48CB-B799-151F34EE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A329-8758-4AA5-B54D-A91B52DC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A602-8E1F-444E-A6AE-2DDD0962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F6B4-2341-4C77-A956-96AF5BCD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9C78-4C11-4EA2-B000-F11172A9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21AE-BEA9-4AFE-8D69-941E5842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616A-D8A5-4D31-85EA-014F8A96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A345-8CD9-4E18-85E5-19670EDC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9357-A345-41F0-B6F8-CBC32CD3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3C30-4A9A-4330-B8E3-57A5F13D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99F1-8A42-40E1-A115-286F7B0F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C36B-2D96-4C54-A8D9-ED645A86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8F93-3A91-4130-AE70-980447B0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074-A5E9-4F70-920D-C86E9FC9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B9E-A08B-4ED1-8081-4DD8AAEF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D61-325E-430E-8AE6-7EF9D151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286A-987B-472A-8F9A-DB73E59D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F7B-5D37-43C0-B846-267F59F6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372-31F4-4B2E-A1CC-F4B98BC6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49A9-38F6-4E66-9881-A9EFFD5C3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5DC2-E5B8-476C-9043-E503FD509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Trayectorias Labor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Curso de Sociolog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logou" descr="Universidad de Chile"/>
          <p:cNvPicPr/>
          <p:nvPr/>
        </p:nvPicPr>
        <p:blipFill>
          <a:blip r:embed="rId2"/>
          <a:stretch/>
        </p:blipFill>
        <p:spPr>
          <a:xfrm>
            <a:off x="755640" y="765000"/>
            <a:ext cx="1117440" cy="11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Características y Objetiv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investigación consiste en registrar y analizar las posiciones sucesivas en las relaciones de trabajo durante la vida o un periodo determin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n objetivo central de este tipo de estudios se relaciona con las condiciones de trabajo que enfrentan las personas en su vida laboral y la protección con que cuentan, para de allí inferir la significación que esta actividad tiene para la perso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mite entender qué mecanismos actúan en las personas pertenecientes a los grupos más desfavorecidos, para obstaculizar su movilidad social, tendiendo a perpetuarse en su condi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Aplicaciones de estos Estudi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etodología para el análisis de la pobreza y exclusión social: El análisis longitudinal v/s el análisis sincrón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videncia la discriminación de género en el mercado del trabaj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videncia los cambios acontecidos en el contexto de las migraciones poblacion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Método de Investiga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1800" indent="-9018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trevista en profundidad: debe registrar las distintas maneras en que la persona ha resuelto el problema de la reproducción material. Poniendo especial atención 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0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01800" indent="-9018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blecer una secuencia cronológ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01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01800" indent="-9018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egistrar las decisiones de cambio y su motiv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01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01800" indent="-9018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dentificar los periodos sin empleo y las estrategias de sobrevivencia aplic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Cronologí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objetivo de registrar una cronología exhaustiva, es evitar que se produzcan omisiones involuntarias u olvidos también involuntarios del entrevist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 importante estar atentos al deseo, necesidad o decisión del entrevistado de omitir ciertos perio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Las Razones del Cambio de Emple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objetivo de registrar las razones que inducen una decisión de cambiar de empleo o actividad, es identificar si el cambio es resultado de una decisión personal o un imperativo de las circunstanc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 el análisis longitudinal debiera observarse un conjunto de hitos que marcan las transiciones. Se espera que a mayor calificación los hitos se expliquen más por razones personales que por circunstancias del medio y vice ver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Periodos sin emple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objetivo de identificar estos periodos y sus características es especialmente importante en el caso de las muje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muchos momentos se encuentran desarrollando actividades domésticas, que son combinadas con actividades remuneradas, pero que se ocultan en el contexto de “lo doméstico” (Trabajo a domicili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periodos sin empleo deben acompañar el análisis longitudinal y se espera que estén presentes con regular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Me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Buscamos conocer casos de personas que han buscado distintas formas de enfrentar las necesidades materiales que cotidianamente nos afect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Buscamos inferir las variables que ayudan a explicar la trayectoria seguida y las alternativas posibles. Registrar la huella que la trayectoria deja en las personas y cómo influye en la configuración de su cosmov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4:19:17Z</dcterms:created>
  <dc:creator>Patricio Escobar</dc:creator>
  <dc:description/>
  <dc:language>en-US</dc:language>
  <cp:lastModifiedBy>Patricio Escobar S.</cp:lastModifiedBy>
  <dcterms:modified xsi:type="dcterms:W3CDTF">2008-08-29T00:55:51Z</dcterms:modified>
  <cp:revision>10</cp:revision>
  <dc:subject/>
  <dc:title>Sociología</dc:title>
</cp:coreProperties>
</file>