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B574-65C7-4576-87A3-F67966A1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3AB4-5E12-468E-9DDF-D4C25C6C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A91-1600-48F8-AB45-EC724D96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66CB-FE50-4C80-9666-BA8440F3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661F-E40A-4E84-804D-024A922D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CF23-504E-415A-A8F2-B7D5498D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DC31-DCCB-4110-B247-81B35372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86DA-584D-41CF-BFEC-BC9FCEE1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B1C2-A904-478C-96C2-0221497C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F194-D6EF-4B33-8E16-0FDF970B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5EF2-6850-44B0-A8E8-1A14A8FC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3705-5EB1-4063-9625-96F5EFEF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32D7-0F1B-4D50-B5C8-DF5BCDAA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4C94-2CCF-410B-AA3B-6D643D02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FC35-E2C0-426F-8A40-CA380D0A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9187-2679-41FB-A285-4CF25617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F313-F2E1-4ECF-9A98-1AD238F7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1548-7C18-4F41-82B1-4979D10B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CA41-A0F8-4DE2-829E-AC89A738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DC17-7EC7-4FB1-9F02-89EB27B9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7272-AF29-473F-A9B5-44161689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3B50-0D64-4F05-AB60-E9E835FC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B430-01EE-47C6-998C-CCA8D114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510F-7DAC-4475-83CA-6687F087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8A49-FA88-4BE8-B8D5-B1E741167A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9C4F-0BD9-41C7-82EA-8F6553FBE8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ffff"/>
                </a:solidFill>
                <a:latin typeface="Tahoma"/>
              </a:rPr>
              <a:t>Trayectorias Labora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Curso de Sociolog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logou" descr="Universidad de Chile"/>
          <p:cNvPicPr/>
          <p:nvPr/>
        </p:nvPicPr>
        <p:blipFill>
          <a:blip r:embed="rId2"/>
          <a:stretch/>
        </p:blipFill>
        <p:spPr>
          <a:xfrm>
            <a:off x="755640" y="765000"/>
            <a:ext cx="1117440" cy="11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Características y Objetiv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investigación consiste en registrar y analizar las posiciones sucesivas en las relaciones de trabajo durante la vida o un periodo determin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n objetivo central de este tipo de estudios se relaciona con las condiciones de trabajo que enfrentan las personas en su vida laboral y la protección con que cuentan, para de allí inferir la significación que esta actividad tiene para la perso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ermite entender qué mecanismos actúan en las personas pertenecientes a los grupos más desfavorecidos, para obstaculizar su movilidad social, tendiendo a perpetuarse en su condi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Aplicaciones de estos Estudi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etodología para el análisis de la pobreza y exclusión social: El análisis longitudinal v/s el análisis sincrón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videncia la discriminación de género en el mercado del trabaj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videncia los cambios acontecidos en el contexto de las migraciones poblacion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Método de Investigació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50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1800" indent="-9018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trevista en profundidad: debe registrar las distintas maneras en que la persona ha resuelto el problema de la reproducción material. Poniendo especial atención 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90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901800" indent="-9018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ablecer una secuencia cronológ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901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901800" indent="-9018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egistrar las decisiones de cambio y su motiv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901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901800" indent="-9018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Identificar los periodos sin empleo y las estrategias de sobrevivencia aplic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Cronologí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l objetivo de registrar una cronología exhaustiva, es evitar que se produzcan omisiones involuntarias u olvidos también involuntarios del entrevist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 importante estar atentos al deseo, necesidad o decisión del entrevistado de omitir ciertos perio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Las Razones del Cambio de Emple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objetivo de registrar las razones que inducen una decisión de cambiar de empleo o actividad, es identificar si el cambio es resultado de una decisión personal o un imperativo de las circunstanci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 el análisis longitudinal debiera observarse un conjunto de hitos que marcan las transiciones. Se espera que a mayor calificación los hitos se expliquen más por razones personales que por circunstancias del medio y vice ver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Periodos sin emple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objetivo de identificar estos periodos y sus características es especialmente importante en el caso de las muje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 muchos momentos se encuentran desarrollando actividades domésticas, que son combinadas con actividades remuneradas, pero que se ocultan en el contexto de “lo doméstico” (Trabajo a domicilio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os periodos sin empleo deben acompañar el análisis longitudinal y se espera que estén presentes con regulari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ffff"/>
                </a:solidFill>
                <a:latin typeface="Tahoma"/>
              </a:rPr>
              <a:t>Me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Buscamos conocer casos de personas que han buscado distintas formas de enfrentar las necesidades materiales que cotidianamente nos afect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Buscamos inferir las variables que ayudan a explicar la trayectoria seguida y las alternativas posibles. Registrar la huella que la trayectoria deja en las personas y cómo influye en la configuración de su cosmovi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14:19:17Z</dcterms:created>
  <dc:creator>Patricio Escobar</dc:creator>
  <dc:description/>
  <dc:language>en-US</dc:language>
  <cp:lastModifiedBy>Patricio Escobar S.</cp:lastModifiedBy>
  <dcterms:modified xsi:type="dcterms:W3CDTF">2008-08-29T00:55:51Z</dcterms:modified>
  <cp:revision>10</cp:revision>
  <dc:subject/>
  <dc:title>Sociología</dc:title>
</cp:coreProperties>
</file>