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E012-AF62-43D8-8FC0-D0C8CA0D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B1BD-E895-418A-BDAB-75AA7C32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D9C3-34BC-42B6-AEC3-74B63F2F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F539-F010-493D-8AD4-126CFADF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637B-27D5-4B46-8E5B-2C4564BB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2996-3869-4FF3-A0E4-3C996E1F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BA60-E891-417F-A54C-2392D915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F16D-6C44-406B-BA01-72EFD6D1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C077-B62A-462E-B1BA-5EC33D52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8998-3F82-4236-8E27-4C0C2223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BA38-4383-4FF1-9413-B83A9A4C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E730-DBA6-438A-8CF1-88510234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A928-FA97-469C-AC13-DFBBF90E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D060-3EA1-4F48-BB35-04EE00E3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DBEF-917E-4BF4-B994-E709DEDD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4CCB-D9A7-4C43-A60A-E3974AE3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2E47-DE0E-4BEC-B84D-C2BDD533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2506-38D8-48C4-ABB1-E23112B2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488-61CD-4291-968D-B453296A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F51-2ABF-4B68-8522-ED3EB9C3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741-9DBF-4528-8EF7-6E4C633B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8CEB-6D21-4893-8CD6-1A8F0DD7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D84-2AE4-467F-82E3-C5F4A6B4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C2F-674D-4065-8175-789B3657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1C0C-7B69-4595-834D-7B2FC58A5E0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ABFB-8959-4485-BA56-8EAE97E29B2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odelos%201.ppt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odelos%202.ppt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odelos%203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odelos%204.ppt" TargetMode="External"/><Relationship Id="rId3" Type="http://schemas.openxmlformats.org/officeDocument/2006/relationships/hyperlink" Target="file:///Modelos%205.ppt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odelos%206.ppt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77240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e5ffff"/>
                </a:solidFill>
                <a:latin typeface="Tahoma"/>
              </a:rPr>
              <a:t>Modelos de desarrollo:</a:t>
            </a:r>
            <a:r>
              <a:rPr b="0" lang="es-CL" sz="32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3200"/>
            </a:br>
            <a:r>
              <a:rPr b="0" lang="es-CL" sz="3200" spc="-1" strike="noStrike">
                <a:solidFill>
                  <a:srgbClr val="e5ffff"/>
                </a:solidFill>
                <a:latin typeface="Tahoma"/>
              </a:rPr>
              <a:t>Autoritarismo y democraci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Un acercamiento concept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o de producción y modelo de desarrollo: de lo abstracto a lo concre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onomía y política: restricciones mutuas. De la calidad de la política a la calidad de las relacio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a mirada respecto a las visiones del desarrollo: desde la voluntad modernizadora al pesimismo estruc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La pobre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breza y eficacia modernizadora: la capacidad del Estado para vencer la 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exclu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ahoma"/>
              </a:rPr>
              <a:t>La pobre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stribución y eficacia modernizadora: la capacidad del Estado para redistribuir y satisfacer las demandas socia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roles del Estado Keynesian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Distribución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funcional y pacto moderniz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Empleo e ingres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ración social y empleo: los límites del modelo industrializ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La modernización como urbanización: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el conflicto rural-tradicional y urbano-mode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aburguesamiento de la oligarquía: el carácter rentist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El Comercio exterior y la industrializ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una economía abierta al modelo de sustitu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desarrollo relativo del </a:t>
            </a:r>
            <a:r>
              <a:rPr b="0" lang="es-E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sector industr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estrangulamiento del modelo de </a:t>
            </a:r>
            <a:r>
              <a:rPr b="0" lang="es-CL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sustitu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La crisis del modelo industrializ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desequilibrios macroeconóm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éficit de cuenta corri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uda exter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Inf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Los programas del F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juste estruct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pertura y privat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Desarrollo, modernización y regímenes polít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modernización como un imperativo: la nueva composición so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desarrollo periférico po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ajuste estructural como refundación capitali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¿Crecimiento v/s Excedent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1:20:04Z</dcterms:created>
  <dc:creator>Patricio Escobar</dc:creator>
  <dc:description/>
  <dc:language>en-US</dc:language>
  <cp:lastModifiedBy>Patricio Escobar S.</cp:lastModifiedBy>
  <dcterms:modified xsi:type="dcterms:W3CDTF">2008-11-04T09:56:13Z</dcterms:modified>
  <cp:revision>13</cp:revision>
  <dc:subject/>
  <dc:title>Diapositiva 1</dc:title>
</cp:coreProperties>
</file>