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9B0-E262-4A0E-83FE-7E7177E0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F50-5808-41E5-8268-EE8E3959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912-AFAB-4593-AA94-FD113FE6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CFC-5062-4255-A8F1-139C251C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16D8-3835-416C-AFE8-FD99FA4C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9E95-AB96-4FE4-865C-CD176432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4DAE-7EF1-4363-8710-709CB0FB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49DA-B88C-400F-A0DB-74EB92DD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FACA-7904-4799-8B29-AD539443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AEED-F46F-47CD-87C9-F48AD66C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027B-F7CC-4157-ACC3-F6C4257D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713-CD86-4266-A19C-A1140014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4488-1F86-4B74-B192-10880DF7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24FA-D3DC-4D3F-90B7-780C1007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0221-6EB1-4803-A988-0C9FDF0D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D6D7-F60E-4C5F-8618-09103B57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B77B-0596-4FF4-9A7B-B20C4654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6BF-01A7-4CD9-AA3D-2FDC746B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5A5-719E-451D-8A43-607A6BBA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BCA-055B-4FD9-85D3-83163698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00C-F69A-4161-81E2-87F85FE6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141-BBD9-42BA-82C0-37A0DDDF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C21-A089-4160-8A25-09713441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7FE-E5B8-4468-86C1-360A1356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50DE-0CCA-490D-BF2B-3D460DA285E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6B44-CCF9-4BDD-946F-1481A46F9AE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odelos%201.ppt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odelos%202.ppt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odelos%203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odelos%204.ppt" TargetMode="External"/><Relationship Id="rId3" Type="http://schemas.openxmlformats.org/officeDocument/2006/relationships/hyperlink" Target="file:///Modelos%205.ppt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odelos%206.ppt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e5ffff"/>
                </a:solidFill>
                <a:latin typeface="Tahoma"/>
              </a:rPr>
              <a:t>Modelos de desarrollo:</a:t>
            </a:r>
            <a:r>
              <a:rPr b="0" lang="es-CL" sz="32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3200"/>
            </a:br>
            <a:r>
              <a:rPr b="0" lang="es-CL" sz="3200" spc="-1" strike="noStrike">
                <a:solidFill>
                  <a:srgbClr val="e5ffff"/>
                </a:solidFill>
                <a:latin typeface="Tahoma"/>
              </a:rPr>
              <a:t>Autoritarismo y democraci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Un acercamiento concept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o de producción y modelo de desarrollo: de lo abstracto a lo concre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onomía y política: restricciones mutuas. De la calidad de la política a la calidad de las relacio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a mirada respecto a las visiones del desarrollo: desde la voluntad modernizadora al pesimismo estruc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La pobre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breza y eficacia modernizadora: la capacidad del Estado para vencer la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exclu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ahoma"/>
              </a:rPr>
              <a:t>La pobre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stribución y eficacia modernizadora: la capacidad del Estado para redistribuir y satisfacer las demandas soci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roles del Estado Keynesian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Distribució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funcional y pacto moderniz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mpleo e ingre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ación social y empleo: los límites del modelo industrializ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La modernización como urbanización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el conflicto rural-tradicional y urbano-mod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aburguesamiento de la oligarquía: el carácter rentist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El Comercio exterior y la industrializ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una economía abierta al modelo de sustitu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desarrollo relativo del </a:t>
            </a: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sector industr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estrangulamiento del modelo de </a:t>
            </a:r>
            <a:r>
              <a:rPr b="0" lang="es-CL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sustitu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La crisis del modelo industrializ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desequilibrios macroeconóm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éficit de cuenta corr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uda ext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Inf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Los programas del F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juste estruct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pertura y privat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Desarrollo, modernización y regímenes polít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modernización como un imperativo: la nueva composición so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desarrollo periférico po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ajuste estructural como refundación capital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¿Crecimiento v/s Exced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1:20:04Z</dcterms:created>
  <dc:creator>Patricio Escobar</dc:creator>
  <dc:description/>
  <dc:language>en-US</dc:language>
  <cp:lastModifiedBy>Patricio Escobar S.</cp:lastModifiedBy>
  <dcterms:modified xsi:type="dcterms:W3CDTF">2008-11-04T09:56:13Z</dcterms:modified>
  <cp:revision>13</cp:revision>
  <dc:subject/>
  <dc:title>Diapositiva 1</dc:title>
</cp:coreProperties>
</file>