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D58-13E4-4FB1-AF87-E1F51C73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774-078E-4B34-B1E7-8951633B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707-A29B-494B-B124-BBD753C0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750-6349-40C6-8636-6FD51AF8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6412-2AEA-4CBA-A8D8-087FC0D9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312F-72F5-4101-BABF-77081E1E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B0BE-85D0-4477-A67F-08050706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797E-F7DB-4567-A13E-5C93DBB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33FB-3DB9-4E08-AD8A-0C7E26DD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08C-2673-4E4F-AEF9-19EEB073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2582-BE97-4A79-9165-7A8FEA77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522-235C-475A-A158-DCFC4AC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CE73-928F-42C2-B241-E312DE6F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6F6-B46C-4F7D-A537-E5500CA4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6543-E16E-4162-85B8-2381BDCE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3609-2F08-4757-9C07-556CB796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DD4-2E77-4AF5-AEF7-2B426297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6EC-8C17-46E4-A3D7-7897D8ED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077-E472-4532-A86E-E1E6EDFB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448-69C1-4217-AF17-800680E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F9A-BC84-422B-8599-616AB759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4BD-4255-4418-B190-39FA39DF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6A3-DC9D-4EE7-AB69-E6894E93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041-84AE-4896-9753-7938D9A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BA3-E755-4510-A259-5744D36084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ECB-5DCB-4086-93DB-8BCA64249F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a Sociedad del Trabajo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comunidad a la soci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espacio de relaciones orgánicas (raciona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sociedad como suma de grupos sociales e instituciones (FF.AA., Policía, Justicia, Sistema Educacional, Familia, Entidades Religiosas, Medios de Comunicación, dispositivos simból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ultura e instituciones. La construcción de sentido común (ideolog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ffff"/>
                </a:solidFill>
                <a:latin typeface="Tahoma"/>
              </a:rPr>
              <a:t>Activ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ormar grupos de dos a tres person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dentificar tres elementos en orden de importancia, que contribuyen a la estabilidad de la vida en sociedad en cada una de las dimensiones señaladas y a través de qué medio lo hac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30 minu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Vivir en Socie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35320"/>
            <a:ext cx="82296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Hegemonía y dominación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mbios y transformaciones: evid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conflicto cultural: ¿por qué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ánones y arquetipos sociales: los us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egitimidad y sentido com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CL" sz="2400" spc="-1" strike="noStrike">
                <a:solidFill>
                  <a:srgbClr val="ffffff"/>
                </a:solidFill>
                <a:latin typeface="Tahoma"/>
              </a:rPr>
              <a:t>Las ideas dominantes son las ideas de los grupos dominantes”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(Carlos Marx, 187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Vida en Socieda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745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reud: La cultura como instrumento de control del instinto y la pasión de los seres human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norma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s instit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210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08-29T00:44:32Z</dcterms:modified>
  <cp:revision>17</cp:revision>
  <dc:subject/>
  <dc:title>La Sociedad del Trabajo</dc:title>
</cp:coreProperties>
</file>