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96B-4F41-4626-B412-92849A02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B8C-05B1-4CF7-BC8B-97D1E5E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9ED-F770-4DE1-ADEA-9B1008E7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338-C78F-4A5B-A38D-C5A3C8E5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47BB-E814-414E-BFE7-115574C2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07D2-C7F3-43DB-A026-FEF9EE2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4DBF-96EA-4D72-B8B7-92ED3091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5952-EF93-4E03-AB01-10829DDC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F1B1-22B9-4A24-A0C6-A2DFEE03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C7DA-46CA-427C-8592-FFFBBBA3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B3A3-D575-440B-B58F-6216BE2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C54-1A81-49CB-91EF-86EEAEFF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BA2A-BB0E-4535-8FB2-B53908DF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A3E6-6BE9-4DE9-A2E8-0F896081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FE8F-A23F-453E-B2DB-BA5BF390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CECB-C4BF-4E71-92C3-F92C5E4D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D48D-9E37-46D5-B23C-2EBAD648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59B-B4FE-4AC9-B10E-912092E3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E13-B188-4228-B665-81D6EAF4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D08-E5DD-4AAC-A516-A9121024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95B-D686-48AC-AAFD-29C4D0A8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660-F6BC-44A1-B669-DDC5877D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CA0-E123-424B-BD09-EF60A84B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7AA-02B9-4968-B1DE-3776B06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504D-49E5-4DCE-94D0-453C9EDBEA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1227-BD7A-40CA-98FE-578EF22205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 Sociedad del Trabajo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comunidad a la soci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espacio de relaciones orgánicas (racion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suma de grupos sociales e instituciones (FF.AA., Policía, Justicia, Sistema Educacional, Familia, Entidades Religiosas, Medios de Comunicación, dispositivos simbó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ltura e instituciones. La construcción de sentido común (ideolog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Activ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r grupos de dos a tres perso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ntificar tres elementos en orden de importancia, que contribuyen a la estabilidad de la vida en sociedad en cada una de las dimensiones señaladas y a través de qué medio lo hac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0 min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Vivir en Socie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egemonía y dominación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mbios y transformaciones: evid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conflicto cultural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ánones y arquetipos sociales: los u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egitimidad y sentido com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as ideas dominantes son las ideas de los grupos dominantes”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Carlos Marx, 187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Vida en Socie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reud: La cultura como instrumento de control del instinto y la pasión de los seres huma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orma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08-29T00:44:32Z</dcterms:modified>
  <cp:revision>17</cp:revision>
  <dc:subject/>
  <dc:title>La Sociedad del Trabajo</dc:title>
</cp:coreProperties>
</file>