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D58E-E094-4003-BE41-4FF05505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4804-B04B-4FE6-88BB-605A27C0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2AF-703F-4B5E-8521-6ED8DBC9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268-A133-4C19-B917-C57FFC06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0BF1-B0EE-40B4-871E-A6065032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308A-621B-47DD-AA24-1422D179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3C8E-9FC9-48A3-BDDD-ECE42D5F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FE33-AF43-42D3-A10C-03F3A075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4010-1C9B-447F-9439-D5C65ACE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710F-E378-40D1-99FD-8457FEE6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248A-44E4-40D0-A7F1-A9792255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F7C-3AE2-43ED-874E-5364443A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BAA2-EB66-45DC-ADBE-8670FB52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F852-E206-405F-8D52-09A5165E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320D-94A9-4AD7-8A53-D5EECAC9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0A3C-4B5E-46B7-B4F0-A8D5B1E6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F486-AE60-433A-AE52-63C9CCC8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6B3-B1D4-4406-9C41-E085D332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0DEB-A5E3-4208-B957-18214696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EA73-44CA-42CB-A213-727952D9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433B-22A9-4A84-80AD-2CE9A31D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4C9-FB1D-48C7-98FE-02F544F4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BED3-F55A-4BF8-A3D2-5EC930E7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F61-25A1-43B4-9745-082AFE34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771A-0F5C-47AE-A984-AF3887FD821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8323-10D9-4DF6-AC79-B6636B6F3C2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La Sociedad del Trabajo</a:t>
            </a:r>
            <a:br>
              <a:rPr sz="4000"/>
            </a:br>
            <a:br>
              <a:rPr sz="4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Curso de Sociologí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Escuela de Terapia Ocupacional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logou" descr="Universidad de Chile"/>
          <p:cNvPicPr/>
          <p:nvPr/>
        </p:nvPicPr>
        <p:blipFill>
          <a:blip r:embed="rId2"/>
          <a:stretch/>
        </p:blipFill>
        <p:spPr>
          <a:xfrm>
            <a:off x="7164360" y="83664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508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la comunidad a la socie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sociedad como espacio de relaciones orgánicas (raciona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sociedad como suma de grupos sociales e instituciones (FF.AA., Policía, Justicia, Sistema Educacional, Familia, Entidades Religiosas, Medios de Comunicación, dispositivos simból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ultura e instituciones. La construcción de sentido común (ideologí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ffff"/>
                </a:solidFill>
                <a:latin typeface="Tahoma"/>
              </a:rPr>
              <a:t>Activi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ormar grupos de dos a tres person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dentificar tres elementos en orden de importancia, que contribuyen a la estabilidad de la vida en sociedad en cada una de las dimensiones señaladas y a través de qué medio lo hace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30 minu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Vivir en Socie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335320"/>
            <a:ext cx="822960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egemonía y dominación: ¿por qué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mbios y transformaciones: evid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conflicto cultural: ¿por qué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ánones y arquetipos sociales: los us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egitimidad y sentido com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Las ideas dominantes son las ideas de los grupos dominantes”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(Carlos Marx, 187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327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La Vida en Socieda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3745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reud: La cultura como instrumento de control del instinto y la pasión de los seres human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normas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instit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21080" y="0"/>
            <a:ext cx="482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4:27:16Z</dcterms:created>
  <dc:creator>Patricio Escobar</dc:creator>
  <dc:description/>
  <dc:language>en-US</dc:language>
  <cp:lastModifiedBy>Patricio Escobar S.</cp:lastModifiedBy>
  <dcterms:modified xsi:type="dcterms:W3CDTF">2008-08-29T00:44:32Z</dcterms:modified>
  <cp:revision>17</cp:revision>
  <dc:subject/>
  <dc:title>La Sociedad del Trabajo</dc:title>
</cp:coreProperties>
</file>