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9AD0-A751-429D-B607-CEB45239C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CECE-F1B8-4465-BA7D-D3BD79B34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1FEA-5B2D-40F8-A044-9897723A5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EC91-927D-406E-B905-F49AEE1FB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0F837-BD26-4D93-8060-BE2FB9783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62FC0-5289-4352-876A-F9AED871E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F4D0E-04CB-41FA-B942-E746D5C6E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7B071-1FB8-4FCC-B862-1748109B6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1A6E3-E518-41D4-A42E-85D36BB8F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47F81-9942-42C0-9F1B-1BAE12518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BAEA6-5AA7-41D8-9AC8-53B46165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853D-6698-4E31-8317-C3945B947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BEAE7-DEEE-455B-9EB9-41243CC6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8C436-6B19-4535-8E09-91333BF0E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6434D-1D13-4FE1-86CD-B1BD828E1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AD9DE-19AE-4F5C-9B41-00B6470DB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92E12-EFE5-4FAB-B396-3C2A42F60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D49C-7E5B-4F34-BE6D-9799BFE54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32F7-D647-4A13-AC06-9A6243AE4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1D14-899D-4D15-911F-6887062D2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BDA2-1427-4909-AB15-76E455DB9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6494-89BD-4744-9E01-F9642ACFA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B00E-7202-4363-87B4-99823130A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689A-360B-4AC1-972D-2921D37D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7C493-FE5E-4D8A-931A-5EF717AF53D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EF0B2-7AC3-4F2F-805F-42A1D6BDCB5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s-CL" sz="4000" spc="-1" strike="noStrike">
                <a:solidFill>
                  <a:srgbClr val="e5ffff"/>
                </a:solidFill>
                <a:latin typeface="Tahoma"/>
              </a:rPr>
              <a:t>La Sociedad del Trabajo</a:t>
            </a:r>
            <a:br>
              <a:rPr sz="4000"/>
            </a:br>
            <a:br>
              <a:rPr sz="4000"/>
            </a:br>
            <a:r>
              <a:rPr b="1" lang="es-CL" sz="2000" spc="-1" strike="noStrike">
                <a:solidFill>
                  <a:srgbClr val="e5ffff"/>
                </a:solidFill>
                <a:latin typeface="Tahoma"/>
              </a:rPr>
              <a:t>Curso de Sociología</a:t>
            </a:r>
            <a:br>
              <a:rPr sz="2000"/>
            </a:br>
            <a:br>
              <a:rPr sz="2000"/>
            </a:br>
            <a:r>
              <a:rPr b="1" lang="es-CL" sz="2000" spc="-1" strike="noStrike">
                <a:solidFill>
                  <a:srgbClr val="e5ffff"/>
                </a:solidFill>
                <a:latin typeface="Tahoma"/>
              </a:rPr>
              <a:t>Escuela de Terapia Ocupacional</a:t>
            </a:r>
            <a:br>
              <a:rPr sz="4000"/>
            </a:br>
            <a:br>
              <a:rPr sz="4000"/>
            </a:b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3" name="logou" descr="Universidad de Chile"/>
          <p:cNvPicPr/>
          <p:nvPr/>
        </p:nvPicPr>
        <p:blipFill>
          <a:blip r:embed="rId2"/>
          <a:stretch/>
        </p:blipFill>
        <p:spPr>
          <a:xfrm>
            <a:off x="7164360" y="836640"/>
            <a:ext cx="111780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1492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4716360" y="0"/>
            <a:ext cx="4427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4508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4643280" y="0"/>
            <a:ext cx="450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ffff"/>
                </a:solidFill>
                <a:latin typeface="Tahoma"/>
              </a:rPr>
              <a:t>Resum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e la comunidad a la socie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ctr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a sociedad como espacio de relaciones orgánicas (racional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ctr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a sociedad como suma de grupos sociales e instituciones (FF.AA., Policía, Justicia, Sistema Educacional, Familia, Entidades Religiosas, Medios de Comunicación, dispositivos simbóli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ctr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ultura e instituciones. La construcción de sentido común (ideologí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ffff"/>
                </a:solidFill>
                <a:latin typeface="Tahoma"/>
              </a:rPr>
              <a:t>Activida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Formar grupos de dos a tres person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dentificar tres elementos en orden de importancia, que contribuyen a la estabilidad de la vida en sociedad en cada una de las dimensiones señaladas y a través de qué medio lo hacen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30 minu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ffff"/>
                </a:solidFill>
                <a:latin typeface="Tahoma"/>
              </a:rPr>
              <a:t>Vivir en Socieda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335320"/>
            <a:ext cx="8229600" cy="37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Hegemonía y dominación: ¿por qué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Cambios y transformaciones: evidenci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l conflicto cultural: ¿por qué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Cánones y arquetipos sociales: los us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egitimidad y sentido comú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i="1" lang="es-CL" sz="2400" spc="-1" strike="noStrike">
                <a:solidFill>
                  <a:srgbClr val="ffffff"/>
                </a:solidFill>
                <a:latin typeface="Tahoma"/>
              </a:rPr>
              <a:t>Las ideas dominantes son las ideas de los grupos dominantes”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(Carlos Marx, 1874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3276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5ffff"/>
                </a:solidFill>
                <a:latin typeface="Tahoma"/>
              </a:rPr>
              <a:t>La Vida en Sociedad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4920" y="1773360"/>
            <a:ext cx="374508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ctr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Freud: La cultura como instrumento de control del instinto y la pasión de los seres human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ctr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as normas soci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ctr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as institu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321080" y="0"/>
            <a:ext cx="4822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5148360" y="0"/>
            <a:ext cx="3995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-41400"/>
            <a:ext cx="9144000" cy="694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1T14:27:16Z</dcterms:created>
  <dc:creator>Patricio Escobar</dc:creator>
  <dc:description/>
  <dc:language>en-US</dc:language>
  <cp:lastModifiedBy>Patricio Escobar S.</cp:lastModifiedBy>
  <dcterms:modified xsi:type="dcterms:W3CDTF">2008-08-29T00:44:32Z</dcterms:modified>
  <cp:revision>17</cp:revision>
  <dc:subject/>
  <dc:title>La Sociedad del Trabajo</dc:title>
</cp:coreProperties>
</file>