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3558-1BEF-46DE-A50C-B4E681ACE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F1C2-523D-4564-9580-2DE3139F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D73A-D03B-4910-9652-CA54AB343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0416-6D76-4EF5-8FA9-5E2314523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49CF-669E-4E22-81C0-E06E6B34E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683E-3551-4678-A399-C83F3B65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A794-8117-45F9-ADDF-9C3D318C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0C32-5A17-45A3-8207-4A5CBBB4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3D01-3A46-4D36-83D8-CF5DCDC9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77DB-F61D-4DC5-9B26-E162E444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0810-C501-4C6A-B5AC-FC8DDF51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10A8-7759-49AD-B474-5798B781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5640-181A-4C56-A251-84D8F212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5D20-0770-42FC-91D1-1CAC217F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00EC-AAE9-48E5-A4CD-75059F77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7554-C237-486B-808E-C435FD595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380D-516C-44F4-8AD3-0CAFAE97F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6034-0819-4707-AF9E-FE2D5F31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43B6-B4CA-4765-8409-C7A6BC7F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E627-55F3-4A84-875D-6DB8A7A0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F10C-2459-45FE-8F77-F48F0D09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0E03-8DAF-4E78-B8C1-6E8A0C68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9E2B-E4E3-404D-BEA0-D0DB012A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9A16-D745-4D19-B110-AEE4EE92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1E91-B277-48E9-919D-461E05E30AA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4117-5BF7-49CA-9C04-81FA9E844B2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La Sociedad del Trabajo</a:t>
            </a:r>
            <a:br>
              <a:rPr sz="4000"/>
            </a:br>
            <a:br>
              <a:rPr sz="4000"/>
            </a:br>
            <a:r>
              <a:rPr b="1" lang="es-CL" sz="2000" spc="-1" strike="noStrike">
                <a:solidFill>
                  <a:srgbClr val="e5ffff"/>
                </a:solidFill>
                <a:latin typeface="Tahoma"/>
              </a:rPr>
              <a:t>Curso de Sociología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5ffff"/>
                </a:solidFill>
                <a:latin typeface="Tahoma"/>
              </a:rPr>
              <a:t>Escuela de Terapia Ocupacional</a:t>
            </a:r>
            <a:br>
              <a:rPr sz="4000"/>
            </a:br>
            <a:br>
              <a:rPr sz="4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logou" descr="Universidad de Chile"/>
          <p:cNvPicPr/>
          <p:nvPr/>
        </p:nvPicPr>
        <p:blipFill>
          <a:blip r:embed="rId2"/>
          <a:stretch/>
        </p:blipFill>
        <p:spPr>
          <a:xfrm>
            <a:off x="7164360" y="836640"/>
            <a:ext cx="111780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1492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508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ffff"/>
                </a:solidFill>
                <a:latin typeface="Tahoma"/>
              </a:rPr>
              <a:t>Resum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 la comunidad a la socie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sociedad como espacio de relaciones orgánicas (raciona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sociedad como suma de grupos sociales e instituciones (FF.AA., Policía, Justicia, Sistema Educacional, Familia, Entidades Religiosas, Medios de Comunicación, dispositivos simból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ultura e instituciones. La construcción de sentido común (ideologí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ffff"/>
                </a:solidFill>
                <a:latin typeface="Tahoma"/>
              </a:rPr>
              <a:t>Activid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ormar grupos de dos a tres person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dentificar tres elementos en orden de importancia, que contribuyen a la estabilidad de la vida en sociedad en cada una de las dimensiones señaladas y a través de qué medio lo hace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30 minu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ffff"/>
                </a:solidFill>
                <a:latin typeface="Tahoma"/>
              </a:rPr>
              <a:t>Vivir en Socied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335320"/>
            <a:ext cx="8229600" cy="37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Hegemonía y dominación: ¿por qué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ambios y transformaciones: evidenc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conflicto cultural: ¿por qué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ánones y arquetipos sociales: los us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egitimidad y sentido com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Las ideas dominantes son las ideas de los grupos dominantes”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(Carlos Marx, 187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327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ffff"/>
                </a:solidFill>
                <a:latin typeface="Tahoma"/>
              </a:rPr>
              <a:t>La Vida en Sociedad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37450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reud: La cultura como instrumento de control del instinto y la pasión de los seres human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s normas so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s institu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321080" y="0"/>
            <a:ext cx="4822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148360" y="0"/>
            <a:ext cx="399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-41400"/>
            <a:ext cx="9144000" cy="694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4:27:16Z</dcterms:created>
  <dc:creator>Patricio Escobar</dc:creator>
  <dc:description/>
  <dc:language>en-US</dc:language>
  <cp:lastModifiedBy>Patricio Escobar S.</cp:lastModifiedBy>
  <dcterms:modified xsi:type="dcterms:W3CDTF">2008-08-29T00:44:32Z</dcterms:modified>
  <cp:revision>17</cp:revision>
  <dc:subject/>
  <dc:title>La Sociedad del Trabajo</dc:title>
</cp:coreProperties>
</file>