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5F542-7A87-4A38-9D94-CE623C58C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9246B-33B9-46AD-9EEA-3E804A9C5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DE814-6A26-47AB-999B-8720D9519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3E15B-A1D3-4D68-8C8E-DE686B194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FD507-59B2-4777-AB36-DB41C496C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FEA99-4420-4CD6-9424-491D6FD3C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04615-69B2-4092-83E0-C04FE4540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119B7-F3B7-4BB8-A2A3-DE7A72B18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42B7F-5C7F-483A-A061-39DBE4394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49C35-7D8A-4682-92A9-34EFEC8CB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9F9F2-49B6-41AD-92B4-D584376AA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06824-9FEA-432A-8CD1-BAC00F2EB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E031A-8009-41EA-A20D-B61CE8E013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es-CL" sz="4000" spc="-1" strike="noStrike">
                <a:solidFill>
                  <a:srgbClr val="000000"/>
                </a:solidFill>
                <a:latin typeface="Arial"/>
              </a:rPr>
              <a:t>Situación de la Discapacidad en Chile</a:t>
            </a:r>
            <a:br>
              <a:rPr sz="4000"/>
            </a:br>
            <a:r>
              <a:rPr b="1" lang="es-CL" sz="4000" spc="-1" strike="noStrike">
                <a:solidFill>
                  <a:srgbClr val="000000"/>
                </a:solidFill>
                <a:latin typeface="Arial"/>
              </a:rPr>
              <a:t>Encuesta CASEN 2006</a:t>
            </a:r>
            <a:br>
              <a:rPr sz="4000"/>
            </a:br>
            <a:br>
              <a:rPr sz="4000"/>
            </a:b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Curso de Sociología</a:t>
            </a:r>
            <a:br>
              <a:rPr sz="2000"/>
            </a:br>
            <a:br>
              <a:rPr sz="2000"/>
            </a:b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Escuela de Terapia Ocupacional</a:t>
            </a:r>
            <a:br>
              <a:rPr sz="4000"/>
            </a:br>
            <a:br>
              <a:rPr sz="4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logou" descr="Universidad de Chile"/>
          <p:cNvPicPr/>
          <p:nvPr/>
        </p:nvPicPr>
        <p:blipFill>
          <a:blip r:embed="rId1"/>
          <a:stretch/>
        </p:blipFill>
        <p:spPr>
          <a:xfrm>
            <a:off x="7164360" y="836640"/>
            <a:ext cx="1117800" cy="111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-74520"/>
            <a:ext cx="9144000" cy="700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3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3T20:54:05Z</dcterms:created>
  <dc:creator>Patricio Escobar</dc:creator>
  <dc:description/>
  <dc:language>en-US</dc:language>
  <cp:lastModifiedBy>Patricio Escobar S.</cp:lastModifiedBy>
  <dcterms:modified xsi:type="dcterms:W3CDTF">2008-09-04T23:28:27Z</dcterms:modified>
  <cp:revision>9</cp:revision>
  <dc:subject/>
  <dc:title>Diapositiva 1</dc:title>
</cp:coreProperties>
</file>