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B70-D52D-44BC-849B-872639C8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8AF-9AB9-4DE4-8490-8C7CFAFE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7D3E-9D46-4DBE-ACC3-42C65B61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BEB-5B4A-46CF-8B2B-A6C75D21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778-FDD5-4B36-83CD-E27C1D3B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FBD-22E8-4137-86BF-0DB6EB34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21D9-E761-45C9-8BB6-8C0B8401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738-FF62-4AE4-BBD0-AD97D562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D2C5-3096-46DE-88ED-A16A6B5D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68A-A894-402F-817F-E7A34A15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CD5-3B67-4F7A-9FA2-37EDA818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CB5-4E67-4A8B-871B-0DC6DD96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6803-AACF-4846-BEFD-7B455248C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Situación de la Discapacidad en Chile</a:t>
            </a:r>
            <a:br>
              <a:rPr sz="4000"/>
            </a:b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Encuesta CASEN 2006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cuela de Terapia Ocupacional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logou" descr="Universidad de Chile"/>
          <p:cNvPicPr/>
          <p:nvPr/>
        </p:nvPicPr>
        <p:blipFill>
          <a:blip r:embed="rId1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70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0:54:05Z</dcterms:created>
  <dc:creator>Patricio Escobar</dc:creator>
  <dc:description/>
  <dc:language>en-US</dc:language>
  <cp:lastModifiedBy>Patricio Escobar S.</cp:lastModifiedBy>
  <dcterms:modified xsi:type="dcterms:W3CDTF">2008-09-04T23:28:27Z</dcterms:modified>
  <cp:revision>9</cp:revision>
  <dc:subject/>
  <dc:title>Diapositiva 1</dc:title>
</cp:coreProperties>
</file>