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D24-04EC-422B-94A5-2194631E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7C4-BFC6-4EAD-B1F5-9A6E5FD2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B02-2495-42D8-B254-2D866992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6EE-8AEA-4880-8604-611C5644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799-8025-47B2-B1BC-EFD7B6DD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941-9A0A-4818-86F9-6D80FEB2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425-100C-4D2B-8A4F-749203D8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4C3-7301-4A8F-BF36-D5383C35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254-63DF-42A3-B023-B9CEE410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B38-C761-4B1F-8CFD-4FB4E11E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E88-D70B-4E84-B22C-393A3918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C09-835B-42D7-8271-0B80038D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42BD-72CA-46DC-9ED7-2D486D82B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Situación de la Discapacidad en Chile</a:t>
            </a: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Encuesta CASEN 2006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ogou" descr="Universidad de Chile"/>
          <p:cNvPicPr/>
          <p:nvPr/>
        </p:nvPicPr>
        <p:blipFill>
          <a:blip r:embed="rId1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54:05Z</dcterms:created>
  <dc:creator>Patricio Escobar</dc:creator>
  <dc:description/>
  <dc:language>en-US</dc:language>
  <cp:lastModifiedBy>Patricio Escobar S.</cp:lastModifiedBy>
  <dcterms:modified xsi:type="dcterms:W3CDTF">2008-09-04T23:28:27Z</dcterms:modified>
  <cp:revision>9</cp:revision>
  <dc:subject/>
  <dc:title>Diapositiva 1</dc:title>
</cp:coreProperties>
</file>