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850F-29A0-431B-9D79-DE07A2A3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E2E4-9185-43B7-97BC-04283DFF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ECA-2382-47F3-9D9C-81C9D7BD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764-6E9C-45E5-B8AA-871AEF5D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EA3-FBA9-4612-962D-245AB84D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E061-6405-41A6-B657-D7329646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3E2-9318-4147-9001-E74E8760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F3D7-240E-47EA-98D8-6DC0520E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EC4-CAEC-4ADB-8F11-5CB92F92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995-CACA-4A74-915E-94D5951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375-2FF1-462B-87A6-424D978A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F7A-8C9C-4617-AB7F-2B5B56B2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4A61-0BEE-4040-95FD-3668CEF53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Situación de la Discapacidad en Chile</a:t>
            </a:r>
            <a:br>
              <a:rPr sz="4000"/>
            </a:b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Encuesta CASEN 2006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u" descr="Universidad de Chile"/>
          <p:cNvPicPr/>
          <p:nvPr/>
        </p:nvPicPr>
        <p:blipFill>
          <a:blip r:embed="rId1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54:05Z</dcterms:created>
  <dc:creator>Patricio Escobar</dc:creator>
  <dc:description/>
  <dc:language>en-US</dc:language>
  <cp:lastModifiedBy>Patricio Escobar S.</cp:lastModifiedBy>
  <dcterms:modified xsi:type="dcterms:W3CDTF">2008-09-04T23:28:27Z</dcterms:modified>
  <cp:revision>9</cp:revision>
  <dc:subject/>
  <dc:title>Diapositiva 1</dc:title>
</cp:coreProperties>
</file>