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7B9-614D-49A2-8539-4B8F4B6E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C6A-434F-4846-9CF4-1DB17A24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D3B-358E-49A5-A382-C358D25F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1B9-DFA4-41AB-A7D4-3EA7AAC7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07D-1353-4DF8-A462-522A04C5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F63-1FB0-4058-BE6E-557F0E6A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9E05-C1AF-442A-95DE-C4368B85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6AAB-0F0C-465C-8DAA-513FA3C9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319-B3ED-4B0B-9EAB-05064840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43CE-10B6-47C8-94C6-37D2CA2A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39B5-AA74-4052-82B9-7C457021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2A6-4498-4BD8-8D95-EC5D89B8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3BFA-660D-4FF2-8FFE-AD6FCE8B4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Situación de la Discapacidad en Chile</a:t>
            </a:r>
            <a:br>
              <a:rPr sz="4000"/>
            </a:b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Encuesta CASEN 2006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cuela de Terapia Ocupacional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logou" descr="Universidad de Chile"/>
          <p:cNvPicPr/>
          <p:nvPr/>
        </p:nvPicPr>
        <p:blipFill>
          <a:blip r:embed="rId1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70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0:54:05Z</dcterms:created>
  <dc:creator>Patricio Escobar</dc:creator>
  <dc:description/>
  <dc:language>en-US</dc:language>
  <cp:lastModifiedBy>Patricio Escobar S.</cp:lastModifiedBy>
  <dcterms:modified xsi:type="dcterms:W3CDTF">2008-09-04T23:28:27Z</dcterms:modified>
  <cp:revision>9</cp:revision>
  <dc:subject/>
  <dc:title>Diapositiva 1</dc:title>
</cp:coreProperties>
</file>