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DD8-8800-4C04-9F91-F6430244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37F-9B72-497E-8CBD-DF76C9CD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819-23F0-41AA-B16E-5D819763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56E-BB3B-4D6E-B0AA-9331591C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58B-E6C7-4985-8FF8-1938E945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4E4-2777-41C6-B556-BD84E3EE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E37-1089-4A78-BAEF-AE46CC04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BC7-D34F-4A3F-A7E0-0D013FC6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162-8BE8-4321-91E8-507FE019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33C-7FF3-41AC-BDAD-E4DEDA1A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69D-EF0F-4809-A0B6-A0B1564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FDF-CB7C-4246-AB55-12C48D85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508F-2C20-4F1A-AEDD-B9A8B25A3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Situación de la Discapacidad en Chile</a:t>
            </a: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Encuesta CASEN 2006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u" descr="Universidad de Chile"/>
          <p:cNvPicPr/>
          <p:nvPr/>
        </p:nvPicPr>
        <p:blipFill>
          <a:blip r:embed="rId1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54:05Z</dcterms:created>
  <dc:creator>Patricio Escobar</dc:creator>
  <dc:description/>
  <dc:language>en-US</dc:language>
  <cp:lastModifiedBy>Patricio Escobar S.</cp:lastModifiedBy>
  <dcterms:modified xsi:type="dcterms:W3CDTF">2008-09-04T23:28:27Z</dcterms:modified>
  <cp:revision>9</cp:revision>
  <dc:subject/>
  <dc:title>Diapositiva 1</dc:title>
</cp:coreProperties>
</file>