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47EF-68B5-44C4-B8EB-53C57E96F9F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- Las condiciones sociales y su variación a lo largo de una gen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61B-13BB-4829-AD88-E189313E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064-1050-421F-B384-C2A1E6BA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643-31DE-4600-9013-6385651C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2F8-9D15-462D-AF86-3445E90E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8A1B-F346-4D23-96FA-442BED67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86B8-6B11-4225-B223-79D8BFC5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1414-8BDD-4097-9A34-934B5C88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6DF9-5A17-4690-811B-AC1C18B0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CBCD-E743-447C-AC46-5E21CFF8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C24C-9B5E-45BA-9D4B-5BB6B1B2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FE31-3910-461E-AD40-78946DA8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9D1-C13B-41DD-B790-66DD7113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E241-6E21-43E4-8A67-0DB1DBEA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0668-5A27-4AAA-8D0A-38B02ED8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4C8F-7447-4056-A3D4-0819F0D1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FCB0-F568-41EE-B94C-2AA9254F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E551-72E6-40DE-967D-DDED0E63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9A2-A73D-4E0B-BF65-AADB0BAF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F17-2863-4316-BAC2-2FBFEF7E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95D-47C3-40CD-B95A-F8A8E5F2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740-09E1-43BB-AA18-0638EC5C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D55-1EDA-4985-B2E3-91E0EB79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B48-4404-4C9F-99DA-6AE57A89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8CAF-D168-4766-A4C2-EA3D81F7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1592-EF37-4F1E-989E-84B3E17A1862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F8BA-B9EA-44F4-A740-3734AA950882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Curso de Sociología</a:t>
            </a:r>
            <a:br>
              <a:rPr sz="4000"/>
            </a:br>
            <a:br>
              <a:rPr sz="4000"/>
            </a:br>
            <a:r>
              <a:rPr b="1" lang="es-ES" sz="3600" spc="-1" strike="noStrike">
                <a:solidFill>
                  <a:srgbClr val="e5ffff"/>
                </a:solidFill>
                <a:latin typeface="Tahoma"/>
              </a:rPr>
              <a:t>Escuela de Terapia Ocupacional</a:t>
            </a:r>
            <a:br>
              <a:rPr sz="4000"/>
            </a:br>
            <a:br>
              <a:rPr sz="4000"/>
            </a:br>
            <a:r>
              <a:rPr b="1" lang="es-ES" sz="3200" spc="-1" strike="noStrike">
                <a:solidFill>
                  <a:srgbClr val="e5ffff"/>
                </a:solidFill>
                <a:latin typeface="Tahoma"/>
              </a:rPr>
              <a:t>Facultad de Medicina</a:t>
            </a:r>
            <a:br>
              <a:rPr sz="4000"/>
            </a:br>
            <a:br>
              <a:rPr sz="4000"/>
            </a:br>
            <a:r>
              <a:rPr b="1" lang="es-ES" sz="2800" spc="-1" strike="noStrike">
                <a:solidFill>
                  <a:srgbClr val="e5ffff"/>
                </a:solidFill>
                <a:latin typeface="Tahoma"/>
              </a:rPr>
              <a:t>Universidad de Chile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71640" y="5846400"/>
            <a:ext cx="73454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diferencial de natalidad se acentúa por tramo de ingreso.  El 20% más pobre tiene 1,5 hijos y el 20% más rico 1, 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5516640"/>
            <a:ext cx="7859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situación de escolaridad del jefe de hogar  mantiene importante diferencia según la situación de ingreso. El 10% más rico tiene 14,4 años de escolaridad y el 10% más pobre sólo 7,3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¿Qué explica qué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949720"/>
            <a:ext cx="8147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mayor parte las familias unipersonales tiene una mujer como jefe de hogar. Ha aumentado desde el 54,3% al 68,8%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5660640"/>
            <a:ext cx="80755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utonomía de los hombres jóve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hombres separados viven so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mujeres sobreviven a los homb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000" y="5877000"/>
            <a:ext cx="821844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crisis del 2001 afecta fuertemente a las mujer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cuperación hacia el año 2005 y 200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5661000"/>
            <a:ext cx="8207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situación de ingreso bajos incide fuertemente en la presencia de jefaturas femeninas en el hogar. El 14,7% de las Jefas de Hogar, pertenece al 10% más pobre de la población y sólo un 4,9% al 10% más r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10920" y="5589360"/>
            <a:ext cx="79930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años de escolaridad también poseen una fuerte dispersión según la situación de ingresos.  Las jefas de hogar del 10% más pobre sólo tienen 8,1 años de escolaridad y las del 10% más rico casi 1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5589360"/>
            <a:ext cx="79214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diferencia observadas entre las jefas de hogar según situación social, se han agudizado en los últimos años.  El 10% más rico tenía ingresos 13,1 vez mayores al 10% más pobre. Actualmente esa diferencia ha aumentado al 16,1 ve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4000" y="5950080"/>
            <a:ext cx="7848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familias con mayor endeudamiento son las III y IV Quintil de ingreso. El 21,7% del III Quintil tiene Deudas y el 21,6% del IV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5589360"/>
            <a:ext cx="8136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 pesar de no ser el segmento más endeudado, el 10% más pobre debe destinar la mayor parte de sus ingresos a este ítem.  Gastan el 67%, en comparación con el 21% que gasta el 10% más r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La sociedad Chilena y Sus Transformacion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aspectos de la transformación: Familia, Trabajo y Edu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periodo analizado: 1990 a 20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fuente: Encuesta CASEN. Realizada a 73.720 hogares en todo el paí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ta. Todos los gráficos presentados tiene por fuente los datos de la Encuesta CASEN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I.- El Trabaj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5703840"/>
            <a:ext cx="83628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s hombres se encuentran agrupados en los tramos superiores de ingres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850.000 personas tienen ingresos iguales o inferiores a $117.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.953.000 personas tienen ingresos iguales o inferiores a $235.2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6021360"/>
            <a:ext cx="82803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Los ingresos del 10% más pobre crecieron un 51,5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Los del 10% más rico crecieron un 58,4%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360" y="5734080"/>
            <a:ext cx="77752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1990, mientras los hombres ganaban en promedio $204 mil, las mujeres ganaban $147 mil. En 2006, los hombres ganan $326 mil y las mujeres $248 mi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1990 representaba el 72,4% y en 2006 el 76,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1280" y="5300280"/>
            <a:ext cx="79214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brecha entre el ingreso de hombres y mujeres aumenta según crece la calific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n educación, el ingreso de la mujer representa el 76,6% del que recibe el hombre. Con educación superior completa la proporción cae al 61,4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5157360"/>
            <a:ext cx="835344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evolución positiva del ingreso es imperceptible con los primeros años de estudio, para después ser más notor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diferencia entre 0 y Básica Completa es de 25,8%. Entre 0 y Secundaria Completa, de 67,8%. Entre 0 y Licenciatura de 5 veces y, entre 0 y postgrado de 6,2 ve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II.- La Educa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5660640"/>
            <a:ext cx="8136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La diferencia intergeneracional es más importante para los segmentos de menores recurs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Los jóvenes del 10% más rico tienen sólo 1,9 años más de escolaridad que sus abuelos. Los del 10% más pobre, 6,3 años má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5589360"/>
            <a:ext cx="82072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mayor retención escolar se aprecia en los segmentos de menores recursos. En 1990 menos de 3, de cada 10 jóvenes, tenía Educación Media completa. En 2006 son casi 6 de cada 10 en esa condici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26560" y="5733720"/>
            <a:ext cx="77058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 que se aprecia en el gráfico es una mayor capacidad para integrar y retener en el sistema educacional a las person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.- La Famil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55640" y="5013360"/>
            <a:ext cx="77040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recimiento de las familias unipersonales (10,5% a 13,2%) y monoparentales (22,2% a 25,6%). Disminución de las familias nucleares (67,3% a 61,2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¿Qué es una famili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-25560"/>
          <a:ext cx="9144000" cy="5110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5560"/>
                    <a:ext cx="914400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6237000"/>
            <a:ext cx="77151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familia extendida pasa del 16,7% al 19,3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3240"/>
          <a:ext cx="9144000" cy="608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144000" cy="60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3640" y="5805360"/>
            <a:ext cx="82184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hijos allegados son el 71,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no familiares el 6,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2232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5559120"/>
            <a:ext cx="83628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casados disminuyen de 64,0% a 47,8%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convivientes aumentan de 6,1% a 14,9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parados, anulados o divorciados aumentan de 7,4% a 10,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minuyen los viudos(as) de 10,6% a 9,6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5733720"/>
            <a:ext cx="7931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tamaño de la familia disminuye de 3,4 personas a 3,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cantidad de hijos disminuye de 1,6 a 1,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5516640"/>
            <a:ext cx="821844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sigual situación de la natalidad según la condición soci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que más disminuyen la natalidad son los indigentes. De 2,3 hijos a 1,8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pobres disminuyen de 1,9 a 1,7 y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no pobres de 1,3 a 1,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1:43:42Z</dcterms:created>
  <dc:creator>Patricio Escobar</dc:creator>
  <dc:description/>
  <dc:language>en-US</dc:language>
  <cp:lastModifiedBy>Patricio Escobar S.</cp:lastModifiedBy>
  <dcterms:modified xsi:type="dcterms:W3CDTF">2008-09-05T02:53:18Z</dcterms:modified>
  <cp:revision>37</cp:revision>
  <dc:subject/>
  <dc:title>Diapositiva 1</dc:title>
</cp:coreProperties>
</file>