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1124-55D3-4DB0-B906-647DFAB60A55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- Las condiciones sociales y su variación a lo largo de una gen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93F-F572-46A7-900C-B4CDAED9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14A-47D9-4634-A1D7-C0251C30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AC26-FADE-458E-9E79-BE7C53CC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E3B-1623-4843-83F4-AAF41E06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973E-19D1-42DB-A6DB-4392206E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C3BE-BED2-41EF-B223-3C668E7D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7B94-3107-4CDE-A3D9-64B3B854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5BE6-79BE-44F4-B59F-2BAC004B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D059-341D-4E28-B24B-0DE0847F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AFCA-D8B0-4F5E-BB93-B211C358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FB40-9B83-46CF-8098-AAFF5D8A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8F0-0F55-49A8-B73D-2505F53E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851C-A05D-4F98-A2E7-0DCBB16C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C724-D02C-436F-9198-FA50BF1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BB85-8F71-4B9F-9319-285A32AB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E172-04F5-4434-A661-DA3641F6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2F7C-15A5-4C0C-9E87-3DDC41AA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ABF-B032-4788-B20A-0C737D6B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0B3-ED52-4F58-BCC3-94EE1183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58B-D59D-4166-BB55-882AD4A6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4D5F-37C2-4793-BE74-6861B2AA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777-D80E-4593-8251-FEC47CE0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257-6E16-4DA6-A8C3-B3832D6C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B0C7-E72B-4E76-9BC7-6B3CF583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4661-3E0F-46DF-AB66-613D278904DA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B9CB-F811-4415-BD6F-CC9C6CC167A9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Curso de Sociología</a:t>
            </a:r>
            <a:br>
              <a:rPr sz="4000"/>
            </a:br>
            <a:br>
              <a:rPr sz="4000"/>
            </a:br>
            <a:r>
              <a:rPr b="1" lang="es-ES" sz="3600" spc="-1" strike="noStrike">
                <a:solidFill>
                  <a:srgbClr val="e5ffff"/>
                </a:solidFill>
                <a:latin typeface="Tahoma"/>
              </a:rPr>
              <a:t>Escuela de Terapia Ocupacional</a:t>
            </a: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e5ffff"/>
                </a:solidFill>
                <a:latin typeface="Tahoma"/>
              </a:rPr>
              <a:t>Facultad de Medicina</a:t>
            </a:r>
            <a:br>
              <a:rPr sz="4000"/>
            </a:br>
            <a:br>
              <a:rPr sz="4000"/>
            </a:br>
            <a:r>
              <a:rPr b="1" lang="es-ES" sz="2800" spc="-1" strike="noStrike">
                <a:solidFill>
                  <a:srgbClr val="e5ffff"/>
                </a:solidFill>
                <a:latin typeface="Tahoma"/>
              </a:rPr>
              <a:t>Universidad de Chil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71640" y="5846400"/>
            <a:ext cx="734544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diferencial de natalidad se acentúa por tramo de ingreso.  El 20% más pobre tiene 1,5 hijos y el 20% más rico 1, 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785952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escolaridad del jefe de hogar  mantiene importante diferencia según la situación de ingreso. El 10% más rico tiene 14,4 años de escolaridad y el 10% más pobre sólo 7,3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¿Qué explica qué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5949720"/>
            <a:ext cx="8147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mayor parte las familias unipersonales tiene una mujer como jefe de hogar. Ha aumentado desde el 54,3% al 68,8%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0755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utonomía de los hombres jóve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ombres separados viven so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mujeres sobreviven a los homb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000" y="5877000"/>
            <a:ext cx="821844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risis del 2001 afecta fuertemente a las muje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cuperación hacia el año 2005 y 200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5661000"/>
            <a:ext cx="8207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situación de ingreso bajos incide fuertemente en la presencia de jefaturas femeninas en el hogar. El 14,7% de las Jefas de Hogar, pertenece al 10% más pobre de la población y sólo un 4,9% a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10920" y="5589360"/>
            <a:ext cx="79930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años de escolaridad también poseen una fuerte dispersión según la situación de ingresos.  Las jefas de hogar del 10% más pobre sólo tienen 8,1 años de escolaridad y las del 10% más rico casi 1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1280" y="558936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diferencia observadas entre las jefas de hogar según situación social, se han agudizado en los últimos años.  El 10% más rico tenía ingresos 13,1 vez mayores al 10% más pobre. Actualmente esa diferencia ha aumentado al 16,1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5950080"/>
            <a:ext cx="78483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s familias con mayor endeudamiento son las III y IV Quintil de ingreso. El 21,7% del III Quintil tiene Deudas y el 21,6% del I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136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 pesar de no ser el segmento más endeudado, el 10% más pobre debe destinar la mayor parte de sus ingresos a este ítem.  Gastan el 67%, en comparación con el 21% que gasta el 10% más ric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5ffff"/>
                </a:solidFill>
                <a:latin typeface="Tahoma"/>
              </a:rPr>
              <a:t>La sociedad Chilena y Sus Transformacion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os aspectos de la transformación: Familia, Trabajo y Edu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periodo analizado: 1990 a 20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uente: Encuesta CASEN. Realizada a 73.720 hogares en todo el paí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ota. Todos los gráficos presentados tiene por fuente los datos de la Encuesta CASEN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.- El Trabaj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5703840"/>
            <a:ext cx="83628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s hombres se encuentran agrupados en los tramos superiores de ingres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850.000 personas tienen ingresos iguales o inferiores a $117.6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2.953.000 personas tienen ingresos iguales o inferiores a $235.2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6021360"/>
            <a:ext cx="8280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ingresos del 10% más pobre crecieron un 51,5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Los del 10% más rico crecieron un 58,4%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5734080"/>
            <a:ext cx="77752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, mientras los hombres ganaban en promedio $204 mil, las mujeres ganaban $147 mil. En 2006, los hombres ganan $326 mil y las mujeres $248 mi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1990 representaba el 72,4% y en 2006 el 76,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5300280"/>
            <a:ext cx="792144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brecha entre el ingreso de hombres y mujeres aumenta según crece la califi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ducación, el ingreso de la mujer representa el 76,6% del que recibe el hombre. Con educación superior completa la proporción cae al 61,4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5157360"/>
            <a:ext cx="835344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evolución positiva del ingreso es imperceptible con los primeros años de estudio, para después ser más noto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diferencia entre 0 y Básica Completa es de 25,8%. Entre 0 y Secundaria Completa, de 67,8%. Entre 0 y Licenciatura de 5 veces y, entre 0 y postgrado de 6,2 ve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II.- La Educ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5660640"/>
            <a:ext cx="8136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a diferencia intergeneracional es más importante para los segmentos de menores recurs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Los jóvenes del 10% más rico tienen sólo 1,9 años más de escolaridad que sus abuelos. Los del 10% más pobre, 6,3 años má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82072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a mayor retención escolar se aprecia en los segmentos de menores recursos. En 1990 menos de 3, de cada 10 jóvenes, tenía Educación Media completa. En 2006 son casi 6 de cada 10 en esa condi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26560" y="5733720"/>
            <a:ext cx="77058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Lo que se aprecia en el gráfico es una mayor capacidad para integrar y retener en el sistema educacional a las person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I.- La Fami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5640" y="5013360"/>
            <a:ext cx="77040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recimiento de las familias unipersonales (10,5% a 13,2%) y monoparentales (22,2% a 25,6%). Disminución de las familias nucleares (67,3% a 61,2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¿Qué es una famili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-25560"/>
          <a:ext cx="9144000" cy="511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5560"/>
                    <a:ext cx="9144000" cy="51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6237000"/>
            <a:ext cx="77151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familia extendida pasa del 16,7% al 19,3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3240"/>
          <a:ext cx="9144000" cy="6089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5805360"/>
            <a:ext cx="82184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hijos allegados son el 71,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no familiares el 6,0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8360" y="5559120"/>
            <a:ext cx="83628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asados disminuyen de 64,0% a 47,8%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os convivientes aumentan de 6,1% a 14,9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parados, anulados o divorciados aumentan de 7,4% a 10,5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minuyen los viudos(as) de 10,6% a 9,6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68000" y="5733720"/>
            <a:ext cx="7931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tamaño de la familia disminuye de 3,4 personas a 3,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La cantidad de hijos disminuye de 1,6 a 1,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5516640"/>
            <a:ext cx="821844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sigual situación de la natalidad según la condición soci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que más disminuyen la natalidad son los indigentes. De 2,3 hijos a 1,8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pobres disminuyen de 1,9 a 1,7 y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 algn="ctr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os no pobres de 1,3 a 1,2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21:43:42Z</dcterms:created>
  <dc:creator>Patricio Escobar</dc:creator>
  <dc:description/>
  <dc:language>en-US</dc:language>
  <cp:lastModifiedBy>Patricio Escobar S.</cp:lastModifiedBy>
  <dcterms:modified xsi:type="dcterms:W3CDTF">2008-09-05T02:53:18Z</dcterms:modified>
  <cp:revision>37</cp:revision>
  <dc:subject/>
  <dc:title>Diapositiva 1</dc:title>
</cp:coreProperties>
</file>