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D3B9-D677-4A4D-82B2-F91969DFB8F5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.- Las condiciones sociales y su variación a lo largo de una gene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AB32-AB4C-4570-9D2F-E219329F7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85B7-4EE0-48C0-92A6-277AEB0D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7E86-D946-4CFE-B915-D7D98C3C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FC5D-644A-4286-B936-6F3B5545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5BBB-6650-4DD8-9D83-9323B800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3560-0549-4FE3-8BD5-87601FC3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A2AD-ED36-4287-8443-2E9E3860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E3E4-3D76-4775-B68B-8A90EA00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9258-2839-4139-B144-CAEA9599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9E45-4F72-43B0-A1E6-42F39CDA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74D3-3816-4952-BF0C-77DF0785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9319-C61B-4317-ACD6-A5445ED6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6175-257F-4445-97D1-515535BD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380C-987A-46E8-B175-03EF41E6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54C3-E452-47ED-A7B8-BA7D7CB3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BE64-8366-4A4C-B443-BC3E164E4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D6E1-45EF-4CF8-9865-AD1F967E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352C-888D-4DD4-92F9-3D763B36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724E-9A5A-477C-B0CA-4B72F729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7266-A9E4-4461-AEEC-7EE26785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6E3C-A95D-45CA-B80A-04E64A31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5AB0-ADCE-434C-9AAB-26C21246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BD5D-A3BF-4F32-91E0-A352BEDE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9021-23E9-4A8C-B14A-AFFEBF1A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D09D-9476-4328-8C04-9A2F05276794}" type="slidenum">
              <a:rPr b="0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D3DD-D742-497D-8289-4B21DFDACD0A}" type="slidenum">
              <a:rPr b="0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ffff"/>
                </a:solidFill>
                <a:latin typeface="Tahoma"/>
              </a:rPr>
              <a:t>Curso de Sociología</a:t>
            </a:r>
            <a:br>
              <a:rPr sz="4000"/>
            </a:br>
            <a:br>
              <a:rPr sz="4000"/>
            </a:br>
            <a:r>
              <a:rPr b="1" lang="es-ES" sz="3600" spc="-1" strike="noStrike">
                <a:solidFill>
                  <a:srgbClr val="e5ffff"/>
                </a:solidFill>
                <a:latin typeface="Tahoma"/>
              </a:rPr>
              <a:t>Escuela de Terapia Ocupacional</a:t>
            </a:r>
            <a:br>
              <a:rPr sz="4000"/>
            </a:br>
            <a:br>
              <a:rPr sz="4000"/>
            </a:br>
            <a:r>
              <a:rPr b="1" lang="es-ES" sz="3200" spc="-1" strike="noStrike">
                <a:solidFill>
                  <a:srgbClr val="e5ffff"/>
                </a:solidFill>
                <a:latin typeface="Tahoma"/>
              </a:rPr>
              <a:t>Facultad de Medicina</a:t>
            </a:r>
            <a:br>
              <a:rPr sz="4000"/>
            </a:br>
            <a:br>
              <a:rPr sz="4000"/>
            </a:br>
            <a:r>
              <a:rPr b="1" lang="es-ES" sz="2800" spc="-1" strike="noStrike">
                <a:solidFill>
                  <a:srgbClr val="e5ffff"/>
                </a:solidFill>
                <a:latin typeface="Tahoma"/>
              </a:rPr>
              <a:t>Universidad de Chile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71640" y="5846400"/>
            <a:ext cx="734544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l diferencial de natalidad se acentúa por tramo de ingreso.  El 20% más pobre tiene 1,5 hijos y el 20% más rico 1, 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11280" y="5516640"/>
            <a:ext cx="7859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situación de escolaridad del jefe de hogar  mantiene importante diferencia según la situación de ingreso. El 10% más rico tiene 14,4 años de escolaridad y el 10% más pobre sólo 7,3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¿Qué explica qué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5949720"/>
            <a:ext cx="8147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mayor parte las familias unipersonales tiene una mujer como jefe de hogar. Ha aumentado desde el 54,3% al 68,8%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5660640"/>
            <a:ext cx="80755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utonomía de los hombres jóve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hombres separados viven sol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s mujeres sobreviven a los homb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000" y="5877000"/>
            <a:ext cx="821844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crisis del 2001 afecta fuertemente a las mujer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ecuperación hacia el año 2005 y 2006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59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5661000"/>
            <a:ext cx="82072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situación de ingreso bajos incide fuertemente en la presencia de jefaturas femeninas en el hogar. El 14,7% de las Jefas de Hogar, pertenece al 10% más pobre de la población y sólo un 4,9% al 10% más ric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10920" y="5589360"/>
            <a:ext cx="79930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años de escolaridad también poseen una fuerte dispersión según la situación de ingresos.  Las jefas de hogar del 10% más pobre sólo tienen 8,1 años de escolaridad y las del 10% más rico casi 1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11280" y="5589360"/>
            <a:ext cx="792144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s diferencia observadas entre las jefas de hogar según situación social, se han agudizado en los últimos años.  El 10% más rico tenía ingresos 13,1 vez mayores al 10% más pobre. Actualmente esa diferencia ha aumentado al 16,1 vec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4000" y="5950080"/>
            <a:ext cx="78483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s familias con mayor endeudamiento son las III y IV Quintil de ingreso. El 21,7% del III Quintil tiene Deudas y el 21,6% del IV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1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360" y="5589360"/>
            <a:ext cx="8136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 pesar de no ser el segmento más endeudado, el 10% más pobre debe destinar la mayor parte de sus ingresos a este ítem.  Gastan el 67%, en comparación con el 21% que gasta el 10% más ric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ffff"/>
                </a:solidFill>
                <a:latin typeface="Tahoma"/>
              </a:rPr>
              <a:t>La sociedad Chilena y Sus Transformacion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os aspectos de la transformación: Familia, Trabajo y Edu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periodo analizado: 1990 a 20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fuente: Encuesta CASEN. Realizada a 73.720 hogares en todo el paí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ota. Todos los gráficos presentados tiene por fuente los datos de la Encuesta CASEN 20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II.- El Trabaj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5703840"/>
            <a:ext cx="83628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os hombres se encuentran agrupados en los tramos superiores de ingres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850.000 personas tienen ingresos iguales o inferiores a $117.6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2.953.000 personas tienen ingresos iguales o inferiores a $235.20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000" y="6021360"/>
            <a:ext cx="82803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Los ingresos del 10% más pobre crecieron un 51,5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Los del 10% más rico crecieron un 58,4%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4360" y="5734080"/>
            <a:ext cx="77752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1990, mientras los hombres ganaban en promedio $204 mil, las mujeres ganaban $147 mil. En 2006, los hombres ganan $326 mil y las mujeres $248 mi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1990 representaba el 72,4% y en 2006 el 76,1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11280" y="5300280"/>
            <a:ext cx="792144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brecha entre el ingreso de hombres y mujeres aumenta según crece la calific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in educación, el ingreso de la mujer representa el 76,6% del que recibe el hombre. Con educación superior completa la proporción cae al 61,4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5280" y="5157360"/>
            <a:ext cx="835344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evolución positiva del ingreso es imperceptible con los primeros años de estudio, para después ser más notor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diferencia entre 0 y Básica Completa es de 25,8%. Entre 0 y Secundaria Completa, de 67,8%. Entre 0 y Licenciatura de 5 veces y, entre 0 y postgrado de 6,2 vec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III.- La Educació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5660640"/>
            <a:ext cx="8136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La diferencia intergeneracional es más importante para los segmentos de menores recurs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Los jóvenes del 10% más rico tienen sólo 1,9 años más de escolaridad que sus abuelos. Los del 10% más pobre, 6,3 años má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5589360"/>
            <a:ext cx="82072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mayor retención escolar se aprecia en los segmentos de menores recursos. En 1990 menos de 3, de cada 10 jóvenes, tenía Educación Media completa. En 2006 son casi 6 de cada 10 en esa condició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26560" y="5733720"/>
            <a:ext cx="77058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o que se aprecia en el gráfico es una mayor capacidad para integrar y retener en el sistema educacional a las persona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I.- La Famil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55640" y="5013360"/>
            <a:ext cx="77040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recimiento de las familias unipersonales (10,5% a 13,2%) y monoparentales (22,2% a 25,6%). Disminución de las familias nucleares (67,3% a 61,2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¿Qué es una familia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-25560"/>
          <a:ext cx="9144000" cy="5110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5560"/>
                    <a:ext cx="9144000" cy="51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10920" y="6237000"/>
            <a:ext cx="77151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familia extendida pasa del 16,7% al 19,3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3240"/>
          <a:ext cx="9144000" cy="6089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40"/>
                    <a:ext cx="9144000" cy="60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23640" y="5805360"/>
            <a:ext cx="821844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hijos allegados son el 71,8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no familiares el 6,0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22320"/>
            <a:ext cx="914400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5559120"/>
            <a:ext cx="83628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casados disminuyen de 64,0% a 47,8%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convivientes aumentan de 6,1% a 14,9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Separados, anulados o divorciados aumentan de 7,4% a 10,5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isminuyen los viudos(as) de 10,6% a 9,6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000" y="5733720"/>
            <a:ext cx="7931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l tamaño de la familia disminuye de 3,4 personas a 3,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cantidad de hijos disminuye de 1,6 a 1,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000" y="5516640"/>
            <a:ext cx="821844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ctr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Desigual situación de la natalidad según la condición soci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 algn="ctr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os que más disminuyen la natalidad son los indigentes. De 2,3 hijos a 1,8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 algn="ctr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os pobres disminuyen de 1,9 a 1,7 y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 algn="ctr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os no pobres de 1,3 a 1,2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21:43:42Z</dcterms:created>
  <dc:creator>Patricio Escobar</dc:creator>
  <dc:description/>
  <dc:language>en-US</dc:language>
  <cp:lastModifiedBy>Patricio Escobar S.</cp:lastModifiedBy>
  <dcterms:modified xsi:type="dcterms:W3CDTF">2008-09-05T02:53:18Z</dcterms:modified>
  <cp:revision>37</cp:revision>
  <dc:subject/>
  <dc:title>Diapositiva 1</dc:title>
</cp:coreProperties>
</file>