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3.wmf" ContentType="image/x-wmf"/>
  <Override PartName="/ppt/media/image2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86F7C-3776-4E37-BCE4-B7276A4C1FBE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1.- Las condiciones sociales y su variación a lo largo de una gener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702A3-6F8B-4168-AA50-4F83330CD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143FC-B4A9-4D3F-8FAD-25C219283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768C3-E4A7-4937-AA56-CF27C8BCD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AEDA5-6C98-4622-976B-539939B33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E3268-A61C-454D-B06D-EFE624D7F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E8DF6-AE24-4AA1-964F-D8AB1AC0C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DBE55-910E-4CB7-8FF3-9FA33F60A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382F8-C45D-4F27-BD73-0F8370A3B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42AE2-72AD-494D-B200-0A46920F4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61244-7DA6-4A97-8960-451005C5B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B9F2C-6F0C-450D-A8BF-02D56A602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5039C-9D67-4085-8C30-5A27F84D8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4FFCF-C01A-44FE-A4B8-BD3E27063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A124E-F22D-4681-A770-AD334F0C0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339E0-D309-4CED-BDC6-159D09B3F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39612-8114-458D-9108-BD574EA10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A782C-E136-4C91-82F6-1880CA593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4D217-C929-4F51-A163-B7F8FDD75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5532F-F2AC-45BA-B15E-7E77A1BD0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250BA-F489-4F31-9884-7976F0185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B90C7-0AAE-4C22-90C7-ECFCD8DD6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A841B-93D7-4123-B948-267F729F3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9DB9D-B1B6-4167-92F8-075A1A8A9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9F017-CD8C-48CF-9A5C-9A0945EE6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F8D43-C70D-4B9D-A626-7DD82CF4DF34}" type="slidenum">
              <a:rPr b="0" lang="es-MX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F15D2-9667-4D89-81CE-BE9A95843874}" type="slidenum">
              <a:rPr b="0" lang="es-MX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278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e5ffff"/>
                </a:solidFill>
                <a:latin typeface="Tahoma"/>
              </a:rPr>
              <a:t>Curso de Sociología</a:t>
            </a:r>
            <a:br>
              <a:rPr sz="4000"/>
            </a:br>
            <a:br>
              <a:rPr sz="4000"/>
            </a:br>
            <a:r>
              <a:rPr b="1" lang="es-ES" sz="3600" spc="-1" strike="noStrike">
                <a:solidFill>
                  <a:srgbClr val="e5ffff"/>
                </a:solidFill>
                <a:latin typeface="Tahoma"/>
              </a:rPr>
              <a:t>Escuela de Terapia Ocupacional</a:t>
            </a:r>
            <a:br>
              <a:rPr sz="4000"/>
            </a:br>
            <a:br>
              <a:rPr sz="4000"/>
            </a:br>
            <a:r>
              <a:rPr b="1" lang="es-ES" sz="3200" spc="-1" strike="noStrike">
                <a:solidFill>
                  <a:srgbClr val="e5ffff"/>
                </a:solidFill>
                <a:latin typeface="Tahoma"/>
              </a:rPr>
              <a:t>Facultad de Medicina</a:t>
            </a:r>
            <a:br>
              <a:rPr sz="4000"/>
            </a:br>
            <a:br>
              <a:rPr sz="4000"/>
            </a:br>
            <a:r>
              <a:rPr b="1" lang="es-ES" sz="2800" spc="-1" strike="noStrike">
                <a:solidFill>
                  <a:srgbClr val="e5ffff"/>
                </a:solidFill>
                <a:latin typeface="Tahoma"/>
              </a:rPr>
              <a:t>Universidad de Chile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971640" y="5846400"/>
            <a:ext cx="734544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El diferencial de natalidad se acentúa por tramo de ingreso.  El 20% más pobre tiene 1,5 hijos y el 20% más rico 1, 0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8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11280" y="5516640"/>
            <a:ext cx="785952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 algn="ctr"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La situación de escolaridad del jefe de hogar  mantiene importante diferencia según la situación de ingreso. El 10% más rico tiene 14,4 años de escolaridad y el 10% más pobre sólo 7,3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ctr"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¿Qué explica qué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5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6840" y="5949720"/>
            <a:ext cx="81471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La mayor parte las familias unipersonales tiene una mujer como jefe de hogar. Ha aumentado desde el 54,3% al 68,8%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8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68360" y="5660640"/>
            <a:ext cx="807552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Autonomía de los hombres jóven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Los hombres separados viven solo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Las mujeres sobreviven a los hombr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7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68000" y="5877000"/>
            <a:ext cx="821844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La crisis del 2001 afecta fuertemente a las mujeres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Recuperación hacia el año 2005 y 2006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0" y="-25560"/>
            <a:ext cx="9144000" cy="590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68360" y="5661000"/>
            <a:ext cx="820728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La situación de ingreso bajos incide fuertemente en la presencia de jefaturas femeninas en el hogar. El 14,7% de las Jefas de Hogar, pertenece al 10% más pobre de la población y sólo un 4,9% al 10% más rico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7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610920" y="5589360"/>
            <a:ext cx="799308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Los años de escolaridad también poseen una fuerte dispersión según la situación de ingresos.  Las jefas de hogar del 10% más pobre sólo tienen 8,1 años de escolaridad y las del 10% más rico casi 14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6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611280" y="5589360"/>
            <a:ext cx="792144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Las diferencia observadas entre las jefas de hogar según situación social, se han agudizado en los últimos años.  El 10% más rico tenía ingresos 13,1 vez mayores al 10% más pobre. Actualmente esa diferencia ha aumentado al 16,1 vece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9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684000" y="5950080"/>
            <a:ext cx="784836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Las familias con mayor endeudamiento son las III y IV Quintil de ingreso. El 21,7% del III Quintil tiene Deudas y el 21,6% del IV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1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68360" y="5589360"/>
            <a:ext cx="81360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A pesar de no ser el segmento más endeudado, el 10% más pobre debe destinar la mayor parte de sus ingresos a este ítem.  Gastan el 67%, en comparación con el 21% que gasta el 10% más rico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7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e5ffff"/>
                </a:solidFill>
                <a:latin typeface="Tahoma"/>
              </a:rPr>
              <a:t>La sociedad Chilena y Sus Transformaciones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68360" y="2349000"/>
            <a:ext cx="8229600" cy="40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Los aspectos de la transformación: Familia, Trabajo y Educació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El periodo analizado: 1990 a 2006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La fuente: Encuesta CASEN. Realizada a 73.720 hogares en todo el país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Nota. Todos los gráficos presentados tiene por fuente los datos de la Encuesta CASEN 2006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57200" y="2637000"/>
            <a:ext cx="8229600" cy="34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Tahoma"/>
              </a:rPr>
              <a:t>II.- El Trabajo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68360" y="5703840"/>
            <a:ext cx="83628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ctr"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Los hombres se encuentran agrupados en los tramos superiores de ingreso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 algn="ctr"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850.000 personas tienen ingresos iguales o inferiores a $117.60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 algn="ctr"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2.953.000 personas tienen ingresos iguales o inferiores a $235.200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58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68000" y="6021360"/>
            <a:ext cx="828036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ahoma"/>
              </a:rPr>
              <a:t>Los ingresos del 10% más pobre crecieron un 51,5%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1400" spc="-1" strike="noStrike">
                <a:solidFill>
                  <a:srgbClr val="ffffff"/>
                </a:solidFill>
                <a:latin typeface="Tahoma"/>
              </a:rPr>
              <a:t>Los del 10% más rico crecieron un 58,4%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01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684360" y="5734080"/>
            <a:ext cx="777528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En 1990, mientras los hombres ganaban en promedio $204 mil, las mujeres ganaban $147 mil. En 2006, los hombres ganan $326 mil y las mujeres $248 mil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En 1990 representaba el 72,4% y en 2006 el 76,1%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03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611280" y="5300280"/>
            <a:ext cx="792144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ctr"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La brecha entre el ingreso de hombres y mujeres aumenta según crece la calificació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 algn="ctr"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Sin educación, el ingreso de la mujer representa el 76,6% del que recibe el hombre. Con educación superior completa la proporción cae al 61,4%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58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395280" y="5157360"/>
            <a:ext cx="8353440" cy="13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 algn="ctr"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La evolución positiva del ingreso es imperceptible con los primeros años de estudio, para después ser más notoria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 algn="ctr"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La diferencia entre 0 y Básica Completa es de 25,8%. Entre 0 y Secundaria Completa, de 67,8%. Entre 0 y Licenciatura de 5 veces y, entre 0 y postgrado de 6,2 vece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5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57200" y="2708280"/>
            <a:ext cx="8229600" cy="33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Tahoma"/>
              </a:rPr>
              <a:t>III.- La Educació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68360" y="5660640"/>
            <a:ext cx="8136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La diferencia intergeneracional es más importante para los segmentos de menores recurso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Los jóvenes del 10% más rico tienen sólo 1,9 años más de escolaridad que sus abuelos. Los del 10% más pobre, 6,3 años más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8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468360" y="5589360"/>
            <a:ext cx="820728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La mayor retención escolar se aprecia en los segmentos de menores recursos. En 1990 menos de 3, de cada 10 jóvenes, tenía Educación Media completa. En 2006 son casi 6 de cada 10 en esa condición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5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826560" y="5733720"/>
            <a:ext cx="7705800" cy="87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Lo que se aprecia en el gráfico es una mayor capacidad para integrar y retener en el sistema educacional a las personas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09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57200" y="2852280"/>
            <a:ext cx="8229600" cy="324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Tahoma"/>
              </a:rPr>
              <a:t>I.- La Familia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755640" y="5013360"/>
            <a:ext cx="7704000" cy="11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Crecimiento de las familias unipersonales (10,5% a 13,2%) y monoparentales (22,2% a 25,6%). Disminución de las familias nucleares (67,3% a 61,2%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¿Qué es una familia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0" y="-25560"/>
          <a:ext cx="9144000" cy="51102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-25560"/>
                    <a:ext cx="9144000" cy="511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610920" y="6237000"/>
            <a:ext cx="771516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La familia extendida pasa del 16,7% al 19,3%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0" y="3240"/>
          <a:ext cx="9144000" cy="60897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3240"/>
                    <a:ext cx="9144000" cy="608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323640" y="5805360"/>
            <a:ext cx="821844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Los hijos allegados son el 71,8%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Los no familiares el 6,0%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0" y="22320"/>
            <a:ext cx="9144000" cy="58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68360" y="5559120"/>
            <a:ext cx="8362800" cy="129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Los casados disminuyen de 64,0% a 47,8%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Los convivientes aumentan de 6,1% a 14,9%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Separados, anulados o divorciados aumentan de 7,4% a 10,5%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Disminuyen los viudos(as) de 10,6% a 9,6%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53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68000" y="5733720"/>
            <a:ext cx="793116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El tamaño de la familia disminuye de 3,4 personas a 3,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La cantidad de hijos disminuye de 1,6 a 1,3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7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68000" y="5516640"/>
            <a:ext cx="8218440" cy="93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ctr"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ahoma"/>
              </a:rPr>
              <a:t>Desigual situación de la natalidad según la condición social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57040" indent="-257040" algn="ctr"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ahoma"/>
              </a:rPr>
              <a:t>Los que más disminuyen la natalidad son los indigentes. De 2,3 hijos a 1,8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57040" indent="-257040" algn="ctr"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ahoma"/>
              </a:rPr>
              <a:t>Los pobres disminuyen de 1,9 a 1,7 y,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57040" indent="-257040" algn="ctr"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ahoma"/>
              </a:rPr>
              <a:t>Los no pobres de 1,3 a 1,2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9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3T21:43:42Z</dcterms:created>
  <dc:creator>Patricio Escobar</dc:creator>
  <dc:description/>
  <dc:language>en-US</dc:language>
  <cp:lastModifiedBy>Patricio Escobar S.</cp:lastModifiedBy>
  <dcterms:modified xsi:type="dcterms:W3CDTF">2008-09-05T02:53:18Z</dcterms:modified>
  <cp:revision>37</cp:revision>
  <dc:subject/>
  <dc:title>Diapositiva 1</dc:title>
</cp:coreProperties>
</file>