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E60A-2E7A-46AE-A214-7261D3ECEE8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- Las condiciones sociales y su variación a lo largo de una gen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7E5-0A58-4157-BE4A-07413B63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7F8-DBCB-4FCF-BFEE-F4AC5F59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C3C-B0EA-45C2-A4B3-1F5A0D51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AA2-6EDB-41FE-BA2A-AF24FBBD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A523-B668-4FF1-AF41-5E4DFEC0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BC79-B046-4827-893C-8091F164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3571-BE50-405B-A860-13D5859C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EB95-75A1-4CFC-90A2-57B9C4E3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04E9-DF9B-4318-A1CF-3E4E0528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DA72-8CA9-4523-91CB-E8A10347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9BAC-1CD4-45A3-BA06-3497F445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FDC-B863-4BC0-B4EE-681695ED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0971-AF14-4996-86C1-EB6B2A7D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233E-AFAD-4513-A12F-1B28FD9B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89E5-E38B-4767-B7F5-DA603873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8882-8B9A-43C7-92B1-53A92F64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8896-3DD5-4639-B644-53EBD891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8EC-EEF4-43DC-B213-B9913E34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C5D-694D-418D-8FD0-A1395451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094-238A-4F51-95C8-EEE1AC6A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5AF-D99A-46E2-9D6A-239531C0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F63-FA40-4BE1-84F5-F4130882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3AE-0BE7-4AA3-ADB7-89ABF634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C44-9BA2-4473-A2ED-86AD2F22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FDF0-51FE-41E9-9700-992294FA9783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1933-BBFE-48D3-B93D-B060B5C317F5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4000"/>
            </a:br>
            <a:br>
              <a:rPr sz="4000"/>
            </a:br>
            <a:r>
              <a:rPr b="1" lang="es-ES" sz="36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r>
              <a:rPr b="1" lang="es-ES" sz="3200" spc="-1" strike="noStrike">
                <a:solidFill>
                  <a:srgbClr val="e5ffff"/>
                </a:solidFill>
                <a:latin typeface="Tahoma"/>
              </a:rPr>
              <a:t>Facultad de Medicina</a:t>
            </a:r>
            <a:br>
              <a:rPr sz="4000"/>
            </a:br>
            <a:br>
              <a:rPr sz="4000"/>
            </a:br>
            <a:r>
              <a:rPr b="1" lang="es-ES" sz="2800" spc="-1" strike="noStrike">
                <a:solidFill>
                  <a:srgbClr val="e5ffff"/>
                </a:solidFill>
                <a:latin typeface="Tahoma"/>
              </a:rPr>
              <a:t>Universidad de Chil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71640" y="5846400"/>
            <a:ext cx="73454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diferencial de natalidad se acentúa por tramo de ingreso.  El 20% más pobre tiene 1,5 hijos y el 20% más rico 1, 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5516640"/>
            <a:ext cx="7859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ituación de escolaridad del jefe de hogar  mantiene importante diferencia según la situación de ingreso. El 10% más rico tiene 14,4 años de escolaridad y el 10% más pobre sólo 7,3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¿Qué explica qué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949720"/>
            <a:ext cx="8147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mayor parte las familias unipersonales tiene una mujer como jefe de hogar. Ha aumentado desde el 54,3% al 68,8%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5660640"/>
            <a:ext cx="80755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utonomía de los hombres jóve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hombres separados viven so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mujeres sobreviven a los homb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5877000"/>
            <a:ext cx="821844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crisis del 2001 afecta fuertemente a las mujer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cuperación hacia el año 2005 y 200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5661000"/>
            <a:ext cx="8207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ituación de ingreso bajos incide fuertemente en la presencia de jefaturas femeninas en el hogar. El 14,7% de las Jefas de Hogar, pertenece al 10% más pobre de la población y sólo un 4,9% al 10% más r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10920" y="5589360"/>
            <a:ext cx="79930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años de escolaridad también poseen una fuerte dispersión según la situación de ingresos.  Las jefas de hogar del 10% más pobre sólo tienen 8,1 años de escolaridad y las del 10% más rico casi 1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5589360"/>
            <a:ext cx="7921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diferencia observadas entre las jefas de hogar según situación social, se han agudizado en los últimos años.  El 10% más rico tenía ingresos 13,1 vez mayores al 10% más pobre. Actualmente esa diferencia ha aumentado al 16,1 ve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000" y="5950080"/>
            <a:ext cx="7848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familias con mayor endeudamiento son las III y IV Quintil de ingreso. El 21,7% del III Quintil tiene Deudas y el 21,6% del IV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136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 pesar de no ser el segmento más endeudado, el 10% más pobre debe destinar la mayor parte de sus ingresos a este ítem.  Gastan el 67%, en comparación con el 21% que gasta el 10% más r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La sociedad Chilena y Sus Transformacion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aspectos de la transformación: Familia, Trabajo y Edu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eriodo analizado: 1990 a 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uente: Encuesta CASEN. Realizada a 73.720 hogares en todo el paí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ta. Todos los gráficos presentados tiene por fuente los datos de la Encuesta CASEN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I.- El Trabaj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5703840"/>
            <a:ext cx="83628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hombres se encuentran agrupados en los tramos superiores de ingres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50.000 personas tienen ingresos iguales o inferiores a $117.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.953.000 personas tienen ingresos iguales o inferiores a $235.2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6021360"/>
            <a:ext cx="8280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os ingresos del 10% más pobre crecieron un 51,5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os del 10% más rico crecieron un 58,4%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5734080"/>
            <a:ext cx="77752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1990, mientras los hombres ganaban en promedio $204 mil, las mujeres ganaban $147 mil. En 2006, los hombres ganan $326 mil y las mujeres $248 mi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1990 representaba el 72,4% y en 2006 el 76,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5300280"/>
            <a:ext cx="7921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brecha entre el ingreso de hombres y mujeres aumenta según crece la calific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n educación, el ingreso de la mujer representa el 76,6% del que recibe el hombre. Con educación superior completa la proporción cae al 61,4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5157360"/>
            <a:ext cx="835344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evolución positiva del ingreso es imperceptible con los primeros años de estudio, para después ser más noto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diferencia entre 0 y Básica Completa es de 25,8%. Entre 0 y Secundaria Completa, de 67,8%. Entre 0 y Licenciatura de 5 veces y, entre 0 y postgrado de 6,2 ve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II.- La Educ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5660640"/>
            <a:ext cx="8136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a diferencia intergeneracional es más importante para los segmentos de menores recur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os jóvenes del 10% más rico tienen sólo 1,9 años más de escolaridad que sus abuelos. Los del 10% más pobre, 6,3 años má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2072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mayor retención escolar se aprecia en los segmentos de menores recursos. En 1990 menos de 3, de cada 10 jóvenes, tenía Educación Media completa. En 2006 son casi 6 de cada 10 en esa condic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26560" y="5733720"/>
            <a:ext cx="77058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 que se aprecia en el gráfico es una mayor capacidad para integrar y retener en el sistema educacional a las person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.- La Fami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5640" y="5013360"/>
            <a:ext cx="77040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recimiento de las familias unipersonales (10,5% a 13,2%) y monoparentales (22,2% a 25,6%). Disminución de las familias nucleares (67,3% a 61,2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¿Qué es una famili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-25560"/>
          <a:ext cx="9144000" cy="511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5560"/>
                    <a:ext cx="914400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6237000"/>
            <a:ext cx="77151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familia extendida pasa del 16,7% al 19,3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3240"/>
          <a:ext cx="9144000" cy="608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3640" y="5805360"/>
            <a:ext cx="82184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hijos allegados son el 71,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no familiares el 6,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5559120"/>
            <a:ext cx="83628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casados disminuyen de 64,0% a 47,8%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convivientes aumentan de 6,1% a 14,9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parados, anulados o divorciados aumentan de 7,4% a 10,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minuyen los viudos(as) de 10,6% a 9,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5733720"/>
            <a:ext cx="7931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tamaño de la familia disminuye de 3,4 personas a 3,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cantidad de hijos disminuye de 1,6 a 1,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5516640"/>
            <a:ext cx="821844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sigual situación de la natalidad según la condición soci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que más disminuyen la natalidad son los indigentes. De 2,3 hijos a 1,8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pobres disminuyen de 1,9 a 1,7 y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no pobres de 1,3 a 1,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1:43:42Z</dcterms:created>
  <dc:creator>Patricio Escobar</dc:creator>
  <dc:description/>
  <dc:language>en-US</dc:language>
  <cp:lastModifiedBy>Patricio Escobar S.</cp:lastModifiedBy>
  <dcterms:modified xsi:type="dcterms:W3CDTF">2008-09-05T02:53:18Z</dcterms:modified>
  <cp:revision>37</cp:revision>
  <dc:subject/>
  <dc:title>Diapositiva 1</dc:title>
</cp:coreProperties>
</file>