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A3AF-B7E9-4CF8-8FD4-87355BDE80D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- Las condiciones sociales y su variación a lo largo de una gen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57B-88B6-496E-BB02-BA18AF51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564-3052-4905-A53A-05A29055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EAD-A72A-4C88-889A-4090F23F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07F-C99A-4BDC-B55F-A77A4FFD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AF3F-ABDB-4AF0-BE64-3530A163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A2F7-1EA2-4815-8CC7-56AD9B2C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8EB1-5C21-40D1-883C-BA24C0A1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3C7F-7E6B-4CAC-AF5B-2CBB349E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670C-E773-4EA0-B0AA-83F548E9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D3EB-5AE3-49AB-8BAE-136DA92F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38DE-D640-4953-959E-CE2D0FDF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360-F2DB-45BC-A58E-1F37479D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B08F-0C0B-433C-9058-4F78F5F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8098-6480-4F7F-91F3-F32298F4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FE25-D61C-4D1B-A8CE-C57B63FF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D373-8AF7-4155-9DE1-21CC606B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8659-E15E-4DAC-953B-88E60B13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DD5-2EEF-4B06-8C83-C7978006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1A7-B94A-4B87-A634-36D03B3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D7D-E97F-4497-A6B7-E6DACB02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F71-AAEB-418E-B72F-A9EFA67B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769-B01A-4B5B-B58F-E6513C66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A91-70A9-47FA-AEB5-5C57459B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5E3-22F2-420F-9B22-CEC8E7C2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4D65-7F39-4295-9452-13F121FEAE44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3F80-31B7-4F08-86E3-104391E28839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4000"/>
            </a:br>
            <a:br>
              <a:rPr sz="4000"/>
            </a:br>
            <a:r>
              <a:rPr b="1" lang="es-ES" sz="36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Facultad de Medicina</a:t>
            </a:r>
            <a:br>
              <a:rPr sz="4000"/>
            </a:br>
            <a:br>
              <a:rPr sz="4000"/>
            </a:br>
            <a:r>
              <a:rPr b="1" lang="es-ES" sz="2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640" y="5846400"/>
            <a:ext cx="7345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diferencial de natalidad se acentúa por tramo de ingreso.  El 20% más pobre tiene 1,5 hijos y el 20% más rico 1, 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7859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escolaridad del jefe de hogar  mantiene importante diferencia según la situación de ingreso. El 10% más rico tiene 14,4 años de escolaridad y el 10% más pobre sólo 7,3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¿Qué explica qué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94972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mayor parte las familias unipersonales tiene una mujer como jefe de hogar. Ha aumentado desde el 54,3% al 68,8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075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nomía de los hombres jóv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ombres separados viven so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mujeres sobreviven a los hom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5877000"/>
            <a:ext cx="8218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risis del 2001 afecta fuertemente a las muje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hacia el año 2005 y 200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ingreso bajos incide fuertemente en la presencia de jefaturas femeninas en el hogar. El 14,7% de las Jefas de Hogar, pertenece al 10% más pobre de la población y sólo un 4,9% a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0920" y="5589360"/>
            <a:ext cx="7993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años de escolaridad también poseen una fuerte dispersión según la situación de ingresos.  Las jefas de hogar del 10% más pobre sólo tienen 8,1 años de escolaridad y las del 10% más rico casi 1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diferencia observadas entre las jefas de hogar según situación social, se han agudizado en los últimos años.  El 10% más rico tenía ingresos 13,1 vez mayores al 10% más pobre. Actualmente esa diferencia ha aumentado al 16,1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595008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familias con mayor endeudamiento son las III y IV Quintil de ingreso. El 21,7% del III Quintil tiene Deudas y el 21,6% del I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1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pesar de no ser el segmento más endeudado, el 10% más pobre debe destinar la mayor parte de sus ingresos a este ítem.  Gastan el 67%, en comparación con el 21% que gasta e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sociedad Chilena y Sus Transformacion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spectos de la transformación: Familia, Trabajo y Edu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eriodo analizado: 1990 a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ente: Encuesta CASEN. Realizada a 73.720 hogares en todo el paí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ta. Todos los gráficos presentados tiene por fuente los datos de la Encuesta CASEN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.- El Traba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5703840"/>
            <a:ext cx="8362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hombres se encuentran agrupados en los tramos superiores de ingres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50.000 personas tienen ingresos iguales o inferiores a $117.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953.000 personas tienen ingresos iguales o inferiores a $235.2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6021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ingresos del 10% más pobre crecieron un 51,5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del 10% más rico crecieron un 58,4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5734080"/>
            <a:ext cx="777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, mientras los hombres ganaban en promedio $204 mil, las mujeres ganaban $147 mil. En 2006, los hombres ganan $326 mil y las mujeres $248 mi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 representaba el 72,4% y en 2006 el 76,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530028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brecha entre el ingreso de hombres y mujeres aumenta según crece la calif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ducación, el ingreso de la mujer representa el 76,6% del que recibe el hombre. Con educación superior completa la proporción cae al 61,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353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evolución positiva del ingreso es imperceptible con los primeros años de estudio, para después ser más not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diferencia entre 0 y Básica Completa es de 25,8%. Entre 0 y Secundaria Completa, de 67,8%. Entre 0 y Licenciatura de 5 veces y, entre 0 y postgrado de 6,2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I.- La Educ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1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diferencia intergeneracional es más importante para los segmentos de menores recur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os jóvenes del 10% más rico tienen sólo 1,9 años más de escolaridad que sus abuelos. Los del 10% más pobre, 6,3 años má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207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mayor retención escolar se aprecia en los segmentos de menores recursos. En 1990 menos de 3, de cada 10 jóvenes, tenía Educación Media completa. En 2006 son casi 6 de cada 10 en esa condi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5733720"/>
            <a:ext cx="77058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 que se aprecia en el gráfico es una mayor capacidad para integrar y retener en el sistema educacional a las person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.- La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5013360"/>
            <a:ext cx="770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recimiento de las familias unipersonales (10,5% a 13,2%) y monoparentales (22,2% a 25,6%). Disminución de las familias nucleares (67,3% a 61,2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Qué es una famil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-25560"/>
          <a:ext cx="9144000" cy="511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6237000"/>
            <a:ext cx="7715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familia extendida pasa del 16,7% al 19,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240"/>
          <a:ext cx="9144000" cy="60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5805360"/>
            <a:ext cx="82184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ijos allegados son el 71,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no familiares el 6,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59120"/>
            <a:ext cx="8362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asados disminuyen de 64,0% a 47,8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onvivientes aumentan de 6,1% a 14,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parados, anulados o divorciados aumentan de 7,4% a 10,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minuyen los viudos(as) de 10,6% a 9,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5733720"/>
            <a:ext cx="7931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tamaño de la familia disminuye de 3,4 personas a 3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antidad de hijos disminuye de 1,6 a 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sigual situación de la natalidad según la condición so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que más disminuyen la natalidad son los indigentes. De 2,3 hijos a 1,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pobres disminuyen de 1,9 a 1,7 y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no pobres de 1,3 a 1,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1:43:42Z</dcterms:created>
  <dc:creator>Patricio Escobar</dc:creator>
  <dc:description/>
  <dc:language>en-US</dc:language>
  <cp:lastModifiedBy>Patricio Escobar S.</cp:lastModifiedBy>
  <dcterms:modified xsi:type="dcterms:W3CDTF">2008-09-05T02:53:18Z</dcterms:modified>
  <cp:revision>37</cp:revision>
  <dc:subject/>
  <dc:title>Diapositiva 1</dc:title>
</cp:coreProperties>
</file>