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873EB-B279-48D7-856B-EA9BC776EFC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6C03-461D-4CCD-8101-BD7BE2F54EB0}"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ientras más precoz es el diagnóstico, menos células malignas existirán y menps riesgo de desarrollar resistencia a quimio y radioterapi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EE1E1-3E9C-4BA8-9869-48AFA6851154}"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 Pediatría es frecuente la diseminación tempr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gunos tumores pueden producir sustancias biológicamente activas, tales como hormona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9894-FFAA-4540-8BC0-B84051C8395A}"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maurosis o falta de rojo pupilar en lactante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érdida de peso inexplicable e important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ADC4-F081-45A2-BE32-656EB4D54C2E}"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na vez sospechado, se debe iniciar el estudio y derivar rápidamente  para completar el estudio e iniciar el  trat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procedimiento quirúrgico que permita tomar la muestra de biopsia puede ser además diagnóstico y permitir realizar la etapificación del tumor. Además, es terapéut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 respecto a la etapificación, se debe determinar cuán extendido está el tumor para determinar el tratamiento. Algunos cánceres están extendidosdesde el principio, como es el caso de las Leucem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8C24-438E-43C5-B282-94F3F9F2CBEE}"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to es en general, y depende el tumo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2E59-0DA4-42F4-A81C-45000EFF9B53}"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to está limitado, entonces, por los métodos disponibles. Si existe un marcador, se hace el seguimiento con ese examen. Sin embargo, cuando se hace detectable la enfermedad en una recaida, habitualmente las células tumorales han debido aumentar en gran medid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7A9E8-67A6-4004-AC30-BA2B5A45E940}"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urante la inducción, se da el tratamiento hasta que se obtiene la remisión, por lo tanto, no hay tumor detectable, sin embargo, eso no significa la eliminación completa de las células neoplásica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C232-E75D-4EF9-8BF7-C8890A7A49B2}"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imer año de vida: Tercera causa de muerte después de malformaciones congénitas y accidentes y viol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gundo año: Segunda causa de muerte después de  accidentes y violenci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0393A-268A-436A-A308-AD8D269A3FA1}"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3 pilares fundamentales del tratamiento oncológico.</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ECC89-E67A-4568-B17A-C66A8D744B6C}"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tos tejidos en proliferación activa son el pelo, la médula ósea, la mucosa intestinal, gónadas. Tiene relación con las RAM. Son drogas en las que experimentalmente se sabe su toxicidad celular, y que se empiezan a usar en Oncología. La duración de los tratamientos, que permita equilibrar esta toxicidad con su utilidad clínica contra los tumores se ha determinado en el contexto de protocolos de tratamiento que ha permitido comparar distintos esquemas empír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abitualmente duran entre 3 a 12 meses, sin embargo, en LLA dura 2 año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F8CDB-437A-42F3-A1D1-C2751669B1B0}"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neutropenia febril en sí  no significa una sepsis severa, pero el hecho de tener neutropenia favorece las infecciones severas y los pacientes pueden cursarla. El manejo inicial de la neutropenia febril es el de una sepsis, con antibioterapia endovenoven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proximadamente 1 semana después de un ciclo de quimioterapia se produce el máximo efecto de las drogas sobre la médula ósea, y en ese momento pueden aparecer las neutropenias. El paciente está muy expuesto a las infecciones. Existen medicamentos que favorecen la recuperación más rápida de las  series hematológicas, en este caso de los neutrófilo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92AD0-D25E-4ECC-8971-2AD956E4C5D3}"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rogas son citostáticos. Afectan la mucosa intestinal, que es un epitelio en rápido crecimiento, disminuyendo su capacidad de absorber nutrientes. Drogas disminuyen apetito. Algunas producen vómitos como RAM.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8CF5A-E642-47A4-8E3B-3F1C855CCD69}"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tos son los efectos biológicos por toxicidad directa sobre el SNC y perifér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T intracraneana en TU del SNC, lo mismo que la QT intratecal. Sin embargo, en Leucemias, en donde se asume una enfermedad diseminada desde el principio, se debe realizar QT intratecal para tratar las células que a ese nivel se puedan encontrar, y evitar las recaida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19A6C-A198-4C8E-AD37-1697116A10FD}"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hecho de estar sometidos a una rutina de tratamientos y procedimientos muy invasivos y agresivos afecta negativamente los aspectos psicológicos del niñ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D5D25-8C40-4822-80A4-935A806E222C}"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INDA: Grupo cooperativo desde 1984. Protocolo común para todos los cánceres, excepto Tu del SN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922E5-53D2-4DAD-8B80-57AB1F6BFE9E}"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 las nuevas terapias, ha aumentado enormemente la sobrevida de los pacientes, con curación de la enfermedad. Sin embargo, en todo el proceso de curación se pueden ir desarrollando secuelas a todo nivel. Se debe intentar disminuir al máximo estas secuelas, pero sin sacrificar el éxito en la sobrevida.</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BDA8D-314F-4160-953E-385669C33B1E}"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bemos acompañar a los niños y sus familias durante todo este proceso hacia la curación (idealmente), en que siempre estará pendiente esta “Espada de Damocles” del fracaso terapéutico y la muerte al f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ensemos en todo lo que implica este protocolo de trat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tratamiento implica un cambio completo en las rutinas de los pacientes y sus familias. Deben dedicar casi tiempo completo al tratamiento de la enfermedad. Es una enfermedad muy absorbente.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3C31A-7950-4447-884D-4E4C5541798A}"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jan de asistir a clases, y dejan de tener contacto con sus pares. Se sienten menoscabados, las continuas hospitalizaciones los alejan. Dejan de realizarse las actividades a las que estaban acostumbrados. En  el caso del niño, por limitaciones físicas y psicológicas (desgano, malestar físico, transtornos del ánimo). En el caso de la familia, porque deben de estar pendientes de las necesidades de los pequeños pacientes. En algunos casos, la familia completa ha de trasladarse hacia las ciudades donde se encuentran los centros oncológico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199A5-DD2F-4377-B29C-7254F58739D1}"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demás de la curación, el paciente ha de proyectarse como un futuro miembro activo de la sociedad. Se debe dar énfasis, primero en lograr la curación evitando al máximo las secuelas, y luego, rehabilitar al paciente para reincorporarlo a la sociedad.</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48ADB-1153-45F8-80EA-6328387709B1}"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ómo afecta el diagnóstico del cáncer al niño en las distintas etapas evolutivas, cómo lo sorprende. Esto es, el diagnóstico y las consecuencias: El proceso de tratamiento, con lo que ello implica para su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9BE6-2875-4773-AD8B-22B4598875A0}"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iene más conciencia de su enfermedad y de las probables consecuencia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14428-89DC-45AB-A62C-EF32AE043D5D}"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produce un alto nivel de conflictos. A nivel de pareja se desencadenan o se profundizan las diferencias. Se ve un mayor número de separacion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8670F-D5D5-4048-81E6-CE46BAC0C70F}"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INDA: Grupo cooperativo desde 1984. Protocolo común para todos los cánceres, excepto Tu del SNC.</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DADC6-0A12-4D9E-85ED-A5672C3B60F0}"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 se debe entregar la responsabilidad a uno solo.</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D1664-A923-449D-997D-2115BC2C2875}"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abitualmente mayores de 8 año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18D82-E446-446B-9DF0-27C2E6E4D551}"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temor ha de ser canalizado. Se debe permitir a la familia reiniciar las actividades habituales. Existen El fin del tratamiento también tiene sus implicancias y puede ser un problema. Centros Oncológicos que mantienen escuelas para disminuir el impacto de la interrupción del ciclo escolar. Es importante, sobre todo en pacientes que han viajado desde otros lugar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616F-130E-45DC-B8DD-418E6CA2F703}"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F90C2-C445-4936-A8FA-1FC8A56300A3}"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abitualmente originados por alteraciones genéticas. No por agentes externos. Tumores pediátricos son altamente sensibles a la QT y R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3CCE-AA02-46A8-B37F-FF3F6D04195A}"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utónoma: </a:t>
            </a:r>
            <a:r>
              <a:rPr b="0" lang="en-US" sz="1200" spc="-1" strike="noStrike">
                <a:solidFill>
                  <a:srgbClr val="000000"/>
                </a:solidFill>
                <a:latin typeface="Arial"/>
                <a:ea typeface="Times New Roman"/>
              </a:rPr>
              <a:t>se independiza de los mecanismos de control fisiológico de crecimiento</a:t>
            </a:r>
            <a:r>
              <a:rPr b="0" lang="es-C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nvasiva: </a:t>
            </a:r>
            <a:r>
              <a:rPr b="0" lang="en-US" sz="1200" spc="-1" strike="noStrike">
                <a:solidFill>
                  <a:srgbClr val="000000"/>
                </a:solidFill>
                <a:latin typeface="Arial"/>
                <a:ea typeface="Times New Roman"/>
              </a:rPr>
              <a:t>ocupa los espacios vecinos, pierde el control de inhibición por contacto y desarrolla vasculatura para asegurar nutrición</a:t>
            </a:r>
            <a:r>
              <a:rPr b="0" lang="es-C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etastásica: </a:t>
            </a:r>
            <a:r>
              <a:rPr b="0" lang="en-US" sz="1200" spc="-1" strike="noStrike">
                <a:solidFill>
                  <a:srgbClr val="000000"/>
                </a:solidFill>
                <a:latin typeface="Arial"/>
                <a:ea typeface="Times New Roman"/>
              </a:rPr>
              <a:t>se disemina a través de la circulación sanguínea y linfática y se vuelve capaz de proliferar a distancia</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6E185-F529-4DCD-B54C-4AE48B474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A7E4E-4194-4382-AD9C-16598AFC9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16BEC-65FC-416E-8F77-A70E11A61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8CBFC-5EBA-4FC6-8C45-E1A826274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841F77-4C09-46F8-B5E9-92D2668E185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E0ED18-CEAD-45AF-BDC8-B767CAEAA28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FA8D71-2DEC-4491-BF50-7C70FFD852F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0B8FED-A8FE-45D5-B4E9-3511FB0F5DD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4142BE-67CA-46BB-B0BE-BD22C9F529D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65F064-A3B1-48BA-9245-4334B28E0F9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28D5CF-42EE-4BC3-9AD6-5B4C2F18343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636DE-DE53-4F90-9327-EE5CAAD4D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AF44E7-240A-433F-A0F3-5B052C66E03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BD19F8-6004-488A-A1AD-9A61BC62583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E1F5E5-21DB-42E7-AFF3-D6FF7E5E785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7C73E6-D784-415A-8E0C-1B5CF53B4D2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4F4233-872A-4827-A61A-1C8ADF13CA9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86BA9-5E11-43AE-A742-B9F35C8D8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73FD1-5643-422C-89E3-2C2DC3AD6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4F84A-A8B4-4EE2-A6FE-F166871B3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56805-83E8-4A82-BF19-9592587DC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09F42-57C1-403E-91B3-63F6205E9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D9CF5-C355-4828-8DB1-174D8AE70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42EE0-5137-4F73-9BBE-E48174FBA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35318-650D-4EC3-8A5A-7ECBAE301EBC}" type="slidenum">
              <a:rPr b="0" lang="es-C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CFC86-521A-4AE1-99D5-79FCBD9E056A}" type="slidenum">
              <a:rPr b="0" lang="es-CL"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rcer</a:t>
            </a:r>
            <a:r>
              <a:rPr b="0" lang="es-CL" sz="3200" spc="-1" strike="noStrike">
                <a:solidFill>
                  <a:srgbClr val="ffffff"/>
                </a:solidFill>
                <a:latin typeface="Tahoma"/>
              </a:rPr>
              <a:t> año T.O.</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r. </a:t>
            </a:r>
            <a:r>
              <a:rPr b="0" lang="es-CL" sz="1600" spc="-1" strike="noStrike">
                <a:solidFill>
                  <a:srgbClr val="ffffff"/>
                </a:solidFill>
                <a:latin typeface="Arial"/>
              </a:rPr>
              <a:t>Andrés</a:t>
            </a:r>
            <a:r>
              <a:rPr b="0" lang="es-CL" sz="1600" spc="-1" strike="noStrike">
                <a:solidFill>
                  <a:srgbClr val="ffffff"/>
                </a:solidFill>
                <a:latin typeface="Tahoma"/>
              </a:rPr>
              <a:t> Muñoz Allendes</a:t>
            </a:r>
            <a:endParaRPr b="0" lang="en-US" sz="1600" spc="-1" strike="noStrike">
              <a:solidFill>
                <a:srgbClr val="ffffff"/>
              </a:solidFill>
              <a:latin typeface="Tahoma"/>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Servicio</a:t>
            </a:r>
            <a:r>
              <a:rPr b="0" lang="es-CL" sz="1600" spc="-1" strike="noStrike">
                <a:solidFill>
                  <a:srgbClr val="ffffff"/>
                </a:solidFill>
                <a:latin typeface="Tahoma"/>
              </a:rPr>
              <a:t> de Pediatría.</a:t>
            </a:r>
            <a:endParaRPr b="0" lang="en-US" sz="16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Hospital Clínico U. De Chile.</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Cánceres más Frecuentes.</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1° Leucemia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2° Linfoma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3° Tumores del SN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Tipos de Cánceres.</a:t>
            </a: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umores Hematopoyéticos:</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Leucemias (LLA, LMA, LMC)</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Linfomas  (Hodgkin y No Hodgkin)</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umores embrionarios:</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Retinoblastoma.</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Neuroblastoma.</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Tumor de Wilms.</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Tumor testicular y ováric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Tipos de Cánceres.</a:t>
            </a: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umores Oseos:</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Osteosarcoma.</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Sarcoma de Ewing.</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umores de Partes Blandas:</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Rabdomiosarcoma.</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umores del SNC:</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Tumores neuroectodérmicos (meduloblastoma).</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Tumores de origen gli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Evaluación y Diagnóstico.</a:t>
            </a: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ospecha diagnóstica es una Urgenci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xito del tratamiento depende de la precocidad del diagnóstic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ara vez se puede realizar Dg. en etapa premalig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INFANTIL</a:t>
            </a:r>
            <a:br>
              <a:rPr sz="4400"/>
            </a:br>
            <a:r>
              <a:rPr b="0" lang="es-CL" sz="4400" spc="-1" strike="noStrike">
                <a:solidFill>
                  <a:srgbClr val="ffffff"/>
                </a:solidFill>
                <a:latin typeface="Tahoma"/>
              </a:rPr>
              <a:t>Sospecha Clínica.</a:t>
            </a: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intomatología dada por invasión local (dolor,  tumor, impotencia funciona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intomatología  dada por diseminación temprana: Sintomatología general. (decaimiento, pérdida de pes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Cuadro Clínico.</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indrome anémico.</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indrome hemorragíparo.</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indrome febril.</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Masa abdominal.</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olor e impotencia funcional de extremidade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indrome hipertensión endocraneana.</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éficit neurológicos focal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Estudio del Paciente.</a:t>
            </a: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xámenes Básicos: Hemograma, Perfil Bioquímico, función renal, Orina.</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Imagenología: Rx Tórax, Ecografía, TAC, RMN.</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Medicina Nuclear: Cintigrama.</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boratorio específico: Marcadores tumorales (</a:t>
            </a:r>
            <a:r>
              <a:rPr b="0" lang="es-CL" sz="2800" spc="-1" strike="noStrike">
                <a:solidFill>
                  <a:srgbClr val="ffffff"/>
                </a:solidFill>
                <a:latin typeface="GreekS"/>
              </a:rPr>
              <a:t>a</a:t>
            </a:r>
            <a:r>
              <a:rPr b="0" lang="es-CL" sz="2800" spc="-1" strike="noStrike">
                <a:solidFill>
                  <a:srgbClr val="ffffff"/>
                </a:solidFill>
                <a:latin typeface="Tahoma"/>
              </a:rPr>
              <a:t> fetoproteina)</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studio histológico: Toma de muestra de tejido (biopsia, punción, sangre, mielograma).</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tapifica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Tratamiento.</a:t>
            </a: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Objetivo principal: Obtener y mantener una remisión clínica completa del tumo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puede considerar curación con remisión por 3-5 añ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Tratamiento.</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misión Clínica: Estado en el cual la enfermedad se hace indetectable por cualquier método de examen clínico dispon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Tratamiento.</a:t>
            </a: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5800" indent="-32580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ahoma"/>
              </a:rPr>
              <a:t>Inducción de la remisión.</a:t>
            </a:r>
            <a:endParaRPr b="0" lang="en-US" sz="4000" spc="-1" strike="noStrike">
              <a:solidFill>
                <a:srgbClr val="ffffff"/>
              </a:solidFill>
              <a:latin typeface="Tahoma"/>
            </a:endParaRPr>
          </a:p>
          <a:p>
            <a:pPr marL="3258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58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5800" indent="-32580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ahoma"/>
              </a:rPr>
              <a:t>Consolidación de la remisió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 </a:t>
            </a:r>
            <a:br>
              <a:rPr sz="4400"/>
            </a:br>
            <a:r>
              <a:rPr b="0" lang="es-CL" sz="4400" spc="-1" strike="noStrike">
                <a:solidFill>
                  <a:srgbClr val="ffffff"/>
                </a:solidFill>
                <a:latin typeface="Tahoma"/>
              </a:rPr>
              <a:t>Epidemiología.</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Importante causa de mortalidad infanti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imer año de vida: Tercera causa de muert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gundo año de vida: Segunda causa de muer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Tratamiento.</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Quimioterapia.</a:t>
            </a:r>
            <a:endParaRPr b="0" lang="en-US" sz="4400" spc="-1" strike="noStrike">
              <a:solidFill>
                <a:srgbClr val="ffffff"/>
              </a:solidFill>
              <a:latin typeface="Tahoma"/>
            </a:endParaRPr>
          </a:p>
          <a:p>
            <a:pPr marL="3121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12120" indent="-3121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Radioterapia.</a:t>
            </a:r>
            <a:endParaRPr b="0" lang="en-US" sz="4400" spc="-1" strike="noStrike">
              <a:solidFill>
                <a:srgbClr val="ffffff"/>
              </a:solidFill>
              <a:latin typeface="Tahoma"/>
            </a:endParaRPr>
          </a:p>
          <a:p>
            <a:pPr marL="3121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12120" indent="-3121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Cirugí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Quimioterapia.</a:t>
            </a: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rogas que interfieren con la síntesis o reparación del DNA o con la transcripción del RN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lta toxicidad sobre tejidos en proliferación activ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u uso ha sido empírico, basado en estudios y protocolos cooperativ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Radioterapia.</a:t>
            </a: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duce muerte celular local por la producción de radicales libr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lta toxicida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trecho margen terapéutic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cuelas al irradiar tejidos en crecimient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Cirugía.</a:t>
            </a: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Obtención de muestra para biopsi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trol local de la enfermeda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isminuye masa tumora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usa siempre en conjunto con Quimio y/o Radioterap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Efectos  Secundarios  del Tratamiento.</a:t>
            </a:r>
            <a:endParaRPr b="0" lang="en-US" sz="44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oxicidad Hematológica:                                     - Drogas citostáticas actúan en médula óse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Producen anemia, neutropenia, trombopeni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Neutropenia severa puede favorecer sepsis severas (Neutropenia Febri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Efectos Secundarios del Tratamiento.</a:t>
            </a: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recimiento y Desarroll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Drogas afectan crecimiento por efecto directo y por anorexi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Efectos  Secundarios  del Tratamiento.</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fectos Neuropsicológico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RT intracraneana y QT intratecal pueden producir náuseas, cefalea, vómitos, anorexia, neuropatías periféricas (transitorios en su mayorí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Riesgo de déficit intelectuales y procesos degenerativ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Efectos  Secundarios  del Tratamiento.</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fectos Neuropsicológico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Transtornos del ánim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La mayoría de los pacientes desarrollan tolerancia a este proceso, recuperándose al finaliz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45"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s 6 D (7  en realidad):</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Muerte (</a:t>
            </a:r>
            <a:r>
              <a:rPr b="1" lang="es-CL" sz="2800" spc="-1" strike="noStrike">
                <a:solidFill>
                  <a:srgbClr val="ffffff"/>
                </a:solidFill>
                <a:latin typeface="Tahoma"/>
              </a:rPr>
              <a:t>D</a:t>
            </a:r>
            <a:r>
              <a:rPr b="0" lang="es-CL" sz="2800" spc="-1" strike="noStrike">
                <a:solidFill>
                  <a:srgbClr val="ffffff"/>
                </a:solidFill>
                <a:latin typeface="Tahoma"/>
              </a:rPr>
              <a:t>eath).</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a:t>
            </a:r>
            <a:r>
              <a:rPr b="1" lang="es-CL" sz="2800" spc="-1" strike="noStrike">
                <a:solidFill>
                  <a:srgbClr val="ffffff"/>
                </a:solidFill>
                <a:latin typeface="Tahoma"/>
              </a:rPr>
              <a:t>D</a:t>
            </a:r>
            <a:r>
              <a:rPr b="0" lang="es-CL" sz="2800" spc="-1" strike="noStrike">
                <a:solidFill>
                  <a:srgbClr val="ffffff"/>
                </a:solidFill>
                <a:latin typeface="Tahoma"/>
              </a:rPr>
              <a:t>ependencia.</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a:t>
            </a:r>
            <a:r>
              <a:rPr b="1" lang="es-CL" sz="2800" spc="-1" strike="noStrike">
                <a:solidFill>
                  <a:srgbClr val="ffffff"/>
                </a:solidFill>
                <a:latin typeface="Tahoma"/>
              </a:rPr>
              <a:t>D</a:t>
            </a:r>
            <a:r>
              <a:rPr b="0" lang="es-CL" sz="2800" spc="-1" strike="noStrike">
                <a:solidFill>
                  <a:srgbClr val="ffffff"/>
                </a:solidFill>
                <a:latin typeface="Tahoma"/>
              </a:rPr>
              <a:t>esfiguración.</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Incapacidad (</a:t>
            </a:r>
            <a:r>
              <a:rPr b="1" lang="es-CL" sz="2800" spc="-1" strike="noStrike">
                <a:solidFill>
                  <a:srgbClr val="ffffff"/>
                </a:solidFill>
                <a:latin typeface="Tahoma"/>
              </a:rPr>
              <a:t>D</a:t>
            </a:r>
            <a:r>
              <a:rPr b="0" lang="es-CL" sz="2800" spc="-1" strike="noStrike">
                <a:solidFill>
                  <a:srgbClr val="ffffff"/>
                </a:solidFill>
                <a:latin typeface="Tahoma"/>
              </a:rPr>
              <a:t>isability).</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a:t>
            </a:r>
            <a:r>
              <a:rPr b="1" lang="es-CL" sz="2800" spc="-1" strike="noStrike">
                <a:solidFill>
                  <a:srgbClr val="ffffff"/>
                </a:solidFill>
                <a:latin typeface="Tahoma"/>
              </a:rPr>
              <a:t>D</a:t>
            </a:r>
            <a:r>
              <a:rPr b="0" lang="es-CL" sz="2800" spc="-1" strike="noStrike">
                <a:solidFill>
                  <a:srgbClr val="ffffff"/>
                </a:solidFill>
                <a:latin typeface="Tahoma"/>
              </a:rPr>
              <a:t>isrrupción de relaciones interpersonales.</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a:t>
            </a:r>
            <a:r>
              <a:rPr b="1" lang="es-CL" sz="2800" spc="-1" strike="noStrike">
                <a:solidFill>
                  <a:srgbClr val="ffffff"/>
                </a:solidFill>
                <a:latin typeface="Tahoma"/>
              </a:rPr>
              <a:t>D</a:t>
            </a:r>
            <a:r>
              <a:rPr b="0" lang="es-CL" sz="2800" spc="-1" strike="noStrike">
                <a:solidFill>
                  <a:srgbClr val="ffffff"/>
                </a:solidFill>
                <a:latin typeface="Tahoma"/>
              </a:rPr>
              <a:t>isconfor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a:t>
            </a:r>
            <a:r>
              <a:rPr b="1" lang="es-CL" sz="2800" spc="-1" strike="noStrike">
                <a:solidFill>
                  <a:srgbClr val="ffffff"/>
                </a:solidFill>
                <a:latin typeface="Tahoma"/>
              </a:rPr>
              <a:t>D</a:t>
            </a:r>
            <a:r>
              <a:rPr b="0" lang="es-CL" sz="2800" spc="-1" strike="noStrike">
                <a:solidFill>
                  <a:srgbClr val="ffffff"/>
                </a:solidFill>
                <a:latin typeface="Tahoma"/>
              </a:rPr>
              <a:t>ol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Epidemiología</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eucemias 40% cánceres infantil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obrevida: LLA: 75% a 5 año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LMA: 50% a 5 año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LMC: 60% a 5 año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4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Objetivos de la terapia oncológic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Sobrevivenci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Disminuir los efectos secundarios físicos y psicológicos permanentes (secuelas) y transitori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ceso de tratamiento:</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Controles frecuentes.</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Realización de exámenes de todo tipo.</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Administración de medicamentos, sesiones de radioterapia.</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Hospitalizaciones frecuentes.</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Complicacion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53"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5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Cambios importantes en las rutinas del niño y su famili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Dejan de asistir a clas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Cambia la forma de relación con los par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Se centran en la enfermedad.</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Limitaciones dadas por la necesidad del niño y el tratamiento.</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Cambio de residenci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Problemas económic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57"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yectarse en el futuro: El pequeño paciente como futuro actor social y laboral.</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nfasis en la Rehabilit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5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diagnóstico y sus consecuencia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Niño pequeño: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desvincula de su familia.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interrumpen actividades cognitiva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nsiedad ante separación de sus Padr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prensión ante los tratamient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diagnóstico y sus consecuencia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Niño Mayo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Motivado por mejorar física e intelectualmen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siente “diferen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érdida gradual de su activida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Temor a la muerte y al dol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diagnóstico y sus consecuencia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Adolescen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interrumpe sentimiento de autonomía e independencia famili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Mira enfermedad como castig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65"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67"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entorno familiar: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Padres: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flictos de pareja.</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isfunciones sexuale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par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Epidemiología</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uración de 50% de los niño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Manejo se realiza en Centros de Referencia.</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INDA (Programa Infantil de Drogas Antineoplásicas) desde 1984. Cubre 80% de población en riesgo.</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13 centros de atención (Red Nacional de Aten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6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entorno familia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Hermanos: Pocos estudios al respecto (los grandes olvidado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ha visto que no existen mayores problemas psicológicos a largo plazo que la población general.</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eben estar enterados de lo que ocurre con su herman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7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entorno familia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irecta relación entre el equilibrio y serenidad con que se enfrenta la enfermedad y una mejor evolución de est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7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ntrega de Informació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 ambos Padre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e la enfermedad en sí y de los cuidados del niño.</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ermitir hablar de los sentimientos respecto de la enfermeda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ómo reorganizar la vida.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ómo superar el proces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7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ntrega de Informació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A los niños: Los Padres deciden (de manera informad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7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erminación del Tratamiento:</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tratamiento produce “segurida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l finalizarlo, ansiedad y temor ante la recaíd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familia debe reanudar actividades habitual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Retomar la Escuel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poyo psicológico e incluso psiquiátrico de ser necesari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upervivencia a largo plazo:</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parece ansiedad por las secuelas de la enfermedad y los riesgos futur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acientes serían más vulnerables a situaciones de ajuste social y tensión emociona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n general, los pacientes se integran de buena forma a todos los aspectos de la vid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niño que va a morir:</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30 a 40% de los niños oncológicos fallecen.</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Transmitir serenidad y consuelo a la familia.</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iminar sentimientos de culpabilidad.</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l momento del fallecimiento: Respeto, tratando de procurar calma y consuel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Epidemiología</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UGE desde 2003.</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Menores de 15 años.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eucemia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infomas (Hodgkin y no  Hodgki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TU Sólid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Aspectos Biológicos.</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Origen en células indiferenciadas o blásticas (Sarcomas y Leucemia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Origen embrionario (neuroblastoma, meduloblastoma, retinoblastom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ápido crecimiento e invasivos.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Metastizan precozme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Aspectos Biológicos.</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554400" indent="-5544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Genes producen transformación maligna:</a:t>
            </a:r>
            <a:endParaRPr b="0" lang="en-US" sz="3200" spc="-1" strike="noStrike">
              <a:solidFill>
                <a:srgbClr val="ffffff"/>
              </a:solidFill>
              <a:latin typeface="Tahoma"/>
            </a:endParaRPr>
          </a:p>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Protooncogenes: Proliferación celular.</a:t>
            </a:r>
            <a:endParaRPr b="0" lang="en-US" sz="3200" spc="-1" strike="noStrike">
              <a:solidFill>
                <a:srgbClr val="ffffff"/>
              </a:solidFill>
              <a:latin typeface="Tahoma"/>
            </a:endParaRPr>
          </a:p>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Genes supresores de tumores: Inhiben ciclo celular.</a:t>
            </a:r>
            <a:endParaRPr b="0" lang="en-US" sz="3200" spc="-1" strike="noStrike">
              <a:solidFill>
                <a:srgbClr val="ffffff"/>
              </a:solidFill>
              <a:latin typeface="Tahoma"/>
            </a:endParaRPr>
          </a:p>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Genes controladores de la apoptosis.</a:t>
            </a:r>
            <a:endParaRPr b="0" lang="en-US" sz="3200" spc="-1" strike="noStrike">
              <a:solidFill>
                <a:srgbClr val="ffffff"/>
              </a:solidFill>
              <a:latin typeface="Tahoma"/>
            </a:endParaRPr>
          </a:p>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Aspectos Biológicos.</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Transformación maligna de célula:</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Autónoma.</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Invasiva.</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Metastási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Aspectos Biológicos.</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Neoplasia corresponde a una expansión clonal.</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a vez controlado el clon maligno, se controla la enfermeda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7T21:20:57Z</dcterms:created>
  <dc:creator>Antonio Rojas</dc:creator>
  <dc:description/>
  <dc:language>en-US</dc:language>
  <cp:lastModifiedBy>Rodrigo Cubillos Bravo</cp:lastModifiedBy>
  <dcterms:modified xsi:type="dcterms:W3CDTF">2008-09-10T03:38:56Z</dcterms:modified>
  <cp:revision>79</cp:revision>
  <dc:subject/>
  <dc:title>Patología aguda en Pediatria</dc:title>
</cp:coreProperties>
</file>