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8648-5314-40AD-BD81-C36389D2F7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5E7A-0745-479A-A0B7-87E9644BDA6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ientras más precoz es el diagnóstico, menos células malignas existirán y menps riesgo de desarrollar resistencia a quimio y radioterap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5EC1-5295-4F91-93F0-8684ECF8D1C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Pediatría es frecuente la diseminación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tumores pueden producir sustancias biológicamente activas, tales como hormo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E9B2-44CC-4C42-B736-ADB1F77121C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maurosis o falta de rojo pupilar en lactante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érdida de peso inexplicable e importa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3C56-B82C-4896-A6FD-F4567AB13AC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a vez sospechado, se debe iniciar el estudio y derivar rápidamente  para completar el estudio e iniciar el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procedimiento quirúrgico que permita tomar la muestra de biopsia puede ser además diagnóstico y permitir realizar la etapificación del tumor. Además, es terapéu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respecto a la etapificación, se debe determinar cuán extendido está el tumor para determinar el tratamiento. Algunos cánceres están extendidosdesde el principio, como es el caso de las Leuce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D0A1-B624-4BC8-B50A-9C36D6B3174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 en general, y depende el tum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1C41-2BD8-430E-98E8-C3BA2DCAC5A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tá limitado, entonces, por los métodos disponibles. Si existe un marcador, se hace el seguimiento con ese examen. Sin embargo, cuando se hace detectable la enfermedad en una recaida, habitualmente las células tumorales han debido aumentar en gran med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3728-F377-4DD2-9266-D56653AF1B2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urante la inducción, se da el tratamiento hasta que se obtiene la remisión, por lo tanto, no hay tumor detectable, sin embargo, eso no significa la eliminación completa de las células neoplásic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1C7B-83F6-4B9C-B569-1673E61423E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imer año de vida: Tercera causa de muerte después de malformaciones congénitas y accidentes y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gundo año: Segunda causa de muerte después de  accidentes y viol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4220-9F56-41E8-8085-B127BE9FB33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3 pilares fundamentales del tratamiento oncológic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5014-1828-4275-A6CE-EDB14BA2878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tejidos en proliferación activa son el pelo, la médula ósea, la mucosa intestinal, gónadas. Tiene relación con las RAM. Son drogas en las que experimentalmente se sabe su toxicidad celular, y que se empiezan a usar en Oncología. La duración de los tratamientos, que permita equilibrar esta toxicidad con su utilidad clínica contra los tumores se ha determinado en el contexto de protocolos de tratamiento que ha permitido comparar distintos esquemas empír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duran entre 3 a 12 meses, sin embargo, en LLA dura 2 añ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627E-E5CE-476C-B8BD-ED6AC7E761C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neutropenia febril en sí  no significa una sepsis severa, pero el hecho de tener neutropenia favorece las infecciones severas y los pacientes pueden cursarla. El manejo inicial de la neutropenia febril es el de una sepsis, con antibioterapia endovenoven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proximadamente 1 semana después de un ciclo de quimioterapia se produce el máximo efecto de las drogas sobre la médula ósea, y en ese momento pueden aparecer las neutropenias. El paciente está muy expuesto a las infecciones. Existen medicamentos que favorecen la recuperación más rápida de las  series hematológicas, en este caso de los neutrófilo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7F8E-79BD-4C67-B34C-D7F563EF969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rogas son citostáticos. Afectan la mucosa intestinal, que es un epitelio en rápido crecimiento, disminuyendo su capacidad de absorber nutrientes. Drogas disminuyen apetito. Algunas producen vómitos como 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15BD-A63F-4665-BD3C-D0F97F01136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son los efectos biológicos por toxicidad directa sobre el SNC y perifér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T intracraneana en TU del SNC, lo mismo que la QT intratecal. Sin embargo, en Leucemias, en donde se asume una enfermedad diseminada desde el principio, se debe realizar QT intratecal para tratar las células que a ese nivel se puedan encontrar, y evitar las recaid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2269-4D2D-4F2F-8AD4-80EA57799DE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hecho de estar sometidos a una rutina de tratamientos y procedimientos muy invasivos y agresivos afecta negativamente los aspectos psicológicos del niñ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1962-4742-4AD7-855E-B06E482CBA6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F332-B8A1-4DC8-9190-045FA586C50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las nuevas terapias, ha aumentado enormemente la sobrevida de los pacientes, con curación de la enfermedad. Sin embargo, en todo el proceso de curación se pueden ir desarrollando secuelas a todo nivel. Se debe intentar disminuir al máximo estas secuelas, pero sin sacrificar el éxito en la sobrevid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AAB9-639D-4AB4-B114-2245069CFAD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bemos acompañar a los niños y sus familias durante todo este proceso hacia la curación (idealmente), en que siempre estará pendiente esta “Espada de Damocles” del fracaso terapéutico y la muerte al f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nsemos en todo lo que implica este protocolo de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ratamiento implica un cambio completo en las rutinas de los pacientes y sus familias. Deben dedicar casi tiempo completo al tratamiento de la enfermedad. Es una enfermedad muy absorbent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9FB3-1A31-4608-9E9B-B28A7F92974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jan de asistir a clases, y dejan de tener contacto con sus pares. Se sienten menoscabados, las continuas hospitalizaciones los alejan. Dejan de realizarse las actividades a las que estaban acostumbrados. En  el caso del niño, por limitaciones físicas y psicológicas (desgano, malestar físico, transtornos del ánimo). En el caso de la familia, porque deben de estar pendientes de las necesidades de los pequeños pacientes. En algunos casos, la familia completa ha de trasladarse hacia las ciudades donde se encuentran los centros oncológico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0E23-2949-42F7-A8BD-8F9EF75C36D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emás de la curación, el paciente ha de proyectarse como un futuro miembro activo de la sociedad. Se debe dar énfasis, primero en lograr la curación evitando al máximo las secuelas, y luego, rehabilitar al paciente para reincorporarlo a la socieda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99B4-21EC-4FDD-B290-533238969EA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ómo afecta el diagnóstico del cáncer al niño en las distintas etapas evolutivas, cómo lo sorprende. Esto es, el diagnóstico y las consecuencias: El proceso de tratamiento, con lo que ello implica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A6F6-01EC-45F1-8908-1AFF03CBCA4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 más conciencia de su enfermedad y de las probables consecu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1B91-2A21-42FE-B314-14DCEF0194E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produce un alto nivel de conflictos. A nivel de pareja se desencadenan o se profundizan las diferencias. Se ve un mayor número de separaci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AC4C-D042-4BDF-B6A6-F317507DA19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D5E-0056-441F-B833-C01C43C4FD7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se debe entregar la responsabilidad a uno sol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2D90-0646-4899-ACFD-6E44EEEEC61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mayores de 8 año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DF0B-68E4-44B1-B2D4-B30641DC0E9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emor ha de ser canalizado. Se debe permitir a la familia reiniciar las actividades habituales. Existen El fin del tratamiento también tiene sus implicancias y puede ser un problema. Centros Oncológicos que mantienen escuelas para disminuir el impacto de la interrupción del ciclo escolar. Es importante, sobre todo en pacientes que han viajado desde otros luga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BD60-E0D7-45D5-8A9F-35DAFE408AC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365B-98C0-4F25-8C71-54A0FFA919F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originados por alteraciones genéticas. No por agentes externos. Tumores pediátricos son altamente sensibles a la QT y R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B67A-ED23-402A-B997-296C243E34B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tónoma: </a:t>
            </a:r>
            <a:r>
              <a:rPr b="0" lang="en-US" sz="1200" spc="-1" strike="noStrike">
                <a:solidFill>
                  <a:srgbClr val="000000"/>
                </a:solidFill>
                <a:latin typeface="Arial"/>
                <a:ea typeface="Times New Roman"/>
              </a:rPr>
              <a:t>se independiza de los mecanismos de control fisiológico de crecimiento</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vasiva: </a:t>
            </a:r>
            <a:r>
              <a:rPr b="0" lang="en-US" sz="1200" spc="-1" strike="noStrike">
                <a:solidFill>
                  <a:srgbClr val="000000"/>
                </a:solidFill>
                <a:latin typeface="Arial"/>
                <a:ea typeface="Times New Roman"/>
              </a:rPr>
              <a:t>ocupa los espacios vecinos, pierde el control de inhibición por contacto y desarrolla vasculatura para asegurar nutrición</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etastásica: </a:t>
            </a:r>
            <a:r>
              <a:rPr b="0" lang="en-US" sz="1200" spc="-1" strike="noStrike">
                <a:solidFill>
                  <a:srgbClr val="000000"/>
                </a:solidFill>
                <a:latin typeface="Arial"/>
                <a:ea typeface="Times New Roman"/>
              </a:rPr>
              <a:t>se disemina a través de la circulación sanguínea y linfática y se vuelve capaz de proliferar a dista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0AA7A-1027-450D-9182-4BB885123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FED8-0F6D-45C7-A48D-BCFE037E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538A9-D8A9-42C1-BEA1-805E6015C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A83A7-9324-4F74-A948-7C7F2C88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5C3588-A5CA-44FD-874C-12EF887DC2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F20F5-C59D-4755-9C16-D07A2F132E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820A5-31BA-4C55-A143-4E335926DB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853D3-7A43-4787-AA26-5CAF65B3F2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E2A58-9E55-4747-9AB1-69F43A7293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EE0E3-07FF-44DD-9836-236D3452D6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E76EF-F18D-4114-8571-D5073D45B6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818F-A19F-432E-AC88-7DC1FA89D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86410-3641-4262-ADBD-9881F87ACC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8BA9B-AB33-4120-8DB9-8BC82B94FF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4C752-DA20-4A70-A680-9532AF0891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ED9AA2-5554-4DDB-88D4-9B450951D4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EE474A-E714-41B2-95CA-64C761293F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0CAA1-7686-4E84-94AF-1DCB3CEA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9A23-68B8-40DD-A016-D3C27F85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3FE8D-B0DB-4BF0-8103-C46ED2AE1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9CED-779B-47BC-BC88-6ECF64132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D940-3672-46EC-9BD2-798C075E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DD32-FDC2-4991-86B2-5429E588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28774-51F0-4763-8F7C-E270DF475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29CB-A450-4FFC-A90F-F83216B72A95}"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CC34-A071-465A-898F-8917254D7F99}" type="slidenum">
              <a:rPr b="0" lang="es-C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rcer</a:t>
            </a:r>
            <a:r>
              <a:rPr b="0" lang="es-CL" sz="3200" spc="-1" strike="noStrike">
                <a:solidFill>
                  <a:srgbClr val="ffffff"/>
                </a:solidFill>
                <a:latin typeface="Tahoma"/>
              </a:rPr>
              <a:t> año T.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r. </a:t>
            </a:r>
            <a:r>
              <a:rPr b="0" lang="es-CL" sz="1600" spc="-1" strike="noStrike">
                <a:solidFill>
                  <a:srgbClr val="ffffff"/>
                </a:solidFill>
                <a:latin typeface="Arial"/>
              </a:rPr>
              <a:t>Andrés</a:t>
            </a:r>
            <a:r>
              <a:rPr b="0" lang="es-CL" sz="1600" spc="-1" strike="noStrike">
                <a:solidFill>
                  <a:srgbClr val="ffffff"/>
                </a:solidFill>
                <a:latin typeface="Tahoma"/>
              </a:rPr>
              <a:t> Muñoz Allendes</a:t>
            </a:r>
            <a:endParaRPr b="0" lang="en-US" sz="1600" spc="-1" strike="noStrike">
              <a:solidFill>
                <a:srgbClr val="ffffff"/>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Servicio</a:t>
            </a:r>
            <a:r>
              <a:rPr b="0" lang="es-CL" sz="1600" spc="-1" strike="noStrike">
                <a:solidFill>
                  <a:srgbClr val="ffffff"/>
                </a:solidFill>
                <a:latin typeface="Tahoma"/>
              </a:rPr>
              <a:t> de Pediatría.</a:t>
            </a:r>
            <a:endParaRPr b="0" lang="en-US" sz="1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spital Clínico U. De Chil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ánceres más Frecuente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eucemi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infom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Tumores del SN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Hematopoyétic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eucemias (LLA, LMA, LMC)</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nfomas  (Hodgkin y No Hodgki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embrionari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etin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r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de Wilm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testicular y ovár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Ose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Oste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arcoma de Ewing.</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 Partes Blanda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abdomi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l SNC:</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neuroectodérmicos (meduloblast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de origen gl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valuación y Diagnóstico.</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specha diagnóstica es una Urg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to del tratamiento depende de la precocidad del diagnós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ara vez se puede realizar Dg. en etapa premalig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INFANTIL</a:t>
            </a:r>
            <a:br>
              <a:rPr sz="4400"/>
            </a:br>
            <a:r>
              <a:rPr b="0" lang="es-CL" sz="4400" spc="-1" strike="noStrike">
                <a:solidFill>
                  <a:srgbClr val="ffffff"/>
                </a:solidFill>
                <a:latin typeface="Tahoma"/>
              </a:rPr>
              <a:t>Sospecha Clínica.</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invasión local (dolor,  tumor, impotencia funcion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diseminación temprana: Sintomatología general. (decaimiento, pérdida de p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uadro Clínic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anémic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emorragípar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febr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asa abdomina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olor e impotencia funcional de extremidad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ipertensión endocranean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éficit neurológicos foc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studio del Paciente.</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ámenes Básicos: Hemograma, Perfil Bioquímico, función renal, Or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Imagenología: Rx Tórax, Ecografía, TAC, RM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edicina Nuclear: Cinti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boratorio específico: Marcadores tumorales (</a:t>
            </a:r>
            <a:r>
              <a:rPr b="0" lang="es-CL" sz="2800" spc="-1" strike="noStrike">
                <a:solidFill>
                  <a:srgbClr val="ffffff"/>
                </a:solidFill>
                <a:latin typeface="GreekS"/>
              </a:rPr>
              <a:t>a</a:t>
            </a:r>
            <a:r>
              <a:rPr b="0" lang="es-CL" sz="2800" spc="-1" strike="noStrike">
                <a:solidFill>
                  <a:srgbClr val="ffffff"/>
                </a:solidFill>
                <a:latin typeface="Tahoma"/>
              </a:rPr>
              <a:t> fetoprote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 histológico: Toma de muestra de tejido (biopsia, punción, sangre, mielo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tapific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 principal: Obtener y mantener una remisión clínica completa del tum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considerar curación con remisión por 3-5 añ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misión Clínica: Estado en el cual la enfermedad se hace indetectable por cualquier método de examen clínico dispon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Inducción de la remisión.</a:t>
            </a: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Consolidación de la remisió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 </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mportante causa de mortalidad infanti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año de vida: Tercera causa de muert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año de vida: Segunda causa de muer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Quim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Rad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irugí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Quimioterapia.</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rogas que interfieren con la síntesis o reparación del DNA o con la transcripción del R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 sobre tejidos en proliferación ac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u uso ha sido empírico, basado en estudios y protocolos cooperativ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Radioterapia.</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duce muerte celular local por la producción de radicales libr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recho margen terapéutic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cuelas al irradiar tejidos en crecimie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irugía.</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tención de muestra para biops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rol local de la enferme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minuye masa tumor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usa siempre en conjunto con Quimio y/o Radioterap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oxicidad Hematológica:                                     - Drogas citostáticas actúan en médula óse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ducen anemia, neutropenia, trombope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tropenia severa puede favorecer sepsis severas (Neutropenia Febri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recimiento y Desarroll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Drogas afectan crecimiento por efecto directo y por anorexi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fectos Neuropsicológic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T intracraneana y QT intratecal pueden producir náuseas, cefalea, vómitos, anorexia, neuropatías periféricas (transitorios en su mayorí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iesgo de déficit intelectuales y procesos degenerativ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fectos Neuropsicológic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Transtornos del áni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 mayoría de los pacientes desarrollan tolerancia a este proceso, recuperándose al finaliz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6 D (7  en realidad):</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Muerte (</a:t>
            </a:r>
            <a:r>
              <a:rPr b="1" lang="es-CL" sz="2800" spc="-1" strike="noStrike">
                <a:solidFill>
                  <a:srgbClr val="ffffff"/>
                </a:solidFill>
                <a:latin typeface="Tahoma"/>
              </a:rPr>
              <a:t>D</a:t>
            </a:r>
            <a:r>
              <a:rPr b="0" lang="es-CL" sz="2800" spc="-1" strike="noStrike">
                <a:solidFill>
                  <a:srgbClr val="ffffff"/>
                </a:solidFill>
                <a:latin typeface="Tahoma"/>
              </a:rPr>
              <a:t>eath).</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pendenci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sfiguració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Incapacidad (</a:t>
            </a:r>
            <a:r>
              <a:rPr b="1" lang="es-CL" sz="2800" spc="-1" strike="noStrike">
                <a:solidFill>
                  <a:srgbClr val="ffffff"/>
                </a:solidFill>
                <a:latin typeface="Tahoma"/>
              </a:rPr>
              <a:t>D</a:t>
            </a:r>
            <a:r>
              <a:rPr b="0" lang="es-CL" sz="2800" spc="-1" strike="noStrike">
                <a:solidFill>
                  <a:srgbClr val="ffffff"/>
                </a:solidFill>
                <a:latin typeface="Tahoma"/>
              </a:rPr>
              <a:t>isability).</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rrupción de relaciones interpersonal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confor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ol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 40% cánceres infantil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brevida: LLA: 75%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A: 50%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C: 60% a 5 año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s de la terapia oncológic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Sobreviv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Disminuir los efectos secundarios físicos y psicológicos permanentes (secuelas) y transitori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ceso de tratamient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ntrol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Realización de exámenes de todo tip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ministración de medicamentos, sesiones de radioterapia.</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ospitalizacion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mplicacio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mbios importantes en las rutinas del niño y su famil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Dejan de asistir a clas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a la forma de relación con los par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e centran en la enfermeda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mitaciones dadas por la necesidad del niño y el tratamient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o de resid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blemas económic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yectarse en el futuro: El pequeño paciente como futuro actor social y laboral.</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fasis en la Rehabilit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pequeñ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esvincula de su famili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n actividades cognitiv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nsiedad ante separación de sus Pad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prensión ante los tratamie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May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otivado por mejorar física e intelectualm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siente “difer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érdida gradual de su activida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emor a la muerte y al do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olesc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 sentimiento de autonomía e independencia famili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ira enfermedad como casti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adre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flictos de parej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funciones sexuale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par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ración de 50% de los niño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anejo se realiza en Centros de Referenci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INDA (Programa Infantil de Drogas Antineoplásicas) desde 1984. Cubre 80% de población en riesg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3 centros de atención (Red Nacional de Aten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ermanos: Pocos estudios al respecto (los grandes olvidad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 visto que no existen mayores problemas psicológicos a largo plazo que la población gene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n estar enterados de lo que ocurre con su herm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recta relación entre el equilibrio y serenidad con que se enfrenta la enfermedad y una mejor evolución de es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ambos Padr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 la enfermedad en sí y de los cuidados del niñ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mitir hablar de los sentimientos respecto de la enfermed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reorganizar la vid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superar el proc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A los niños: Los Padres deciden (de manera inform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erminación del Tratamient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tratamiento produce “segurid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l finalizarlo, ansiedad y temor ante la recaíd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familia debe reanudar actividades habitu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tomar la Escuel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oyo psicológico e incluso psiquiátrico de ser necesar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upervivencia a largo plaz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arece ansiedad por las secuelas de la enfermedad y los riesgos futur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cientes serían más vulnerables a situaciones de ajuste social y tensión emo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general, los pacientes se integran de buena forma a todos los aspectos de la v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niño que va a mori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0 a 40% de los niños oncológicos fallece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mitir serenidad y consuelo a la famili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iminar sentimientos de culpabilidad.</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 momento del fallecimiento: Respeto, tratando de procurar calma y consu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UGE desde 200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nores de 15 añ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infomas (Hodgkin y no  Hodgki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U Sóli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n células indiferenciadas o blásticas (Sarcomas y 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mbrionario (neuroblastoma, meduloblastoma, retinoblastom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ápido crecimiento e invasiv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tastizan precozm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enes producen transformación maligna:</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rotooncogenes: Proliferación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supresores de tumores: Inhiben ciclo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controladores de la apoptosis.</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formación maligna de célul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utónom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Invasiv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Metastás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eoplasia corresponde a una expansión clonal.</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vez controlado el clon maligno, se controla la enferme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21:20:57Z</dcterms:created>
  <dc:creator>Antonio Rojas</dc:creator>
  <dc:description/>
  <dc:language>en-US</dc:language>
  <cp:lastModifiedBy>Rodrigo Cubillos Bravo</cp:lastModifiedBy>
  <dcterms:modified xsi:type="dcterms:W3CDTF">2008-09-10T03:38:56Z</dcterms:modified>
  <cp:revision>79</cp:revision>
  <dc:subject/>
  <dc:title>Patología aguda en Pediatria</dc:title>
</cp:coreProperties>
</file>