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5E3E-80E8-49C0-9B8B-1616BFDD1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DE5-5A4C-44F5-9926-EDDCAFA3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A4CE-D5EE-4243-8F20-35A5DC1A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4687-E559-4136-ABF4-49CCC004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CBD7-7C77-479E-9117-8B59441E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E18A-9F82-4FD4-BD1B-10919FCA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7994-8D95-4D6E-8B9F-0FA5F407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1976-FAFD-4EFC-89D3-D10F5371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72D5-0550-438F-B7AB-5C737453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006F-E729-4C01-A6C9-F0D0138B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9E82-3873-4E27-B32C-D088382B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364C-A229-4675-9A65-879479EF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D6A1-1B24-4E51-8A1B-EF751360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2CC5-4B14-4AE8-A7D3-5A0962E3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62C05-5746-4253-BE36-73C0B606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A87A-42D1-4E98-A385-38A76A778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36C5-1A3F-400E-AFD9-C7717411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479-9094-4803-9EA2-BEC96E2C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CA57-713B-4F46-9EB7-C495C434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6AEF-E46C-407B-8337-4E7CDA848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802-4163-40DE-82D8-D647318F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E3C1-9D4D-4D64-8516-FAB7A171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D77-34EC-44A9-A4A1-25E43A1D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175-B469-4E0C-A467-172FCC38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C013-7238-46E0-97EE-00D51F583B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753E-2734-460C-8134-ECD3D778D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l/imgres?imgurl=http://66.240.252.2/___dynimg/notas/d445_WW95csub6thrcb8w.jpg&amp;imgrefurl=http://www.surenio.com.ar/hits.php%3Fs%3DWW95csu692tvw59u%24WW95aqbyaffg9199%24%24index.php%241&amp;h=356&amp;w=445&amp;sz=33&amp;hl=es&amp;start=4&amp;um=1&amp;tbnid=rcHuQYblJpng_M:&amp;tbnh=102&amp;tbnw=127&amp;prev=/images%3Fq%3Dadultos%2Bmayores%26svnum%3D10%26um%3D1%26hl%3Des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l/imgres?imgurl=http://www.paho.org/Images/DD/PIN/persp19_06.jpg&amp;imgrefurl=http://vladomirosevic.blogspot.com/2006/01/abuelos-historia-y-remix.html&amp;h=426&amp;w=300&amp;sz=87&amp;hl=es&amp;start=10&amp;um=1&amp;tbnid=tYfoIpzep4Jl-M:&amp;tbnh=126&amp;tbnw=89&amp;prev=/images%3Fq%3Dadultos%2Bmayores%26svnum%3D10%26um%3D1%26hl%3Des%26sa%3D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84480" y="404640"/>
            <a:ext cx="1159200" cy="1944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i="1" lang="en-US" sz="3600" spc="-1" strike="noStrike">
                <a:solidFill>
                  <a:srgbClr val="b7e7ff"/>
                </a:solidFill>
                <a:latin typeface="Trebuchet MS"/>
              </a:rPr>
              <a:t>“</a:t>
            </a:r>
            <a:r>
              <a:rPr b="0" i="1" lang="en-US" sz="3600" spc="-1" strike="noStrike">
                <a:solidFill>
                  <a:srgbClr val="b7e7ff"/>
                </a:solidFill>
                <a:latin typeface="Trebuchet MS"/>
              </a:rPr>
              <a:t>Estudio sobre el buen envejecimiento: programa de prevención de riesgos para adultos mayores”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6093000"/>
            <a:ext cx="6400800" cy="3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ffffff"/>
                </a:solidFill>
                <a:latin typeface="Trebuchet MS"/>
              </a:rPr>
              <a:t>Análisi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1413000"/>
            <a:ext cx="889308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s limitaciones del estudio radican en que los resultados pueden no ser generalizables a AM que vivan en otras condiciones (por ejemplo; residencia para AM) o de otro estrato socioeconóm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na gran fortaleza del estudio es que sus resultados pueden extenderse a AM provenientes de diferentes grupos étnic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rebuchet MS"/>
              </a:rPr>
              <a:t>Análisis</a:t>
            </a:r>
            <a:br>
              <a:rPr sz="2800"/>
            </a:b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984240"/>
            <a:ext cx="8893080" cy="60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¿Cómo se explican los resultados superiores obtenidos por la intervención de 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Relación entre Ocupación y Salud, sostenida por evidencia obtenida en revisiones sistemáticas de literatura exist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n contraste con el grupo “social”, la intervención de TO tuvo un fuerte componente individual, a pesar de haber sido realizada mayoritariamente en sesiones grup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La intervención de TO contiene instrucciones específicas de cómo enfrentar barreras presentes en la vida cotidia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cc00"/>
              </a:solidFill>
              <a:latin typeface="Trebuchet MS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95280" y="1158840"/>
            <a:ext cx="856944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Antecedentes científicos y explicación de la racion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mento 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valencia de EC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acto envejecimiento en C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ejecimiento exito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merosos y distintos desafí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uesto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a de intervención en TO, centrado en maximizar independencia y potenciar funcionalidad, puede ser una buena intervención de carácter preventivo en población vulnerabl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80000" y="2421000"/>
            <a:ext cx="28083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1628640"/>
            <a:ext cx="8569440" cy="43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Criterios de selección y lugar de recolección de da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bres, mujeres; multiétnicos; 60 y +; viven independ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erios exclusión: incapacidad vida independiente; marcada dem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ye AM hablantes de lengua mandar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lejos habitacionales subsidiados para 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ersos métodos de reclutamient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948360" y="260280"/>
            <a:ext cx="1729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189000"/>
            <a:ext cx="8893080" cy="73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ujetos elegibles asignados a 3 grupo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 TO (Programa de Rediseño de Vida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rol de actividades sociales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ontrol sin intervención. Periodo de 9 meses de tratamien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Protocolo de intervención basado en ocupación como benéfica para la salu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ntervención basada en aprendizaje didáctico, experiencia directa y análisis ocupacional individu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Unidades modulares en diversos tem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Seguridad en la comunid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Protección articul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Ayudas técni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Conservación de energí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Ejerci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rebuchet MS"/>
              </a:rPr>
              <a:t>Nutri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413000"/>
            <a:ext cx="889308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de TO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10 AM; 1 sesión semanal de 2 horas; 9 horas totales de intervención individual a lo largo de los 9 meses (1 hora mensual). Dirigida por TO entre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control de actividad social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10 AM; 1 sesión semanal de 2.25 horas; sin intervención individual. Dirigida por no profes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rebuchet MS"/>
              </a:rPr>
              <a:t>Grupo Control sin tratamiento: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no reciben ningú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ipo de interv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003640" y="4365720"/>
            <a:ext cx="3456000" cy="23032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413000"/>
            <a:ext cx="8893080" cy="51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Objetivos Específicos e Hipóte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rebuchet MS"/>
              </a:rPr>
              <a:t>Objetivo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Evaluar efectividad de la TO preventiva diseñada específicamente para grupos de AM multiétnicos y que viven independientemente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rebuchet MS"/>
              </a:rPr>
              <a:t>Hipótesis: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la participación en un programa de TO preventivo afecta positivamente la salud física, el funcionamiento cotidiano, y el bienestar psicosocial de los adultos mayor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0920" y="549360"/>
            <a:ext cx="8893080" cy="77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Trebuchet MS"/>
              </a:rPr>
              <a:t>Medidas de resul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Línea base inicial y a los 9 meses de interven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rebuchet MS"/>
              </a:rPr>
              <a:t>Cuestionarios autoaplic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Cuestionario de Estatus Funcional (Jette &amp; Cleary, 198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Índice Z de Satisfacción de Vida (Wood, Wylie &amp; Sheafor, 1969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cala de Depresión del Centro de Estudios Epidemiológicos – CES (Radloff, 1977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Estudio de Resultados Médicos (MOS). Formato abreviado de la encuesta de salud general (Stewart, Hays &amp; Ware, 1988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rebuchet MS"/>
              </a:rPr>
              <a:t>Cuestionario de Estado de Salud Funcional. Formato abreviado SF 36 (RAND SF-36; Hays et al., 1993; Ware &amp; Sherbourne, 1992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_tradnl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50920" y="1413000"/>
            <a:ext cx="889308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Flujo de participantes en cada pas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4000" y="2205000"/>
            <a:ext cx="8460360" cy="4374000"/>
            <a:chOff x="324000" y="2205000"/>
            <a:chExt cx="8460360" cy="4374000"/>
          </a:xfrm>
        </p:grpSpPr>
        <p:cxnSp>
          <p:nvCxnSpPr>
            <p:cNvPr id="110" name="_s26639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5596920" y="2910960"/>
              <a:ext cx="875520" cy="2961720"/>
            </a:xfrm>
            <a:prstGeom prst="bentConnector3">
              <a:avLst>
                <a:gd name="adj1" fmla="val 129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26638"/>
            <p:cNvCxnSpPr>
              <a:stCxn id="114" idx="0"/>
              <a:endCxn id="112" idx="2"/>
            </p:cNvCxnSpPr>
            <p:nvPr/>
          </p:nvCxnSpPr>
          <p:spPr>
            <a:xfrm flipV="1">
              <a:off x="4554000" y="3954240"/>
              <a:ext cx="3240" cy="875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26637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635560" y="2910960"/>
              <a:ext cx="875520" cy="2961720"/>
            </a:xfrm>
            <a:prstGeom prst="bentConnector3">
              <a:avLst>
                <a:gd name="adj1" fmla="val 12998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26633"/>
            <p:cNvSpPr/>
            <p:nvPr/>
          </p:nvSpPr>
          <p:spPr>
            <a:xfrm>
              <a:off x="3285000" y="22050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Sujetos elegibles (N=373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No Aleatorizados (n=12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Trebuchet MS"/>
                </a:rPr>
                <a:t>Aletorizados (N=361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26634"/>
            <p:cNvSpPr/>
            <p:nvPr/>
          </p:nvSpPr>
          <p:spPr>
            <a:xfrm>
              <a:off x="32400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Tratado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eguido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Pérdidas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ompletan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	</a:t>
              </a: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26635"/>
            <p:cNvSpPr/>
            <p:nvPr/>
          </p:nvSpPr>
          <p:spPr>
            <a:xfrm>
              <a:off x="328500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2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oci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26636"/>
            <p:cNvSpPr/>
            <p:nvPr/>
          </p:nvSpPr>
          <p:spPr>
            <a:xfrm>
              <a:off x="6246360" y="4829400"/>
              <a:ext cx="2538000" cy="17496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19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5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Sin Intervenció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ff"/>
                </a:solidFill>
                <a:latin typeface="Trebuchet MS"/>
              </a:rPr>
              <a:t>Resultad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546120" cy="914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1413000"/>
            <a:ext cx="8893080" cy="56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 encontraron beneficios significativos en la intervención de TO para varios dominios de salud y calidad de v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ientras que en los grupos control se observa una tendencia a la declinación, en el de TO se observan mejorías o bien una tendencia a una menor declin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El análisis estadístico realizado en los 3 grupos, en las 11 variables observadas, encuentra que la dirección del efecto favorece a la intervención de TO en el total de variables comparado con el grupo “social”, y en 10 variables comparado con el grupo control no tra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21:09:57Z</dcterms:created>
  <dc:creator>mele</dc:creator>
  <dc:description/>
  <dc:language>en-US</dc:language>
  <cp:lastModifiedBy>WinuE</cp:lastModifiedBy>
  <dcterms:modified xsi:type="dcterms:W3CDTF">2008-11-04T15:23:46Z</dcterms:modified>
  <cp:revision>119</cp:revision>
  <dc:subject/>
  <dc:title>Seminario “Estudio sobre el buen envejecimiento: programa de prevención de riesgos para adultos mayores”</dc:title>
</cp:coreProperties>
</file>