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8B2-23A8-4F57-A0F9-1475A244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5436-931B-425A-8C21-C8A7C5A2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A38-B315-4955-BDD3-F71B7982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45FF-E155-49D0-9E01-7CA7E2362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1E4E-624E-44A2-8FE5-C8585D721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583B-A262-4A38-A6E0-8CB5E86B3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22B17-F4E0-4464-AC91-E60A6A2E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094E-5EB5-4E6F-919C-0907B34E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1CC0-2218-472E-9171-9905CBEF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51C0D-F48B-47C3-A95A-F6A7011D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4C9C-3758-4024-AA71-E9F319C4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5613-67E0-4989-8C2A-AA2B5F76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BB0FD-C06F-49C9-A96D-1AC5D6E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A74D-DED0-4324-988A-071CC83C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1463-3101-4BE3-9BFC-14EEDDB2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30A2-5E19-4019-9C57-775351DC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5C6F-46E3-44D1-B04C-ACF6BFFA4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7E0-CA44-4643-A019-62519C16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97F-46E5-4958-ACD4-00BF7756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A7A-699D-42ED-9998-6CE9E362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1936-8AEF-417C-8E72-CB8E1932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2EC-6DCC-4FC6-8C1D-1263D490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A29-3BE5-47A3-A99E-61EC915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E12-F86D-40D8-ADAB-3C2334F7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EAB8-4D06-4810-8F69-707799EBE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051F-FA2B-469C-8224-D52EDF461F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66.240.252.2/___dynimg/notas/d445_WW95csub6thrcb8w.jpg&amp;imgrefurl=http://www.surenio.com.ar/hits.php%3Fs%3DWW95csu692tvw59u%24WW95aqbyaffg9199%24%24index.php%241&amp;h=356&amp;w=445&amp;sz=33&amp;hl=es&amp;start=4&amp;um=1&amp;tbnid=rcHuQYblJpng_M:&amp;tbnh=102&amp;tbnw=127&amp;prev=/images%3Fq%3Dadultos%2Bmayores%26svnum%3D10%26um%3D1%26hl%3Des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www.paho.org/Images/DD/PIN/persp19_06.jpg&amp;imgrefurl=http://vladomirosevic.blogspot.com/2006/01/abuelos-historia-y-remix.html&amp;h=426&amp;w=300&amp;sz=87&amp;hl=es&amp;start=10&amp;um=1&amp;tbnid=tYfoIpzep4Jl-M:&amp;tbnh=126&amp;tbnw=89&amp;prev=/images%3Fq%3Dadultos%2Bmayores%26svnum%3D10%26um%3D1%26hl%3Des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84480" y="404640"/>
            <a:ext cx="115920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Estudio sobre el buen envejecimiento: programa de prevención de riesgos para adultos mayores”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6093000"/>
            <a:ext cx="640080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1413000"/>
            <a:ext cx="8893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s limitaciones del estudio radican en que los resultados pueden no ser generalizables a AM que vivan en otras condiciones (por ejemplo; residencia para AM) o de otro estrato socio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na gran fortaleza del estudio es que sus resultados pueden extenderse a AM provenientes de diferentes grupos étn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984240"/>
            <a:ext cx="8893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¿Cómo se explican los resultados superiores obtenidos por la intervención d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lación entre Ocupación y Salud, sostenida por evidencia obtenida en revisiones sistemáticas de literatura exist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n contraste con el grupo “social”, la intervención de TO tuvo un fuerte componente individual, a pesar de haber sido realizada mayoritariamente en sesiones grup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 intervención de TO contiene instrucciones específicas de cómo enfrentar barreras presentes en la vida cotid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cc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1158840"/>
            <a:ext cx="85694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ntecedentes científicos y explicación de la racion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lencia de EC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o envejecimiento en C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ejecimiento exit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osos y distintos desafí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a de intervención en TO, centrado en maximizar independencia y potenciar funcionalidad, puede ser una buena intervención de carácter preventivo en población vulnerab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2421000"/>
            <a:ext cx="2808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1628640"/>
            <a:ext cx="8569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Criterios de selección y lugar de recolección de d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bres, mujeres; multiétnicos; 60 y +; viven independ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os exclusión: incapacidad vida independiente; marcada dem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ye AM hablantes de lengua mandar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jos habitacionales subsidiados para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ersos métodos de reclu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260280"/>
            <a:ext cx="172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89000"/>
            <a:ext cx="8893080" cy="73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jetos elegibles asignados a 3 grupo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 TO (Programa de Rediseño de Vida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de actividades sociales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sin intervención. Periodo de 9 meses de tratam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tocolo de intervención basado en ocupación como benéfica para la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tervención basada en aprendizaje didáctico, experiencia directa y análisis ocupacional individ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nidades modulares en diversos te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Seguridad en la comu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Protección arti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Ayudas técn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Conservación de energí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Ejerc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Nutr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413000"/>
            <a:ext cx="88930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de 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 horas; 9 horas totales de intervención individual a lo largo de los 9 meses (1 hora mensual). Dirigida por TO entre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de actividad social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.25 horas; sin intervención individual. Dirigida por no profes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sin tratamien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no reciben ningú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ipo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3456000" cy="230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413000"/>
            <a:ext cx="889308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Objetivos Específicos e Hipót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rebuchet MS"/>
              </a:rPr>
              <a:t>Objetivo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Evaluar efectividad de la TO preventiva diseñada específicamente para grupos de AM multiétnicos y que viven independientemente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rebuchet MS"/>
              </a:rPr>
              <a:t>Hipótesis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la participación en un programa de TO preventivo afecta positivamente la salud física, el funcionamiento cotidiano, y el bienestar psicosocial de los adultos may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549360"/>
            <a:ext cx="8893080" cy="77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Medidas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ínea base inicial y a los 9 meses de interven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Cuestionarios autoaplic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tus Funcional (Jette &amp; Cleary, 198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Índice Z de Satisfacción de Vida (Wood, Wylie &amp; Sheafor, 1969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cala de Depresión del Centro de Estudios Epidemiológicos – CES (Radloff, 197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tudio de Resultados Médicos (MOS). Formato abreviado de la encuesta de salud general (Stewart, Hays &amp; Ware, 198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do de Salud Funcional. Formato abreviado SF 36 (RAND SF-36; Hays et al., 1993; Ware &amp; Sherbourne, 199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1413000"/>
            <a:ext cx="88930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lujo de participantes en cada p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2205000"/>
            <a:ext cx="8460360" cy="4374000"/>
            <a:chOff x="324000" y="2205000"/>
            <a:chExt cx="8460360" cy="4374000"/>
          </a:xfrm>
        </p:grpSpPr>
        <p:cxnSp>
          <p:nvCxnSpPr>
            <p:cNvPr id="110" name="_s26639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59692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26638"/>
            <p:cNvCxnSpPr>
              <a:stCxn id="114" idx="0"/>
              <a:endCxn id="112" idx="2"/>
            </p:cNvCxnSpPr>
            <p:nvPr/>
          </p:nvCxnSpPr>
          <p:spPr>
            <a:xfrm flipV="1">
              <a:off x="4554000" y="3954240"/>
              <a:ext cx="3240" cy="875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26637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63556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26633"/>
            <p:cNvSpPr/>
            <p:nvPr/>
          </p:nvSpPr>
          <p:spPr>
            <a:xfrm>
              <a:off x="3285000" y="22050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Sujetos elegibles (N=37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No Aleatorizados (n=1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Aletorizados (N=361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6634"/>
            <p:cNvSpPr/>
            <p:nvPr/>
          </p:nvSpPr>
          <p:spPr>
            <a:xfrm>
              <a:off x="324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rata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egui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Pérdida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ompletan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6635"/>
            <p:cNvSpPr/>
            <p:nvPr/>
          </p:nvSpPr>
          <p:spPr>
            <a:xfrm>
              <a:off x="3285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6636"/>
            <p:cNvSpPr/>
            <p:nvPr/>
          </p:nvSpPr>
          <p:spPr>
            <a:xfrm>
              <a:off x="624636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in Interven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Result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1413000"/>
            <a:ext cx="889308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 encontraron beneficios significativos en la intervención de TO para varios dominios de salud y calidad de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entras que en los grupos control se observa una tendencia a la declinación, en el de TO se observan mejorías o bien una tendencia a una menor declin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l análisis estadístico realizado en los 3 grupos, en las 11 variables observadas, encuentra que la dirección del efecto favorece a la intervención de TO en el total de variables comparado con el grupo “social”, y en 10 variables comparado con el grupo control no tra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1:09:57Z</dcterms:created>
  <dc:creator>mele</dc:creator>
  <dc:description/>
  <dc:language>en-US</dc:language>
  <cp:lastModifiedBy>WinuE</cp:lastModifiedBy>
  <dcterms:modified xsi:type="dcterms:W3CDTF">2008-11-04T15:23:46Z</dcterms:modified>
  <cp:revision>119</cp:revision>
  <dc:subject/>
  <dc:title>Seminario “Estudio sobre el buen envejecimiento: programa de prevención de riesgos para adultos mayores”</dc:title>
</cp:coreProperties>
</file>