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C897-D9AD-4693-8DE6-5A32A2F4B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114E-2BDF-498D-90D5-0B8FD83B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70B8-8B91-4866-8833-5CFE727AF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1C53-9239-4A93-9F40-DC0BEC188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F51E-0749-494D-A966-C0F9E42B5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5A4A-2B86-4279-B6D0-3BF8BED2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B1B1-0ED8-45CD-B82F-6D104B9A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7AF1-CB25-413C-AB7C-CE8A701E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54F9-4E7C-4E35-8356-012F3610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CD66-17CD-4A42-8A84-B0E365AD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C7F9-853D-41B5-9D0C-305A699C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781A-F560-4004-9183-5E7D22DD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0722-8721-49DB-9FA7-2339E440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D416-E29A-4709-8BCB-9EFF5BE7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AFD2-A7DC-496A-ACA6-1D73FBED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D6E3-E779-43D4-A81F-0EA47587D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440F-9ED9-4EBE-A582-0953E8792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BE77-D1D9-4E62-A968-DB4416C3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DE6B-BC1D-4659-91BE-0C0378EE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46C9-19EE-4589-BFE9-3943ABF6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55FD-CE0D-4AA3-A3C0-8AFAE934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1845-E819-4556-8F3D-B0CFA249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B1D0-22D5-42D7-B454-FBD0F9B7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1B43-D15C-4449-956C-B996BF2E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0DC3-0202-4DFE-BDFD-A403B0745F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1E6C-78DA-40C7-BC7D-5B687FC758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http://images.google.cl/imgres?imgurl=http://66.240.252.2/___dynimg/notas/d445_WW95csub6thrcb8w.jpg&amp;imgrefurl=http://www.surenio.com.ar/hits.php%3Fs%3DWW95csu692tvw59u%24WW95aqbyaffg9199%24%24index.php%241&amp;h=356&amp;w=445&amp;sz=33&amp;hl=es&amp;start=4&amp;um=1&amp;tbnid=rcHuQYblJpng_M:&amp;tbnh=102&amp;tbnw=127&amp;prev=/images%3Fq%3Dadultos%2Bmayores%26svnum%3D10%26um%3D1%26hl%3Des%26sa%3D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http://images.google.cl/imgres?imgurl=http://www.paho.org/Images/DD/PIN/persp19_06.jpg&amp;imgrefurl=http://vladomirosevic.blogspot.com/2006/01/abuelos-historia-y-remix.html&amp;h=426&amp;w=300&amp;sz=87&amp;hl=es&amp;start=10&amp;um=1&amp;tbnid=tYfoIpzep4Jl-M:&amp;tbnh=126&amp;tbnw=89&amp;prev=/images%3Fq%3Dadultos%2Bmayores%26svnum%3D10%26um%3D1%26hl%3Des%26sa%3D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984480" y="404640"/>
            <a:ext cx="1159200" cy="1944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i="1" lang="en-US" sz="3600" spc="-1" strike="noStrike">
                <a:solidFill>
                  <a:srgbClr val="b7e7ff"/>
                </a:solidFill>
                <a:latin typeface="Trebuchet MS"/>
              </a:rPr>
              <a:t>“</a:t>
            </a:r>
            <a:r>
              <a:rPr b="0" i="1" lang="en-US" sz="3600" spc="-1" strike="noStrike">
                <a:solidFill>
                  <a:srgbClr val="b7e7ff"/>
                </a:solidFill>
                <a:latin typeface="Trebuchet MS"/>
              </a:rPr>
              <a:t>Estudio sobre el buen envejecimiento: programa de prevención de riesgos para adultos mayores”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3280" y="6093000"/>
            <a:ext cx="640080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rebuchet MS"/>
              </a:rPr>
              <a:t>Análisis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546120" cy="9144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50920" y="1413000"/>
            <a:ext cx="889308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Las limitaciones del estudio radican en que los resultados pueden no ser generalizables a AM que vivan en otras condiciones (por ejemplo; residencia para AM) o de otro estrato socioeconóm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Una gran fortaleza del estudio es que sus resultados pueden extenderse a AM provenientes de diferentes grupos étn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rebuchet MS"/>
              </a:rPr>
              <a:t>Análisis</a:t>
            </a:r>
            <a:br>
              <a:rPr sz="2800"/>
            </a:b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546120" cy="9144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50920" y="984240"/>
            <a:ext cx="8893080" cy="60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¿Cómo se explican los resultados superiores obtenidos por la intervención de T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Relación entre Ocupación y Salud, sostenida por evidencia obtenida en revisiones sistemáticas de literatura exist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En contraste con el grupo “social”, la intervención de TO tuvo un fuerte componente individual, a pesar de haber sido realizada mayoritariamente en sesiones grup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La intervención de TO contiene instrucciones específicas de cómo enfrentar barreras presentes en la vida cotidia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cc00"/>
              </a:solidFill>
              <a:latin typeface="Trebuchet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546120" cy="9144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95280" y="1158840"/>
            <a:ext cx="8569440" cy="60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Antecedentes científicos y explicación de la raciona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mento 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valencia de EC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acto envejecimiento en C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vejecimiento exito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erosos y distintos desafí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uesto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ama de intervención en TO, centrado en maximizar independencia y potenciar funcionalidad, puede ser una buena intervención de carácter preventivo en población vulnerabl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80000" y="2421000"/>
            <a:ext cx="280836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546120" cy="914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79280" y="1628640"/>
            <a:ext cx="8569440" cy="43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Criterios de selección y lugar de recolección de da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mbres, mujeres; multiétnicos; 60 y +; viven independ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erios exclusión: incapacidad vida independiente; marcada deme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luye AM hablantes de lengua mandar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lejos habitacionales subsidiados para 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versos métodos de reclutamien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48360" y="260280"/>
            <a:ext cx="1729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546120" cy="914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0920" y="189000"/>
            <a:ext cx="8893080" cy="73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ujetos elegibles asignados a 3 grupo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de TO (Programa de Rediseño de Vida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ontrol de actividades sociales;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ontrol sin intervención. Periodo de 9 meses de tratamien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Protocolo de intervención basado en ocupación como benéfica para la salu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Intervención basada en aprendizaje didáctico, experiencia directa y análisis ocupacional individ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Unidades modulares en diversos tem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rebuchet MS"/>
              </a:rPr>
              <a:t>Seguridad en la comun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rebuchet MS"/>
              </a:rPr>
              <a:t>Transpor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rebuchet MS"/>
              </a:rPr>
              <a:t>Protección articu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rebuchet MS"/>
              </a:rPr>
              <a:t>Ayudas técn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rebuchet MS"/>
              </a:rPr>
              <a:t>Conservación de energí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rebuchet MS"/>
              </a:rPr>
              <a:t>Ejerci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rebuchet MS"/>
              </a:rPr>
              <a:t>Nutri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546120" cy="914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1413000"/>
            <a:ext cx="8893080" cy="39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rebuchet MS"/>
              </a:rPr>
              <a:t>Grupo de TO: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10 AM; 1 sesión semanal de 2 horas; 9 horas totales de intervención individual a lo largo de los 9 meses (1 hora mensual). Dirigida por TO entren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rebuchet MS"/>
              </a:rPr>
              <a:t>Grupo control de actividad social: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10 AM; 1 sesión semanal de 2.25 horas; sin intervención individual. Dirigida por no profesio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rebuchet MS"/>
              </a:rPr>
              <a:t>Grupo Control sin tratamiento: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no reciben ningú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ipo de interven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003640" y="4365720"/>
            <a:ext cx="3456000" cy="23032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546120" cy="914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50920" y="1413000"/>
            <a:ext cx="8893080" cy="51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Objetivos Específicos e Hipóte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rebuchet MS"/>
              </a:rPr>
              <a:t>Objetivo: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Evaluar efectividad de la TO preventiva diseñada específicamente para grupos de AM multiétnicos y que viven independientemente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rebuchet MS"/>
              </a:rPr>
              <a:t>Hipótesis: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la participación en un programa de TO preventivo afecta positivamente la salud física, el funcionamiento cotidiano, y el bienestar psicosocial de los adultos mayor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s-ES_tradnl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546120" cy="9144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549360"/>
            <a:ext cx="8893080" cy="77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Medidas de resul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Línea base inicial y a los 9 meses de interven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Cuestionarios autoaplicad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Cuestionario de Estatus Funcional (Jette &amp; Cleary, 1987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Índice Z de Satisfacción de Vida (Wood, Wylie &amp; Sheafor, 1969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Escala de Depresión del Centro de Estudios Epidemiológicos – CES (Radloff, 1977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Estudio de Resultados Médicos (MOS). Formato abreviado de la encuesta de salud general (Stewart, Hays &amp; Ware, 1988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Cuestionario de Estado de Salud Funcional. Formato abreviado SF 36 (RAND SF-36; Hays et al., 1993; Ware &amp; Sherbourne, 1992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s-ES_tradnl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546120" cy="914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50920" y="1413000"/>
            <a:ext cx="889308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Flujo de participantes en cada pa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24000" y="2205000"/>
            <a:ext cx="8460360" cy="4374000"/>
            <a:chOff x="324000" y="2205000"/>
            <a:chExt cx="8460360" cy="4374000"/>
          </a:xfrm>
        </p:grpSpPr>
        <p:cxnSp>
          <p:nvCxnSpPr>
            <p:cNvPr id="110" name="_s26639"/>
            <p:cNvCxnSpPr>
              <a:stCxn id="111" idx="0"/>
              <a:endCxn id="112" idx="2"/>
            </p:cNvCxnSpPr>
            <p:nvPr/>
          </p:nvCxnSpPr>
          <p:spPr>
            <a:xfrm flipV="1" rot="16200000">
              <a:off x="5596920" y="2910960"/>
              <a:ext cx="875520" cy="2961720"/>
            </a:xfrm>
            <a:prstGeom prst="bentConnector3">
              <a:avLst>
                <a:gd name="adj1" fmla="val 129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26638"/>
            <p:cNvCxnSpPr>
              <a:stCxn id="114" idx="0"/>
              <a:endCxn id="112" idx="2"/>
            </p:cNvCxnSpPr>
            <p:nvPr/>
          </p:nvCxnSpPr>
          <p:spPr>
            <a:xfrm flipV="1">
              <a:off x="4554000" y="3954240"/>
              <a:ext cx="3240" cy="875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26637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2635560" y="2910960"/>
              <a:ext cx="875520" cy="2961720"/>
            </a:xfrm>
            <a:prstGeom prst="bentConnector3">
              <a:avLst>
                <a:gd name="adj1" fmla="val 129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26633"/>
            <p:cNvSpPr/>
            <p:nvPr/>
          </p:nvSpPr>
          <p:spPr>
            <a:xfrm>
              <a:off x="3285000" y="2205000"/>
              <a:ext cx="2538000" cy="17496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Trebuchet MS"/>
                </a:rPr>
                <a:t>Sujetos elegibles (N=373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Trebuchet MS"/>
                </a:rPr>
                <a:t>No Aleatorizados (n=12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Trebuchet MS"/>
                </a:rPr>
                <a:t>Aletorizados (N=361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26634"/>
            <p:cNvSpPr/>
            <p:nvPr/>
          </p:nvSpPr>
          <p:spPr>
            <a:xfrm>
              <a:off x="324000" y="4829400"/>
              <a:ext cx="2538000" cy="17496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Tratados</a:t>
              </a: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12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Seguidos</a:t>
              </a: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12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Pérdidas</a:t>
              </a: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2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Completan</a:t>
              </a: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10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T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26635"/>
            <p:cNvSpPr/>
            <p:nvPr/>
          </p:nvSpPr>
          <p:spPr>
            <a:xfrm>
              <a:off x="3285000" y="4829400"/>
              <a:ext cx="2538000" cy="17496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12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12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2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1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Socia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26636"/>
            <p:cNvSpPr/>
            <p:nvPr/>
          </p:nvSpPr>
          <p:spPr>
            <a:xfrm>
              <a:off x="6246360" y="4829400"/>
              <a:ext cx="2538000" cy="17496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119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119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1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10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Sin Intervenció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rebuchet MS"/>
              </a:rPr>
              <a:t>Resultados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546120" cy="914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0920" y="1413000"/>
            <a:ext cx="8893080" cy="56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 encontraron beneficios significativos en la intervención de TO para varios dominios de salud y calidad de v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Mientras que en los grupos control se observa una tendencia a la declinación, en el de TO se observan mejorías o bien una tendencia a una menor declin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El análisis estadístico realizado en los 3 grupos, en las 11 variables observadas, encuentra que la dirección del efecto favorece a la intervención de TO en el total de variables comparado con el grupo “social”, y en 10 variables comparado con el grupo control no tra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21:09:57Z</dcterms:created>
  <dc:creator>mele</dc:creator>
  <dc:description/>
  <dc:language>en-US</dc:language>
  <cp:lastModifiedBy>WinuE</cp:lastModifiedBy>
  <dcterms:modified xsi:type="dcterms:W3CDTF">2008-11-04T15:23:46Z</dcterms:modified>
  <cp:revision>119</cp:revision>
  <dc:subject/>
  <dc:title>Seminario “Estudio sobre el buen envejecimiento: programa de prevención de riesgos para adultos mayores”</dc:title>
</cp:coreProperties>
</file>