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508-77BF-4195-AB8B-44BCA0D4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E9F-17FE-4970-A224-B87B21C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A86-85B1-4021-B7AB-3F3B8F8B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217-AE96-422E-A4B9-5E210690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B1B7-BA46-4D5A-9AC5-B2318BCE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C044-B29F-47B7-8ACE-CB8A0E65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2C5C-0F50-4C4B-B32B-62CEEFCE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C25F-DA48-47E7-B81D-7FF16318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355E-2001-464E-BCF1-CBFF0D7E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F68C-4394-4B5B-A7D9-7E259BAC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1DF5-E5D2-482B-817F-56BDFCA5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9C2-7700-43AC-83F5-0EDC45F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E60B-C7C1-4B12-9C10-BFBEF45D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25CF-BEDA-4DD7-BC6E-CB210476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3B3B-E268-4816-9B83-59AE6E18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EF0E-4E19-4C72-93D7-2416AB02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AA97-14D1-4662-8530-1922BAE0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BAF-267D-4C52-BC74-834868F5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62E-5D2B-456E-9BAA-3A2A353D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2C3-3BEC-4951-87CB-3669D69E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724-0CA4-45D1-A920-EF80FD19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F51-AF25-4076-9751-43027756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EEB-7F70-438C-9384-470A88F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539-81D5-4D43-9042-E0AEA219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6CF5-F473-4ED1-B9B7-B53DA86AE1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D64B-860E-4298-9D44-469E146F0E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La diversidad en las formas de envejecer es cuestión de suert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be7960"/>
                </a:solidFill>
                <a:latin typeface="Tahoma"/>
              </a:rPr>
              <a:t>**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Cómo prevenir el envejecimiento patológico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be7960"/>
                </a:solidFill>
                <a:latin typeface="Tahoma"/>
              </a:rPr>
              <a:t>**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Qué se puede hacer para envejecer con vitalida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¿Me cuesta camin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ciones articu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r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trofia muscular por desu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strucción ar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urológicas (AVE, Parkin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blemas en los pies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callosidades, deformacion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ciones Mentales: Demencia y Depres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ciones sensoriales: visual, vértig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evención: Caminar (45 minutos/d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ducación: factores intrínsecos y extrínse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valuar e intervenir seguridad domicili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ivienda en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ormito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añ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c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stuario y cal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so de AT para marcha, cinturón de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prender a levant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ducar riesgos en la cal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tropella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ducación v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arreras arquitectó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ñalética visual y acúst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fectos del Ejercicio Sobre las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as que incluyen ejercicios de equilibrio, fuerza, educación y manejo de factores de riesgo de caídas, disminuyen significativamente el ries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100" spc="-1" strike="noStrike">
                <a:solidFill>
                  <a:srgbClr val="ffffcc"/>
                </a:solidFill>
                <a:latin typeface="Tahoma"/>
              </a:rPr>
              <a:t>Autocuidado </a:t>
            </a:r>
            <a:br>
              <a:rPr sz="5100"/>
            </a:br>
            <a:r>
              <a:rPr b="0" lang="es-CL" sz="5100" spc="-1" strike="noStrike">
                <a:solidFill>
                  <a:srgbClr val="ffffcc"/>
                </a:solidFill>
                <a:latin typeface="Tahoma"/>
              </a:rPr>
              <a:t>del Adulto Mayor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O Alicia Valdés Roj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Tahoma"/>
              </a:rPr>
              <a:t>Autocuidado del Adulto May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511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Cuidado M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fe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gni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Cuidado del Cuer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Nutr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o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iesgo de caí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1.  Ejercicio </a:t>
            </a:r>
            <a:r>
              <a:rPr b="0" i="1" lang="es-CL" sz="4000" spc="-1" strike="noStrike">
                <a:solidFill>
                  <a:srgbClr val="ffffff"/>
                </a:solidFill>
                <a:latin typeface="Tahoma"/>
              </a:rPr>
              <a:t>“El Mejor Remedio”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2.  Nutrició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aluar y educar conocimientos básicos nutricionales para el A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mportancia de alimentación para mantenimiento de la salud del 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nciones de las sustancias nutritivas en el organis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imentos y sus nutr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cesidades nutricionales: cantidad y frecuencia del consumo de ali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diciones que impone el envejecimiento al 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daptar (aplicar) alimentación a nuevos conocimi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3.  Cuidado de la Bo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8598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mbios gusta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Higiene o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en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da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pillado de di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jercicios orofac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4.  Cuidado de los P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ulación del riego sanguín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sajes por fricción  (cremas activadoras de circu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vitar pr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vitar calcetín o media con cos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Zap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Zonas almohadilladas (talón, empeine interi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lexible en la zona delant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cón de material anti impactos y altura menos de 2 cm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ig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tamiento de callosidades y deform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600"/>
            </a:b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Caídas en los últimos 12 meses. Estudio SABE: Chile (199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19320" y="2133720"/>
          <a:ext cx="7467480" cy="43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46748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valuar riesg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st de Tinet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r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quilib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estionario de Dowton (autoaplic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ídas prev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ca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éficits sensor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do de conci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r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24:28Z</dcterms:created>
  <dc:creator>Fac. de Medicina</dc:creator>
  <dc:description/>
  <dc:language>en-US</dc:language>
  <cp:lastModifiedBy>Fac. de Medicina</cp:lastModifiedBy>
  <dcterms:modified xsi:type="dcterms:W3CDTF">2008-09-30T19:53:06Z</dcterms:modified>
  <cp:revision>13</cp:revision>
  <dc:subject/>
  <dc:title>Diapositiva 1</dc:title>
</cp:coreProperties>
</file>