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261-BCE4-466D-A90E-E5772DB3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406-84AC-45EF-A4C7-875AE17D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B67-10D2-45EC-A367-01E5B2CB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2C9-2475-403A-B81C-7A75AC54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2658-E874-4F59-AFE8-9C5EA57F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8955-5B61-41AA-9EEB-E0B64F0B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61B6-D272-43B0-BD36-74C9177E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4D56-6F1B-4F5B-AA89-F772C502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64EC-4936-4E1E-BFC8-4A696A3D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8651-C078-4BDE-A527-7431861F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BB19-569E-4D34-8DD0-29CF2F3F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0C1-E81C-4A21-9142-5FEA671F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523A-98B6-4196-A5AB-834D6F3E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3706-4290-4CB9-B5C3-72845AC5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6861-A17E-48CD-9695-198CCFAE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ED17-8CD4-4392-88AB-29D48FF0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E5FB-F07C-4CE1-B499-C217D350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9E9-1B0B-4B64-B948-1AE8F8FC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DF4-D58F-4FA4-8D18-8CE74AC1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CFB-C1B0-4B98-827F-0ACF8E90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9B6-72E3-4CEA-BD67-40A9A699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36C-48C1-4475-A5C0-C4271E09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741-E1D5-4989-8F97-22DF9416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647-A34F-4272-A60A-1DAF1409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9B90-04B5-4BB1-AB82-483E8E289D0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8D35-C50A-4F46-86FF-D1AF1D7ABF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¿La diversidad en las formas de envejecer es cuestión de suert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be7960"/>
                </a:solidFill>
                <a:latin typeface="Tahoma"/>
              </a:rPr>
              <a:t>**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¿Cómo prevenir el envejecimiento patológico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be7960"/>
                </a:solidFill>
                <a:latin typeface="Tahoma"/>
              </a:rPr>
              <a:t>**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¿Qué se puede hacer para envejecer con vitalida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5.  Riesgo de Caíd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¿Me cuesta camin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ciones articu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r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trofia muscular por desu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strucción ar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urológicas (AVE, Parkin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blemas en los pies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callosidades, deformacion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ciones Mentales: Demencia y Depres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ciones sensoriales: visual, vértig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evención: Caminar (45 minutos/d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5.  Riesgo de Caíd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ducación: factores intrínsecos y extrínse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valuar e intervenir seguridad domicili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ivienda en gene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ormito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Bañ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c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stuario y cal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so de AT para marcha, cinturón de segurida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prender a levanta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ducar riesgos en la cal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tropella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ducación v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Barreras arquitectón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ñalética visual y acústic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fectos del Ejercicio Sobre las Caíd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as que incluyen ejercicios de equilibrio, fuerza, educación y manejo de factores de riesgo de caídas, disminuyen significativamente el ries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100" spc="-1" strike="noStrike">
                <a:solidFill>
                  <a:srgbClr val="ffffcc"/>
                </a:solidFill>
                <a:latin typeface="Tahoma"/>
              </a:rPr>
              <a:t>Autocuidado </a:t>
            </a:r>
            <a:br>
              <a:rPr sz="5100"/>
            </a:br>
            <a:r>
              <a:rPr b="0" lang="es-CL" sz="5100" spc="-1" strike="noStrike">
                <a:solidFill>
                  <a:srgbClr val="ffffcc"/>
                </a:solidFill>
                <a:latin typeface="Tahoma"/>
              </a:rPr>
              <a:t>del Adulto Mayor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O Alicia Valdés Roj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Tahoma"/>
              </a:rPr>
              <a:t>Autocuidado del Adulto May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640" y="1600200"/>
            <a:ext cx="511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Cuidado Men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fe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gni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Cuidado del Cuer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Nutr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o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iesgo de caí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1.  Ejercicio </a:t>
            </a:r>
            <a:r>
              <a:rPr b="0" i="1" lang="es-CL" sz="4000" spc="-1" strike="noStrike">
                <a:solidFill>
                  <a:srgbClr val="ffffff"/>
                </a:solidFill>
                <a:latin typeface="Tahoma"/>
              </a:rPr>
              <a:t>“El Mejor Remedio”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2.  Nutrició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aluar y educar conocimientos básicos nutricionales para el A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mportancia de alimentación para mantenimiento de la salud del 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nciones de las sustancias nutritivas en el organis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imentos y sus nutr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cesidades nutricionales: cantidad y frecuencia del consumo de ali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diciones que impone el envejecimiento al 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daptar (aplicar) alimentación a nuevos conocimi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3.  Cuidado de la Boc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8598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mbios gusta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Higiene o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en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da d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epillado de di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jercicios orofac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4.  Cuidado de los P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ulación del riego sanguín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sajes por fricción  (cremas activadoras de circul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vitar pr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vitar calcetín o media con cos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Zap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Zonas almohadilladas (talón, empeine interi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lexible en la zona delant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cón de material anti impactos y altura menos de 2 cm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ig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tamiento de callosidades y deforma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600"/>
            </a:b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5.  Riesgo de Caídas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Caídas en los últimos 12 meses. Estudio SABE: Chile (1999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19320" y="2133720"/>
          <a:ext cx="7467480" cy="430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46748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5.  Riesgo de Caíd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valuar riesgo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st de Tinet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r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quilib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uestionario de Dowton (autoaplic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ídas prev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cam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éficits sensor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do de conci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r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24:28Z</dcterms:created>
  <dc:creator>Fac. de Medicina</dc:creator>
  <dc:description/>
  <dc:language>en-US</dc:language>
  <cp:lastModifiedBy>Fac. de Medicina</cp:lastModifiedBy>
  <dcterms:modified xsi:type="dcterms:W3CDTF">2008-09-30T19:53:06Z</dcterms:modified>
  <cp:revision>13</cp:revision>
  <dc:subject/>
  <dc:title>Diapositiva 1</dc:title>
</cp:coreProperties>
</file>