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65D-0748-41D8-B4DD-5D2F4219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0D3-EAAE-4D22-9D64-1ADF4AE4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156-9730-4DDC-9655-99AF4311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845-668A-4343-A33A-7C1FDEA9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99A8-0FF5-4551-AFD8-3468F88B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620E-9AA4-40B7-85AD-24A517C2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1217-6C9B-4407-93C3-7761F02C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B5DA-DFE8-42B0-96A0-2D7D7B57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13DE-86B7-4A0E-B293-6C08AA89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3EC3-422E-4D93-9DEF-73C71357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F74C-E22C-41A1-8C0B-8DCCA57E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A94-7FB2-4F8C-A4CC-9092926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6BF2-4719-4BE1-8486-CD1EAD0D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23CE-7751-444D-9815-4ADF8501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513C-B39A-41C5-88BA-64FA5119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9975-F8F9-4847-AF7B-65FC08AF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0F77-BE46-4183-BF6C-82A3405C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856-B2AE-4787-83B9-D5CAA43D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14D-9A6E-4E40-A394-3517D010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DAA-B138-4657-919B-01DC1CF2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322-75A9-41B6-9A2A-4767133A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B14-A470-4092-9BB0-3CA61C0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657-771D-4B63-B04D-4D7A8679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521-3C64-4AB7-9C26-3EB65CFE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B1DA-6E8E-456D-BE45-1E4B19FE4B2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182E-6475-41D2-9AC1-DC7083344D2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icia@med.uchile.c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Introducción a la Gerontología Socia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.O Alicia Valdés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alicia@med.uchile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Algunas Contribuciones de la Gerontología Social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19640" y="1557360"/>
            <a:ext cx="54100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sociedad posee un concepto negativo acerca de la vej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AM son más capaces de lo que se c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uevo concepto de envejecimiento debe identificar tanto los aspectos positivos como negativos del enveje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uchos de los desajustes son reversibles con acciones de apoy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e9ce8"/>
                </a:solidFill>
                <a:latin typeface="Arial"/>
              </a:rPr>
              <a:t>El envejecimiento humano no sólo se rige por principios de determinación biológica sino también por principios de determinación sociocultu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4000" y="1992240"/>
            <a:ext cx="3024000" cy="2702160"/>
          </a:xfrm>
          <a:prstGeom prst="rect">
            <a:avLst/>
          </a:prstGeom>
          <a:ln w="12600">
            <a:solidFill>
              <a:srgbClr val="7e9ce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 y Geriatr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riatrí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Nasher, 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ama de la medicina que estudia los determinantes biológicos de la salud y enfermedad en la vejez y la aplicación clínica de estos conoc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rontología Social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Tibbitts, Albrecht, Havighurst, 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</a:t>
            </a:r>
            <a:r>
              <a:rPr b="0" lang="es-ES" sz="2000" spc="-1" strike="noStrike">
                <a:solidFill>
                  <a:srgbClr val="7e9ce8"/>
                </a:solidFill>
                <a:latin typeface="Arial"/>
              </a:rPr>
              <a:t>multidisciplin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biopsicosocial) que se ocupa de la vejez y el envej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3257640" cy="4876920"/>
          </a:xfrm>
          <a:prstGeom prst="rect">
            <a:avLst/>
          </a:prstGeom>
          <a:ln w="5724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728640"/>
            <a:ext cx="75326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Envejec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n los procesos que se producen en las últimas etapas de la vida. Las características que la identifican se expresan en los aspect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sico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racterísticas físicas del envejec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32360" y="1844640"/>
            <a:ext cx="36957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201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41280"/>
            <a:ext cx="75438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Características psicológicas del envejecimien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506760" y="1197000"/>
            <a:ext cx="3851280" cy="5327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41280"/>
            <a:ext cx="75438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0066"/>
                </a:solidFill>
                <a:latin typeface="Arial"/>
              </a:rPr>
              <a:t>Características Sociales del Envejecimien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1467000"/>
            <a:ext cx="792180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cepto de Veje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3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Cronológ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5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i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2147760"/>
            <a:ext cx="3824280" cy="375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¿Pero?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95680" y="19810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todas las personas envejecen o cambian físicamente al mismo rit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ntrenamiento y el cuidado del cuerpo pueden llevar a que personas de más  edad estén físicamente mejor que otras más jóv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personas de edad que tienen mejor salud que otras más jóvenes y existe una enorme variabilidad entre personas de edad en cuanto a enfer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695760" cy="2390760"/>
          </a:xfrm>
          <a:prstGeom prst="rect">
            <a:avLst/>
          </a:prstGeom>
          <a:ln w="28440">
            <a:solidFill>
              <a:srgbClr val="7e9ce8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3505320" cy="2476440"/>
          </a:xfrm>
          <a:prstGeom prst="rect">
            <a:avLst/>
          </a:prstGeom>
          <a:ln w="12600">
            <a:solidFill>
              <a:srgbClr val="7e9ce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cepto de Veje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3695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Psicológic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funciones cognitiva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Soci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(rol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ad Funcion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AV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0600" y="2046240"/>
            <a:ext cx="4030920" cy="3602160"/>
          </a:xfrm>
          <a:prstGeom prst="rect">
            <a:avLst/>
          </a:prstGeom>
          <a:ln w="284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74674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Clasificación de la Vejez:</a:t>
            </a:r>
            <a:br>
              <a:rPr sz="2600"/>
            </a:br>
            <a:r>
              <a:rPr b="1" i="1" lang="en-US" sz="2600" spc="-1" strike="noStrike">
                <a:solidFill>
                  <a:srgbClr val="330066"/>
                </a:solidFill>
                <a:latin typeface="Arial"/>
              </a:rPr>
              <a:t>Según Funcionalidad (Fernández- Ballesteros)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Normal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sa sin patologí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Patológic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ociada con múltiples patologías, frecuentemente crón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ejez Exito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ja probabilidad de enfermedad y de discapacidad, asociada a un alto funcionamiento cognitivo, capacidad física funcional y compromiso activo con la v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695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200" spc="-1" strike="noStrike" u="sng">
                <a:solidFill>
                  <a:srgbClr val="cccc00"/>
                </a:solidFill>
                <a:uFillTx/>
                <a:latin typeface="Arial"/>
              </a:rPr>
              <a:t>Grie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Geron, geronto = los más viej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Logos, logia =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3400" y="1719360"/>
            <a:ext cx="40320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DISCIPLINA QUE SE OCUPA DEL ESTUDIO O CONOCIMIENTO DE LOS VIEJ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581280"/>
            <a:ext cx="9144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¿una nueva clasificació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88760" y="1719360"/>
            <a:ext cx="3700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99"/>
                </a:solidFill>
                <a:latin typeface="Arial"/>
              </a:rPr>
              <a:t>Envejecimiento Norm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depend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62160" y="1719360"/>
            <a:ext cx="3824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99"/>
                </a:solidFill>
                <a:latin typeface="Arial"/>
              </a:rPr>
              <a:t>Envejecimiento Patológ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rgin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in autonom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end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...Y tu También 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029200" y="1719360"/>
            <a:ext cx="3652920" cy="3936960"/>
          </a:xfrm>
          <a:prstGeom prst="rect">
            <a:avLst/>
          </a:prstGeom>
          <a:ln w="9360">
            <a:solidFill>
              <a:srgbClr val="7e9ce8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3886200" cy="3062160"/>
          </a:xfrm>
          <a:prstGeom prst="rect">
            <a:avLst/>
          </a:prstGeom>
          <a:ln w="93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Seremos viejos... 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54080" y="1719360"/>
            <a:ext cx="40323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3048120" cy="4572000"/>
          </a:xfrm>
          <a:prstGeom prst="rect">
            <a:avLst/>
          </a:prstGeom>
          <a:ln w="9360">
            <a:solidFill>
              <a:srgbClr val="7e9ce8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3211560" cy="44956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2590920" y="6019920"/>
            <a:ext cx="35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5105160"/>
            <a:ext cx="61722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cccc00"/>
                </a:solidFill>
                <a:latin typeface="Times New Roman"/>
              </a:rPr>
              <a:t>o no seremos..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321080" cy="2514600"/>
          </a:xfrm>
          <a:prstGeom prst="rect">
            <a:avLst/>
          </a:prstGeom>
          <a:ln w="93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51280" y="2924280"/>
            <a:ext cx="293832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800"/>
            </a:br>
            <a:r>
              <a:rPr b="0" lang="es-ES" sz="2800" spc="-1" strike="noStrike">
                <a:solidFill>
                  <a:srgbClr val="330066"/>
                </a:solidFill>
                <a:latin typeface="Arial Unicode MS"/>
              </a:rPr>
              <a:t>(sobre)</a:t>
            </a:r>
            <a:r>
              <a:rPr b="1" lang="es-ES" sz="4800" spc="-1" strike="noStrike">
                <a:solidFill>
                  <a:srgbClr val="330066"/>
                </a:solidFill>
                <a:latin typeface="Arial Unicode MS"/>
              </a:rPr>
              <a:t> </a:t>
            </a:r>
            <a:r>
              <a:rPr b="0" lang="es-ES" sz="5400" spc="-1" strike="noStrike">
                <a:solidFill>
                  <a:srgbClr val="330066"/>
                </a:solidFill>
                <a:latin typeface="Arial"/>
              </a:rPr>
              <a:t>Vivir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634920" y="206028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0066"/>
                </a:solidFill>
                <a:latin typeface="Arial"/>
              </a:rPr>
              <a:t>Envejecer  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925720" cy="4389480"/>
          </a:xfrm>
          <a:prstGeom prst="rect">
            <a:avLst/>
          </a:prstGeom>
          <a:ln w="284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9280" y="1916280"/>
            <a:ext cx="34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ocupa de lo que 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ocurre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urante el proceso de envejecimiento 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norma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con énfasis en procesos soci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0960" y="2266920"/>
            <a:ext cx="4032360" cy="2778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31840"/>
            <a:ext cx="7543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Gerontología Social:</a:t>
            </a:r>
            <a:br>
              <a:rPr sz="3900"/>
            </a:b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Objeto de Estud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iológic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producidos por el paso del tiempo en los distintos sistemas biológicos del organis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sicológic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producidos por el paso del tiempo en las funciones psicológ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udio de los cambios relativos a los roles individuales y su relación con la cultura y estudios poblacional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6562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Es multi y transdisciplinar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quiere de la integración un conjunto de saberes independi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21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28640"/>
            <a:ext cx="7543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6400800" cy="3886200"/>
          </a:xfrm>
          <a:prstGeom prst="rect">
            <a:avLst/>
          </a:prstGeom>
          <a:noFill/>
          <a:ln w="9360">
            <a:solidFill>
              <a:srgbClr val="d8d8e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udia las bases biológicas, psicológicas y sociales del envejecimient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e9ce8"/>
                </a:solidFill>
                <a:latin typeface="Arial"/>
              </a:rPr>
              <a:t>Además... Intenta comprender la interacción recíproca del que envejece y su ambi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e9ce8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 Social: Defini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27280" y="177300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ciplina que estudia las bases biológicas, psicológicas y sociales  del envejecimiento, con especial énfasis en el impacto recíproco entre las condiciones socioculturales y ambientales y la vejez; así como en </a:t>
            </a:r>
            <a:r>
              <a:rPr b="0" lang="es-ES" sz="2200" spc="-1" strike="noStrike">
                <a:solidFill>
                  <a:srgbClr val="7e9ce8"/>
                </a:solidFill>
                <a:latin typeface="Arial"/>
              </a:rPr>
              <a:t>las acciones sociales que puedan interponerse para mejorar los procesos de envejecimi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032000" cy="2868480"/>
          </a:xfrm>
          <a:prstGeom prst="rect">
            <a:avLst/>
          </a:prstGeom>
          <a:ln w="57240">
            <a:solidFill>
              <a:srgbClr val="66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erontología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Soc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23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e9ce8"/>
                </a:solidFill>
                <a:latin typeface="Arial"/>
              </a:rPr>
              <a:t>Disciplina básica e interventiv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ocer (para) y mejorar las condiciones de vida de las personas may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67400" y="1719360"/>
            <a:ext cx="40050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Algunas Líneas de Estudio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vejecimiento y afectiv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ación social de la vej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ulto mayor y trabaj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ivienda apropiada para may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atención de salud física y mental al anci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ciones familiares y enveje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minución de ingresos y calidad de vida del anci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ción entre enfermedad y discapac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2881080" cy="4319640"/>
          </a:xfrm>
          <a:prstGeom prst="rect">
            <a:avLst/>
          </a:prstGeom>
          <a:ln w="38160">
            <a:solidFill>
              <a:srgbClr val="d8d8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06:01:25Z</dcterms:created>
  <dc:creator>División de Informática</dc:creator>
  <dc:description/>
  <dc:language>en-US</dc:language>
  <cp:lastModifiedBy>Fac .de Medicina</cp:lastModifiedBy>
  <dcterms:modified xsi:type="dcterms:W3CDTF">2008-08-20T12:49:40Z</dcterms:modified>
  <cp:revision>36</cp:revision>
  <dc:subject/>
  <dc:title>La Gerontología Social: Objeto de Estudio</dc:title>
</cp:coreProperties>
</file>