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10F-4213-4B59-8F7E-C4B5ED51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B4D-ECD0-4914-ACD2-9D2E4815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D74-6E63-43C3-BD3E-5A76DB25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264-BBC5-4D90-AB26-CD071497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9F76-4EB5-491F-9B7B-DF6E31B5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8A87-1C9B-47C6-A602-DBECF45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9C78-3BFE-41CD-947B-AC29260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2F6D-F216-4A7F-A27A-D920D24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6B8E-D79E-4B5B-A04B-293FF80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F23D-E5BA-4469-8742-021D55A8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04F0-8B8A-4B6B-9146-D316192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78A-9B90-44EF-AF4D-B141830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585C-E2F3-439E-9E98-D25172A9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0CE-4E4F-4F5A-A907-2F059124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808-818F-4BA8-888F-02EFF9A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AB6-B684-4935-B101-3249D5B3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24ED-253C-488A-81A9-DDE7E463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17B-A4BA-473A-9009-75932F39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6C8-814F-4256-A93E-1DD78607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32B-31E8-4BF4-958E-DE46458A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B4A-FA1A-4AFF-9188-A769D11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B9C-D4A1-44A7-8884-9EE9522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BC2-A0B5-4E40-B96C-D8CA76E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5DA-BBC5-4C50-B76E-1AF7AC4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28E-56C2-41D2-8D04-D14360B23F8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E33-E0E4-477D-97D2-11E9A9E2A6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@med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Introducción a la Gerontología Soc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O Alicia Valdé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licia@med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Algunas Contribuciones de la Gerontología Soci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5410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sociedad posee un concepto negativo acerca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AM son más capaces de lo que se c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uevo concepto de envejecimiento debe identificar tanto los aspectos positivos como negativos del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uchos de los desajustes son reversibles con acciones de apoy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El envejecimiento humano no sólo se rige por principios de determinación biológica sino también por principios de determinación sociocult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1992240"/>
            <a:ext cx="3024000" cy="270216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 y Geriatr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iatrí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asher, 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ma de la medicina que estudia los determinantes biológicos de la salud y enfermedad en la vejez y la aplicación clínica de estos 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ontología Soci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Tibbitts, Albrecht, Havighurst, 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</a:t>
            </a:r>
            <a:r>
              <a:rPr b="0" lang="es-ES" sz="2000" spc="-1" strike="noStrike">
                <a:solidFill>
                  <a:srgbClr val="7e9ce8"/>
                </a:solidFill>
                <a:latin typeface="Arial"/>
              </a:rPr>
              <a:t>multidiscipli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iopsicosocial) que se ocupa de la vejez y el envej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57640" cy="4876920"/>
          </a:xfrm>
          <a:prstGeom prst="rect">
            <a:avLst/>
          </a:prstGeom>
          <a:ln w="5724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28640"/>
            <a:ext cx="75326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los procesos que se producen en las últimas etapas de la vida. Las características que la identifican se expresan en los aspec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sico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racterísticas físicas d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6957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201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psicológica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06760" y="1197000"/>
            <a:ext cx="385128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Sociale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67000"/>
            <a:ext cx="792180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Cronológ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5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2147760"/>
            <a:ext cx="3824280" cy="37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Pero?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todas las personas envejecen o cambian físicamente al mismo rit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ntrenamiento y el cuidado del cuerpo pueden llevar a que personas de más  edad estén físicamente mejor que otras más jóv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personas de edad que tienen mejor salud que otras más jóvenes y existe una enorme variabilidad entre personas de edad en cuanto a enfer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695760" cy="2390760"/>
          </a:xfrm>
          <a:prstGeom prst="rect">
            <a:avLst/>
          </a:prstGeom>
          <a:ln w="28440">
            <a:solidFill>
              <a:srgbClr val="7e9ce8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505320" cy="247644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95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Psicológic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funciones cognitiv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Soci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rol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Funcion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AV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0600" y="2046240"/>
            <a:ext cx="4030920" cy="360216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Clasificación de la Vejez:</a:t>
            </a:r>
            <a:br>
              <a:rPr sz="2600"/>
            </a:b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Según Funcionalidad (Fernández- Ballesteros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Norm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sa sin patolo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Patológ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ociada con múltiples patologías, frecuentemente crón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Exito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ja probabilidad de enfermedad y de discapacidad, asociada a un alto funcionamiento cognitivo, capacidad física funcional y compromiso activo con la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695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200" spc="-1" strike="noStrike" u="sng">
                <a:solidFill>
                  <a:srgbClr val="cccc00"/>
                </a:solidFill>
                <a:uFillTx/>
                <a:latin typeface="Arial"/>
              </a:rPr>
              <a:t>Gri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Geron, geronto = los más vi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Logos, logia =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3400" y="1719360"/>
            <a:ext cx="40320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QUE SE OCUPA DEL ESTUDIO O CONOCIMIENTO DE LOS VIEJ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58128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una nueva clasificació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8760" y="1719360"/>
            <a:ext cx="370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Norm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62160" y="1719360"/>
            <a:ext cx="3824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Patológ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rgi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n autonom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...Y tu También 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29200" y="1719360"/>
            <a:ext cx="3652920" cy="393696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886200" cy="306216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eremos viejos...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5408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048120" cy="457200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211560" cy="44956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2590920" y="60199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5105160"/>
            <a:ext cx="61722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o no seremos..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321080" cy="251460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51280" y="2924280"/>
            <a:ext cx="2938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800"/>
            </a:br>
            <a:r>
              <a:rPr b="0" lang="es-ES" sz="2800" spc="-1" strike="noStrike">
                <a:solidFill>
                  <a:srgbClr val="330066"/>
                </a:solidFill>
                <a:latin typeface="Arial Unicode MS"/>
              </a:rPr>
              <a:t>(sobre)</a:t>
            </a:r>
            <a:r>
              <a:rPr b="1" lang="es-ES" sz="4800" spc="-1" strike="noStrike">
                <a:solidFill>
                  <a:srgbClr val="330066"/>
                </a:solidFill>
                <a:latin typeface="Arial Unicode MS"/>
              </a:rPr>
              <a:t> </a:t>
            </a:r>
            <a:r>
              <a:rPr b="0" lang="es-ES" sz="5400" spc="-1" strike="noStrike">
                <a:solidFill>
                  <a:srgbClr val="330066"/>
                </a:solidFill>
                <a:latin typeface="Arial"/>
              </a:rPr>
              <a:t>Vivir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634920" y="206028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66"/>
                </a:solidFill>
                <a:latin typeface="Arial"/>
              </a:rPr>
              <a:t>Envejecer  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925720" cy="438948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ocupa de lo que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ocurre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urante el proceso de envejecimiento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norm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n énfasis en procesos soci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960" y="2266920"/>
            <a:ext cx="4032360" cy="277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Gerontología Social:</a:t>
            </a:r>
            <a:br>
              <a:rPr sz="3900"/>
            </a:b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bjeto de Estud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i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os distintos sistemas biológicos del organ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sic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as funciones psicológ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relativos a los roles individuales y su relación con la cultura y estudios poblaciona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56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Es multi y transdisciplina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quiere de la integración un conjunto de saberes independ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21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6400800" cy="3886200"/>
          </a:xfrm>
          <a:prstGeom prst="rect">
            <a:avLst/>
          </a:prstGeom>
          <a:noFill/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a las bases biológicas, psicológicas y sociales del envejecimien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Además... Intenta comprender la interacción recíproca del que envejece y su amb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: Defin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ciplina que estudia las bases biológicas, psicológicas y sociales  del envejecimiento, con especial énfasis en el impacto recíproco entre las condiciones socioculturales y ambientales y la vejez; así como en </a:t>
            </a: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las acciones sociales que puedan interponerse para mejorar los procesos de envejecimi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032000" cy="2868480"/>
          </a:xfrm>
          <a:prstGeom prst="rect">
            <a:avLst/>
          </a:prstGeom>
          <a:ln w="572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básica e interventi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ocer (para) y mejorar las condiciones de vida de las personas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67400" y="1719360"/>
            <a:ext cx="4005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lgunas Líneas de Estudio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vejecimiento y afectiv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ación social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ulto mayor y tra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vienda apropiada para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atención de salud física y mental a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ones familiares y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ción de ingresos y calidad de vida de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ón entre enfermedad y discapac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81080" cy="4319640"/>
          </a:xfrm>
          <a:prstGeom prst="rect">
            <a:avLst/>
          </a:prstGeom>
          <a:ln w="381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6:01:25Z</dcterms:created>
  <dc:creator>División de Informática</dc:creator>
  <dc:description/>
  <dc:language>en-US</dc:language>
  <cp:lastModifiedBy>Fac .de Medicina</cp:lastModifiedBy>
  <dcterms:modified xsi:type="dcterms:W3CDTF">2008-08-20T12:49:40Z</dcterms:modified>
  <cp:revision>36</cp:revision>
  <dc:subject/>
  <dc:title>La Gerontología Social: Objeto de Estudio</dc:title>
</cp:coreProperties>
</file>