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680-B633-40C7-B0F8-A827CD84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832-EB67-43BA-99D9-9FE6DA29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9884-9A82-4D52-A751-FB5E98D3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11E-E0A9-4F13-A434-BE2231B3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F868-45FB-4E83-9063-AFB3AC88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F15B-FB47-4626-AC34-FF6198EB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4173-211D-4EF1-8777-76F38923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F39F-B0E6-4ABF-ADFB-CF180CB7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E320-2434-491C-98E9-0B062A7F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CD7D-42DE-472D-A417-A140D5F6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C98E-0B48-4479-AABF-0BB230A4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F2E3-B88F-47DA-B6D5-341FB8F1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A415-5AC2-40E4-9352-B85DA385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3F12-FED9-4A0C-B235-272F3E1D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2A85-4794-422B-8DB0-218BC25E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4C0E-6853-4CB6-BFB1-6D7E4DA8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70FE-BF24-47D5-996D-99F71A26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15A-77C9-4EEC-9FE7-A79255D5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D5D5-D942-438E-B904-DAAFACFA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6E2A-3E21-49B4-BB20-A2BA2E3C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6D9-EE9B-464E-943B-D20A61B1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347-F262-403E-B439-3CA29ACE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E70-BE3C-4055-BD82-6620AD75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8F6-2CD8-44FB-8E9D-CC52045B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84CA-B5B6-4AB9-92E1-073D05CDC0D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F2D4-DD39-4767-A1ED-1FF5394529D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licia@med.uchile.cl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Introducción a la Gerontología Social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.O Alicia Valdés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alicia@med.uchile.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T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0066"/>
                </a:solidFill>
                <a:latin typeface="Arial"/>
              </a:rPr>
              <a:t>Algunas Contribuciones de la Gerontología Social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419640" y="1557360"/>
            <a:ext cx="541008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sociedad posee un concepto negativo acerca de la vejez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AM son más capaces de lo que se cr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nuevo concepto de envejecimiento debe identificar tanto los aspectos positivos como negativos del envejec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uchos de los desajustes son reversibles con acciones de apoy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e9ce8"/>
                </a:solidFill>
                <a:latin typeface="Arial"/>
              </a:rPr>
              <a:t>El envejecimiento humano no sólo se rige por principios de determinación biológica sino también por principios de determinación sociocultu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24000" y="1992240"/>
            <a:ext cx="3024000" cy="2702160"/>
          </a:xfrm>
          <a:prstGeom prst="rect">
            <a:avLst/>
          </a:prstGeom>
          <a:ln w="12600">
            <a:solidFill>
              <a:srgbClr val="7e9ce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 Social y Geriatrí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924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eriatrí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Nasher, 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ama de la medicina que estudia los determinantes biológicos de la salud y enfermedad en la vejez y la aplicación clínica de estos conocimi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erontología Social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Tibbitts, Albrecht, Havighurst, 19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iplina </a:t>
            </a:r>
            <a:r>
              <a:rPr b="0" lang="es-ES" sz="2000" spc="-1" strike="noStrike">
                <a:solidFill>
                  <a:srgbClr val="7e9ce8"/>
                </a:solidFill>
                <a:latin typeface="Arial"/>
              </a:rPr>
              <a:t>multidisciplin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biopsicosocial) que se ocupa de la vejez y el enveje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3257640" cy="4876920"/>
          </a:xfrm>
          <a:prstGeom prst="rect">
            <a:avLst/>
          </a:prstGeom>
          <a:ln w="57240">
            <a:solidFill>
              <a:srgbClr val="d8d8e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728640"/>
            <a:ext cx="75326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l Envejeci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on los procesos que se producen en las últimas etapas de la vida. Las características que la identifican se expresan en los aspect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ís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sicoló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aracterísticas físicas del envejeci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32360" y="1844640"/>
            <a:ext cx="36957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201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41280"/>
            <a:ext cx="754380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0066"/>
                </a:solidFill>
                <a:latin typeface="Arial"/>
              </a:rPr>
              <a:t>Características psicológicas del envejecimient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506760" y="1197000"/>
            <a:ext cx="3851280" cy="5327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341280"/>
            <a:ext cx="754380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0066"/>
                </a:solidFill>
                <a:latin typeface="Arial"/>
              </a:rPr>
              <a:t>Características Sociales del Envejecimient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5280" y="1467000"/>
            <a:ext cx="7921800" cy="50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oncepto de Veje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2920" y="2133360"/>
            <a:ext cx="4032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dad Cronológ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60 a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65 a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hil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60 a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2147760"/>
            <a:ext cx="3824280" cy="375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¿Pero?.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95680" y="1981080"/>
            <a:ext cx="3695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todas las personas envejecen o cambian físicamente al mismo rit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ntrenamiento y el cuidado del cuerpo pueden llevar a que personas de más  edad estén físicamente mejor que otras más jóv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 personas de edad que tienen mejor salud que otras más jóvenes y existe una enorme variabilidad entre personas de edad en cuanto a enferm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3695760" cy="2390760"/>
          </a:xfrm>
          <a:prstGeom prst="rect">
            <a:avLst/>
          </a:prstGeom>
          <a:ln w="28440">
            <a:solidFill>
              <a:srgbClr val="7e9ce8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3505320" cy="2476440"/>
          </a:xfrm>
          <a:prstGeom prst="rect">
            <a:avLst/>
          </a:prstGeom>
          <a:ln w="12600">
            <a:solidFill>
              <a:srgbClr val="7e9ce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oncepto de Veje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3695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dad Psicológic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(funciones cognitiva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dad Social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(role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dad Funcional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(AVD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30600" y="2046240"/>
            <a:ext cx="4030920" cy="3602160"/>
          </a:xfrm>
          <a:prstGeom prst="rect">
            <a:avLst/>
          </a:prstGeom>
          <a:ln w="28440">
            <a:solidFill>
              <a:srgbClr val="66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198000"/>
            <a:ext cx="74674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Clasificación de la Vejez:</a:t>
            </a:r>
            <a:br>
              <a:rPr sz="2600"/>
            </a:br>
            <a:r>
              <a:rPr b="1" i="1" lang="en-US" sz="2600" spc="-1" strike="noStrike">
                <a:solidFill>
                  <a:srgbClr val="330066"/>
                </a:solidFill>
                <a:latin typeface="Arial"/>
              </a:rPr>
              <a:t>Según Funcionalidad (Fernández- Ballesteros)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Vejez Normal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sa sin patologí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Vejez Patológic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ociada con múltiples patologías, frecuentemente crón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Vejez Exitos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ja probabilidad de enfermedad y de discapacidad, asociada a un alto funcionamiento cognitivo, capacidad física funcional y compromiso activo con la vi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3695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200" spc="-1" strike="noStrike" u="sng">
                <a:solidFill>
                  <a:srgbClr val="cccc00"/>
                </a:solidFill>
                <a:uFillTx/>
                <a:latin typeface="Arial"/>
              </a:rPr>
              <a:t>Grieg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Geron, geronto = los más viej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Logos, logia = cono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13400" y="1719360"/>
            <a:ext cx="403200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7e9ce8"/>
                </a:solidFill>
                <a:latin typeface="Arial"/>
              </a:rPr>
              <a:t>DISCIPLINA QUE SE OCUPA DEL ESTUDIO O CONOCIMIENTO DE LOS VIEJ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3581280"/>
            <a:ext cx="914400" cy="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¿una nueva clasificació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88760" y="1719360"/>
            <a:ext cx="3700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99"/>
                </a:solidFill>
                <a:latin typeface="Arial"/>
              </a:rPr>
              <a:t>Envejecimiento Norma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c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tegr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utóno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depend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62160" y="1719360"/>
            <a:ext cx="3824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99"/>
                </a:solidFill>
                <a:latin typeface="Arial"/>
              </a:rPr>
              <a:t>Envejecimiento Patológic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s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rgin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in autonom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pend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...Y tu También .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029200" y="1719360"/>
            <a:ext cx="3652920" cy="3936960"/>
          </a:xfrm>
          <a:prstGeom prst="rect">
            <a:avLst/>
          </a:prstGeom>
          <a:ln w="9360">
            <a:solidFill>
              <a:srgbClr val="7e9ce8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3886200" cy="3062160"/>
          </a:xfrm>
          <a:prstGeom prst="rect">
            <a:avLst/>
          </a:prstGeom>
          <a:ln w="9360">
            <a:solidFill>
              <a:srgbClr val="d8d8e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918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Seremos viejos... 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54080" y="1719360"/>
            <a:ext cx="40323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3048120" cy="4572000"/>
          </a:xfrm>
          <a:prstGeom prst="rect">
            <a:avLst/>
          </a:prstGeom>
          <a:ln w="9360">
            <a:solidFill>
              <a:srgbClr val="7e9ce8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3211560" cy="449568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2590920" y="6019920"/>
            <a:ext cx="358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4920" y="5105160"/>
            <a:ext cx="61722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cc00"/>
                </a:solidFill>
                <a:latin typeface="Times New Roman"/>
              </a:rPr>
              <a:t> </a:t>
            </a:r>
            <a:r>
              <a:rPr b="1" lang="es-ES" sz="2600" spc="-1" strike="noStrike">
                <a:solidFill>
                  <a:srgbClr val="cccc00"/>
                </a:solidFill>
                <a:latin typeface="Times New Roman"/>
              </a:rPr>
              <a:t>o no seremos...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321080" cy="2514600"/>
          </a:xfrm>
          <a:prstGeom prst="rect">
            <a:avLst/>
          </a:prstGeom>
          <a:ln w="9360">
            <a:solidFill>
              <a:srgbClr val="d8d8e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51280" y="2924280"/>
            <a:ext cx="293832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800"/>
            </a:br>
            <a:r>
              <a:rPr b="0" lang="es-ES" sz="2800" spc="-1" strike="noStrike">
                <a:solidFill>
                  <a:srgbClr val="330066"/>
                </a:solidFill>
                <a:latin typeface="Arial Unicode MS"/>
              </a:rPr>
              <a:t>(sobre)</a:t>
            </a:r>
            <a:r>
              <a:rPr b="1" lang="es-ES" sz="4800" spc="-1" strike="noStrike">
                <a:solidFill>
                  <a:srgbClr val="330066"/>
                </a:solidFill>
                <a:latin typeface="Arial Unicode MS"/>
              </a:rPr>
              <a:t> </a:t>
            </a:r>
            <a:r>
              <a:rPr b="0" lang="es-ES" sz="5400" spc="-1" strike="noStrike">
                <a:solidFill>
                  <a:srgbClr val="330066"/>
                </a:solidFill>
                <a:latin typeface="Arial"/>
              </a:rPr>
              <a:t>Vivir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634920" y="206028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0066"/>
                </a:solidFill>
                <a:latin typeface="Arial"/>
              </a:rPr>
              <a:t>Envejecer  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2925720" cy="4389480"/>
          </a:xfrm>
          <a:prstGeom prst="rect">
            <a:avLst/>
          </a:prstGeom>
          <a:ln w="28440">
            <a:solidFill>
              <a:srgbClr val="66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 Soci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59280" y="1916280"/>
            <a:ext cx="34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ocupa de lo que </a:t>
            </a:r>
            <a:r>
              <a:rPr b="0" lang="es-ES" sz="2600" spc="-1" strike="noStrike">
                <a:solidFill>
                  <a:srgbClr val="7e9ce8"/>
                </a:solidFill>
                <a:latin typeface="Arial"/>
              </a:rPr>
              <a:t>ocurre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urante el proceso de envejecimiento </a:t>
            </a:r>
            <a:r>
              <a:rPr b="0" lang="es-ES" sz="2600" spc="-1" strike="noStrike">
                <a:solidFill>
                  <a:srgbClr val="7e9ce8"/>
                </a:solidFill>
                <a:latin typeface="Arial"/>
              </a:rPr>
              <a:t>normal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con énfasis en procesos soci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80960" y="2266920"/>
            <a:ext cx="4032360" cy="2778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31840"/>
            <a:ext cx="75438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 Gerontología Social:</a:t>
            </a:r>
            <a:br>
              <a:rPr sz="3900"/>
            </a:b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Objeto de Estudi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Biológico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udio de los cambios producidos por el paso del tiempo en los distintos sistemas biológicos del organism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sicológico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udio de los cambios producidos por el paso del tiempo en las funciones psicológ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ocial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udio de los cambios relativos a los roles individuales y su relación con la cultura y estudios poblacionale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 Soci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6562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e9ce8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7e9ce8"/>
                </a:solidFill>
                <a:latin typeface="Arial"/>
              </a:rPr>
              <a:t>Es multi y transdisciplinari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quiere de la integración un conjunto de saberes independie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221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 Soci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16000" y="1988640"/>
            <a:ext cx="6400800" cy="3886200"/>
          </a:xfrm>
          <a:prstGeom prst="rect">
            <a:avLst/>
          </a:prstGeom>
          <a:noFill/>
          <a:ln w="9360">
            <a:solidFill>
              <a:srgbClr val="d8d8e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udia las bases biológicas, psicológicas y sociales del envejecimient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e9ce8"/>
                </a:solidFill>
                <a:latin typeface="Arial"/>
              </a:rPr>
              <a:t>Además... Intenta comprender la interacción recíproca del que envejece y su ambie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e9ce8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 Social: Defini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27280" y="1773000"/>
            <a:ext cx="4190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sciplina que estudia las bases biológicas, psicológicas y sociales  del envejecimiento, con especial énfasis en el impacto recíproco entre las condiciones socioculturales y ambientales y la vejez; así como en </a:t>
            </a:r>
            <a:r>
              <a:rPr b="0" lang="es-ES" sz="2200" spc="-1" strike="noStrike">
                <a:solidFill>
                  <a:srgbClr val="7e9ce8"/>
                </a:solidFill>
                <a:latin typeface="Arial"/>
              </a:rPr>
              <a:t>las acciones sociales que puedan interponerse para mejorar los procesos de envejecimien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4032000" cy="2868480"/>
          </a:xfrm>
          <a:prstGeom prst="rect">
            <a:avLst/>
          </a:prstGeom>
          <a:ln w="57240">
            <a:solidFill>
              <a:srgbClr val="66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Soci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323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e9ce8"/>
                </a:solidFill>
                <a:latin typeface="Arial"/>
              </a:rPr>
              <a:t>Disciplina básica e interventiv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ocer (para) y mejorar las condiciones de vida de las personas may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67400" y="1719360"/>
            <a:ext cx="40050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Algunas Líneas de Estudio.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5486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vejecimiento y afectivi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aloración social de la vejez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dulto mayor y trabaj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ivienda apropiada para may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atención de salud física y mental al ancia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laciones familiares y envejec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sminución de ingresos y calidad de vida del ancia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lación entre enfermedad y discapaci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tc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2881080" cy="4319640"/>
          </a:xfrm>
          <a:prstGeom prst="rect">
            <a:avLst/>
          </a:prstGeom>
          <a:ln w="38160">
            <a:solidFill>
              <a:srgbClr val="d8d8e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06:01:25Z</dcterms:created>
  <dc:creator>División de Informática</dc:creator>
  <dc:description/>
  <dc:language>en-US</dc:language>
  <cp:lastModifiedBy>Fac .de Medicina</cp:lastModifiedBy>
  <dcterms:modified xsi:type="dcterms:W3CDTF">2008-08-20T12:49:40Z</dcterms:modified>
  <cp:revision>36</cp:revision>
  <dc:subject/>
  <dc:title>La Gerontología Social: Objeto de Estudio</dc:title>
</cp:coreProperties>
</file>