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E6C-8FB8-437D-A291-3E7ADDDE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7A6-0D5B-491A-BECF-06832E49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43A-C5C2-4C34-87BE-87E9886F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D86-9B0F-4C35-B928-771116BE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75FB-C835-44D1-A24C-25286306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0B98-1747-41F9-B2E5-AA80CEFC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440E-5BDE-4D0D-98AF-375AC00A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110D-1217-4E5D-AFE2-BE7F5CF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3055-FE27-4817-BCC2-F239E3AC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F56E-4A27-4B7A-90B2-05F1E133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A4F9-56B4-49C9-9DEC-46F87662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51E-8AAF-4683-A58A-8E157345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93AA-FAF6-48D9-A5CA-6008948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E5AD-9837-4D78-85F3-61E53EB3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F926-1A10-4985-AC00-5FE527DC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9BFD-3157-486D-9B6F-181B79E4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5F5-8754-4267-A151-4F7C709E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F28-F856-47B7-9CF3-F4A66B86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82F-B0F7-412D-82EC-3E5F2466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F2B-EF1E-43C6-90DE-2904AFCD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485-5294-4A8E-838B-5EFE86CE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5D8-0EE3-482F-BB3D-1A77E589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282-8692-4B4E-AD06-47CF4027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470-06EE-4D80-83C0-4AE279E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7EF9-D70D-4846-937E-DAF062B4808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0076-99CE-4669-80C5-1AE83A2791F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icia@med.uchile.c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Introducción a la Gerontología Socia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O Alicia Valdés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alicia@med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Algunas Contribuciones de la Gerontología Social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19640" y="1557360"/>
            <a:ext cx="5410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sociedad posee un concepto negativo acerca de la vej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AM son más capaces de lo que se c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uevo concepto de envejecimiento debe identificar tanto los aspectos positivos como negativos del envej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uchos de los desajustes son reversibles con acciones de apoy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e9ce8"/>
                </a:solidFill>
                <a:latin typeface="Arial"/>
              </a:rPr>
              <a:t>El envejecimiento humano no sólo se rige por principios de determinación biológica sino también por principios de determinación sociocultu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1992240"/>
            <a:ext cx="3024000" cy="2702160"/>
          </a:xfrm>
          <a:prstGeom prst="rect">
            <a:avLst/>
          </a:prstGeom>
          <a:ln w="1260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 y Geriatr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riatrí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Nasher, 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ma de la medicina que estudia los determinantes biológicos de la salud y enfermedad en la vejez y la aplicación clínica de estos conoc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rontología Social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Tibbitts, Albrecht, Havighurst, 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</a:t>
            </a:r>
            <a:r>
              <a:rPr b="0" lang="es-ES" sz="2000" spc="-1" strike="noStrike">
                <a:solidFill>
                  <a:srgbClr val="7e9ce8"/>
                </a:solidFill>
                <a:latin typeface="Arial"/>
              </a:rPr>
              <a:t>multidisciplin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biopsicosocial) que se ocupa de la vejez y el envej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3257640" cy="4876920"/>
          </a:xfrm>
          <a:prstGeom prst="rect">
            <a:avLst/>
          </a:prstGeom>
          <a:ln w="5724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728640"/>
            <a:ext cx="75326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Envejec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n los procesos que se producen en las últimas etapas de la vida. Las características que la identifican se expresan en los aspec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sico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racterísticas físicas del envejec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32360" y="1844640"/>
            <a:ext cx="36957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201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41280"/>
            <a:ext cx="75438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Características psicológicas del envejecimien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506760" y="1197000"/>
            <a:ext cx="3851280" cy="5327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41280"/>
            <a:ext cx="75438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Características Sociales del Envejecimien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1467000"/>
            <a:ext cx="792180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cepto de Veje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3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Cronológ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5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i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2147760"/>
            <a:ext cx="3824280" cy="375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¿Pero?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todas las personas envejecen o cambian físicamente al mismo rit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ntrenamiento y el cuidado del cuerpo pueden llevar a que personas de más  edad estén físicamente mejor que otras más jóv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personas de edad que tienen mejor salud que otras más jóvenes y existe una enorme variabilidad entre personas de edad en cuanto a enfer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695760" cy="2390760"/>
          </a:xfrm>
          <a:prstGeom prst="rect">
            <a:avLst/>
          </a:prstGeom>
          <a:ln w="28440">
            <a:solidFill>
              <a:srgbClr val="7e9ce8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3505320" cy="2476440"/>
          </a:xfrm>
          <a:prstGeom prst="rect">
            <a:avLst/>
          </a:prstGeom>
          <a:ln w="1260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cepto de Veje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3695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Psicológic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funciones cognitiva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Soci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(rol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Funcion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AV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0600" y="2046240"/>
            <a:ext cx="4030920" cy="3602160"/>
          </a:xfrm>
          <a:prstGeom prst="rect">
            <a:avLst/>
          </a:prstGeom>
          <a:ln w="284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Clasificación de la Vejez:</a:t>
            </a:r>
            <a:br>
              <a:rPr sz="2600"/>
            </a:br>
            <a:r>
              <a:rPr b="1" i="1" lang="en-US" sz="2600" spc="-1" strike="noStrike">
                <a:solidFill>
                  <a:srgbClr val="330066"/>
                </a:solidFill>
                <a:latin typeface="Arial"/>
              </a:rPr>
              <a:t>Según Funcionalidad (Fernández- Ballesteros)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Normal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sa sin patolog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Patológic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ociada con múltiples patologías, frecuentemente crón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Exito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ja probabilidad de enfermedad y de discapacidad, asociada a un alto funcionamiento cognitivo, capacidad física funcional y compromiso activo con la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695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200" spc="-1" strike="noStrike" u="sng">
                <a:solidFill>
                  <a:srgbClr val="cccc00"/>
                </a:solidFill>
                <a:uFillTx/>
                <a:latin typeface="Arial"/>
              </a:rPr>
              <a:t>Grie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Geron, geronto = los más vi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Logos, logia =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3400" y="1719360"/>
            <a:ext cx="40320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DISCIPLINA QUE SE OCUPA DEL ESTUDIO O CONOCIMIENTO DE LOS VIEJ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581280"/>
            <a:ext cx="9144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¿una nueva clasificació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8760" y="1719360"/>
            <a:ext cx="3700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99"/>
                </a:solidFill>
                <a:latin typeface="Arial"/>
              </a:rPr>
              <a:t>Envejecimiento Norm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depend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62160" y="1719360"/>
            <a:ext cx="3824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99"/>
                </a:solidFill>
                <a:latin typeface="Arial"/>
              </a:rPr>
              <a:t>Envejecimiento Patológ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rgi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in autonom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...Y tu También 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029200" y="1719360"/>
            <a:ext cx="3652920" cy="3936960"/>
          </a:xfrm>
          <a:prstGeom prst="rect">
            <a:avLst/>
          </a:prstGeom>
          <a:ln w="9360">
            <a:solidFill>
              <a:srgbClr val="7e9ce8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3886200" cy="3062160"/>
          </a:xfrm>
          <a:prstGeom prst="rect">
            <a:avLst/>
          </a:prstGeom>
          <a:ln w="93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Seremos viejos... 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54080" y="1719360"/>
            <a:ext cx="4032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3048120" cy="4572000"/>
          </a:xfrm>
          <a:prstGeom prst="rect">
            <a:avLst/>
          </a:prstGeom>
          <a:ln w="9360">
            <a:solidFill>
              <a:srgbClr val="7e9ce8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3211560" cy="44956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2590920" y="6019920"/>
            <a:ext cx="35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5105160"/>
            <a:ext cx="61722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cccc00"/>
                </a:solidFill>
                <a:latin typeface="Times New Roman"/>
              </a:rPr>
              <a:t>o no seremos..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321080" cy="2514600"/>
          </a:xfrm>
          <a:prstGeom prst="rect">
            <a:avLst/>
          </a:prstGeom>
          <a:ln w="93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51280" y="2924280"/>
            <a:ext cx="293832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800"/>
            </a:br>
            <a:r>
              <a:rPr b="0" lang="es-ES" sz="2800" spc="-1" strike="noStrike">
                <a:solidFill>
                  <a:srgbClr val="330066"/>
                </a:solidFill>
                <a:latin typeface="Arial Unicode MS"/>
              </a:rPr>
              <a:t>(sobre)</a:t>
            </a:r>
            <a:r>
              <a:rPr b="1" lang="es-ES" sz="4800" spc="-1" strike="noStrike">
                <a:solidFill>
                  <a:srgbClr val="330066"/>
                </a:solidFill>
                <a:latin typeface="Arial Unicode MS"/>
              </a:rPr>
              <a:t> </a:t>
            </a:r>
            <a:r>
              <a:rPr b="0" lang="es-ES" sz="5400" spc="-1" strike="noStrike">
                <a:solidFill>
                  <a:srgbClr val="330066"/>
                </a:solidFill>
                <a:latin typeface="Arial"/>
              </a:rPr>
              <a:t>Vivir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634920" y="206028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0066"/>
                </a:solidFill>
                <a:latin typeface="Arial"/>
              </a:rPr>
              <a:t>Envejecer  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925720" cy="4389480"/>
          </a:xfrm>
          <a:prstGeom prst="rect">
            <a:avLst/>
          </a:prstGeom>
          <a:ln w="284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9280" y="1916280"/>
            <a:ext cx="34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ocupa de lo que 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ocurre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urante el proceso de envejecimiento 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norm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n énfasis en procesos soci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960" y="2266920"/>
            <a:ext cx="4032360" cy="2778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1840"/>
            <a:ext cx="7543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Gerontología Social:</a:t>
            </a:r>
            <a:br>
              <a:rPr sz="3900"/>
            </a:b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bjeto de Estud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iológic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producidos por el paso del tiempo en los distintos sistemas biológicos del organis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sicológic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producidos por el paso del tiempo en las funciones psicológ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relativos a los roles individuales y su relación con la cultura y estudios poblacional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6562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Es multi y transdisciplinar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quiere de la integración un conjunto de saberes independi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21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6400800" cy="3886200"/>
          </a:xfrm>
          <a:prstGeom prst="rect">
            <a:avLst/>
          </a:prstGeom>
          <a:noFill/>
          <a:ln w="9360">
            <a:solidFill>
              <a:srgbClr val="d8d8e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udia las bases biológicas, psicológicas y sociales del envejecimient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e9ce8"/>
                </a:solidFill>
                <a:latin typeface="Arial"/>
              </a:rPr>
              <a:t>Además... Intenta comprender la interacción recíproca del que envejece y su ambi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e9ce8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: Defini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27280" y="177300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ciplina que estudia las bases biológicas, psicológicas y sociales  del envejecimiento, con especial énfasis en el impacto recíproco entre las condiciones socioculturales y ambientales y la vejez; así como en </a:t>
            </a:r>
            <a:r>
              <a:rPr b="0" lang="es-ES" sz="2200" spc="-1" strike="noStrike">
                <a:solidFill>
                  <a:srgbClr val="7e9ce8"/>
                </a:solidFill>
                <a:latin typeface="Arial"/>
              </a:rPr>
              <a:t>las acciones sociales que puedan interponerse para mejorar los procesos de envejecimi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032000" cy="2868480"/>
          </a:xfrm>
          <a:prstGeom prst="rect">
            <a:avLst/>
          </a:prstGeom>
          <a:ln w="572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2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Disciplina básica e interventiv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ocer (para) y mejorar las condiciones de vida de las personas may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67400" y="1719360"/>
            <a:ext cx="40050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Algunas Líneas de Estudio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vejecimiento y afectiv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ación social de la vej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ulto mayor y trabaj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vienda apropiada para may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atención de salud física y mental al anci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ciones familiares y envej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minución de ingresos y calidad de vida del anci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ción entre enfermedad y discapac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881080" cy="4319640"/>
          </a:xfrm>
          <a:prstGeom prst="rect">
            <a:avLst/>
          </a:prstGeom>
          <a:ln w="381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06:01:25Z</dcterms:created>
  <dc:creator>División de Informática</dc:creator>
  <dc:description/>
  <dc:language>en-US</dc:language>
  <cp:lastModifiedBy>Fac .de Medicina</cp:lastModifiedBy>
  <dcterms:modified xsi:type="dcterms:W3CDTF">2008-08-20T12:49:40Z</dcterms:modified>
  <cp:revision>36</cp:revision>
  <dc:subject/>
  <dc:title>La Gerontología Social: Objeto de Estudio</dc:title>
</cp:coreProperties>
</file>