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E4D-1E93-479A-B90E-0F1E0530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351-BE85-4D4A-8405-5D701A96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409-43DD-4175-A8B1-A9391D84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D26-8CA7-424E-8C98-3841C785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39F6-637D-4C26-9D7C-782903D6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E621-8C25-48EE-8232-69B1F817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3A20-9E0E-4DD1-8823-6FC85EF8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DD66-5ACB-4441-A003-60DE769E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BB40-8C14-45A3-89A2-D49A7043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898B-2C9E-45DC-8B50-4E38355A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60DE-7536-4FF2-9C6F-04CE42F4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0E4-4D79-4B08-B802-D38E1788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90C7-23BB-47EA-8B1C-F3A6D81D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E2D4-9D8F-4E04-B2E8-6CD01B3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B33E-6CC2-4023-BBB9-F7125282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0ED7-8D66-449B-8A6F-EAD54D61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57A5-892F-46E9-8BF3-6DF634CA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87F-424E-4495-AEB6-23FD77EB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3CB-7310-47A4-9BC7-21D97A53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6F5-54D7-46AA-8F7C-DE763B22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C96-4431-499E-BB99-E92B9D17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612-9B69-46F7-B9AA-369198E7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933-2E88-4051-A7D8-B4045ABF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CFB-3BF9-46C1-A228-8DF3E667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5FE6-6DCF-47AD-AD1A-E22F59392D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1550-6BEE-4D90-B2CF-89DDF07353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Teorías Psicológicas y Sociales del Envejecimient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717800"/>
            <a:ext cx="64008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.O Alicia Valdés Ro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920" y="3789000"/>
            <a:ext cx="795816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sar de los cambios, una alta proporción de personas mayores muestran consistencia a través del tiempo en el perfil de sus actividad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2376720" cy="2376360"/>
          </a:xfrm>
          <a:prstGeom prst="rect">
            <a:avLst/>
          </a:prstGeom>
          <a:ln w="9360">
            <a:solidFill>
              <a:srgbClr val="cc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ruptura radical entre la edad adulta y la tercera edad, se basa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aso a la vejez es una prolongación de experiencias, proyectos y hábitos de la vida. La personalidad y sistema de valores se mantienen prácticamente intac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 envejecer los individuos aprenden a utilizar  estrategias de adaptación que les ayudan a reaccionar favorablemente ante las dificultades de la vi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ontinuidad sirve de base al proceso de adaptación al cambio mediante dos mecanism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deseo de continuidad impulsa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ación al camb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deseo de continuidad como meta para la adaptación (enfrentar el cambio con preservación de sus vid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796000" y="2708280"/>
            <a:ext cx="2963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s Sociales y Veje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gún Comfort (1977), 75% de los cambios relacionados con la edad pueden ser atribuidos al envejecimiento social y son producto de nuestras creencias, prejuicios y conceptos erróneos sobre la vej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7877" t="7541" r="0" b="0"/>
          <a:stretch/>
        </p:blipFill>
        <p:spPr>
          <a:xfrm>
            <a:off x="5076720" y="1916280"/>
            <a:ext cx="3576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bbd71"/>
                </a:solidFill>
                <a:latin typeface="Arial"/>
              </a:rPr>
              <a:t>Teorías Sociales y Veje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000" y="141300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vita considerar a la vejez como un fenómeno forzado a encajar en un proceso de medicaliz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mite integrar los envejecimientos desiguales, Y DIFERENCIADOS según el género, estrato social, aspectos culturales y de desarrollo económ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2376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s Socia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353844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inc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ul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rn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6551" t="11770" r="0" b="0"/>
          <a:stretch/>
        </p:blipFill>
        <p:spPr>
          <a:xfrm>
            <a:off x="4788000" y="1484280"/>
            <a:ext cx="32256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Teoría de la Desvinculación </a:t>
            </a:r>
            <a:br>
              <a:rPr sz="4000"/>
            </a:b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o del Desapego </a:t>
            </a:r>
            <a:r>
              <a:rPr b="1" lang="es-ES" sz="2800" spc="-1" strike="noStrike">
                <a:solidFill>
                  <a:srgbClr val="dbbd71"/>
                </a:solidFill>
                <a:latin typeface="Arial"/>
              </a:rPr>
              <a:t>(Cummings, 1961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66920" y="1685520"/>
            <a:ext cx="46148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sociedad y el individuo (en forma interactiva), que envejece tienen una misma meta: la desvinculación del individuo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funcional  (prepara para la muerte y permite la sustitución generacion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14480" y="1600200"/>
            <a:ext cx="2774880" cy="478152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Desvincul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"...El envejecimiento normal se acompaña de un distanciamiento o "desvinculación" recíproco entre las personas que envejecen y los miembros del sistema social al que pertenecen -desvinculación provocada ya sea por el mismo interesado o por los otros miembros de este sistema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a la muerte como la desvinculación total, de esta manera, se considera esta etapa como el momento en que la persona reorganiza sus proyectos en función del sentido y el tiempo que le queda por viv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Subcultu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vejez conlleva cierto aislamiento (por pérdid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viejos poseerían rasgos característicos  de un grupo ais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64160" y="2306520"/>
            <a:ext cx="4017960" cy="3111480"/>
          </a:xfrm>
          <a:prstGeom prst="rect">
            <a:avLst/>
          </a:prstGeom>
          <a:ln w="9360">
            <a:solidFill>
              <a:srgbClr val="cc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osición social de los mayores es inversamente proporcional al grado de industrialización (tecnologízació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1720" y="2286000"/>
            <a:ext cx="3659400" cy="2743200"/>
          </a:xfrm>
          <a:prstGeom prst="rect">
            <a:avLst/>
          </a:prstGeom>
          <a:ln w="57240">
            <a:solidFill>
              <a:srgbClr val="cca5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1089000" y="6240600"/>
            <a:ext cx="752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5638680"/>
            <a:ext cx="8686800" cy="459720"/>
          </a:xfrm>
          <a:prstGeom prst="rect">
            <a:avLst/>
          </a:prstGeom>
          <a:solidFill>
            <a:srgbClr val="663300"/>
          </a:solidFill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inguna teoría psico-social explica el proceso de envej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46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97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¿PORQUÉ ENVEJECEMOS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teoría de la modernización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, destaca la situación actual del viejo caracterizada por ser relegado socialmente de manera considerable, siendo que en las sociedades tradicionales el viejo gozaba de un estatus elevado y era reconocido por su experiencia y sabidurí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innovaciones tecnológicas, el desarrollo industrial y los nuevos valores educativos y sociales han ido paulatinamente despojando al viejo de su estatus anterior. Los progresos en el campo de la prevención y la salud han aumentado la esperanza de vida de la población lo que ha repercutido en el mayor incremento de adultos mayores y por consecuencia, de sus necesidades sociales y de salud. Lo anterior se traduce en una mayor carga social y un deterioro en sus condiciones de vid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rcRect l="21618" t="27751" r="20437" b="12333"/>
          <a:stretch/>
        </p:blipFill>
        <p:spPr>
          <a:xfrm>
            <a:off x="1116000" y="981000"/>
            <a:ext cx="7080120" cy="5491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s del Envejecimien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14480" y="1628640"/>
            <a:ext cx="3629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i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sic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ceptos erróneos sobre la vej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4438440" cy="300204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317600" y="624060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300640"/>
            <a:ext cx="8458200" cy="1068840"/>
          </a:xfrm>
          <a:prstGeom prst="rect">
            <a:avLst/>
          </a:prstGeom>
          <a:solidFill>
            <a:srgbClr val="f8a5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inguna por sí sola explicará adecuadamente el envej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s Psicológic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05520" y="1915920"/>
            <a:ext cx="40384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 Desarro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la Ac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la Continu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016000"/>
            <a:ext cx="45464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bbd71"/>
                </a:solidFill>
                <a:latin typeface="Arial"/>
              </a:rPr>
              <a:t>TEORÍA DEL DESARROLL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Erikson 1950 Plantea la etapa de la vejez desde los 65 años en adelante, contemplando factores individuales y cultural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Su teoría menciona que la crisis esencial es </a:t>
            </a:r>
            <a:r>
              <a:rPr b="0" i="1" lang="es-ES_tradnl" sz="3200" spc="-1" strike="noStrike">
                <a:solidFill>
                  <a:srgbClr val="dbbd71"/>
                </a:solidFill>
                <a:latin typeface="Tahoma"/>
              </a:rPr>
              <a:t>integridad</a:t>
            </a:r>
            <a:r>
              <a:rPr b="0" lang="es-ES_tradnl" sz="3200" spc="-1" strike="noStrike">
                <a:solidFill>
                  <a:srgbClr val="dbbd71"/>
                </a:solidFill>
                <a:latin typeface="Tahoma"/>
              </a:rPr>
              <a:t> v/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3200" spc="-1" strike="noStrike">
                <a:solidFill>
                  <a:srgbClr val="dbbd71"/>
                </a:solidFill>
                <a:latin typeface="Tahoma"/>
              </a:rPr>
              <a:t>desesperació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05680" y="4724280"/>
            <a:ext cx="20383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1994040"/>
            <a:ext cx="71625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as principales virtudes son la </a:t>
            </a:r>
            <a:r>
              <a:rPr b="1" i="1" lang="es-ES_tradnl" sz="3000" spc="-1" strike="noStrike">
                <a:solidFill>
                  <a:srgbClr val="dbbd71"/>
                </a:solidFill>
                <a:latin typeface="Times New Roman"/>
              </a:rPr>
              <a:t>prudencia</a:t>
            </a:r>
            <a:r>
              <a:rPr b="0" i="1" lang="es-ES_tradnl" sz="30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y   la </a:t>
            </a:r>
            <a:r>
              <a:rPr b="1" i="1" lang="es-ES_tradnl" sz="3000" spc="-1" strike="noStrike">
                <a:solidFill>
                  <a:srgbClr val="dbbd71"/>
                </a:solidFill>
                <a:latin typeface="Times New Roman"/>
              </a:rPr>
              <a:t>sabiduría</a:t>
            </a: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bbd71"/>
                </a:solidFill>
                <a:latin typeface="Times New Roman"/>
              </a:rPr>
              <a:t>TEORÍA DEL DESARROL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59280" y="2997360"/>
            <a:ext cx="34560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0072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imera teoría R.W. Havighurst y R. Albrecht, 1953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ividad como base del envejecimiento salud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802240" cy="4248000"/>
          </a:xfrm>
          <a:prstGeom prst="rect">
            <a:avLst/>
          </a:prstGeom>
          <a:ln w="7632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uanto más activa se mantenga la gente anciana, podrá envejecer de manera más satisfactoria.</a:t>
            </a: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Las personas más adaptadas y que sobreviven más años en mejor estado, son aquellas que realizan más activida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Se sitúa la actividad como base del envejecimiento saludabl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visión por Lemon, Bengston y Peterson, 197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un comienzo expone que lo mas importante es estar socialmente involucrado, indiferente al tipo de actividad que se desempeñe, enfocándose en lo cuantitativo primordial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1972, Lemon propone que para el sujeto lo mas importante son las actividades que tienen sentido para él y no la actividad por sí misma, no es importante la cantidad de interacciones que mantenga si no su signif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a500"/>
                </a:solidFill>
                <a:latin typeface="Tahoma"/>
              </a:rPr>
              <a:t>No es la actividad por sí misma lo que es provechoso, sino lo que para el individuo tiene sentido.</a:t>
            </a:r>
            <a:r>
              <a:rPr b="1" lang="es-ES" sz="2000" spc="-1" strike="noStrike">
                <a:solidFill>
                  <a:srgbClr val="f8a5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53:40Z</dcterms:created>
  <dc:creator>Terapia</dc:creator>
  <dc:description/>
  <dc:language>en-US</dc:language>
  <cp:lastModifiedBy>Fac .de Medicina</cp:lastModifiedBy>
  <dcterms:modified xsi:type="dcterms:W3CDTF">2008-09-09T20:49:03Z</dcterms:modified>
  <cp:revision>44</cp:revision>
  <dc:subject/>
  <dc:title>Concepto de envejecimiento</dc:title>
</cp:coreProperties>
</file>