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F6D-34BB-4119-970B-49CF8C4E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991-A08E-449B-90EA-8AB67F32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38F-C58B-4A4F-80BB-53B51A2A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3F0-5CFC-4330-A380-160D2008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F961-C4B8-4AA9-9B62-E19BCE82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C69D-3944-4804-AEE0-045CFE7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BBEB-1CE7-45A5-8412-F782B8EF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658F-3AE7-4064-A708-5DBF6AEB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F438-6982-40C8-8EFC-57F1B8AC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C1FB-4C9F-4004-8221-02D169CD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E244-7BA1-48F5-8D6E-F6016B1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D5D-F29C-4596-8E8E-C5ACAC62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26C9-7A0B-479D-B541-081D9E14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6B5C-8BD0-4C32-935E-8FFE1205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C097-EB01-4E01-A5DB-5AF79BD7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6108-A1C4-425D-A2B8-BE198493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2C48-EB3D-4EB3-A646-0B5AEB98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438-6720-4726-95C8-94A93F15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C7E-53CC-44F4-A33A-5263543B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A6A-1159-41E5-A961-6C134FCD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CBB-2AE5-4EB7-93FF-1FDC5DD2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49E-17CE-4C33-A9E4-315469C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D50-AFD7-48E2-AE1F-255B6A5F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E9D-2FFF-486B-9BDA-69E895DE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0163-613A-4E60-8C18-184CE2EBC0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16A1-294D-4223-8670-2CB9BBC76C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Teorías Psicológicas y Sociales del Envejecimient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71780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.O Alicia Valdés Ro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3789000"/>
            <a:ext cx="795816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sar de los cambios, una alta proporción de personas mayores muestran consistencia a través del tiempo en el perfil de sus activ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2376720" cy="237636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ruptura radical entre la edad adulta y la tercera edad, se basa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aso a la vejez es una prolongación de experiencias, proyectos y hábitos de la vida. La personalidad y sistema de valores se mantienen prácticamente intac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 envejecer los individuos aprenden a utilizar  estrategias de adaptación que les ayudan a reaccionar favorablemente ante las dificultades de la v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ontinuidad sirve de base al proceso de adaptación al cambio mediante dos mecanism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impulsa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ación al camb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como meta para la adaptación (enfrentar el cambio con preservación de sus vid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2963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gún Comfort (1977), 75% de los cambios relacionados con la edad pueden ser atribuidos al envejecimiento social y son producto de nuestras creencias, prejuicios y 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77" t="7541" r="0" b="0"/>
          <a:stretch/>
        </p:blipFill>
        <p:spPr>
          <a:xfrm>
            <a:off x="5076720" y="1916280"/>
            <a:ext cx="3576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41300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vita considerar a la vejez como un fenómeno forzado a encajar en un proceso de medicaliz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mite integrar los envejecimientos desiguales, Y DIFERENCIADOS según el género, estrato social, aspectos culturales y de desarrollo económ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s Socia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353844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inc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n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6551" t="11770" r="0" b="0"/>
          <a:stretch/>
        </p:blipFill>
        <p:spPr>
          <a:xfrm>
            <a:off x="4788000" y="1484280"/>
            <a:ext cx="32256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Teoría de la Desvinculación </a:t>
            </a:r>
            <a:br>
              <a:rPr sz="4000"/>
            </a:b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o del Desapego </a:t>
            </a:r>
            <a:r>
              <a:rPr b="1" lang="es-ES" sz="2800" spc="-1" strike="noStrike">
                <a:solidFill>
                  <a:srgbClr val="dbbd71"/>
                </a:solidFill>
                <a:latin typeface="Arial"/>
              </a:rPr>
              <a:t>(Cummings, 1961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66920" y="1685520"/>
            <a:ext cx="46148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sociedad y el individuo (en forma interactiva), que envejece tienen una misma meta: la desvinculación del individuo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funcional  (prepara para la muerte y permite la sustitución generacion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14480" y="1600200"/>
            <a:ext cx="2774880" cy="47815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Desvincul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"...El envejecimiento normal se acompaña de un distanciamiento o "desvinculación" recíproco entre las personas que envejecen y los miembros del sistema social al que pertenecen -desvinculación provocada ya sea por el mismo interesado o por los otros miembros de este sistema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a la muerte como la desvinculación total, de esta manera, se considera esta etapa como el momento en que la persona reorganiza sus proyectos en función del sentido y el tiempo que le queda por viv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Subcul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vejez conlleva cierto aislamiento (por pérdid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viejos poseerían rasgos característicos  de un grupo ais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64160" y="2306520"/>
            <a:ext cx="4017960" cy="311148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sición social de los mayores es inversamente proporcional al grado de industrialización (tecnologízació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1720" y="2286000"/>
            <a:ext cx="3659400" cy="2743200"/>
          </a:xfrm>
          <a:prstGeom prst="rect">
            <a:avLst/>
          </a:prstGeom>
          <a:ln w="57240">
            <a:solidFill>
              <a:srgbClr val="cca5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1089000" y="6240600"/>
            <a:ext cx="752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638680"/>
            <a:ext cx="8686800" cy="459720"/>
          </a:xfrm>
          <a:prstGeom prst="rect">
            <a:avLst/>
          </a:prstGeom>
          <a:solidFill>
            <a:srgbClr val="663300"/>
          </a:solidFill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inguna teoría psico-social explica el proceso de envej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46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97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¿PORQUÉ ENVEJECEMOS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teoría de la modernización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, destaca la situación actual del viejo caracterizada por ser relegado socialmente de manera considerable, siendo que en las sociedades tradicionales el viejo gozaba de un estatus elevado y era reconocido por su experiencia y sabidurí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innovaciones tecnológicas, el desarrollo industrial y los nuevos valores educativos y sociales han ido paulatinamente despojando al viejo de su estatus anterior. Los progresos en el campo de la prevención y la salud han aumentado la esperanza de vida de la población lo que ha repercutido en el mayor incremento de adultos mayores y por consecuencia, de sus necesidades sociales y de salud. Lo anterior se traduce en una mayor carga social y un deterioro en sus condiciones de v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rcRect l="21618" t="27751" r="20437" b="12333"/>
          <a:stretch/>
        </p:blipFill>
        <p:spPr>
          <a:xfrm>
            <a:off x="1116000" y="981000"/>
            <a:ext cx="7080120" cy="5491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del Envejecimien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14480" y="1628640"/>
            <a:ext cx="3629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i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sic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438440" cy="300204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317600" y="624060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00640"/>
            <a:ext cx="8458200" cy="1068840"/>
          </a:xfrm>
          <a:prstGeom prst="rect">
            <a:avLst/>
          </a:prstGeom>
          <a:solidFill>
            <a:srgbClr val="f8a5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nguna por sí sola explicará adecuadamente el envej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Psicológic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05520" y="19159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 Desarro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Ac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Continu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016000"/>
            <a:ext cx="45464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L DESARROL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Erikson 1950 Plantea la etapa de la vejez desde los 65 años en adelante, contemplando factores individuales y cultural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Su teoría menciona que la crisis esencial es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integridad</a:t>
            </a:r>
            <a:r>
              <a:rPr b="0" lang="es-ES_tradnl" sz="3200" spc="-1" strike="noStrike">
                <a:solidFill>
                  <a:srgbClr val="dbbd71"/>
                </a:solidFill>
                <a:latin typeface="Tahoma"/>
              </a:rPr>
              <a:t> v/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desesperació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05680" y="4724280"/>
            <a:ext cx="2038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1994040"/>
            <a:ext cx="71625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as principales virtudes son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prudencia</a:t>
            </a:r>
            <a:r>
              <a:rPr b="0" i="1" lang="es-ES_tradnl" sz="30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y  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sabiduría</a:t>
            </a: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bbd71"/>
                </a:solidFill>
                <a:latin typeface="Times New Roman"/>
              </a:rPr>
              <a:t>TEORÍA DEL DESARROL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59280" y="2997360"/>
            <a:ext cx="34560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0072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imera teoría R.W. Havighurst y R. Albrecht, 1953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vidad como base del envejecimiento salud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02240" cy="4248000"/>
          </a:xfrm>
          <a:prstGeom prst="rect">
            <a:avLst/>
          </a:prstGeom>
          <a:ln w="7632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uanto más activa se mantenga la gente anciana, podrá envejecer de manera más satisfactoria.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s personas más adaptadas y que sobreviven más años en mejor estado, son aquellas que realizan más activida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sitúa la actividad como base del envejecimiento saludabl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visión por Lemon, Bengston y Peterson, 197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un comienzo expone que lo mas importante es estar socialmente involucrado, indiferente al tipo de actividad que se desempeñe, enfocándose en lo cuantitativo primordial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1972, Lemon propone que para el sujeto lo mas importante son las actividades que tienen sentido para él y no la actividad por sí misma, no es importante la cantidad de interacciones que mantenga si no su signif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a500"/>
                </a:solidFill>
                <a:latin typeface="Tahoma"/>
              </a:rPr>
              <a:t>No es la actividad por sí misma lo que es provechoso, sino lo que para el individuo tiene sentido.</a:t>
            </a:r>
            <a:r>
              <a:rPr b="1" lang="es-ES" sz="20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53:40Z</dcterms:created>
  <dc:creator>Terapia</dc:creator>
  <dc:description/>
  <dc:language>en-US</dc:language>
  <cp:lastModifiedBy>Fac .de Medicina</cp:lastModifiedBy>
  <dcterms:modified xsi:type="dcterms:W3CDTF">2008-09-09T20:49:03Z</dcterms:modified>
  <cp:revision>44</cp:revision>
  <dc:subject/>
  <dc:title>Concepto de envejecimiento</dc:title>
</cp:coreProperties>
</file>