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559-7822-47F7-B146-03285AC4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CAA-4920-4C0A-B1E4-F54D975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671-302F-4829-8999-2D9DC54B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759-4585-4F1F-A692-A361C427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2A0-4641-4A8F-A859-713324E5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8610-E8F0-4E3D-8DED-F181A694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0CE4-856F-4653-B822-863A78B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F7BE-080F-4044-8D53-C8E02BE1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B33C-8B7B-403F-8678-8D856E96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072-7CC7-4DFB-8170-BA220B98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F81F-48BA-4FCB-A0DA-FD02E2D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D79-6A03-4408-897B-E0A6703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13B-F7B7-41E2-888E-1378044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897-699D-4455-8F80-FBEA302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5A3-3FA7-41C0-AB80-86AE005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9F2-42A8-4717-9A51-EF8A8D87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6160-0880-4FE9-8DA8-5ACFEB39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F36-91BC-413C-B453-92D10A2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C38-C3B0-4574-9E92-9E5164B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0C-FEA5-438D-B1E4-9C94218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8C6-078D-49AD-8452-F985EC1B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9E6-B431-46DE-BCC9-786587E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2AD-391C-455E-AD64-FFDCDAD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0E8-873F-43BA-B005-C5DEDB0C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1C1F-03D9-47E5-B279-8153F0EF3F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567-0DC5-49E6-8A66-53F069EA59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eorías Psicológicas y Sociales del Envejecimient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717800"/>
            <a:ext cx="64008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.O Alicia Valdés Ro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79581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sar de los cambios, una alta proporción de personas mayores muestran consistencia a través del tiempo en el perfil de sus activ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376720" cy="237636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ruptura radical entre la edad adulta y la tercera edad, se basa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so a la vejez es una prolongación de experiencias, proyectos y hábitos de la vida. La personalidad y sistema de valores se mantienen prácticamente intac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 envejecer los individuos aprenden a utilizar  estrategias de adaptación que les ayudan a reaccionar favorablemente ante las dificultades de la v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Continu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ntinuidad sirve de base al proceso de adaptación al cambio mediante dos mecanis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impulsa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ción al camb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deseo de continuidad como meta para la adaptación (enfrentar el cambio con preservación de sus vid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963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gún Comfort (1977), 75% de los cambios relacionados con la edad pueden ser atribuidos al envejecimiento social y son producto de nuestras creencias, prejuicios y 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77" t="7541" r="0" b="0"/>
          <a:stretch/>
        </p:blipFill>
        <p:spPr>
          <a:xfrm>
            <a:off x="5076720" y="1916280"/>
            <a:ext cx="35766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dbbd71"/>
                </a:solidFill>
                <a:latin typeface="Arial"/>
              </a:rPr>
              <a:t>Teorías Sociales y Veje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41300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vita considerar a la vejez como un fenómeno forzado a encajar en un proceso de medicaliz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mite integrar los envejecimientos desiguales, Y DIFERENCIADOS según el género, estrato social, aspectos culturales y de desarrollo económ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s Socia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35384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inc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6551" t="11770" r="0" b="0"/>
          <a:stretch/>
        </p:blipFill>
        <p:spPr>
          <a:xfrm>
            <a:off x="4788000" y="1484280"/>
            <a:ext cx="32256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oría de la Desvinculación </a:t>
            </a: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o del Desapego </a:t>
            </a:r>
            <a:r>
              <a:rPr b="1" lang="es-ES" sz="2800" spc="-1" strike="noStrike">
                <a:solidFill>
                  <a:srgbClr val="dbbd71"/>
                </a:solidFill>
                <a:latin typeface="Arial"/>
              </a:rPr>
              <a:t>(Cummings, 1961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66920" y="1685520"/>
            <a:ext cx="4614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sociedad y el individuo (en forma interactiva), que envejece tienen una misma meta: la desvinculación del individuo de la socie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uncional  (prepara para la muerte y permite la sustitución generacional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14480" y="1600200"/>
            <a:ext cx="2774880" cy="4781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Desvincul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"...El envejecimiento normal se acompaña de un distanciamiento o "desvinculación" recíproco entre las personas que envejecen y los miembros del sistema social al que pertenecen -desvinculación provocada ya sea por el mismo interesado o por los otros miembros de este sistema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a la muerte como la desvinculación total, de esta manera, se considera esta etapa como el momento en que la persona reorganiza sus proyectos en función del sentido y el tiempo que le queda por viv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Subcul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ejez conlleva cierto aislamiento (por pérdid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viejos poseerían rasgos característicos  de un grupo ais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664160" y="2306520"/>
            <a:ext cx="4017960" cy="3111480"/>
          </a:xfrm>
          <a:prstGeom prst="rect">
            <a:avLst/>
          </a:prstGeom>
          <a:ln w="9360">
            <a:solidFill>
              <a:srgbClr val="cc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sición social de los mayores es inversamente proporcional al grado de industrialización (tecnologízaci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1720" y="2286000"/>
            <a:ext cx="3659400" cy="2743200"/>
          </a:xfrm>
          <a:prstGeom prst="rect">
            <a:avLst/>
          </a:prstGeom>
          <a:ln w="57240">
            <a:solidFill>
              <a:srgbClr val="cca5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089000" y="6240600"/>
            <a:ext cx="752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638680"/>
            <a:ext cx="868680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cc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nguna teoría psico-social explica el proceso de enveje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46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97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¿PORQUÉ ENVEJECEMO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teoría de la modernizació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, destaca la situación actual del viejo caracterizada por ser relegado socialmente de manera considerable, siendo que en las sociedades tradicionales el viejo gozaba de un estatus elevado y era reconocido por su experiencia y sabidurí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s innovaciones tecnológicas, el desarrollo industrial y los nuevos valores educativos y sociales han ido paulatinamente despojando al viejo de su estatus anterior. Los progresos en el campo de la prevención y la salud han aumentado la esperanza de vida de la población lo que ha repercutido en el mayor incremento de adultos mayores y por consecuencia, de sus necesidades sociales y de salud. Lo anterior se traduce en una mayor carga social y un deterioro en sus condiciones de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rcRect l="21618" t="27751" r="20437" b="12333"/>
          <a:stretch/>
        </p:blipFill>
        <p:spPr>
          <a:xfrm>
            <a:off x="1116000" y="981000"/>
            <a:ext cx="7080120" cy="5491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eoría de la Modernizació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del Envejecimien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14480" y="1628640"/>
            <a:ext cx="362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erróneos sobre la vej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4438440" cy="3002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317600" y="624060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00640"/>
            <a:ext cx="8458200" cy="1068840"/>
          </a:xfrm>
          <a:prstGeom prst="rect">
            <a:avLst/>
          </a:prstGeom>
          <a:solidFill>
            <a:srgbClr val="f8a5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nguna por sí sola explicará adecuadamente el envej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s Psicológic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05520" y="1915920"/>
            <a:ext cx="40384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Ac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la Continu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016000"/>
            <a:ext cx="45464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L DESARRO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Erikson 1950 Plantea la etapa de la vejez desde los 65 años en adelante, contemplando factores individuales y cultural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Su teoría menciona que la crisis esencial es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integridad</a:t>
            </a:r>
            <a:r>
              <a:rPr b="0" lang="es-ES_tradnl" sz="3200" spc="-1" strike="noStrike">
                <a:solidFill>
                  <a:srgbClr val="dbbd71"/>
                </a:solidFill>
                <a:latin typeface="Tahoma"/>
              </a:rPr>
              <a:t> v/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3200" spc="-1" strike="noStrike">
                <a:solidFill>
                  <a:srgbClr val="dbbd71"/>
                </a:solidFill>
                <a:latin typeface="Tahoma"/>
              </a:rPr>
              <a:t>desesperació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05680" y="4724280"/>
            <a:ext cx="2038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994040"/>
            <a:ext cx="71625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as principales virtudes son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prudencia</a:t>
            </a:r>
            <a:r>
              <a:rPr b="0" i="1" lang="es-ES_tradnl" sz="30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y   la </a:t>
            </a:r>
            <a:r>
              <a:rPr b="1" i="1" lang="es-ES_tradnl" sz="3000" spc="-1" strike="noStrike">
                <a:solidFill>
                  <a:srgbClr val="dbbd71"/>
                </a:solidFill>
                <a:latin typeface="Times New Roman"/>
              </a:rPr>
              <a:t>sabiduría</a:t>
            </a:r>
            <a:r>
              <a:rPr b="1" lang="es-ES_tradnl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bbd71"/>
                </a:solidFill>
                <a:latin typeface="Times New Roman"/>
              </a:rPr>
              <a:t>TEORÍA DEL DESARROL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3456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007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imera teoría R.W. Havighurst y R. Albrecht, 1953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 como base del envejecimiento salud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02240" cy="4248000"/>
          </a:xfrm>
          <a:prstGeom prst="rect">
            <a:avLst/>
          </a:prstGeom>
          <a:ln w="7632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Cuanto más activa se mantenga la gente anciana, podrá envejecer de manera más satisfactoria.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Las personas más adaptadas y que sobreviven más años en mejor estado, son aquellas que realizan más activida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Se sitúa la actividad como base del envejecimiento saluda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bbd71"/>
                </a:solidFill>
                <a:latin typeface="Arial"/>
              </a:rPr>
              <a:t>Teoría de la Activida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visión por Lemon, Bengston y Peterson, 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un comienzo expone que lo mas importante es estar socialmente involucrado, indiferente al tipo de actividad que se desempeñe, enfocándose en lo cuantitativo primordial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72, Lemon propone que para el sujeto lo mas importante son las actividades que tienen sentido para él y no la actividad por sí misma, no es importante la cantidad de interacciones que mantenga si no su signif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a500"/>
                </a:solidFill>
                <a:latin typeface="Tahoma"/>
              </a:rPr>
              <a:t>No es la actividad por sí misma lo que es provechoso, sino lo que para el individuo tiene sentido.</a:t>
            </a:r>
            <a:r>
              <a:rPr b="1" lang="es-E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53:40Z</dcterms:created>
  <dc:creator>Terapia</dc:creator>
  <dc:description/>
  <dc:language>en-US</dc:language>
  <cp:lastModifiedBy>Fac .de Medicina</cp:lastModifiedBy>
  <dcterms:modified xsi:type="dcterms:W3CDTF">2008-09-09T20:49:03Z</dcterms:modified>
  <cp:revision>44</cp:revision>
  <dc:subject/>
  <dc:title>Concepto de envejecimiento</dc:title>
</cp:coreProperties>
</file>