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png" ContentType="image/png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6120" y="2282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ff00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9696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9696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6120" y="2282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ff00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696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9696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88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6120" y="2282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ff00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696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508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48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9696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508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48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76120" y="2282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ff00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9696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76120" y="2282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ff00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696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6120" y="2282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ff00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696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76120" y="2282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ff00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76120" y="228240"/>
            <a:ext cx="7848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76120" y="2282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ff00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9696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9696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6120" y="2282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ff00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696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88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6120" y="2282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ff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9696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9696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00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10274400" cy="152280"/>
            <a:chOff x="0" y="1428840"/>
            <a:chExt cx="1027440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10274400" cy="74520"/>
            </a:xfrm>
            <a:prstGeom prst="rect">
              <a:avLst/>
            </a:prstGeom>
            <a:gradFill rotWithShape="0">
              <a:gsLst>
                <a:gs pos="0">
                  <a:srgbClr val="3f7e00"/>
                </a:gs>
                <a:gs pos="50000">
                  <a:srgbClr val="7fff00"/>
                </a:gs>
                <a:gs pos="100000">
                  <a:srgbClr val="3f7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10274400" cy="38160"/>
            </a:xfrm>
            <a:prstGeom prst="rect">
              <a:avLst/>
            </a:prstGeom>
            <a:gradFill rotWithShape="0">
              <a:gsLst>
                <a:gs pos="0">
                  <a:srgbClr val="965f7f"/>
                </a:gs>
                <a:gs pos="50000">
                  <a:srgbClr val="d989b8"/>
                </a:gs>
                <a:gs pos="100000">
                  <a:srgbClr val="965f7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afd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76120" y="2282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ff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7fff00"/>
              </a:solidFill>
              <a:latin typeface="Book Antiqu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9696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SzPct val="63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.wmf"/><Relationship Id="rId15" Type="http://schemas.openxmlformats.org/officeDocument/2006/relationships/image" Target="../media/image20.wmf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15640" y="333000"/>
            <a:ext cx="98233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e07a1"/>
                </a:solidFill>
                <a:latin typeface="Arial"/>
              </a:rPr>
              <a:t> </a:t>
            </a:r>
            <a:r>
              <a:rPr b="1" lang="es-MX" sz="3600" spc="-1" strike="noStrike">
                <a:solidFill>
                  <a:srgbClr val="3e07a1"/>
                </a:solidFill>
                <a:latin typeface="Arial"/>
              </a:rPr>
              <a:t>Curso de Obstetricia 1er año - 2008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e07a1"/>
                </a:solidFill>
                <a:latin typeface="Arial"/>
                <a:ea typeface="Arial"/>
              </a:rPr>
              <a:t>MODELOS: INFECCIONES RESPIRATORIAS Y DIGESTIVAS. 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246240" y="3166560"/>
            <a:ext cx="56908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e07a1"/>
                </a:solidFill>
                <a:latin typeface="Book Antiqua"/>
              </a:rPr>
              <a:t>Dr. Luis Fidel Avendaño C.</a:t>
            </a:r>
            <a:br>
              <a:rPr sz="3200"/>
            </a:br>
            <a:r>
              <a:rPr b="1" lang="es-ES_tradnl" sz="2800" spc="-1" strike="noStrike">
                <a:solidFill>
                  <a:srgbClr val="3e07a1"/>
                </a:solidFill>
                <a:latin typeface="Book Antiqua"/>
              </a:rPr>
              <a:t>lavendan@med.uchile.cl</a:t>
            </a:r>
            <a:endParaRPr b="0" lang="en-US" sz="2800" spc="-1" strike="noStrike">
              <a:solidFill>
                <a:srgbClr val="7fff00"/>
              </a:solidFill>
              <a:latin typeface="Book Antiqu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648320"/>
            <a:ext cx="98964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e07a1"/>
                </a:solidFill>
                <a:latin typeface="Times New Roman"/>
                <a:ea typeface="Arial"/>
              </a:rPr>
              <a:t>Programa de VIROLOGIA.  ICBM.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e07a1"/>
                </a:solidFill>
                <a:latin typeface="Times New Roman"/>
                <a:ea typeface="Arial"/>
              </a:rPr>
              <a:t>Facultad de Medicina. 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e07a1"/>
                </a:solidFill>
                <a:latin typeface="Times New Roman"/>
                <a:ea typeface="Arial"/>
              </a:rPr>
              <a:t>Universidad de Chile          </a:t>
            </a:r>
            <a:r>
              <a:rPr b="1" lang="es-ES_tradnl" sz="2400" spc="-1" strike="noStrike">
                <a:solidFill>
                  <a:srgbClr val="3e07a1"/>
                </a:solidFill>
                <a:latin typeface="Times New Roman"/>
                <a:ea typeface="Arial"/>
              </a:rPr>
              <a:t>Santiago, 12 Noviembre 2008</a:t>
            </a:r>
            <a:r>
              <a:rPr b="1" lang="es-ES_tradnl" sz="3200" spc="-1" strike="noStrike">
                <a:solidFill>
                  <a:srgbClr val="3e07a1"/>
                </a:solidFill>
                <a:latin typeface="Times New Roman"/>
                <a:ea typeface="Arial"/>
              </a:rPr>
              <a:t>	</a:t>
            </a:r>
            <a:r>
              <a:rPr b="1" lang="es-ES_tradnl" sz="3200" spc="-1" strike="noStrike">
                <a:solidFill>
                  <a:srgbClr val="3e07a1"/>
                </a:solidFill>
                <a:latin typeface="Times New Roman"/>
                <a:ea typeface="Arial"/>
              </a:rPr>
              <a:t>	</a:t>
            </a:r>
            <a:r>
              <a:rPr b="1" lang="es-ES_tradnl" sz="3200" spc="-1" strike="noStrike">
                <a:solidFill>
                  <a:srgbClr val="3e07a1"/>
                </a:solidFill>
                <a:latin typeface="Times New Roman"/>
                <a:ea typeface="Arial"/>
              </a:rPr>
              <a:t>	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804080" y="2851200"/>
            <a:ext cx="195588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9110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70bf3"/>
                </a:solidFill>
                <a:latin typeface="Book Antiqua"/>
              </a:rPr>
              <a:t>BIOLOGÍA DEL VIRUS  INFLUENZA</a:t>
            </a:r>
            <a:endParaRPr b="0" lang="en-US" sz="3600" spc="-1" strike="noStrike">
              <a:solidFill>
                <a:srgbClr val="7fff00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79320" y="1341360"/>
            <a:ext cx="9072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82004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2004d"/>
                </a:solidFill>
                <a:latin typeface="Arial"/>
              </a:rPr>
              <a:t>genoma:  8 segmentos de ARN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82004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2004d"/>
                </a:solidFill>
                <a:latin typeface="Arial"/>
              </a:rPr>
              <a:t>tipos A, B (variantes)  y  C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82004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2004d"/>
                </a:solidFill>
                <a:latin typeface="Arial"/>
              </a:rPr>
              <a:t>reservorio animal en influenza A: aves terrestres y acuáticas, cerdos, caballos, focas, ballenas, etc.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82004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2004d"/>
                </a:solidFill>
                <a:latin typeface="Arial"/>
              </a:rPr>
              <a:t>el virus porta una ARN polimerasa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82004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2004d"/>
                </a:solidFill>
                <a:latin typeface="Arial"/>
              </a:rPr>
              <a:t>antígenos de superficie = 15 H y  9 N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82004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2004d"/>
                </a:solidFill>
                <a:latin typeface="Arial"/>
              </a:rPr>
              <a:t>mutaciones (drift) = epidemia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82004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2004d"/>
                </a:solidFill>
                <a:latin typeface="Arial"/>
              </a:rPr>
              <a:t>recombinaciones (shift) = pandemias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458920" y="64911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2004d"/>
                </a:solidFill>
                <a:latin typeface="Arial"/>
              </a:rPr>
              <a:t>Yoyo`s 2002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8260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12ed0"/>
                </a:solidFill>
                <a:latin typeface="Book Antiqua"/>
              </a:rPr>
              <a:t>CEPAS DE VIRUS INFLUENZA DETECTADAS EN EL MUNDO</a:t>
            </a:r>
            <a:endParaRPr b="0" lang="en-US" sz="3600" spc="-1" strike="noStrike">
              <a:solidFill>
                <a:srgbClr val="7fff00"/>
              </a:solidFill>
              <a:latin typeface="Book Antiqua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112760" y="2043000"/>
          <a:ext cx="11390400" cy="443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2760" y="2043000"/>
                    <a:ext cx="11390400" cy="443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1760" y="-381240"/>
            <a:ext cx="9134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12ed0"/>
                </a:solidFill>
                <a:latin typeface="Book Antiqua"/>
              </a:rPr>
              <a:t> </a:t>
            </a:r>
            <a:r>
              <a:rPr b="1" lang="en-US" sz="3600" spc="-1" strike="noStrike">
                <a:solidFill>
                  <a:srgbClr val="412ed0"/>
                </a:solidFill>
                <a:latin typeface="Book Antiqua"/>
              </a:rPr>
              <a:t>VACUNAR  CONTRA  INFLUENZA  A:</a:t>
            </a:r>
            <a:endParaRPr b="0" lang="en-US" sz="3600" spc="-1" strike="noStrike">
              <a:solidFill>
                <a:srgbClr val="7fff00"/>
              </a:solidFill>
              <a:latin typeface="Book Antiqua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690480"/>
            <a:ext cx="9677520" cy="61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a32f4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32f48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cb2307"/>
                </a:solidFill>
                <a:latin typeface="Times New Roman"/>
              </a:rPr>
              <a:t>PERSONAS  de  65 AÑOS  o más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b230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b2307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cb2307"/>
                </a:solidFill>
                <a:latin typeface="Times New Roman"/>
              </a:rPr>
              <a:t>PORTADORES DE  ENFERMEDADES CRONICAS: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b2307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cb2307"/>
                </a:solidFill>
                <a:latin typeface="Times New Roman"/>
              </a:rPr>
              <a:t>asma, cardiopatías, diabetes, VIH, etc.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cb230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b2307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cb2307"/>
                </a:solidFill>
                <a:latin typeface="Times New Roman"/>
              </a:rPr>
              <a:t>PERSONAL  de SALUD  e  INSTITUCIONES SIMILARES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70000"/>
              </a:lnSpc>
              <a:buClr>
                <a:srgbClr val="a32f4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27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2764c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42764c"/>
                </a:solidFill>
                <a:latin typeface="Times New Roman"/>
              </a:rPr>
              <a:t>CUALQUIERA que  desee NO  ENFERMARSE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27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2764c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42764c"/>
                </a:solidFill>
                <a:latin typeface="Times New Roman"/>
              </a:rPr>
              <a:t>EMBARAZADAS que vayan a estar en 3er TRIMESTRE 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2764c"/>
                </a:solidFill>
                <a:latin typeface="Times New Roman"/>
              </a:rPr>
              <a:t>  </a:t>
            </a:r>
            <a:r>
              <a:rPr b="1" lang="es-ES" sz="2800" spc="-1" strike="noStrike">
                <a:solidFill>
                  <a:srgbClr val="42764c"/>
                </a:solidFill>
                <a:latin typeface="Times New Roman"/>
              </a:rPr>
              <a:t>de EMBARAZO durante la EPIDEMIA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27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2764c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42764c"/>
                </a:solidFill>
                <a:latin typeface="Times New Roman"/>
              </a:rPr>
              <a:t>¿PRE-ESCOLARES Y ESCOLARES?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12ed0"/>
                </a:solidFill>
                <a:latin typeface="Times New Roman"/>
              </a:rPr>
              <a:t>OBJETIVO: PREVENIR LA MORTALIDAD, NO LA DIFUSION DE LA EPIDEMIA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32f48"/>
                </a:solidFill>
                <a:latin typeface="Times New Roman"/>
              </a:rPr>
              <a:t>Prevention and Control of Influenza MMWR 1998 (May); Vol 47/ No. RR-6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12320" y="4042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Book Antiqua"/>
              </a:rPr>
              <a:t>VACUNA ANTI INFLUENZA “VARIANTES  DE  MODA”</a:t>
            </a:r>
            <a:endParaRPr b="0" lang="en-US" sz="3200" spc="-1" strike="noStrike">
              <a:solidFill>
                <a:srgbClr val="7fff00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7240" y="1557360"/>
            <a:ext cx="9599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cc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0099"/>
                </a:solidFill>
                <a:latin typeface="Arial"/>
              </a:rPr>
              <a:t>2001-2002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99"/>
                </a:solidFill>
                <a:latin typeface="Arial"/>
              </a:rPr>
              <a:t>- A/ Moscow/10/99 (H3N2) </a:t>
            </a:r>
            <a:r>
              <a:rPr b="1" lang="es-ES_tradnl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003399"/>
                </a:solidFill>
                <a:latin typeface="Arial"/>
              </a:rPr>
              <a:t>          15 ug HA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99"/>
                </a:solidFill>
                <a:latin typeface="Arial"/>
              </a:rPr>
              <a:t>- A/ New Caledonia /20/99 (H1N1)      id.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263880" indent="-263880">
              <a:spcBef>
                <a:spcPts val="799"/>
              </a:spcBef>
              <a:buClr>
                <a:srgbClr val="fafd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99"/>
                </a:solidFill>
                <a:latin typeface="Arial"/>
              </a:rPr>
              <a:t>B/ Sichuan /379/99                        15 ug. HA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263880" indent="-263880">
              <a:spcBef>
                <a:spcPts val="799"/>
              </a:spcBef>
              <a:buClr>
                <a:srgbClr val="cc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0099"/>
                </a:solidFill>
                <a:latin typeface="Arial"/>
              </a:rPr>
              <a:t>2008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99"/>
                </a:solidFill>
                <a:latin typeface="Arial"/>
              </a:rPr>
              <a:t>- A/Brisbane/10/2007 (H3N2)           15ug. HA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99"/>
                </a:solidFill>
                <a:latin typeface="Arial"/>
              </a:rPr>
              <a:t>- A/Solomon Islands/3/2006 (H1N1)     id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99"/>
                </a:solidFill>
                <a:latin typeface="Arial"/>
              </a:rPr>
              <a:t>- B/Florida/4/2006                              15ug. HA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c00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Book Antiqua"/>
              </a:rPr>
              <a:t>VIGILANCIA de VRS en LACTANTES hospitalizados por IRAB . </a:t>
            </a:r>
            <a:br>
              <a:rPr sz="2400"/>
            </a:br>
            <a:r>
              <a:rPr b="1" lang="es-ES" sz="2400" spc="-1" strike="noStrike">
                <a:solidFill>
                  <a:srgbClr val="ffff00"/>
                </a:solidFill>
                <a:latin typeface="Book Antiqua"/>
              </a:rPr>
              <a:t>Santiago,  Hosp. R. del Río.  1992-200</a:t>
            </a:r>
            <a:r>
              <a:rPr b="1" lang="es-ES_tradnl" sz="2400" spc="-1" strike="noStrike">
                <a:solidFill>
                  <a:srgbClr val="ffff00"/>
                </a:solidFill>
                <a:latin typeface="Book Antiqua"/>
              </a:rPr>
              <a:t>4</a:t>
            </a:r>
            <a:r>
              <a:rPr b="1" lang="es-ES" sz="2400" spc="-1" strike="noStrike">
                <a:solidFill>
                  <a:srgbClr val="ffff00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7fff00"/>
              </a:solidFill>
              <a:latin typeface="Book Antiqua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444600" y="838080"/>
          <a:ext cx="9158040" cy="601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838080"/>
                    <a:ext cx="915804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7588800" y="6093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afd00"/>
                </a:solidFill>
                <a:latin typeface="Arial"/>
              </a:rPr>
              <a:t>Yoyo`s 2005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6120" y="2282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70bf3"/>
                </a:solidFill>
                <a:latin typeface="Book Antiqua"/>
              </a:rPr>
              <a:t>VRS: EPIDEMIOLOGIA</a:t>
            </a:r>
            <a:endParaRPr b="0" lang="en-US" sz="4000" spc="-1" strike="noStrike">
              <a:solidFill>
                <a:srgbClr val="7fff00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0240" y="1844640"/>
            <a:ext cx="9536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004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2004d"/>
                </a:solidFill>
                <a:latin typeface="Arial"/>
              </a:rPr>
              <a:t>El hombre: único reservorio de VRS humano.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004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2004d"/>
                </a:solidFill>
                <a:latin typeface="Arial"/>
              </a:rPr>
              <a:t>Estaciones frías:  mayo a septiembre,   en la comunidad y en  hospitales.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004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2004d"/>
                </a:solidFill>
                <a:latin typeface="Arial"/>
              </a:rPr>
              <a:t>Infección más sintomática bajo 1 año.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004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2004d"/>
                </a:solidFill>
                <a:latin typeface="Arial"/>
              </a:rPr>
              <a:t>Infecciones nosocomiales benignas. 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004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2004d"/>
                </a:solidFill>
                <a:latin typeface="Arial"/>
              </a:rPr>
              <a:t>Detectar  “factores de riesgo de   severidad”.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155800" y="60958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2004d"/>
                </a:solidFill>
                <a:latin typeface="Arial"/>
              </a:rPr>
              <a:t>Yoyo`s 2002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76120" y="2282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70bf3"/>
                </a:solidFill>
                <a:latin typeface="Book Antiqua"/>
              </a:rPr>
              <a:t>EPIDEMIOLOGIA DEL VRS</a:t>
            </a:r>
            <a:endParaRPr b="0" lang="en-US" sz="4400" spc="-1" strike="noStrike">
              <a:solidFill>
                <a:srgbClr val="7fff00"/>
              </a:solidFill>
              <a:latin typeface="Book Antiqu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3680" y="198072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004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2004d"/>
                </a:solidFill>
                <a:latin typeface="Arial"/>
              </a:rPr>
              <a:t>El 50-68% de los niños se infectan con VRS en el primer año de vida; al segundo cumpleaños virtualmente todos se han contagiado.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004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2004d"/>
                </a:solidFill>
                <a:latin typeface="Arial"/>
              </a:rPr>
              <a:t>La tasa de ataque depende de  la exposición  y la inmunidad: en salas cunas se contagia el 98% de los expuestos por primera vez.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40360" y="3017880"/>
            <a:ext cx="17673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308080" y="64911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afd00"/>
                </a:solidFill>
                <a:latin typeface="Arial"/>
              </a:rPr>
              <a:t>Yoyo`s 2002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66600" y="333000"/>
            <a:ext cx="8791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70bf3"/>
                </a:solidFill>
                <a:latin typeface="Book Antiqua"/>
              </a:rPr>
              <a:t>VRS: RIESGO DE INFECCION GRAVE</a:t>
            </a:r>
            <a:endParaRPr b="0" lang="en-US" sz="3600" spc="-1" strike="noStrike">
              <a:solidFill>
                <a:srgbClr val="7fff00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7680" y="162864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82004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82004d"/>
                </a:solidFill>
                <a:latin typeface="Arial"/>
              </a:rPr>
              <a:t> </a:t>
            </a:r>
            <a:r>
              <a:rPr b="1" lang="es-ES_tradnl" sz="3600" spc="-1" strike="noStrike">
                <a:solidFill>
                  <a:srgbClr val="82004d"/>
                </a:solidFill>
                <a:latin typeface="Arial"/>
              </a:rPr>
              <a:t>Cardiopatías con hipertensión pulmonar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2004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82004d"/>
                </a:solidFill>
                <a:latin typeface="Arial"/>
              </a:rPr>
              <a:t> </a:t>
            </a:r>
            <a:r>
              <a:rPr b="1" lang="es-ES_tradnl" sz="3600" spc="-1" strike="noStrike">
                <a:solidFill>
                  <a:srgbClr val="82004d"/>
                </a:solidFill>
                <a:latin typeface="Arial"/>
              </a:rPr>
              <a:t>Prematuridad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2004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82004d"/>
                </a:solidFill>
                <a:latin typeface="Arial"/>
              </a:rPr>
              <a:t> </a:t>
            </a:r>
            <a:r>
              <a:rPr b="1" lang="es-ES_tradnl" sz="3600" spc="-1" strike="noStrike">
                <a:solidFill>
                  <a:srgbClr val="82004d"/>
                </a:solidFill>
                <a:latin typeface="Arial"/>
              </a:rPr>
              <a:t>Displasia  broncopulmonar 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2004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82004d"/>
                </a:solidFill>
                <a:latin typeface="Arial"/>
              </a:rPr>
              <a:t> </a:t>
            </a:r>
            <a:r>
              <a:rPr b="1" lang="es-ES_tradnl" sz="3600" spc="-1" strike="noStrike">
                <a:solidFill>
                  <a:srgbClr val="82004d"/>
                </a:solidFill>
                <a:latin typeface="Arial"/>
              </a:rPr>
              <a:t>Inmunosuprimidos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2004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82004d"/>
                </a:solidFill>
                <a:latin typeface="Arial"/>
              </a:rPr>
              <a:t>¿ Lactantes de 6 a 12 semanas de edad o de menos de 5 Kg?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079480" y="61722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2004d"/>
                </a:solidFill>
                <a:latin typeface="Arial"/>
              </a:rPr>
              <a:t>Yoyo`s 2002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624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70bf3"/>
                </a:solidFill>
                <a:latin typeface="Book Antiqua"/>
              </a:rPr>
              <a:t>PREVENCION de VRS</a:t>
            </a:r>
            <a:endParaRPr b="0" lang="en-US" sz="4000" spc="-1" strike="noStrike">
              <a:solidFill>
                <a:srgbClr val="7fff00"/>
              </a:solidFill>
              <a:latin typeface="Book Antiqu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7320" y="1268280"/>
            <a:ext cx="9720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82004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2004d"/>
                </a:solidFill>
                <a:latin typeface="Book Antiqua"/>
              </a:rPr>
              <a:t>No se dispone de vacunas.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82004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2004d"/>
                </a:solidFill>
                <a:latin typeface="Book Antiqua"/>
              </a:rPr>
              <a:t>La alta contagiosidad hace inefectivas las medidas profilácticas para la población general.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82004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2004d"/>
                </a:solidFill>
                <a:latin typeface="Book Antiqua"/>
              </a:rPr>
              <a:t>Nacer en “Primavera”… ecológicamente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82004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2004d"/>
                </a:solidFill>
                <a:latin typeface="Book Antiqua"/>
              </a:rPr>
              <a:t>Para prevenir infecciones nosocomiales es importante el lavado de manos y control de fomite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82004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2004d"/>
                </a:solidFill>
                <a:latin typeface="Book Antiqua"/>
              </a:rPr>
              <a:t>Población alto riesgo: Monoclonales          </a:t>
            </a:r>
            <a:r>
              <a:rPr b="1" lang="es-ES_tradnl" sz="3200" spc="-1" strike="noStrike">
                <a:solidFill>
                  <a:srgbClr val="82004d"/>
                </a:solidFill>
                <a:latin typeface="Book Antiqua"/>
              </a:rPr>
              <a:t>	</a:t>
            </a:r>
            <a:r>
              <a:rPr b="1" lang="es-ES_tradnl" sz="3200" spc="-1" strike="noStrike">
                <a:solidFill>
                  <a:srgbClr val="82004d"/>
                </a:solidFill>
                <a:latin typeface="Book Antiqua"/>
              </a:rPr>
              <a:t>	</a:t>
            </a:r>
            <a:r>
              <a:rPr b="1" lang="es-ES_tradnl" sz="3200" spc="-1" strike="noStrike">
                <a:solidFill>
                  <a:srgbClr val="82004d"/>
                </a:solidFill>
                <a:latin typeface="Book Antiqua"/>
              </a:rPr>
              <a:t>	</a:t>
            </a:r>
            <a:r>
              <a:rPr b="1" lang="es-ES_tradnl" sz="3200" spc="-1" strike="noStrike">
                <a:solidFill>
                  <a:srgbClr val="82004d"/>
                </a:solidFill>
                <a:latin typeface="Book Antiqua"/>
              </a:rPr>
              <a:t>	</a:t>
            </a:r>
            <a:r>
              <a:rPr b="1" lang="es-ES_tradnl" sz="3200" spc="-1" strike="noStrike">
                <a:solidFill>
                  <a:srgbClr val="82004d"/>
                </a:solidFill>
                <a:latin typeface="Book Antiqua"/>
              </a:rPr>
              <a:t>	</a:t>
            </a:r>
            <a:r>
              <a:rPr b="1" lang="es-ES_tradnl" sz="3200" spc="-1" strike="noStrike">
                <a:solidFill>
                  <a:srgbClr val="82004d"/>
                </a:solidFill>
                <a:latin typeface="Book Antiqua"/>
              </a:rPr>
              <a:t>	</a:t>
            </a:r>
            <a:r>
              <a:rPr b="1" lang="es-ES_tradnl" sz="3200" spc="-1" strike="noStrike">
                <a:solidFill>
                  <a:srgbClr val="82004d"/>
                </a:solidFill>
                <a:latin typeface="Book Antiqua"/>
              </a:rPr>
              <a:t>	</a:t>
            </a:r>
            <a:r>
              <a:rPr b="1" lang="es-ES_tradnl" sz="3200" spc="-1" strike="noStrike">
                <a:solidFill>
                  <a:srgbClr val="82004d"/>
                </a:solidFill>
                <a:latin typeface="Book Antiqua"/>
              </a:rPr>
              <a:t>(Palivizumab)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49520" y="62308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2004d"/>
                </a:solidFill>
                <a:latin typeface="Arial"/>
              </a:rPr>
              <a:t>Yoyo`s 2002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66600" y="333000"/>
            <a:ext cx="8791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70bf3"/>
                </a:solidFill>
                <a:latin typeface="Book Antiqua"/>
              </a:rPr>
              <a:t>OTROS VIRUS TRANSMITIDOS </a:t>
            </a:r>
            <a:br>
              <a:rPr sz="3600"/>
            </a:br>
            <a:r>
              <a:rPr b="1" lang="es-ES_tradnl" sz="3600" spc="-1" strike="noStrike">
                <a:solidFill>
                  <a:srgbClr val="370bf3"/>
                </a:solidFill>
                <a:latin typeface="Book Antiqua"/>
              </a:rPr>
              <a:t>por VIA RESPIRATORIA</a:t>
            </a:r>
            <a:endParaRPr b="0" lang="en-US" sz="3600" spc="-1" strike="noStrike">
              <a:solidFill>
                <a:srgbClr val="7fff00"/>
              </a:solidFill>
              <a:latin typeface="Book Antiqu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4600" y="1989000"/>
            <a:ext cx="9752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004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2004d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82004d"/>
                </a:solidFill>
                <a:latin typeface="Arial"/>
              </a:rPr>
              <a:t>Exantemas: sarampión, rubéola, varicela, etc.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004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2004d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82004d"/>
                </a:solidFill>
                <a:latin typeface="Arial"/>
              </a:rPr>
              <a:t>Herpesvirus: herpes simplex, CMV,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2004d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82004d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82004d"/>
                </a:solidFill>
                <a:latin typeface="Arial"/>
              </a:rPr>
              <a:t>Epstein Barr, Herpes 6, etc.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004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2004d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82004d"/>
                </a:solidFill>
                <a:latin typeface="Arial"/>
              </a:rPr>
              <a:t>Parotiditis, enterovirus, ¿rotavirus?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004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2004d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82004d"/>
                </a:solidFill>
                <a:latin typeface="Arial"/>
              </a:rPr>
              <a:t>Hantaviru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079480" y="61722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2004d"/>
                </a:solidFill>
                <a:latin typeface="Arial"/>
              </a:rPr>
              <a:t>Yoyo`s 2005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64520" y="1066680"/>
            <a:ext cx="262224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660033"/>
                </a:solidFill>
                <a:latin typeface="Times New Roman"/>
              </a:rPr>
              <a:t>   </a:t>
            </a:r>
            <a:r>
              <a:rPr b="1" lang="es-ES" sz="3200" spc="-1" strike="noStrike">
                <a:solidFill>
                  <a:srgbClr val="660033"/>
                </a:solidFill>
                <a:latin typeface="Times New Roman"/>
              </a:rPr>
              <a:t>VIRU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33"/>
                </a:solidFill>
                <a:latin typeface="Times New Roman"/>
              </a:rPr>
              <a:t>2000 millones año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33"/>
                </a:solidFill>
                <a:latin typeface="Times New Roman"/>
              </a:rPr>
              <a:t>SILVESTR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660033"/>
                </a:solidFill>
                <a:latin typeface="Times New Roman"/>
              </a:rPr>
              <a:t>serotipo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660033"/>
                </a:solidFill>
                <a:latin typeface="Times New Roman"/>
              </a:rPr>
              <a:t>genotipo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660033"/>
                </a:solidFill>
                <a:latin typeface="Times New Roman"/>
              </a:rPr>
              <a:t>cepa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660033"/>
                </a:solidFill>
                <a:latin typeface="Times New Roman"/>
              </a:rPr>
              <a:t>dosis infectant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33"/>
                </a:solidFill>
                <a:latin typeface="Times New Roman"/>
              </a:rPr>
              <a:t>VACUN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660033"/>
                </a:solidFill>
                <a:latin typeface="Times New Roman"/>
              </a:rPr>
              <a:t>inactivado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660033"/>
                </a:solidFill>
                <a:latin typeface="Times New Roman"/>
              </a:rPr>
              <a:t>atenuado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660033"/>
                </a:solidFill>
                <a:latin typeface="Times New Roman"/>
              </a:rPr>
              <a:t>bioingenierí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90720" y="1905120"/>
            <a:ext cx="3519720" cy="38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9900"/>
                </a:solidFill>
                <a:latin typeface="Times New Roman"/>
              </a:rPr>
              <a:t>    </a:t>
            </a:r>
            <a:r>
              <a:rPr b="1" lang="es-ES" sz="3200" spc="-1" strike="noStrike">
                <a:solidFill>
                  <a:srgbClr val="009900"/>
                </a:solidFill>
                <a:latin typeface="Times New Roman"/>
              </a:rPr>
              <a:t>AMBIENTE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9900"/>
                </a:solidFill>
                <a:latin typeface="Times New Roman"/>
              </a:rPr>
              <a:t>       </a:t>
            </a:r>
            <a:r>
              <a:rPr b="1" lang="es-ES" sz="2400" spc="-1" strike="noStrike">
                <a:solidFill>
                  <a:srgbClr val="009900"/>
                </a:solidFill>
                <a:latin typeface="Times New Roman"/>
              </a:rPr>
              <a:t>4600 millones año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9900"/>
                </a:solidFill>
                <a:latin typeface="Times New Roman"/>
              </a:rPr>
              <a:t>GEOGRAFIA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00"/>
                </a:solidFill>
                <a:latin typeface="Times New Roman"/>
              </a:rPr>
              <a:t>CLIMA: frío, lluvias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00"/>
                </a:solidFill>
                <a:latin typeface="Times New Roman"/>
              </a:rPr>
              <a:t>CONTAMINACION AEREA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00"/>
                </a:solidFill>
                <a:latin typeface="Times New Roman"/>
              </a:rPr>
              <a:t>URBANO (70%) - RURAL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00"/>
                </a:solidFill>
                <a:latin typeface="Times New Roman"/>
              </a:rPr>
              <a:t>HOSPITAL - COMUNIDAD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00"/>
                </a:solidFill>
                <a:latin typeface="Times New Roman"/>
              </a:rPr>
              <a:t>JARDIN - COLEGIO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00"/>
                </a:solidFill>
                <a:latin typeface="Times New Roman"/>
              </a:rPr>
              <a:t>DOMICILIO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75320" y="981000"/>
            <a:ext cx="3388320" cy="54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70bf3"/>
                </a:solidFill>
                <a:latin typeface="Times New Roman"/>
              </a:rPr>
              <a:t> </a:t>
            </a:r>
            <a:r>
              <a:rPr b="1" lang="es-ES" sz="3200" spc="-1" strike="noStrike">
                <a:solidFill>
                  <a:srgbClr val="370bf3"/>
                </a:solidFill>
                <a:latin typeface="Times New Roman"/>
              </a:rPr>
              <a:t>HUESPED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70bf3"/>
                </a:solidFill>
                <a:latin typeface="Times New Roman"/>
              </a:rPr>
              <a:t>HOMBRE...</a:t>
            </a:r>
            <a:r>
              <a:rPr b="1" lang="es-ES" sz="2000" spc="-1" strike="noStrike">
                <a:solidFill>
                  <a:srgbClr val="370bf3"/>
                </a:solidFill>
                <a:latin typeface="Times New Roman"/>
              </a:rPr>
              <a:t>y mujer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0bf3"/>
                </a:solidFill>
                <a:latin typeface="Times New Roman"/>
              </a:rPr>
              <a:t>    </a:t>
            </a:r>
            <a:r>
              <a:rPr b="1" lang="es-ES" sz="2400" spc="-1" strike="noStrike">
                <a:solidFill>
                  <a:srgbClr val="370bf3"/>
                </a:solidFill>
                <a:latin typeface="Times New Roman"/>
              </a:rPr>
              <a:t>6 millones  años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70bf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70bf3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370bf3"/>
                </a:solidFill>
                <a:latin typeface="Times New Roman"/>
              </a:rPr>
              <a:t>eda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70bf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70bf3"/>
                </a:solidFill>
                <a:latin typeface="Times New Roman"/>
              </a:rPr>
              <a:t>  </a:t>
            </a:r>
            <a:r>
              <a:rPr b="1" lang="es-ES" sz="2400" spc="-1" strike="noStrike">
                <a:solidFill>
                  <a:srgbClr val="370bf3"/>
                </a:solidFill>
                <a:latin typeface="Times New Roman"/>
              </a:rPr>
              <a:t>enfermedades previas</a:t>
            </a:r>
            <a:r>
              <a:rPr b="0" lang="es-ES" sz="2400" spc="-1" strike="noStrike">
                <a:solidFill>
                  <a:srgbClr val="370bf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70bf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70bf3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370bf3"/>
                </a:solidFill>
                <a:latin typeface="Times New Roman"/>
              </a:rPr>
              <a:t>inmunocompetenci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70bf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70bf3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370bf3"/>
                </a:solidFill>
                <a:latin typeface="Times New Roman"/>
              </a:rPr>
              <a:t>vacunacione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70bf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70bf3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370bf3"/>
                </a:solidFill>
                <a:latin typeface="Times New Roman"/>
              </a:rPr>
              <a:t>educación, costumbre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70bf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70bf3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370bf3"/>
                </a:solidFill>
                <a:latin typeface="Times New Roman"/>
              </a:rPr>
              <a:t>activida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70bf3"/>
                </a:solidFill>
                <a:latin typeface="Times New Roman"/>
              </a:rPr>
              <a:t>ANIMALE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70bf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70bf3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370bf3"/>
                </a:solidFill>
                <a:latin typeface="Times New Roman"/>
              </a:rPr>
              <a:t>doméstico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70bf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70bf3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370bf3"/>
                </a:solidFill>
                <a:latin typeface="Times New Roman"/>
              </a:rPr>
              <a:t>silvestre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1080" y="352440"/>
            <a:ext cx="85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0bf3"/>
                </a:solidFill>
                <a:latin typeface="Times New Roman"/>
              </a:rPr>
              <a:t>INFECCIONES VIRALES: PATOGENIA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71120" y="-1004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0bf3"/>
                </a:solidFill>
                <a:latin typeface="Book Antiqua"/>
              </a:rPr>
              <a:t>VIRUS de transmisión FECAL-ORAL</a:t>
            </a:r>
            <a:endParaRPr b="0" lang="en-US" sz="3600" spc="-1" strike="noStrike">
              <a:solidFill>
                <a:srgbClr val="7fff00"/>
              </a:solidFill>
              <a:latin typeface="Book Antiqu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91640" y="836640"/>
            <a:ext cx="9176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2000"/>
          </a:bodyPr>
          <a:p>
            <a:pPr marL="246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70bf3"/>
                </a:solidFill>
                <a:latin typeface="Arial"/>
              </a:rPr>
              <a:t>HEPATITIS   Virus de hepatitis A (frecuente)  y  E 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marL="246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70bf3"/>
                </a:solidFill>
                <a:latin typeface="Arial"/>
              </a:rPr>
              <a:t>DIARREAS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marL="246960" indent="-246960">
              <a:spcBef>
                <a:spcPts val="700"/>
              </a:spcBef>
              <a:buClr>
                <a:srgbClr val="82004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70bf3"/>
                </a:solidFill>
                <a:latin typeface="Arial"/>
              </a:rPr>
              <a:t>Rotavirus: grupos A , serotipos 1 a 4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marL="246960" indent="-246960">
              <a:spcBef>
                <a:spcPts val="700"/>
              </a:spcBef>
              <a:buClr>
                <a:srgbClr val="82004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70bf3"/>
                </a:solidFill>
                <a:latin typeface="Arial"/>
              </a:rPr>
              <a:t>Calicivirus:  grupos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marL="246960" indent="-246960">
              <a:spcBef>
                <a:spcPts val="700"/>
              </a:spcBef>
              <a:buClr>
                <a:srgbClr val="82004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70bf3"/>
                </a:solidFill>
                <a:latin typeface="Arial"/>
              </a:rPr>
              <a:t>Astrovirus: 7 serotipos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marL="246960" indent="-246960">
              <a:spcBef>
                <a:spcPts val="700"/>
              </a:spcBef>
              <a:buClr>
                <a:srgbClr val="82004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70bf3"/>
                </a:solidFill>
                <a:latin typeface="Arial"/>
              </a:rPr>
              <a:t>Adenovirus entéricos: serotipos 40, 41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marL="246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70bf3"/>
                </a:solidFill>
                <a:latin typeface="Arial"/>
              </a:rPr>
              <a:t>SISTEMICAS (SNC, piel)  Enterovirus &gt; 80 serotipos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marL="246960" indent="-246960">
              <a:spcBef>
                <a:spcPts val="700"/>
              </a:spcBef>
              <a:buClr>
                <a:srgbClr val="82004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70bf3"/>
                </a:solidFill>
                <a:latin typeface="Arial"/>
              </a:rPr>
              <a:t>Poliovirus               : 1, 2, 3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marL="246960" indent="-246960">
              <a:spcBef>
                <a:spcPts val="700"/>
              </a:spcBef>
              <a:buClr>
                <a:srgbClr val="82004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70bf3"/>
                </a:solidFill>
                <a:latin typeface="Arial"/>
              </a:rPr>
              <a:t>ECHO                      : (30 serotipos)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marL="246960" indent="-246960">
              <a:spcBef>
                <a:spcPts val="700"/>
              </a:spcBef>
              <a:buClr>
                <a:srgbClr val="82004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70bf3"/>
                </a:solidFill>
                <a:latin typeface="Arial"/>
              </a:rPr>
              <a:t>Coxsackievirus      : A (23) -  B (6)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marL="246960" indent="-246960">
              <a:spcBef>
                <a:spcPts val="700"/>
              </a:spcBef>
              <a:buClr>
                <a:srgbClr val="82004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70bf3"/>
                </a:solidFill>
                <a:latin typeface="Arial"/>
              </a:rPr>
              <a:t>Enterovirus            : 68 - 71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marL="246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077320" y="6494400"/>
            <a:ext cx="1368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cc"/>
                </a:solidFill>
                <a:latin typeface="Times New Roman"/>
              </a:rPr>
              <a:t>Yoyo´s 2005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200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1674720" y="1555920"/>
          <a:ext cx="6940800" cy="479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4720" y="1555920"/>
                    <a:ext cx="6940800" cy="47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1349280" y="85680"/>
            <a:ext cx="79218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7fff00"/>
                </a:solidFill>
                <a:latin typeface="Times New Roman"/>
              </a:rPr>
              <a:t>LAS 10 PRINCIPALES CAUSAS INFECCIOSAS 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7fff00"/>
                </a:solidFill>
                <a:latin typeface="Times New Roman"/>
              </a:rPr>
              <a:t>DE MUERTE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607080" y="6350040"/>
            <a:ext cx="3395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fafd00"/>
                </a:solidFill>
                <a:latin typeface="Times New Roman"/>
              </a:rPr>
              <a:t>(ASM  News 1996; 62 (9):451)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93400" y="3865680"/>
            <a:ext cx="1620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IRA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4,4 M.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41320" y="6227640"/>
            <a:ext cx="2197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Diarreas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3,1 M.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1480" y="4444920"/>
            <a:ext cx="1456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TBC 3,1 M.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2590920"/>
            <a:ext cx="2414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Malaria  2,1 M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o  Paludismo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73680" y="1701720"/>
            <a:ext cx="1620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fafd00"/>
                </a:solidFill>
                <a:latin typeface="Times New Roman"/>
              </a:rPr>
              <a:t>Hep.B 1,1 M.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61920" y="1092240"/>
            <a:ext cx="14068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HIV/SIDA 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&gt;1M.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89840" y="1092240"/>
            <a:ext cx="13852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Sarampión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&gt;1 M.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658920" y="1549440"/>
            <a:ext cx="2798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Tétanos neonatal 0,5 M.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315200" y="1854360"/>
            <a:ext cx="2286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fafd00"/>
                </a:solidFill>
                <a:latin typeface="Times New Roman"/>
              </a:rPr>
              <a:t>Coqueluche 0,35M</a:t>
            </a:r>
            <a:r>
              <a:rPr b="0" lang="es-ES" sz="2000" spc="-1" strike="noStrike">
                <a:solidFill>
                  <a:srgbClr val="fafd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592040" y="2133720"/>
            <a:ext cx="27007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Parasitosis intestinales 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0,165M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200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3417840" y="1733400"/>
          <a:ext cx="3792600" cy="165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7840" y="1733400"/>
                    <a:ext cx="3792600" cy="16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860040" y="244440"/>
            <a:ext cx="852696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MUERTES POR ENFERMEDADES INFECCIOSAS, 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ESTIMACIONES  1995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19560" y="1235160"/>
            <a:ext cx="39823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uertes totales ( 51,9 M)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00400" y="1967040"/>
            <a:ext cx="21063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Otras causas: 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67% </a:t>
            </a: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 (34,6 M)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081560" y="2805120"/>
            <a:ext cx="24962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Times New Roman"/>
              </a:rPr>
              <a:t>Enfs. infecciosas: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ff00"/>
                </a:solidFill>
                <a:latin typeface="Times New Roman"/>
              </a:rPr>
              <a:t>33%     (17,3 M)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887440" y="6310440"/>
            <a:ext cx="3941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ASM News 1996; 62 (9): 451.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6681600" y="3056040"/>
            <a:ext cx="183960" cy="166212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95760" y="2903400"/>
            <a:ext cx="412560" cy="173844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952800" y="3730680"/>
          <a:ext cx="3051360" cy="308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0" y="3730680"/>
                    <a:ext cx="3051360" cy="30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3650760" y="3552840"/>
            <a:ext cx="3867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odo de transmisión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5753160" y="4795920"/>
            <a:ext cx="1270080" cy="8712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259040" y="4253040"/>
            <a:ext cx="25696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ersona a person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 65%)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2480760" y="5181480"/>
            <a:ext cx="207036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3040" y="4710240"/>
            <a:ext cx="22831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limentos, agu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22%)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767040" y="5418000"/>
            <a:ext cx="1812960" cy="44316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38560" y="5929200"/>
            <a:ext cx="27234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icadura de insecto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13%)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53280" y="5410080"/>
            <a:ext cx="66996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179120" y="5243400"/>
            <a:ext cx="26640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rdedura animal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0.3%)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448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0bf3"/>
                </a:solidFill>
                <a:latin typeface="Book Antiqua"/>
              </a:rPr>
              <a:t>PATOGENIA  DE VIROSIS ENTERICAS</a:t>
            </a:r>
            <a:endParaRPr b="0" lang="en-US" sz="3600" spc="-1" strike="noStrike">
              <a:solidFill>
                <a:srgbClr val="7fff00"/>
              </a:solidFill>
              <a:latin typeface="Book Antiqu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85400" y="1628640"/>
            <a:ext cx="10287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82004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2004d"/>
                </a:solidFill>
                <a:latin typeface="Arial"/>
              </a:rPr>
              <a:t>TRANSMISION:  INDIRECTO, persona a persona,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2004d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82004d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82004d"/>
                </a:solidFill>
                <a:latin typeface="Arial"/>
              </a:rPr>
              <a:t>por CICLO CORTO (deposiciones – mano – boca)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2004d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82004d"/>
                </a:solidFill>
                <a:latin typeface="Arial"/>
              </a:rPr>
              <a:t>por CICLO LARGO (heces – agua y/o alimentos – boca)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1160" indent="-281160">
              <a:lnSpc>
                <a:spcPct val="20000"/>
              </a:lnSpc>
              <a:spcBef>
                <a:spcPts val="601"/>
              </a:spcBef>
              <a:buClr>
                <a:srgbClr val="82004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82004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2004d"/>
                </a:solidFill>
                <a:latin typeface="Arial"/>
              </a:rPr>
              <a:t>PUERTA  DE  ENTRADA  = boca – faringe        intestino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82004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2004d"/>
                </a:solidFill>
                <a:latin typeface="Arial"/>
              </a:rPr>
              <a:t>DISEMINACION LOCAL y SISTEMICA (algunas): </a:t>
            </a:r>
            <a:r>
              <a:rPr b="1" lang="es-ES" sz="2000" spc="-1" strike="noStrike">
                <a:solidFill>
                  <a:srgbClr val="82004d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82004d"/>
                </a:solidFill>
                <a:latin typeface="Arial"/>
              </a:rPr>
              <a:t>incubación  larg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2004d"/>
                </a:solidFill>
                <a:latin typeface="Arial"/>
              </a:rPr>
              <a:t>    </a:t>
            </a:r>
            <a:r>
              <a:rPr b="1" lang="es-ES" sz="2400" spc="-1" strike="noStrike">
                <a:solidFill>
                  <a:srgbClr val="82004d"/>
                </a:solidFill>
                <a:latin typeface="Arial"/>
              </a:rPr>
              <a:t>viremia 1ª - multiplicación SRE - viremia  2ª - se localiza en      órganos blancos: SNC, piel, hígado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82004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2004d"/>
                </a:solidFill>
                <a:latin typeface="Arial"/>
              </a:rPr>
              <a:t>EXCRECION VIRAL: por deposicione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70bf3"/>
                </a:solidFill>
                <a:latin typeface="Arial"/>
              </a:rPr>
              <a:t>ESTIMULAN  MECANISMOS de DEFENSA  LOCALES y GENERALES</a:t>
            </a:r>
            <a:r>
              <a:rPr b="1" lang="es-ES" sz="2400" spc="-1" strike="noStrike">
                <a:solidFill>
                  <a:srgbClr val="82004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2004d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85840" y="64911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70bf3"/>
                </a:solidFill>
                <a:latin typeface="Arial"/>
              </a:rPr>
              <a:t>Yoyo`s 2005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799320" y="3357720"/>
            <a:ext cx="431640" cy="0"/>
          </a:xfrm>
          <a:prstGeom prst="line">
            <a:avLst/>
          </a:prstGeom>
          <a:ln w="381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448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0bf3"/>
                </a:solidFill>
                <a:latin typeface="Book Antiqua"/>
              </a:rPr>
              <a:t>CONTROL  DE TRANSMISION </a:t>
            </a:r>
            <a:br>
              <a:rPr sz="3200"/>
            </a:br>
            <a:r>
              <a:rPr b="1" lang="en-US" sz="3200" spc="-1" strike="noStrike">
                <a:solidFill>
                  <a:srgbClr val="370bf3"/>
                </a:solidFill>
                <a:latin typeface="Book Antiqua"/>
              </a:rPr>
              <a:t>VIA  ENTERAL</a:t>
            </a:r>
            <a:endParaRPr b="0" lang="en-US" sz="3200" spc="-1" strike="noStrike">
              <a:solidFill>
                <a:srgbClr val="7fff00"/>
              </a:solidFill>
              <a:latin typeface="Book Antiqu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06240" y="1268280"/>
            <a:ext cx="8785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6000"/>
          </a:bodyPr>
          <a:p>
            <a:pPr marL="226080" indent="-226080">
              <a:spcBef>
                <a:spcPts val="799"/>
              </a:spcBef>
              <a:buClr>
                <a:srgbClr val="82004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004d"/>
                </a:solidFill>
                <a:latin typeface="Arial"/>
              </a:rPr>
              <a:t>Diagnóstico precoz y eficiente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226080" indent="-226080">
              <a:spcBef>
                <a:spcPts val="799"/>
              </a:spcBef>
              <a:buClr>
                <a:srgbClr val="82004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004d"/>
                </a:solidFill>
                <a:latin typeface="Arial"/>
              </a:rPr>
              <a:t>¿Qué hacer con los casos subclínicos?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226080" indent="-226080">
              <a:spcBef>
                <a:spcPts val="799"/>
              </a:spcBef>
              <a:buClr>
                <a:srgbClr val="82004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004d"/>
                </a:solidFill>
                <a:latin typeface="Arial"/>
              </a:rPr>
              <a:t>Aislamiento relativo: pieza individual para los enfermos, primeros día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226080" indent="-226080">
              <a:lnSpc>
                <a:spcPct val="20000"/>
              </a:lnSpc>
              <a:spcBef>
                <a:spcPts val="799"/>
              </a:spcBef>
              <a:buClr>
                <a:srgbClr val="82004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226080" indent="-226080">
              <a:spcBef>
                <a:spcPts val="799"/>
              </a:spcBef>
              <a:buClr>
                <a:srgbClr val="82004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004d"/>
                </a:solidFill>
                <a:latin typeface="Arial"/>
              </a:rPr>
              <a:t>Disposición adecuada de excreta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226080" indent="-226080">
              <a:spcBef>
                <a:spcPts val="799"/>
              </a:spcBef>
              <a:buClr>
                <a:srgbClr val="82004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004d"/>
                </a:solidFill>
                <a:latin typeface="Arial"/>
              </a:rPr>
              <a:t>Agua potable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226080" indent="-226080">
              <a:spcBef>
                <a:spcPts val="799"/>
              </a:spcBef>
              <a:buClr>
                <a:srgbClr val="82004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004d"/>
                </a:solidFill>
                <a:latin typeface="Arial"/>
              </a:rPr>
              <a:t>Lavado frecuente de mano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226080" indent="-226080">
              <a:spcBef>
                <a:spcPts val="799"/>
              </a:spcBef>
              <a:buClr>
                <a:srgbClr val="82004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004d"/>
                </a:solidFill>
                <a:latin typeface="Arial"/>
              </a:rPr>
              <a:t>Vacunas: poliomielitis y hepatitis A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226080" indent="-226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226080" indent="-226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004d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385840" y="64911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a32f48"/>
                </a:solidFill>
                <a:latin typeface="Arial"/>
              </a:rPr>
              <a:t>Yoyo`s 2005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3320" y="228240"/>
            <a:ext cx="8561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70bf3"/>
                </a:solidFill>
                <a:latin typeface="Book Antiqua"/>
              </a:rPr>
              <a:t>HEPATITIS A: EPIDEMIOLOGIA</a:t>
            </a:r>
            <a:endParaRPr b="0" lang="en-US" sz="4000" spc="-1" strike="noStrike">
              <a:solidFill>
                <a:srgbClr val="7fff00"/>
              </a:solidFill>
              <a:latin typeface="Book Antiqu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3680" y="1700280"/>
            <a:ext cx="91440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004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2004d"/>
                </a:solidFill>
                <a:latin typeface="Arial"/>
              </a:rPr>
              <a:t>El 50% de la población de Santiago se infecta antes de los 25 año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004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2004d"/>
                </a:solidFill>
                <a:latin typeface="Arial"/>
              </a:rPr>
              <a:t>Factor socio-económico es importante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004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2004d"/>
                </a:solidFill>
                <a:latin typeface="Arial"/>
              </a:rPr>
              <a:t>La hepatitis A es la más frecuente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004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2004d"/>
                </a:solidFill>
                <a:latin typeface="Arial"/>
              </a:rPr>
              <a:t>Mayor frecuencia de infecciones subclínicas a menor edad: niño versus adulto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004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2004d"/>
                </a:solidFill>
                <a:latin typeface="Arial"/>
              </a:rPr>
              <a:t>Hay una vacuna inactivada disponible, para uso desde un año de edad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40360" y="3017880"/>
            <a:ext cx="17673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314560" y="638172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2004d"/>
                </a:solidFill>
                <a:latin typeface="Arial"/>
              </a:rPr>
              <a:t>Yoyo`s 2005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200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1285920" y="1714680"/>
          <a:ext cx="8400960" cy="34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920" y="1714680"/>
                    <a:ext cx="8400960" cy="34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463680" y="549360"/>
            <a:ext cx="92962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Seroprevalencia de hepatitis A en Santiago,  </a:t>
            </a:r>
            <a:br>
              <a:rPr sz="3000"/>
            </a:b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según nivel socioeconómico por grupos etarios.</a:t>
            </a:r>
            <a:endParaRPr b="0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8760" y="6324480"/>
            <a:ext cx="38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Zacarías, Vial y cols. / Lagos y cols.</a:t>
            </a:r>
            <a:endParaRPr b="0" lang="en-US" sz="1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27760" y="6249960"/>
            <a:ext cx="40035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*= En el grupo etario de 25 a 29 años, para la muestra de 1997 se incluyeron sujetos “mayores de 26 años”.</a:t>
            </a:r>
            <a:endParaRPr b="0" lang="en-US" sz="1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85920" y="5334120"/>
            <a:ext cx="4114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ctr" pos="228600"/>
                <a:tab algn="ctr" pos="804960"/>
                <a:tab algn="ctr" pos="1430280"/>
                <a:tab algn="ctr" pos="1998720"/>
                <a:tab algn="ctr" pos="2573280"/>
                <a:tab algn="ctr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-4     5-9    10-14  15-19  20-24  25-29*</a:t>
            </a:r>
            <a:endParaRPr b="0" lang="en-US" sz="1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28880" y="5791320"/>
            <a:ext cx="3808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angos de edad (años)</a:t>
            </a:r>
            <a:endParaRPr b="0" lang="en-US" sz="1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-434520" y="3980880"/>
            <a:ext cx="228132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Seroprevalencia (%)</a:t>
            </a:r>
            <a:endParaRPr b="0" lang="en-US" sz="1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57760" y="1828800"/>
            <a:ext cx="874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990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045040" y="1770120"/>
            <a:ext cx="1281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996-97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84840" y="2111400"/>
            <a:ext cx="1210320" cy="36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SE Bajo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853040" y="2111400"/>
            <a:ext cx="1159920" cy="36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SE Alto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86520" y="5334120"/>
            <a:ext cx="47419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ctr" pos="287280"/>
                <a:tab algn="ctr" pos="855720"/>
                <a:tab algn="ctr" pos="1490760"/>
                <a:tab algn="ctr" pos="2116080"/>
                <a:tab algn="ctr" pos="2684520"/>
                <a:tab algn="ctr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-4    5-9    10-14  15-19  20-24   25-29*</a:t>
            </a:r>
            <a:endParaRPr b="0" lang="en-US" sz="1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829480" y="5638680"/>
            <a:ext cx="3805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angos de edad (años)</a:t>
            </a:r>
            <a:endParaRPr b="0" lang="en-US" sz="1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16200000">
            <a:off x="4341960" y="3980880"/>
            <a:ext cx="228132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Seroprevalencia (%)</a:t>
            </a:r>
            <a:endParaRPr b="0" lang="en-US" sz="1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645240" y="1776240"/>
            <a:ext cx="898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981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795240" y="2585880"/>
          <a:ext cx="4202280" cy="272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5240" y="2585880"/>
                    <a:ext cx="4202280" cy="27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5686560" y="2616120"/>
          <a:ext cx="4179600" cy="2724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86560" y="2616120"/>
                    <a:ext cx="4179600" cy="27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3514680" y="1828800"/>
            <a:ext cx="257400" cy="228600"/>
          </a:xfrm>
          <a:prstGeom prst="rect">
            <a:avLst/>
          </a:prstGeom>
          <a:solidFill>
            <a:srgbClr val="ff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48120" y="1838160"/>
            <a:ext cx="217440" cy="21600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461280" y="1838160"/>
            <a:ext cx="215640" cy="21600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3320" y="115560"/>
            <a:ext cx="8561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70bf3"/>
                </a:solidFill>
                <a:latin typeface="Book Antiqua"/>
              </a:rPr>
              <a:t>HEPATITIS A: CLINICA</a:t>
            </a:r>
            <a:endParaRPr b="0" lang="en-US" sz="4400" spc="-1" strike="noStrike">
              <a:solidFill>
                <a:srgbClr val="7fff00"/>
              </a:solidFill>
              <a:latin typeface="Book Antiqu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3680" y="134100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82004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2004d"/>
                </a:solidFill>
                <a:latin typeface="Arial"/>
              </a:rPr>
              <a:t>Todas las hepatitis son clínicamente iguale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82004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2004d"/>
                </a:solidFill>
                <a:latin typeface="Arial"/>
              </a:rPr>
              <a:t>La coluria y la acolia preceden a la ictericia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82004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2004d"/>
                </a:solidFill>
                <a:latin typeface="Arial"/>
              </a:rPr>
              <a:t>El diagnóstico clínico se confirma por laboratorio: bilirrubinemia, transaminasas, protrombinemia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82004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2004d"/>
                </a:solidFill>
                <a:latin typeface="Arial"/>
              </a:rPr>
              <a:t>El diagnóstico etiológico se estudia con exámenes específicos para virus A (Ig.M)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82004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2004d"/>
                </a:solidFill>
                <a:latin typeface="Arial"/>
              </a:rPr>
              <a:t>En 0.1 – 0.5%  tiene evolución fulminante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82004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2004d"/>
                </a:solidFill>
                <a:latin typeface="Arial"/>
              </a:rPr>
              <a:t>Tratamiento con dieta y reposo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98960" y="2997360"/>
            <a:ext cx="17673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241480" y="64911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2004d"/>
                </a:solidFill>
                <a:latin typeface="Arial"/>
              </a:rPr>
              <a:t>Yoyo`s 2005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0" y="0"/>
          <a:ext cx="10287000" cy="630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0287000" cy="63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685800" y="6400800"/>
            <a:ext cx="550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2004d"/>
                </a:solidFill>
                <a:latin typeface="Times New Roman"/>
              </a:rPr>
              <a:t>Fuente. Minsal. El Vigía 2003; 7 (19): 41.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68760" y="990720"/>
            <a:ext cx="34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0066"/>
                </a:solidFill>
                <a:latin typeface="Times New Roman"/>
              </a:rPr>
              <a:t>Campaña contra Cólera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86520" y="1523880"/>
            <a:ext cx="0" cy="53352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1125360"/>
            <a:ext cx="10287000" cy="57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2004d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82004d"/>
                </a:solidFill>
                <a:latin typeface="Arial"/>
              </a:rPr>
              <a:t>Viru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2004d"/>
                </a:solidFill>
                <a:latin typeface="Arial"/>
              </a:rPr>
              <a:t>Rotavirus    </a:t>
            </a:r>
            <a:r>
              <a:rPr b="1" lang="es-ES_tradnl" sz="2400" spc="-1" strike="noStrike">
                <a:solidFill>
                  <a:srgbClr val="82004d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82004d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82004d"/>
                </a:solidFill>
                <a:latin typeface="Arial"/>
              </a:rPr>
              <a:t>Caliciviru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2004d"/>
                </a:solidFill>
                <a:latin typeface="Arial"/>
              </a:rPr>
              <a:t>Astrovirus</a:t>
            </a:r>
            <a:r>
              <a:rPr b="1" lang="es-ES_tradnl" sz="2400" spc="-1" strike="noStrike">
                <a:solidFill>
                  <a:srgbClr val="82004d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82004d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82004d"/>
                </a:solidFill>
                <a:latin typeface="Arial"/>
              </a:rPr>
              <a:t>Adenovirus entéricos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2004d"/>
                </a:solidFill>
                <a:latin typeface="Arial"/>
              </a:rPr>
              <a:t>Enterovirus</a:t>
            </a:r>
            <a:r>
              <a:rPr b="1" lang="es-ES_tradnl" sz="2400" spc="-1" strike="noStrike">
                <a:solidFill>
                  <a:srgbClr val="82004d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82004d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82004d"/>
                </a:solidFill>
                <a:latin typeface="Arial"/>
              </a:rPr>
              <a:t>Coronaviru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2004d"/>
                </a:solidFill>
                <a:latin typeface="Arial"/>
              </a:rPr>
              <a:t>Picobirnavirus</a:t>
            </a:r>
            <a:r>
              <a:rPr b="1" lang="es-ES_tradnl" sz="2400" spc="-1" strike="noStrike">
                <a:solidFill>
                  <a:srgbClr val="82004d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82004d"/>
                </a:solidFill>
                <a:latin typeface="Arial"/>
              </a:rPr>
              <a:t>Hepatitis A y 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2004d"/>
                </a:solidFill>
                <a:latin typeface="Arial"/>
              </a:rPr>
              <a:t>virus Aichi</a:t>
            </a:r>
            <a:r>
              <a:rPr b="1" lang="es-ES_tradnl" sz="2400" spc="-1" strike="noStrike">
                <a:solidFill>
                  <a:srgbClr val="82004d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82004d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82004d"/>
                </a:solidFill>
                <a:latin typeface="Arial"/>
              </a:rPr>
              <a:t>Toroviru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82004d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70bf3"/>
                </a:solidFill>
                <a:latin typeface="Arial"/>
              </a:rPr>
              <a:t>Bacterias</a:t>
            </a:r>
            <a:r>
              <a:rPr b="1" lang="es-ES_tradnl" sz="2400" spc="-1" strike="noStrike">
                <a:solidFill>
                  <a:srgbClr val="370bf3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370bf3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370bf3"/>
                </a:solidFill>
                <a:latin typeface="Arial"/>
              </a:rPr>
              <a:t>Shigella, Salmonella, E. coli, </a:t>
            </a:r>
            <a:r>
              <a:rPr b="1" i="1" lang="es-ES_tradnl" sz="2400" spc="-1" strike="noStrike">
                <a:solidFill>
                  <a:srgbClr val="370bf3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370bf3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370bf3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370bf3"/>
                </a:solidFill>
                <a:latin typeface="Arial"/>
              </a:rPr>
              <a:t>             </a:t>
            </a:r>
            <a:r>
              <a:rPr b="1" i="1" lang="es-ES_tradnl" sz="2400" spc="-1" strike="noStrike">
                <a:solidFill>
                  <a:srgbClr val="370bf3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370bf3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370bf3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370bf3"/>
                </a:solidFill>
                <a:latin typeface="Arial"/>
              </a:rPr>
              <a:t>V. cholerae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7e4080"/>
                </a:solidFill>
                <a:latin typeface="Arial"/>
              </a:rPr>
              <a:t>Hongos</a:t>
            </a:r>
            <a:r>
              <a:rPr b="1" lang="es-ES_tradnl" sz="3200" spc="-1" strike="noStrike">
                <a:solidFill>
                  <a:srgbClr val="7e408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7e408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7e4080"/>
                </a:solidFill>
                <a:latin typeface="Arial"/>
              </a:rPr>
              <a:t>Candid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23953e"/>
                </a:solidFill>
                <a:latin typeface="Arial"/>
              </a:rPr>
              <a:t>Parásitos </a:t>
            </a:r>
            <a:r>
              <a:rPr b="1" lang="es-ES_tradnl" sz="2400" spc="-1" strike="noStrike">
                <a:solidFill>
                  <a:srgbClr val="23953e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23953e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23953e"/>
                </a:solidFill>
                <a:latin typeface="Arial"/>
              </a:rPr>
              <a:t>G. lamblia, E. histolytica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74160" y="260280"/>
            <a:ext cx="77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70bf3"/>
                </a:solidFill>
                <a:latin typeface="Arial"/>
              </a:rPr>
              <a:t>DIARREA AGUDA INFECCIOSA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7112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0bf3"/>
                </a:solidFill>
                <a:latin typeface="Book Antiqua"/>
              </a:rPr>
              <a:t>MUCHOS  VIRUS RESPIRATORIOS</a:t>
            </a:r>
            <a:endParaRPr b="0" lang="en-US" sz="3600" spc="-1" strike="noStrike">
              <a:solidFill>
                <a:srgbClr val="7fff00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268280"/>
            <a:ext cx="9906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82004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2004d"/>
                </a:solidFill>
                <a:latin typeface="Arial"/>
              </a:rPr>
              <a:t>Rhinovirus (RV): &gt; 100 serotipo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82004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2004d"/>
                </a:solidFill>
                <a:latin typeface="Arial"/>
              </a:rPr>
              <a:t>Coronavirus (HuCV): grupos 1 (OC43) y 2 (229E)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82004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2004d"/>
                </a:solidFill>
                <a:latin typeface="Arial"/>
              </a:rPr>
              <a:t>VRS (hRSV): grupos A y B; lineajes.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82004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2004d"/>
                </a:solidFill>
                <a:latin typeface="Arial"/>
              </a:rPr>
              <a:t>Metapneumovirus (hPPV): 2 grupo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82004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2004d"/>
                </a:solidFill>
                <a:latin typeface="Arial"/>
              </a:rPr>
              <a:t>Adenovirus: 51 serotipos;  muchos  genotipo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82004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2004d"/>
                </a:solidFill>
                <a:latin typeface="Arial"/>
              </a:rPr>
              <a:t>Influenzas : subtipos A, B, C; cepas. 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82004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2004d"/>
                </a:solidFill>
                <a:latin typeface="Arial"/>
              </a:rPr>
              <a:t>Parainfluenza (hPIV): 1- 4.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82004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2004d"/>
                </a:solidFill>
                <a:latin typeface="Arial"/>
              </a:rPr>
              <a:t>Otros: enterovirus, CMV, sarampión, varicela, hantaviru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77320" y="6494400"/>
            <a:ext cx="1368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cc"/>
                </a:solidFill>
                <a:latin typeface="Times New Roman"/>
              </a:rPr>
              <a:t>Yoyo´s 2005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43080" y="1295280"/>
            <a:ext cx="9943920" cy="52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a32f4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32f48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a32f48"/>
                </a:solidFill>
                <a:latin typeface="Arial"/>
              </a:rPr>
              <a:t>El saneamiento ambiental disminuye la incidencia de diarreas bacterianas y parasitarias, PERO las virales tienden a persistir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a32f4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32f48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a32f48"/>
                </a:solidFill>
                <a:latin typeface="Arial"/>
              </a:rPr>
              <a:t>¿ Hay cuadro clínico con característica propias?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a32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32f48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a32f48"/>
                </a:solidFill>
                <a:latin typeface="Arial"/>
              </a:rPr>
              <a:t>Aumento del contenido líquido y frecuencia de las deposiciones, sin signos inflamatorios como mucus, pus  y sangre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a32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32f48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a32f48"/>
                </a:solidFill>
                <a:latin typeface="Arial"/>
              </a:rPr>
              <a:t>Signos de deshidratación indican gravedad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a32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32f48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a32f48"/>
                </a:solidFill>
                <a:latin typeface="Arial"/>
              </a:rPr>
              <a:t>Fiebre corta inicial... a veces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064240" y="476280"/>
            <a:ext cx="530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70bf3"/>
                </a:solidFill>
                <a:latin typeface="Arial"/>
              </a:rPr>
              <a:t>DIARREAS VIRALES AGUDAS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1641600"/>
            <a:ext cx="10287000" cy="44416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771480" y="304920"/>
            <a:ext cx="882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70bf3"/>
                </a:solidFill>
                <a:latin typeface="Arial"/>
                <a:ea typeface="Times New Roman"/>
              </a:rPr>
              <a:t>GASTROENTERITIS INFANTIL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42840" y="5257800"/>
            <a:ext cx="3575160" cy="398880"/>
          </a:xfrm>
          <a:prstGeom prst="rect">
            <a:avLst/>
          </a:prstGeom>
          <a:solidFill>
            <a:srgbClr val="7fff00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c0023"/>
                </a:solidFill>
                <a:latin typeface="Arial"/>
              </a:rPr>
              <a:t>Países desarrollados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486400" y="5257800"/>
            <a:ext cx="3575160" cy="398880"/>
          </a:xfrm>
          <a:prstGeom prst="rect">
            <a:avLst/>
          </a:prstGeom>
          <a:solidFill>
            <a:srgbClr val="7fff00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c0023"/>
                </a:solidFill>
                <a:latin typeface="Arial"/>
              </a:rPr>
              <a:t>Países en desarrollo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114560" y="1965240"/>
            <a:ext cx="857232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c002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1066680"/>
            <a:ext cx="91724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a32f4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a32f48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a32f48"/>
                </a:solidFill>
                <a:latin typeface="Arial"/>
              </a:rPr>
              <a:t>Período de incubación de 1 a 3 días.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buClr>
                <a:srgbClr val="a32f4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a32f48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a32f48"/>
                </a:solidFill>
                <a:latin typeface="Arial"/>
              </a:rPr>
              <a:t>Produce diarrea acuosa por 3 a 5 días y típicamente es precedida por vómitos y fiebre alta, pero no es lo más frecuente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buClr>
                <a:srgbClr val="a32f4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a32f48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a32f48"/>
                </a:solidFill>
                <a:latin typeface="Arial"/>
              </a:rPr>
              <a:t>Rotavirus es altamente contagioso y se transmite por la vía fecal-oral (persona-persona o fomites contaminados), pero tal vez  se generan aerosoles.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buClr>
                <a:srgbClr val="a32f4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a32f48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a32f48"/>
                </a:solidFill>
                <a:latin typeface="Arial"/>
              </a:rPr>
              <a:t>Infección intrahospitalaria pediátrica es muy común ( 20%)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buClr>
                <a:srgbClr val="a32f4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175560" y="228600"/>
            <a:ext cx="316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70bf3"/>
                </a:solidFill>
                <a:latin typeface="Arial"/>
              </a:rPr>
              <a:t>ROTAVIRUS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428760" y="996840"/>
            <a:ext cx="9258120" cy="55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32f48"/>
                </a:solidFill>
                <a:latin typeface="Arial"/>
              </a:rPr>
              <a:t>Durante la infección se excretan 10 millones de viriones por gramo de deposicione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a32f4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32f48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a32f48"/>
                </a:solidFill>
                <a:latin typeface="Arial"/>
              </a:rPr>
              <a:t>Microscopía Electrónica: para investigación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a32f4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32f48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a32f48"/>
                </a:solidFill>
                <a:latin typeface="Arial"/>
              </a:rPr>
              <a:t>ELISA: muy sensible, específico y usado también para tipificación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a32f4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32f48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a32f48"/>
                </a:solidFill>
                <a:latin typeface="Arial"/>
              </a:rPr>
              <a:t>Electroforesis de RNA en geles: barato,  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a32f4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32f48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a32f48"/>
                </a:solidFill>
                <a:latin typeface="Arial"/>
              </a:rPr>
              <a:t>Aglutinación en látex: muy rápido, menos sensible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a32f4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32f48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a32f48"/>
                </a:solidFill>
                <a:latin typeface="Arial"/>
              </a:rPr>
              <a:t>RT-PCR: muy sensible y específico, se usa para tipificación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228600"/>
            <a:ext cx="97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70bf3"/>
                </a:solidFill>
                <a:latin typeface="Arial"/>
              </a:rPr>
              <a:t>DIAGNOSTICO de LABORATORIO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57040" y="990720"/>
            <a:ext cx="9772920" cy="56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a32f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32f48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a32f48"/>
                </a:solidFill>
                <a:latin typeface="Arial"/>
              </a:rPr>
              <a:t>Rotavirus grupo A: causa más común de diarrea aguda severa en niños menores de 2 años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a32f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32f48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a32f48"/>
                </a:solidFill>
                <a:latin typeface="Arial"/>
              </a:rPr>
              <a:t>Produce entre 800.000 a 1 millón de muertes al año en el mundo.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a32f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32f48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a32f48"/>
                </a:solidFill>
                <a:latin typeface="Arial"/>
              </a:rPr>
              <a:t>En Chile se asocia al 25-35 % de las diarreas en niños menores de 2 años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a32f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32f48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a32f48"/>
                </a:solidFill>
                <a:latin typeface="Arial"/>
              </a:rPr>
              <a:t>Primera causa de hospitalización por diarrea en lactantes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a32f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32f48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a32f48"/>
                </a:solidFill>
                <a:latin typeface="Arial"/>
              </a:rPr>
              <a:t>Baja mortalidad en Chile, por el buen acceso a tratamiento de hidratación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buClr>
                <a:srgbClr val="a32f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457280" y="22860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70bf3"/>
                </a:solidFill>
                <a:latin typeface="Arial"/>
              </a:rPr>
              <a:t>EPIDEMIOLOGIA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14560" y="1965240"/>
            <a:ext cx="857232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c002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1268280"/>
            <a:ext cx="97725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b2307"/>
                </a:solidFill>
                <a:latin typeface="Arial"/>
              </a:rPr>
              <a:t>¿Qué hacer contra su alta contagiosidad?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buClr>
                <a:srgbClr val="a32f48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a32f48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a32f48"/>
                </a:solidFill>
                <a:latin typeface="Arial"/>
              </a:rPr>
              <a:t>Mejorar condiciones higiénicas: agua potable y alcantarillado.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buClr>
                <a:srgbClr val="a32f48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a32f48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a32f48"/>
                </a:solidFill>
                <a:latin typeface="Arial"/>
              </a:rPr>
              <a:t>Educación: lavado de mano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buClr>
                <a:srgbClr val="a32f48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a32f48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a32f48"/>
                </a:solidFill>
                <a:latin typeface="Arial"/>
              </a:rPr>
              <a:t>Aislamiento individual ¿poco eficaz?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buClr>
                <a:srgbClr val="a32f48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a32f48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a32f48"/>
                </a:solidFill>
                <a:latin typeface="Arial"/>
              </a:rPr>
              <a:t>Vacunas : actualmente hay dos vacunas en el comercio ( $50.000 cada dosis):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a32f48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a32f48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a32f48"/>
                </a:solidFill>
                <a:latin typeface="Arial"/>
              </a:rPr>
              <a:t>rotavirus humano atenuado (Glaxo)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a32f48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a32f48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a32f48"/>
                </a:solidFill>
                <a:latin typeface="Arial"/>
              </a:rPr>
              <a:t>rotavirus bovino reordenante (Merck)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71480" y="380880"/>
            <a:ext cx="882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70bf3"/>
                </a:solidFill>
                <a:latin typeface="Arial"/>
              </a:rPr>
              <a:t>ROTAVIRUS: PREVENCION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50960" y="2182680"/>
            <a:ext cx="857232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c002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47680" y="1125360"/>
            <a:ext cx="97725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a32f48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a32f48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a32f48"/>
                </a:solidFill>
                <a:latin typeface="Arial"/>
              </a:rPr>
              <a:t>Presentación esporádica o brotes limitado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buClr>
                <a:srgbClr val="a32f48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a32f48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a32f48"/>
                </a:solidFill>
                <a:latin typeface="Arial"/>
              </a:rPr>
              <a:t>Cuadros clínicos muy diversos: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a32f48"/>
                </a:solidFill>
                <a:latin typeface="Arial"/>
              </a:rPr>
              <a:t>  </a:t>
            </a:r>
            <a:r>
              <a:rPr b="1" lang="es-ES_tradnl" sz="3200" spc="-1" strike="noStrike">
                <a:solidFill>
                  <a:srgbClr val="a32f48"/>
                </a:solidFill>
                <a:latin typeface="Arial"/>
              </a:rPr>
              <a:t>- meningitis y encefalitis esporádica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a32f48"/>
                </a:solidFill>
                <a:latin typeface="Arial"/>
              </a:rPr>
              <a:t>  </a:t>
            </a:r>
            <a:r>
              <a:rPr b="1" lang="es-ES_tradnl" sz="3200" spc="-1" strike="noStrike">
                <a:solidFill>
                  <a:srgbClr val="a32f48"/>
                </a:solidFill>
                <a:latin typeface="Arial"/>
              </a:rPr>
              <a:t>- exantemas con o sin fiebre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a32f48"/>
                </a:solidFill>
                <a:latin typeface="Arial"/>
              </a:rPr>
              <a:t>  </a:t>
            </a:r>
            <a:r>
              <a:rPr b="1" lang="es-ES_tradnl" sz="3200" spc="-1" strike="noStrike">
                <a:solidFill>
                  <a:srgbClr val="a32f48"/>
                </a:solidFill>
                <a:latin typeface="Arial"/>
              </a:rPr>
              <a:t>- miocarditi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a32f48"/>
                </a:solidFill>
                <a:latin typeface="Arial"/>
              </a:rPr>
              <a:t>  </a:t>
            </a:r>
            <a:r>
              <a:rPr b="1" lang="es-ES_tradnl" sz="3200" spc="-1" strike="noStrike">
                <a:solidFill>
                  <a:srgbClr val="a32f48"/>
                </a:solidFill>
                <a:latin typeface="Arial"/>
              </a:rPr>
              <a:t>- diarrea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buClr>
                <a:srgbClr val="a32f48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a32f48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a32f48"/>
                </a:solidFill>
                <a:latin typeface="Arial"/>
              </a:rPr>
              <a:t>Difícil confirmación por diagnóstico viral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buClr>
                <a:srgbClr val="a32f48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a32f48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a32f48"/>
                </a:solidFill>
                <a:latin typeface="Arial"/>
              </a:rPr>
              <a:t>Pocas medidas de prevención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buClr>
                <a:srgbClr val="a32f48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a32f48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a32f48"/>
                </a:solidFill>
                <a:latin typeface="Arial"/>
              </a:rPr>
              <a:t>Aislamiento individual ¿poco eficaz?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buClr>
                <a:srgbClr val="a32f48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a32f48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a32f48"/>
                </a:solidFill>
                <a:latin typeface="Arial"/>
              </a:rPr>
              <a:t>Vacunas: sólo para poliomielitis (muy eficaz)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buClr>
                <a:srgbClr val="a32f48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a32f48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a32f48"/>
                </a:solidFill>
                <a:latin typeface="Arial"/>
              </a:rPr>
              <a:t>Tratamiento específico : no existe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71480" y="260280"/>
            <a:ext cx="882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70bf3"/>
                </a:solidFill>
                <a:latin typeface="Arial"/>
              </a:rPr>
              <a:t>ENTEROVIRUS NO POLIO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c00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183200" y="1870200"/>
            <a:ext cx="206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431640" y="1955880"/>
          <a:ext cx="1886040" cy="190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1955880"/>
                    <a:ext cx="188604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4029120" y="5181480"/>
          <a:ext cx="514440" cy="120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29120" y="5181480"/>
                    <a:ext cx="51444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1371600" y="4724280"/>
          <a:ext cx="428760" cy="76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1600" y="4724280"/>
                    <a:ext cx="42876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284040" y="0"/>
            <a:ext cx="887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ff66"/>
                </a:solidFill>
                <a:latin typeface="Times New Roman"/>
              </a:rPr>
              <a:t>       </a:t>
            </a:r>
            <a:r>
              <a:rPr b="1" lang="es-ES_tradnl" sz="3200" spc="-1" strike="noStrike">
                <a:solidFill>
                  <a:srgbClr val="66ff66"/>
                </a:solidFill>
                <a:latin typeface="Times New Roman"/>
              </a:rPr>
              <a:t>ESTRATEGIAS  DE PREVENCION DE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ff66"/>
                </a:solidFill>
                <a:latin typeface="Times New Roman"/>
              </a:rPr>
              <a:t>    </a:t>
            </a:r>
            <a:r>
              <a:rPr b="1" lang="es-ES_tradnl" sz="3200" spc="-1" strike="noStrike">
                <a:solidFill>
                  <a:srgbClr val="66ff66"/>
                </a:solidFill>
                <a:latin typeface="Times New Roman"/>
              </a:rPr>
              <a:t>ENFERMEDADES INFECCIOSA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ff66"/>
                </a:solidFill>
                <a:latin typeface="Times New Roman"/>
              </a:rPr>
              <a:t>                   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0760" y="584028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99"/>
                </a:solidFill>
                <a:latin typeface="Times New Roman"/>
              </a:rPr>
              <a:t>QUIMIOPROFILAXIS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7120" y="1268280"/>
            <a:ext cx="30862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VACUNACION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c002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71960" y="457200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cc"/>
                </a:solidFill>
                <a:latin typeface="Times New Roman"/>
              </a:rPr>
              <a:t>INMUNIZACIÓN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cc"/>
                </a:solidFill>
                <a:latin typeface="Times New Roman"/>
              </a:rPr>
              <a:t>            </a:t>
            </a:r>
            <a:r>
              <a:rPr b="1" lang="es-ES_tradnl" sz="2000" spc="-1" strike="noStrike">
                <a:solidFill>
                  <a:srgbClr val="ff99cc"/>
                </a:solidFill>
                <a:latin typeface="Times New Roman"/>
              </a:rPr>
              <a:t>PASIVA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756120" y="1287360"/>
            <a:ext cx="210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ff33"/>
                </a:solidFill>
                <a:latin typeface="Times New Roman"/>
              </a:rPr>
              <a:t>SANEAMIENTO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66ff33"/>
                </a:solidFill>
                <a:latin typeface="Times New Roman"/>
              </a:rPr>
              <a:t>AMBIENTAL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755760" y="5695920"/>
            <a:ext cx="217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BIOSEGURIDAD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7972560" y="2421000"/>
          <a:ext cx="820440" cy="1066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972560" y="2421000"/>
                    <a:ext cx="82044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6686640" y="2133720"/>
            <a:ext cx="2270160" cy="152388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6788160" y="2421000"/>
          <a:ext cx="857160" cy="990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788160" y="2421000"/>
                    <a:ext cx="85716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8118360" y="4648320"/>
          <a:ext cx="1285920" cy="817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118360" y="4648320"/>
                    <a:ext cx="128592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6496200" y="4724280"/>
          <a:ext cx="1041120" cy="846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496200" y="4724280"/>
                    <a:ext cx="1041120" cy="8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/>
          <p:nvPr/>
        </p:nvSpPr>
        <p:spPr>
          <a:xfrm>
            <a:off x="3257640" y="4572000"/>
            <a:ext cx="2314440" cy="17524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1846440"/>
            <a:ext cx="2975040" cy="2303280"/>
          </a:xfrm>
          <a:prstGeom prst="ellipse">
            <a:avLst/>
          </a:prstGeom>
          <a:noFill/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53040" y="4292640"/>
            <a:ext cx="3651480" cy="20574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00120" y="4419720"/>
            <a:ext cx="2057400" cy="2057400"/>
          </a:xfrm>
          <a:prstGeom prst="ellipse">
            <a:avLst/>
          </a:prstGeom>
          <a:noFill/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5"/>
          <a:stretch/>
        </p:blipFill>
        <p:spPr>
          <a:xfrm>
            <a:off x="3049560" y="1844640"/>
            <a:ext cx="3379680" cy="252576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473640" y="1268280"/>
            <a:ext cx="205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EDUCACION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165480" y="1844640"/>
            <a:ext cx="2136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Conocimientos Hábitos, Actitudes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0600" y="-360"/>
            <a:ext cx="9577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0bf3"/>
                </a:solidFill>
                <a:latin typeface="Book Antiqua"/>
              </a:rPr>
              <a:t> </a:t>
            </a:r>
            <a:r>
              <a:rPr b="1" lang="en-US" sz="3200" spc="-1" strike="noStrike">
                <a:solidFill>
                  <a:srgbClr val="370bf3"/>
                </a:solidFill>
                <a:latin typeface="Book Antiqua"/>
              </a:rPr>
              <a:t> </a:t>
            </a:r>
            <a:r>
              <a:rPr b="1" lang="en-US" sz="3200" spc="-1" strike="noStrike">
                <a:solidFill>
                  <a:srgbClr val="370bf3"/>
                </a:solidFill>
                <a:latin typeface="Book Antiqua"/>
              </a:rPr>
              <a:t>AGENTES CAUSALES de RESFRIO COMUN</a:t>
            </a:r>
            <a:endParaRPr b="0" lang="en-US" sz="3200" spc="-1" strike="noStrike">
              <a:solidFill>
                <a:srgbClr val="7fff00"/>
              </a:solidFill>
              <a:latin typeface="Book Antiqu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182600" y="155736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82004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82004d"/>
                </a:solidFill>
                <a:latin typeface="Arial"/>
              </a:rPr>
              <a:t>RHINOVIRUS                                      ++++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82004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82004d"/>
                </a:solidFill>
                <a:latin typeface="Arial"/>
              </a:rPr>
              <a:t>CORONAVIRUS                                     ++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82004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82004d"/>
                </a:solidFill>
                <a:latin typeface="Arial"/>
              </a:rPr>
              <a:t>VIRUS PARAINFLUENZA                      ++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82004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82004d"/>
                </a:solidFill>
                <a:latin typeface="Arial"/>
              </a:rPr>
              <a:t>VRS                                                         ++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82004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82004d"/>
                </a:solidFill>
                <a:latin typeface="Arial"/>
              </a:rPr>
              <a:t>ADENOVIRUS                                          +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82004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82004d"/>
                </a:solidFill>
                <a:latin typeface="Arial"/>
              </a:rPr>
              <a:t>ENTEROVIRUS                                        +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82004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82004d"/>
                </a:solidFill>
                <a:latin typeface="Arial"/>
              </a:rPr>
              <a:t>VIRUS INFLUENZA                                  +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82004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82004d"/>
                </a:solidFill>
                <a:latin typeface="Arial"/>
              </a:rPr>
              <a:t>M.  pneumoniae                                       +</a:t>
            </a:r>
            <a:r>
              <a:rPr b="1" lang="es-ES" sz="2000" spc="-1" strike="noStrike">
                <a:solidFill>
                  <a:srgbClr val="82004d"/>
                </a:solidFill>
                <a:latin typeface="Arial"/>
              </a:rPr>
              <a:t>                                              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44040" y="6404040"/>
            <a:ext cx="4794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2004d"/>
                </a:solidFill>
                <a:latin typeface="Times New Roman"/>
              </a:rPr>
              <a:t>Modificado de Red Book AAP 1986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0200" y="6237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2004d"/>
                </a:solidFill>
                <a:latin typeface="Arial"/>
              </a:rPr>
              <a:t>Yoyo`s 2002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102870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0bf3"/>
                </a:solidFill>
                <a:latin typeface="Book Antiqua"/>
              </a:rPr>
              <a:t>“</a:t>
            </a:r>
            <a:r>
              <a:rPr b="1" lang="en-US" sz="3200" spc="-1" strike="noStrike">
                <a:solidFill>
                  <a:srgbClr val="370bf3"/>
                </a:solidFill>
                <a:latin typeface="Book Antiqua"/>
              </a:rPr>
              <a:t>INFECCION RESPIRATORIA AGUDA BAJA”.  </a:t>
            </a:r>
            <a:endParaRPr b="0" lang="en-US" sz="3200" spc="-1" strike="noStrike">
              <a:solidFill>
                <a:srgbClr val="7fff00"/>
              </a:solidFill>
              <a:latin typeface="Book Antiqu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542960" y="134136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82004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82004d"/>
                </a:solidFill>
                <a:latin typeface="Arial"/>
              </a:rPr>
              <a:t>VRS                                                   ++++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82004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82004d"/>
                </a:solidFill>
                <a:latin typeface="Arial"/>
              </a:rPr>
              <a:t>METAPNEUMOVIRUS                       +++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82004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82004d"/>
                </a:solidFill>
                <a:latin typeface="Arial"/>
              </a:rPr>
              <a:t>RHINOVIRUS                                      +++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82004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82004d"/>
                </a:solidFill>
                <a:latin typeface="Arial"/>
              </a:rPr>
              <a:t>VIRUS PARAINFLUENZA                   ++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82004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82004d"/>
                </a:solidFill>
                <a:latin typeface="Arial"/>
              </a:rPr>
              <a:t>ADENOVIRUS                                     ++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82004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82004d"/>
                </a:solidFill>
                <a:latin typeface="Arial"/>
              </a:rPr>
              <a:t>VIRUS INFLUENZA                             ++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82004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6c376d"/>
                </a:solidFill>
                <a:latin typeface="Arial"/>
              </a:rPr>
              <a:t>M.  pneumoniae</a:t>
            </a:r>
            <a:r>
              <a:rPr b="1" lang="es-ES" sz="2800" spc="-1" strike="noStrike">
                <a:solidFill>
                  <a:srgbClr val="6c376d"/>
                </a:solidFill>
                <a:latin typeface="Arial"/>
              </a:rPr>
              <a:t>                                  ++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82004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82004d"/>
                </a:solidFill>
                <a:latin typeface="Arial"/>
              </a:rPr>
              <a:t>ENTEROVIRUS                                     +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82004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82004d"/>
                </a:solidFill>
                <a:latin typeface="Arial"/>
              </a:rPr>
              <a:t>CORONAVIRUS                                    +                                              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34480" y="6070680"/>
            <a:ext cx="4794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2004d"/>
                </a:solidFill>
                <a:latin typeface="Times New Roman"/>
              </a:rPr>
              <a:t>Modificado de Red Book AAP 1986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20" y="64911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2004d"/>
                </a:solidFill>
                <a:latin typeface="Arial"/>
              </a:rPr>
              <a:t>Yoyo`s 2005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448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0bf3"/>
                </a:solidFill>
                <a:latin typeface="Book Antiqua"/>
              </a:rPr>
              <a:t>PATOGENIA  DE VIROSIS RESPIRATORIAS</a:t>
            </a:r>
            <a:endParaRPr b="0" lang="en-US" sz="3200" spc="-1" strike="noStrike">
              <a:solidFill>
                <a:srgbClr val="7fff00"/>
              </a:solidFill>
              <a:latin typeface="Book Antiqu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895320" y="155736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82004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2004d"/>
                </a:solidFill>
                <a:latin typeface="Arial"/>
              </a:rPr>
              <a:t>TRANSMISION:  DIRECTO, persona a persona,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2004d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82004d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82004d"/>
                </a:solidFill>
                <a:latin typeface="Arial"/>
              </a:rPr>
              <a:t>por gotas pequeñas, grandes y fomites (manos)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67480" indent="-267480">
              <a:lnSpc>
                <a:spcPct val="20000"/>
              </a:lnSpc>
              <a:spcBef>
                <a:spcPts val="601"/>
              </a:spcBef>
              <a:buClr>
                <a:srgbClr val="82004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82004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2004d"/>
                </a:solidFill>
                <a:latin typeface="Arial"/>
              </a:rPr>
              <a:t>PUERTA  DE  ENTRADA  =  ORGANO  BLANCO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820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2004d"/>
                </a:solidFill>
                <a:latin typeface="Arial"/>
              </a:rPr>
              <a:t>PERIODO  DE  INCUBACION   CORTO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820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2004d"/>
                </a:solidFill>
                <a:latin typeface="Arial"/>
              </a:rPr>
              <a:t>ALTA  CONTAGIOSIDAD 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267480" indent="-267480">
              <a:lnSpc>
                <a:spcPct val="40000"/>
              </a:lnSpc>
              <a:spcBef>
                <a:spcPts val="601"/>
              </a:spcBef>
              <a:buClr>
                <a:srgbClr val="82004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82004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2004d"/>
                </a:solidFill>
                <a:latin typeface="Arial"/>
              </a:rPr>
              <a:t>INFECCION  LOCALIZADA : re-infecciones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2004d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82004d"/>
                </a:solidFill>
                <a:latin typeface="Arial"/>
              </a:rPr>
              <a:t>ACTUAN  LOS  MECANISMOS DE DEFENSA  LOCALES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2004d"/>
                </a:solidFill>
                <a:latin typeface="Arial"/>
              </a:rPr>
              <a:t>- Inespecíficos: cilios, tos, leucocitos, citokinas, etc.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2004d"/>
                </a:solidFill>
                <a:latin typeface="Arial"/>
              </a:rPr>
              <a:t>- Específicos: Ig A, IgG; LT CD8 - CD4; Th1-Th2 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67480" indent="-267480">
              <a:lnSpc>
                <a:spcPct val="140000"/>
              </a:lnSpc>
              <a:spcBef>
                <a:spcPts val="601"/>
              </a:spcBef>
              <a:buClr>
                <a:srgbClr val="82004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2004d"/>
                </a:solidFill>
                <a:latin typeface="Arial"/>
              </a:rPr>
              <a:t>PROPAGACION  POR  VECINDAD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2004d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385840" y="64911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2004d"/>
                </a:solidFill>
                <a:latin typeface="Arial"/>
              </a:rPr>
              <a:t>Yoyo`s 2002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448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0bf3"/>
                </a:solidFill>
                <a:latin typeface="Book Antiqua"/>
              </a:rPr>
              <a:t>CONTROL  DE TRANSMISION </a:t>
            </a:r>
            <a:br>
              <a:rPr sz="3200"/>
            </a:br>
            <a:r>
              <a:rPr b="1" lang="en-US" sz="3200" spc="-1" strike="noStrike">
                <a:solidFill>
                  <a:srgbClr val="370bf3"/>
                </a:solidFill>
                <a:latin typeface="Book Antiqua"/>
              </a:rPr>
              <a:t>VIA  RESPIRATORIAS</a:t>
            </a:r>
            <a:endParaRPr b="0" lang="en-US" sz="3200" spc="-1" strike="noStrike">
              <a:solidFill>
                <a:srgbClr val="7fff00"/>
              </a:solidFill>
              <a:latin typeface="Book Antiqua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06240" y="1628640"/>
            <a:ext cx="8785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3000"/>
          </a:bodyPr>
          <a:p>
            <a:pPr marL="250200" indent="-250200">
              <a:spcBef>
                <a:spcPts val="799"/>
              </a:spcBef>
              <a:buClr>
                <a:srgbClr val="82004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004d"/>
                </a:solidFill>
                <a:latin typeface="Arial"/>
              </a:rPr>
              <a:t>Diagnóstico precoz y eficiente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250200" indent="-250200">
              <a:spcBef>
                <a:spcPts val="799"/>
              </a:spcBef>
              <a:buClr>
                <a:srgbClr val="82004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004d"/>
                </a:solidFill>
                <a:latin typeface="Arial"/>
              </a:rPr>
              <a:t>¿Qué hacer con los casos subclínicos?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250200" indent="-250200">
              <a:spcBef>
                <a:spcPts val="799"/>
              </a:spcBef>
              <a:buClr>
                <a:srgbClr val="82004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004d"/>
                </a:solidFill>
                <a:latin typeface="Arial"/>
              </a:rPr>
              <a:t>Aislamiento físico: pieza individual para enfermos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250200" indent="-250200">
              <a:lnSpc>
                <a:spcPct val="20000"/>
              </a:lnSpc>
              <a:spcBef>
                <a:spcPts val="799"/>
              </a:spcBef>
              <a:buClr>
                <a:srgbClr val="82004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250200" indent="-250200">
              <a:spcBef>
                <a:spcPts val="799"/>
              </a:spcBef>
              <a:buClr>
                <a:srgbClr val="82004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004d"/>
                </a:solidFill>
                <a:latin typeface="Arial"/>
              </a:rPr>
              <a:t>¿Uso de mascarillas, guantes, delantal?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250200" indent="-250200">
              <a:spcBef>
                <a:spcPts val="799"/>
              </a:spcBef>
              <a:buClr>
                <a:srgbClr val="82004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004d"/>
                </a:solidFill>
                <a:latin typeface="Arial"/>
              </a:rPr>
              <a:t>Restricción de contactos: evitar visitas, circulación,  aglomeracione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250200" indent="-250200">
              <a:spcBef>
                <a:spcPts val="799"/>
              </a:spcBef>
              <a:buClr>
                <a:srgbClr val="82004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004d"/>
                </a:solidFill>
                <a:latin typeface="Arial"/>
              </a:rPr>
              <a:t>Lavado frecuente de mano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250200" indent="-250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250200" indent="-250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004d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385840" y="64911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12ed0"/>
                </a:solidFill>
                <a:latin typeface="Arial"/>
              </a:rPr>
              <a:t>Yoyo`s 2005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0" y="1981080"/>
          <a:ext cx="10287000" cy="4040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81080"/>
                    <a:ext cx="10287000" cy="40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514440" y="549360"/>
            <a:ext cx="977256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c0023"/>
                </a:solidFill>
                <a:latin typeface="Arial"/>
              </a:rPr>
              <a:t>VIGILANCIA DE VIRUS RESPIRATORIOS EN LACTANTES HOSPITALIZADOS POR INFECCION RESPIRATORIA AGUDA BAJA. </a:t>
            </a:r>
            <a:br>
              <a:rPr sz="2000"/>
            </a:br>
            <a:r>
              <a:rPr b="1" lang="es-ES" sz="2000" spc="-1" strike="noStrike">
                <a:solidFill>
                  <a:srgbClr val="3c0023"/>
                </a:solidFill>
                <a:latin typeface="Arial"/>
              </a:rPr>
              <a:t> Hospital R. Río. Santiago. 198</a:t>
            </a:r>
            <a:r>
              <a:rPr b="1" lang="es-ES_tradnl" sz="2000" spc="-1" strike="noStrike">
                <a:solidFill>
                  <a:srgbClr val="3c0023"/>
                </a:solidFill>
                <a:latin typeface="Arial"/>
              </a:rPr>
              <a:t>9</a:t>
            </a:r>
            <a:r>
              <a:rPr b="1" lang="es-ES" sz="2000" spc="-1" strike="noStrike">
                <a:solidFill>
                  <a:srgbClr val="3c0023"/>
                </a:solidFill>
                <a:latin typeface="Arial"/>
              </a:rPr>
              <a:t> - </a:t>
            </a:r>
            <a:r>
              <a:rPr b="1" lang="es-ES_tradnl" sz="2000" spc="-1" strike="noStrike">
                <a:solidFill>
                  <a:srgbClr val="3c0023"/>
                </a:solidFill>
                <a:latin typeface="Arial"/>
              </a:rPr>
              <a:t>2004</a:t>
            </a:r>
            <a:r>
              <a:rPr b="1" lang="es-ES" sz="2000" spc="-1" strike="noStrike">
                <a:solidFill>
                  <a:srgbClr val="3c002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555680" y="60958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Yoyo`s 2005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82600" y="404640"/>
            <a:ext cx="7848720" cy="67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70bf3"/>
                </a:solidFill>
                <a:latin typeface="Book Antiqua"/>
              </a:rPr>
              <a:t>PREVENCION DE RESFRIOS</a:t>
            </a:r>
            <a:endParaRPr b="0" lang="en-US" sz="4000" spc="-1" strike="noStrike">
              <a:solidFill>
                <a:srgbClr val="7fff00"/>
              </a:solidFill>
              <a:latin typeface="Book Antiqua"/>
            </a:endParaRPr>
          </a:p>
        </p:txBody>
      </p:sp>
      <p:sp>
        <p:nvSpPr>
          <p:cNvPr id="71" name=""/>
          <p:cNvSpPr/>
          <p:nvPr/>
        </p:nvSpPr>
        <p:spPr>
          <a:xfrm>
            <a:off x="318960" y="1847880"/>
            <a:ext cx="9968040" cy="47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200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2004d"/>
                </a:solidFill>
                <a:latin typeface="Times New Roman"/>
              </a:rPr>
              <a:t> </a:t>
            </a:r>
            <a:r>
              <a:rPr b="1" lang="es-ES" sz="3200" spc="-1" strike="noStrike">
                <a:solidFill>
                  <a:srgbClr val="82004d"/>
                </a:solidFill>
                <a:latin typeface="Times New Roman"/>
              </a:rPr>
              <a:t>más de 100 serotipos de rhinoviru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200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2004d"/>
                </a:solidFill>
                <a:latin typeface="Times New Roman"/>
              </a:rPr>
              <a:t> </a:t>
            </a:r>
            <a:r>
              <a:rPr b="1" lang="es-ES" sz="3200" spc="-1" strike="noStrike">
                <a:solidFill>
                  <a:srgbClr val="82004d"/>
                </a:solidFill>
                <a:latin typeface="Times New Roman"/>
              </a:rPr>
              <a:t>alta transmisibilidad: manos, en el hogar a partir de niños preescolare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200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2004d"/>
                </a:solidFill>
                <a:latin typeface="Times New Roman"/>
              </a:rPr>
              <a:t> </a:t>
            </a:r>
            <a:r>
              <a:rPr b="1" lang="es-ES" sz="3200" spc="-1" strike="noStrike">
                <a:solidFill>
                  <a:srgbClr val="82004d"/>
                </a:solidFill>
                <a:latin typeface="Times New Roman"/>
              </a:rPr>
              <a:t>cuadro clínico leve, además de infecciones subclínica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200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2004d"/>
                </a:solidFill>
                <a:latin typeface="Times New Roman"/>
              </a:rPr>
              <a:t> </a:t>
            </a:r>
            <a:r>
              <a:rPr b="1" lang="es-ES" sz="3200" spc="-1" strike="noStrike">
                <a:solidFill>
                  <a:srgbClr val="82004d"/>
                </a:solidFill>
                <a:latin typeface="Times New Roman"/>
              </a:rPr>
              <a:t>no hay vacuna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200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2004d"/>
                </a:solidFill>
                <a:latin typeface="Times New Roman"/>
              </a:rPr>
              <a:t> </a:t>
            </a:r>
            <a:r>
              <a:rPr b="1" lang="es-ES" sz="3200" spc="-1" strike="noStrike">
                <a:solidFill>
                  <a:srgbClr val="82004d"/>
                </a:solidFill>
                <a:latin typeface="Times New Roman"/>
              </a:rPr>
              <a:t>no hay justificación de uso de antivirale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200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2004d"/>
                </a:solidFill>
                <a:latin typeface="Times New Roman"/>
              </a:rPr>
              <a:t>CONSEJO: lavarse las mano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200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2004d"/>
                </a:solidFill>
                <a:latin typeface="Times New Roman"/>
              </a:rPr>
              <a:t>Gwaltney JM. et al. Ann Inter Med 1978; 88: 463-7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385840" y="616572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70bf3"/>
                </a:solidFill>
                <a:latin typeface="Arial"/>
              </a:rPr>
              <a:t>Yoyo`s 2002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1T17:50:40Z</dcterms:created>
  <dc:creator>yoyo</dc:creator>
  <dc:description>IRA: etiología, epidemiología, patogenia,  prevención, etc.</dc:description>
  <cp:keywords/>
  <dc:language>en-US</dc:language>
  <cp:lastModifiedBy>*</cp:lastModifiedBy>
  <cp:lastPrinted>2002-08-31T06:04:23Z</cp:lastPrinted>
  <dcterms:modified xsi:type="dcterms:W3CDTF">2008-11-18T22:33:16Z</dcterms:modified>
  <cp:revision>333</cp:revision>
  <dc:subject>IRAs virales en general</dc:subject>
  <dc:title>IRA en general</dc:title>
</cp:coreProperties>
</file>