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1C7-8D33-4F0B-8662-C2EE02AA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C1C-98FC-48DD-8E73-EDE794B5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230-D9A3-4E2E-907C-BD3E2709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987-F5E6-4CFB-B6D2-42396B51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4286-15C7-4808-A810-087034DD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5944-A405-4F67-916E-ACAD7702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CF94-574E-40F0-8161-ABBFEF82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65D4-3B7F-468F-950B-E826457B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D79-D12C-4435-A6B5-6B446D3B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C0DF-8D16-481D-9CD8-5546C5A9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B873-03FC-4056-851F-D522F2D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FDB-2FA5-4163-B5DD-CBDA156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55AA-27D3-49E6-9344-4D1BA18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A4CE-55D5-4570-ADB1-CF217B2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8346-4E7A-44B3-ADEC-B87B654B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A89F-4D75-443C-AA92-4B554EC3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554F-5AFC-45C0-907B-3ADAA9BC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C07-358C-4278-BB8C-D986918A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B37-6D2A-4808-8BDC-4B93F55E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2CC-B629-44BE-A2DC-8DCE9968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DD1-47B8-4682-B0AB-EB396F15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D03-5272-448C-BC30-EA74F30C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ED7-E771-4AA8-8689-0CD0ECE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AFC-1E3A-4A94-A912-46488BEA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6DC3-ED2E-4D83-A330-5E79A2BF8AB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A710-0BF5-47B5-B91A-053DDDCBFC4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Imagen:Hiv-timecourse-es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10920" y="429264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2"/>
                </a:solidFill>
                <a:latin typeface="Tahoma"/>
                <a:ea typeface="굴림"/>
              </a:rPr>
              <a:t>Dras. Carmen Larrañaga, </a:t>
            </a:r>
            <a:r>
              <a:rPr b="1" lang="es-CL" sz="2000" spc="-1" strike="noStrike">
                <a:solidFill>
                  <a:srgbClr val="000092"/>
                </a:solidFill>
                <a:latin typeface="Tahoma"/>
                <a:ea typeface="굴림"/>
              </a:rPr>
              <a:t>Elba Wu, Ana María Álvarez, Ana Chávez, Eloisa Vizueta, Ana María Peña, M. Isabel Galaz, Claudia Bravo y Red de Representantes del Comité Nacional de SIDA Pediátrico de C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70828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2"/>
                </a:solidFill>
                <a:latin typeface="Tahoma"/>
              </a:rPr>
              <a:t>Transmisión Vertical por 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3068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structura y Replicación V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ITÉ NACIONAL DE SIDA PEDIATRICO. CHILE, 1989-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34160" cy="61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588000" y="4437000"/>
          <a:ext cx="221004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437000"/>
                    <a:ext cx="2210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855440" y="34797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p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657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2440" y="233280"/>
            <a:ext cx="84916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0560" y="1600200"/>
            <a:ext cx="3976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96360" cy="2484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iesgo de 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uidos Infecciosos y no infeccio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3640" y="1700280"/>
            <a:ext cx="3310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cc0000"/>
                </a:solidFill>
                <a:latin typeface="Verdana"/>
              </a:rPr>
              <a:t>No Infeccio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al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gri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ri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posi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7002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cc0000"/>
                </a:solidFill>
                <a:latin typeface="Verdana"/>
              </a:rPr>
              <a:t>Infecc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angre  y hemoderiv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creciones vag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eche ma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 - PREVEN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7920"/>
            <a:ext cx="9144000" cy="57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XU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STIN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JA ESTABLE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ERV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NSFUSIONES SEG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VENCIÓN EN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GRAMAS EN EMBA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COLOS CON A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181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58669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260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STORIA NATURAL DE INFECCION CON 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Curso típico de la infección por VIH. Los detalles, en particular los plazos, varían ampliamente de un infectado a otro. En azul, evolución del recuento de linfocitos T CD4+. En rojo, evolución de la carga viral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7854840" cy="128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39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mundo, actualmente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&gt; 90%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la infección por VIH en niños es adquirida por transmisión vert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que ocurra transmisión vertical varía entre un 16 y 4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n lactancia matern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0% ocurre durante el embarazo (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in úter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70% ocurre periparto (últimas semanas del embarazo, intrapart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0% si hay lactancia mate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005680" y="4005360"/>
            <a:ext cx="80640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42560"/>
            <a:ext cx="83822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VIH-SID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052640"/>
            <a:ext cx="81154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1 se descubre el SIDA en homosex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3 se aisló un retrovirus en Francia en pacientes con SID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Sinoussi y Montagni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1984  se establece que este retrovirus es el agente causal del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6 se descubrió el VIH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mili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trovirida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familias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ncoviridae,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entiviridae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spumavirid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2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átrico descrito en el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mundo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3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perinatal de sida pediátrico descrito en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el mun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7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atrico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descrito en Chile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9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os casos </a:t>
            </a:r>
            <a:r>
              <a:rPr b="1" lang="es-ES" sz="2200" spc="-1" strike="noStrike">
                <a:solidFill>
                  <a:srgbClr val="800000"/>
                </a:solidFill>
                <a:latin typeface="Comic Sans MS"/>
              </a:rPr>
              <a:t>perinat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notificados en Ch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90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Constitución Comité Nacional de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       Sida Pediátrico, SOCHI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20" y="301320"/>
            <a:ext cx="912168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PROGRESOS EN VIH EN NIÑOS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46360"/>
            <a:ext cx="82296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87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se implanta la detección del VIH en todos los bancos de sangre en Ch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92-97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aplicación progresiva de la técnica de PCR en la detección del VIH en niños, lográndose una mejoría en la confirmación diagnóstica de VIH en los niños chilen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Desde 1995</a:t>
            </a: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uso en forma progresiva de AZT (PACTG  076) y luego lenta incorporación de otros protocolos de ARV (biterapia, triterapia), además de aplicación de otras medidas, en la   prevención de la transmisión vertical del VIH (TV-VIH)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Desde 2005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Ofrecimiento del test para VIH a toda mujer embarazada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57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Infección VIH en Pediatría. </a:t>
            </a:r>
            <a:br>
              <a:rPr sz="2500"/>
            </a:b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Chile. ISP. Chile 1987-2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3640" y="189000"/>
          <a:ext cx="4140360" cy="22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89000"/>
                    <a:ext cx="414036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39640" y="2637000"/>
          <a:ext cx="8229600" cy="3838320"/>
        </p:xfrm>
        <a:graphic>
          <a:graphicData uri="http://schemas.openxmlformats.org/drawingml/2006/table">
            <a:tbl>
              <a:tblPr/>
              <a:tblGrid>
                <a:gridCol w="2238480"/>
                <a:gridCol w="2428920"/>
                <a:gridCol w="2104920"/>
                <a:gridCol w="145728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ijos de Madre V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ro Mecan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95 (21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segu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de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Tasa Infección Vertical y PTV. </a:t>
            </a:r>
            <a:br>
              <a:rPr sz="2500"/>
            </a:b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Chile 1987-05 y 2006-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698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2060640"/>
          <a:ext cx="8135640" cy="3744720"/>
        </p:xfrm>
        <a:graphic>
          <a:graphicData uri="http://schemas.openxmlformats.org/drawingml/2006/table">
            <a:tbl>
              <a:tblPr/>
              <a:tblGrid>
                <a:gridCol w="1105560"/>
                <a:gridCol w="947520"/>
                <a:gridCol w="1500840"/>
                <a:gridCol w="1579680"/>
                <a:gridCol w="710640"/>
                <a:gridCol w="790560"/>
                <a:gridCol w="789120"/>
                <a:gridCol w="711720"/>
              </a:tblGrid>
              <a:tr h="583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Ñ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ga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osi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Infección Vertic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i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o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987 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06 a 20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3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8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1.4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6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9880" y="623736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Arial"/>
              </a:rPr>
              <a:t>PTV: Protocolo de Prevención de Transmisión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8191800" cy="947160"/>
          </a:xfrm>
          <a:prstGeom prst="rect">
            <a:avLst/>
          </a:prstGeom>
          <a:solidFill>
            <a:srgbClr val="a3b2c1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ÓSTICO DE LABORATORI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773360"/>
            <a:ext cx="8458200" cy="5000760"/>
          </a:xfrm>
          <a:prstGeom prst="rect">
            <a:avLst/>
          </a:prstGeom>
          <a:solidFill>
            <a:srgbClr val="33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LABORATORIO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INMUNOLÓGICO: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UBPOBLACIÓN DE LINF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UANTIFICACIÓN DE INMUNOGLOBU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VIROLÓG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ICUERPOS: (ELISA, TEST DE CONFI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ÍGENOS: (ELISA, P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NA PROVIRAL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NA VIRAL (RT-PCR, BRANCH, NAS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UDIO DE RESISTENCIA(FENOTIPO,GENO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94720" y="304920"/>
            <a:ext cx="6124320" cy="947160"/>
          </a:xfrm>
          <a:prstGeom prst="rect">
            <a:avLst/>
          </a:prstGeom>
          <a:solidFill>
            <a:srgbClr val="a3b2c1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 POR  VIH  EN  NI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OSTICO  DE 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286000"/>
            <a:ext cx="8370720" cy="39344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EDAD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      CONFIRMACION INFECCION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DESCARTE  INFE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. NAC.      AL MENOS 2 MUESTRA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 MENOS 2 MUEST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+) SIN CONSIDERA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-) SIN CONS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ª MUESTRA DE ANTES DE 4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RAR 1ª MUESTR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RAS DE VID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TES DE 48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1 MES Y    2 PCR DEBEN SER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 PCR DEBEN SER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lt; 18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 18 M.      BASTA 1 PCR (+) Y/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STA 1 PCR (-) Y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743200"/>
            <a:ext cx="86104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8440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TRANSMISIÓN VERTICAL VIH</a:t>
            </a:r>
            <a:br>
              <a:rPr sz="3600"/>
            </a:br>
            <a:r>
              <a:rPr b="0" lang="es-AR" sz="3600" spc="-1" strike="noStrike">
                <a:solidFill>
                  <a:srgbClr val="800000"/>
                </a:solidFill>
                <a:latin typeface="Comic Sans MS"/>
              </a:rPr>
              <a:t>NORMA DE PREVENCIÓ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447560" y="4060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misión nacional del S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ubsecretaría de Salud Públ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Agosto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00000"/>
                </a:solidFill>
                <a:latin typeface="Comic Sans MS"/>
              </a:rPr>
              <a:t>Objetivo Principal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Reducción de la transmisión vertical a 1%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961360" y="4941720"/>
            <a:ext cx="383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CONASIDA, MINSAL, Agosto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280" y="196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8208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etección universal de la infección VIH en la embarazada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Examen de VIH al 100% de las embarazadas. </a:t>
            </a: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 Ofrecer Examen Rápido de V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 1000 copias/ ml)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TARV Preventiva, y/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Terapéutica, a la embarazada y al 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isminución exposición del RN a sangre, secreciones cervicales o líquido amniótico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Cesárea Electiva si CV &gt; 1000 copias/ml 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sultado /examen no disponible al momento del par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emplazar lactancia materna por Alimentación Artificial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18172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Detección universal de la infección VIH en l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embarazad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Ofrecer Examen de VIH al 100% de las embaraz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Tomar examen de VIH en segundo control del embarazo con consentimiento informado y consejería pre y post-examen (acerca de la infección por VIH y otras E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resultado es VIH (+) confirmado, se debe ofrecer TARV para prevención de la transmisión vertical / tratamiento de la infección por VIH, según sean las condiciones de la mujer embaraz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sin TARV previa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iniciar triterapia en la semana 24 de gestación si la TARV es sólo preventiva y antes de esa semana si además es terapéutic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con TARV antes del embarazo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analizar cada caso para la indicación de la TARV</a:t>
            </a:r>
            <a:r>
              <a:rPr b="0" lang="es-AR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37440" cy="544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94760" y="260280"/>
            <a:ext cx="168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Ofrecer examen rápido de VIH, con consentimiento informado, y si el resultado es positivo  indicar TARV preventiva de la transmisión del VIH (TARV intraparto y RN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1000 copias /ml)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Inicio de triterapia Preventiva y/o Terapéutica en la semana 24 de gestación (o antes si terapéutica) da tiempo para obtener una respuesta clínica, inmunológica y virológica y permite, así,  efectuar un examen  de CV en la semana 34 y tener su resultado antes de la semana 38 de ges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n lo posible toda TARV preventiva de la transmisión vertical debe contener ZDV. Si ZDV está contraindicada en la embarazada: indicarla iv intraparto y oral al R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al momento del parto sin TARV (VIH conocida, pero sin TARV o examen rápido resultó VIH[+])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Aplicar la parte intraparto y neonatal del PACTG 076 (ZDV iv a la madre y oral al RN) y NVP ( 1 dosis a la madre + 1 o 2 dosis al R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8182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No lactancia materna (interrupción farmacológica) ni por nodrizas ni leche de bancos de lec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ar alimentación arti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VIH</a:t>
            </a: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: </a:t>
            </a: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Pesquisa en Embaraza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INFECCIÓN POR VIH y EMBARAZ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Mujer VIH (+) conocida que se embaraz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1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Detección de Infección por VIH en mujer embarazada por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actores de riesgo para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 Sugerentes De Infección Concomitante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propias de la infección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diante Solicitud Del Examen De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0560" y="2317680"/>
            <a:ext cx="808344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700" spc="-1" strike="noStrike">
                <a:solidFill>
                  <a:srgbClr val="800000"/>
                </a:solidFill>
                <a:latin typeface="Comic Sans MS"/>
              </a:rPr>
              <a:t>Basada en: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Manifestaciones clínicas sugerentes de infección concomitante por VI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039240" cy="63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DETECCIÓN DE LA INFECCIÓN </a:t>
            </a:r>
            <a:br>
              <a:rPr sz="2900"/>
            </a:b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POR VIH EN MUJE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0835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800000"/>
                </a:solidFill>
                <a:latin typeface="Comic Sans MS"/>
              </a:rPr>
              <a:t>Manifestaciones clínicas sugerentes: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andidiasis vaginal persistente,recurrente, severa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Herpes genital recurrente, sever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ulcerativa genital(sifilis, chancroide, etc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ondiloma acuminado recalcitrante o en varios siti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por virus papiloma humano: displasia cervical, 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inflamatoria pélvica persistente, recurr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3240" y="775440"/>
            <a:ext cx="1857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hepatitis B y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7640" y="1280520"/>
            <a:ext cx="1869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varicela-zo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3960" y="1786680"/>
            <a:ext cx="162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pstein-Bar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3600" y="2291760"/>
            <a:ext cx="1494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nterovi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3960" y="2796480"/>
            <a:ext cx="1748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vovirus 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2160" y="3301200"/>
            <a:ext cx="134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otidit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3240" y="3806280"/>
            <a:ext cx="140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ramp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4311000"/>
            <a:ext cx="2244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ipanozoma cruz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2520" y="4817520"/>
            <a:ext cx="209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lmonella typh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5040" y="5322240"/>
            <a:ext cx="2512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Mycobacterium T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680" y="5826960"/>
            <a:ext cx="2957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Listeria monocytóg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040" y="6333480"/>
            <a:ext cx="1547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. pallid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56200" y="587520"/>
            <a:ext cx="2754360" cy="612720"/>
            <a:chOff x="5056200" y="587520"/>
            <a:chExt cx="2754360" cy="612720"/>
          </a:xfrm>
        </p:grpSpPr>
        <p:sp>
          <p:nvSpPr>
            <p:cNvPr id="242" name=""/>
            <p:cNvSpPr/>
            <p:nvPr/>
          </p:nvSpPr>
          <p:spPr>
            <a:xfrm>
              <a:off x="5056200" y="587520"/>
              <a:ext cx="387360" cy="517320"/>
            </a:xfrm>
            <a:custGeom>
              <a:avLst/>
              <a:gdLst/>
              <a:ahLst/>
              <a:rect l="l" t="t" r="r" b="b"/>
              <a:pathLst>
                <a:path w="275" h="326">
                  <a:moveTo>
                    <a:pt x="101" y="325"/>
                  </a:moveTo>
                  <a:lnTo>
                    <a:pt x="172" y="325"/>
                  </a:lnTo>
                  <a:lnTo>
                    <a:pt x="172" y="58"/>
                  </a:lnTo>
                  <a:lnTo>
                    <a:pt x="274" y="58"/>
                  </a:lnTo>
                  <a:lnTo>
                    <a:pt x="274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01" y="58"/>
                  </a:lnTo>
                  <a:lnTo>
                    <a:pt x="101" y="325"/>
                  </a:lnTo>
                  <a:lnTo>
                    <a:pt x="101" y="32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424480" y="858960"/>
              <a:ext cx="190440" cy="253800"/>
              <a:chOff x="5424480" y="858960"/>
              <a:chExt cx="190440" cy="253800"/>
            </a:xfrm>
          </p:grpSpPr>
          <p:sp>
            <p:nvSpPr>
              <p:cNvPr id="244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8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40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8" y="42"/>
                    </a:lnTo>
                    <a:lnTo>
                      <a:pt x="88" y="44"/>
                    </a:lnTo>
                    <a:lnTo>
                      <a:pt x="90" y="45"/>
                    </a:lnTo>
                    <a:lnTo>
                      <a:pt x="90" y="47"/>
                    </a:lnTo>
                    <a:lnTo>
                      <a:pt x="92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6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8" y="71"/>
                    </a:lnTo>
                    <a:lnTo>
                      <a:pt x="98" y="74"/>
                    </a:lnTo>
                    <a:lnTo>
                      <a:pt x="98" y="77"/>
                    </a:lnTo>
                    <a:lnTo>
                      <a:pt x="98" y="79"/>
                    </a:lnTo>
                    <a:lnTo>
                      <a:pt x="98" y="85"/>
                    </a:lnTo>
                    <a:lnTo>
                      <a:pt x="98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6" y="95"/>
                    </a:lnTo>
                    <a:lnTo>
                      <a:pt x="96" y="97"/>
                    </a:lnTo>
                    <a:lnTo>
                      <a:pt x="96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0" y="112"/>
                    </a:lnTo>
                    <a:lnTo>
                      <a:pt x="90" y="114"/>
                    </a:lnTo>
                    <a:lnTo>
                      <a:pt x="88" y="115"/>
                    </a:lnTo>
                    <a:lnTo>
                      <a:pt x="88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4" y="125"/>
                    </a:lnTo>
                    <a:lnTo>
                      <a:pt x="62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50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7524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6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2" y="38"/>
                    </a:lnTo>
                    <a:lnTo>
                      <a:pt x="62" y="41"/>
                    </a:lnTo>
                    <a:lnTo>
                      <a:pt x="62" y="44"/>
                    </a:lnTo>
                    <a:lnTo>
                      <a:pt x="62" y="46"/>
                    </a:lnTo>
                    <a:lnTo>
                      <a:pt x="62" y="52"/>
                    </a:lnTo>
                    <a:lnTo>
                      <a:pt x="62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0" y="62"/>
                    </a:lnTo>
                    <a:lnTo>
                      <a:pt x="60" y="64"/>
                    </a:lnTo>
                    <a:lnTo>
                      <a:pt x="60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6" y="78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2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632560" y="866880"/>
              <a:ext cx="187200" cy="237960"/>
            </a:xfrm>
            <a:custGeom>
              <a:avLst/>
              <a:gdLst/>
              <a:ahLst/>
              <a:rect l="l" t="t" r="r" b="b"/>
              <a:pathLst>
                <a:path w="132" h="150">
                  <a:moveTo>
                    <a:pt x="0" y="149"/>
                  </a:moveTo>
                  <a:lnTo>
                    <a:pt x="41" y="149"/>
                  </a:lnTo>
                  <a:lnTo>
                    <a:pt x="65" y="102"/>
                  </a:lnTo>
                  <a:lnTo>
                    <a:pt x="89" y="149"/>
                  </a:lnTo>
                  <a:lnTo>
                    <a:pt x="131" y="149"/>
                  </a:lnTo>
                  <a:lnTo>
                    <a:pt x="86" y="72"/>
                  </a:lnTo>
                  <a:lnTo>
                    <a:pt x="128" y="0"/>
                  </a:lnTo>
                  <a:lnTo>
                    <a:pt x="89" y="0"/>
                  </a:lnTo>
                  <a:lnTo>
                    <a:pt x="66" y="45"/>
                  </a:lnTo>
                  <a:lnTo>
                    <a:pt x="42" y="0"/>
                  </a:lnTo>
                  <a:lnTo>
                    <a:pt x="2" y="0"/>
                  </a:lnTo>
                  <a:lnTo>
                    <a:pt x="44" y="73"/>
                  </a:lnTo>
                  <a:lnTo>
                    <a:pt x="0" y="149"/>
                  </a:lnTo>
                  <a:lnTo>
                    <a:pt x="0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837400" y="858960"/>
              <a:ext cx="190440" cy="253800"/>
              <a:chOff x="5837400" y="858960"/>
              <a:chExt cx="190440" cy="253800"/>
            </a:xfrm>
          </p:grpSpPr>
          <p:sp>
            <p:nvSpPr>
              <p:cNvPr id="249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9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9" y="44"/>
                    </a:lnTo>
                    <a:lnTo>
                      <a:pt x="89" y="45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6" y="62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8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7" y="95"/>
                    </a:lnTo>
                    <a:lnTo>
                      <a:pt x="96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9" y="114"/>
                    </a:lnTo>
                    <a:lnTo>
                      <a:pt x="89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8816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1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2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1" y="62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5" y="79"/>
                    </a:lnTo>
                    <a:lnTo>
                      <a:pt x="53" y="81"/>
                    </a:lnTo>
                    <a:lnTo>
                      <a:pt x="53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3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070680" y="858960"/>
              <a:ext cx="182520" cy="341280"/>
              <a:chOff x="6070680" y="858960"/>
              <a:chExt cx="182520" cy="341280"/>
            </a:xfrm>
          </p:grpSpPr>
          <p:sp>
            <p:nvSpPr>
              <p:cNvPr id="253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8" y="201"/>
                    </a:lnTo>
                    <a:lnTo>
                      <a:pt x="11" y="197"/>
                    </a:lnTo>
                    <a:lnTo>
                      <a:pt x="14" y="193"/>
                    </a:lnTo>
                    <a:lnTo>
                      <a:pt x="17" y="189"/>
                    </a:lnTo>
                    <a:lnTo>
                      <a:pt x="20" y="185"/>
                    </a:lnTo>
                    <a:lnTo>
                      <a:pt x="23" y="180"/>
                    </a:lnTo>
                    <a:lnTo>
                      <a:pt x="26" y="176"/>
                    </a:lnTo>
                    <a:lnTo>
                      <a:pt x="29" y="172"/>
                    </a:lnTo>
                    <a:lnTo>
                      <a:pt x="32" y="168"/>
                    </a:lnTo>
                    <a:lnTo>
                      <a:pt x="34" y="164"/>
                    </a:lnTo>
                    <a:lnTo>
                      <a:pt x="37" y="159"/>
                    </a:lnTo>
                    <a:lnTo>
                      <a:pt x="40" y="155"/>
                    </a:lnTo>
                    <a:lnTo>
                      <a:pt x="43" y="151"/>
                    </a:lnTo>
                    <a:lnTo>
                      <a:pt x="46" y="147"/>
                    </a:lnTo>
                    <a:lnTo>
                      <a:pt x="49" y="143"/>
                    </a:lnTo>
                    <a:lnTo>
                      <a:pt x="52" y="139"/>
                    </a:lnTo>
                    <a:lnTo>
                      <a:pt x="55" y="135"/>
                    </a:lnTo>
                    <a:lnTo>
                      <a:pt x="58" y="130"/>
                    </a:lnTo>
                    <a:lnTo>
                      <a:pt x="60" y="126"/>
                    </a:lnTo>
                    <a:lnTo>
                      <a:pt x="63" y="122"/>
                    </a:lnTo>
                    <a:lnTo>
                      <a:pt x="66" y="118"/>
                    </a:lnTo>
                    <a:lnTo>
                      <a:pt x="69" y="114"/>
                    </a:lnTo>
                    <a:lnTo>
                      <a:pt x="72" y="109"/>
                    </a:lnTo>
                    <a:lnTo>
                      <a:pt x="75" y="105"/>
                    </a:lnTo>
                    <a:lnTo>
                      <a:pt x="78" y="101"/>
                    </a:lnTo>
                    <a:lnTo>
                      <a:pt x="81" y="97"/>
                    </a:lnTo>
                    <a:lnTo>
                      <a:pt x="84" y="93"/>
                    </a:lnTo>
                    <a:lnTo>
                      <a:pt x="86" y="89"/>
                    </a:lnTo>
                    <a:lnTo>
                      <a:pt x="89" y="85"/>
                    </a:lnTo>
                    <a:lnTo>
                      <a:pt x="92" y="81"/>
                    </a:lnTo>
                    <a:lnTo>
                      <a:pt x="92" y="85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1" y="93"/>
                    </a:lnTo>
                    <a:lnTo>
                      <a:pt x="91" y="95"/>
                    </a:lnTo>
                    <a:lnTo>
                      <a:pt x="91" y="97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89" y="103"/>
                    </a:lnTo>
                    <a:lnTo>
                      <a:pt x="88" y="105"/>
                    </a:lnTo>
                    <a:lnTo>
                      <a:pt x="88" y="107"/>
                    </a:lnTo>
                    <a:lnTo>
                      <a:pt x="87" y="108"/>
                    </a:lnTo>
                    <a:lnTo>
                      <a:pt x="86" y="110"/>
                    </a:lnTo>
                    <a:lnTo>
                      <a:pt x="85" y="111"/>
                    </a:lnTo>
                    <a:lnTo>
                      <a:pt x="84" y="113"/>
                    </a:lnTo>
                    <a:lnTo>
                      <a:pt x="84" y="114"/>
                    </a:lnTo>
                    <a:lnTo>
                      <a:pt x="82" y="115"/>
                    </a:lnTo>
                    <a:lnTo>
                      <a:pt x="82" y="117"/>
                    </a:lnTo>
                    <a:lnTo>
                      <a:pt x="80" y="118"/>
                    </a:lnTo>
                    <a:lnTo>
                      <a:pt x="79" y="119"/>
                    </a:lnTo>
                    <a:lnTo>
                      <a:pt x="78" y="120"/>
                    </a:lnTo>
                    <a:lnTo>
                      <a:pt x="77" y="121"/>
                    </a:lnTo>
                    <a:lnTo>
                      <a:pt x="76" y="121"/>
                    </a:lnTo>
                    <a:lnTo>
                      <a:pt x="74" y="122"/>
                    </a:lnTo>
                    <a:lnTo>
                      <a:pt x="73" y="123"/>
                    </a:lnTo>
                    <a:lnTo>
                      <a:pt x="71" y="123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5" y="124"/>
                    </a:lnTo>
                    <a:lnTo>
                      <a:pt x="64" y="125"/>
                    </a:lnTo>
                    <a:lnTo>
                      <a:pt x="60" y="124"/>
                    </a:lnTo>
                    <a:lnTo>
                      <a:pt x="59" y="124"/>
                    </a:lnTo>
                    <a:lnTo>
                      <a:pt x="57" y="124"/>
                    </a:lnTo>
                    <a:lnTo>
                      <a:pt x="56" y="123"/>
                    </a:lnTo>
                    <a:lnTo>
                      <a:pt x="54" y="123"/>
                    </a:lnTo>
                    <a:lnTo>
                      <a:pt x="53" y="122"/>
                    </a:lnTo>
                    <a:lnTo>
                      <a:pt x="51" y="121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7"/>
                    </a:lnTo>
                    <a:lnTo>
                      <a:pt x="44" y="116"/>
                    </a:lnTo>
                    <a:lnTo>
                      <a:pt x="43" y="114"/>
                    </a:lnTo>
                    <a:lnTo>
                      <a:pt x="42" y="113"/>
                    </a:lnTo>
                    <a:lnTo>
                      <a:pt x="41" y="111"/>
                    </a:lnTo>
                    <a:lnTo>
                      <a:pt x="40" y="110"/>
                    </a:lnTo>
                    <a:lnTo>
                      <a:pt x="39" y="109"/>
                    </a:lnTo>
                    <a:lnTo>
                      <a:pt x="38" y="107"/>
                    </a:lnTo>
                    <a:lnTo>
                      <a:pt x="38" y="105"/>
                    </a:lnTo>
                    <a:lnTo>
                      <a:pt x="37" y="103"/>
                    </a:lnTo>
                    <a:lnTo>
                      <a:pt x="37" y="101"/>
                    </a:lnTo>
                    <a:lnTo>
                      <a:pt x="36" y="99"/>
                    </a:lnTo>
                    <a:lnTo>
                      <a:pt x="36" y="97"/>
                    </a:lnTo>
                    <a:lnTo>
                      <a:pt x="35" y="95"/>
                    </a:lnTo>
                    <a:lnTo>
                      <a:pt x="35" y="93"/>
                    </a:lnTo>
                    <a:lnTo>
                      <a:pt x="35" y="91"/>
                    </a:lnTo>
                    <a:lnTo>
                      <a:pt x="34" y="88"/>
                    </a:lnTo>
                    <a:lnTo>
                      <a:pt x="34" y="85"/>
                    </a:lnTo>
                    <a:lnTo>
                      <a:pt x="34" y="83"/>
                    </a:lnTo>
                    <a:lnTo>
                      <a:pt x="34" y="81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5" y="70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6" y="63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7" y="56"/>
                    </a:lnTo>
                    <a:lnTo>
                      <a:pt x="38" y="54"/>
                    </a:lnTo>
                    <a:lnTo>
                      <a:pt x="38" y="52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4" y="43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70" y="35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6" y="37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2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5" y="46"/>
                    </a:lnTo>
                    <a:lnTo>
                      <a:pt x="86" y="47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1" y="63"/>
                    </a:lnTo>
                    <a:lnTo>
                      <a:pt x="91" y="65"/>
                    </a:lnTo>
                    <a:lnTo>
                      <a:pt x="92" y="67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2" y="75"/>
                    </a:lnTo>
                    <a:lnTo>
                      <a:pt x="92" y="77"/>
                    </a:lnTo>
                    <a:lnTo>
                      <a:pt x="92" y="81"/>
                    </a:lnTo>
                    <a:lnTo>
                      <a:pt x="86" y="89"/>
                    </a:lnTo>
                    <a:lnTo>
                      <a:pt x="84" y="93"/>
                    </a:lnTo>
                    <a:lnTo>
                      <a:pt x="81" y="97"/>
                    </a:lnTo>
                    <a:lnTo>
                      <a:pt x="78" y="101"/>
                    </a:lnTo>
                    <a:lnTo>
                      <a:pt x="75" y="105"/>
                    </a:lnTo>
                    <a:lnTo>
                      <a:pt x="72" y="109"/>
                    </a:lnTo>
                    <a:lnTo>
                      <a:pt x="69" y="114"/>
                    </a:lnTo>
                    <a:lnTo>
                      <a:pt x="66" y="118"/>
                    </a:lnTo>
                    <a:lnTo>
                      <a:pt x="63" y="122"/>
                    </a:lnTo>
                    <a:lnTo>
                      <a:pt x="60" y="126"/>
                    </a:lnTo>
                    <a:lnTo>
                      <a:pt x="58" y="130"/>
                    </a:lnTo>
                    <a:lnTo>
                      <a:pt x="55" y="135"/>
                    </a:lnTo>
                    <a:lnTo>
                      <a:pt x="52" y="139"/>
                    </a:lnTo>
                    <a:lnTo>
                      <a:pt x="49" y="143"/>
                    </a:lnTo>
                    <a:lnTo>
                      <a:pt x="46" y="147"/>
                    </a:lnTo>
                    <a:lnTo>
                      <a:pt x="43" y="151"/>
                    </a:lnTo>
                    <a:lnTo>
                      <a:pt x="40" y="155"/>
                    </a:lnTo>
                    <a:lnTo>
                      <a:pt x="37" y="159"/>
                    </a:lnTo>
                    <a:lnTo>
                      <a:pt x="34" y="164"/>
                    </a:lnTo>
                    <a:lnTo>
                      <a:pt x="32" y="168"/>
                    </a:lnTo>
                    <a:lnTo>
                      <a:pt x="29" y="172"/>
                    </a:lnTo>
                    <a:lnTo>
                      <a:pt x="26" y="176"/>
                    </a:lnTo>
                    <a:lnTo>
                      <a:pt x="23" y="180"/>
                    </a:lnTo>
                    <a:lnTo>
                      <a:pt x="20" y="185"/>
                    </a:lnTo>
                    <a:lnTo>
                      <a:pt x="17" y="189"/>
                    </a:lnTo>
                    <a:lnTo>
                      <a:pt x="14" y="193"/>
                    </a:lnTo>
                    <a:lnTo>
                      <a:pt x="11" y="197"/>
                    </a:lnTo>
                    <a:lnTo>
                      <a:pt x="8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18560" y="912960"/>
                <a:ext cx="83520" cy="145800"/>
              </a:xfrm>
              <a:custGeom>
                <a:avLst/>
                <a:gdLst/>
                <a:ahLst/>
                <a:rect l="l" t="t" r="r" b="b"/>
                <a:pathLst>
                  <a:path w="59" h="92">
                    <a:moveTo>
                      <a:pt x="58" y="47"/>
                    </a:moveTo>
                    <a:lnTo>
                      <a:pt x="58" y="51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6" y="65"/>
                    </a:lnTo>
                    <a:lnTo>
                      <a:pt x="56" y="67"/>
                    </a:lnTo>
                    <a:lnTo>
                      <a:pt x="55" y="69"/>
                    </a:lnTo>
                    <a:lnTo>
                      <a:pt x="54" y="71"/>
                    </a:lnTo>
                    <a:lnTo>
                      <a:pt x="54" y="73"/>
                    </a:lnTo>
                    <a:lnTo>
                      <a:pt x="53" y="74"/>
                    </a:lnTo>
                    <a:lnTo>
                      <a:pt x="52" y="76"/>
                    </a:lnTo>
                    <a:lnTo>
                      <a:pt x="51" y="77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6" y="84"/>
                    </a:lnTo>
                    <a:lnTo>
                      <a:pt x="45" y="85"/>
                    </a:lnTo>
                    <a:lnTo>
                      <a:pt x="44" y="86"/>
                    </a:lnTo>
                    <a:lnTo>
                      <a:pt x="43" y="87"/>
                    </a:lnTo>
                    <a:lnTo>
                      <a:pt x="42" y="87"/>
                    </a:lnTo>
                    <a:lnTo>
                      <a:pt x="40" y="88"/>
                    </a:lnTo>
                    <a:lnTo>
                      <a:pt x="39" y="89"/>
                    </a:lnTo>
                    <a:lnTo>
                      <a:pt x="37" y="89"/>
                    </a:lnTo>
                    <a:lnTo>
                      <a:pt x="36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31" y="90"/>
                    </a:lnTo>
                    <a:lnTo>
                      <a:pt x="30" y="91"/>
                    </a:lnTo>
                    <a:lnTo>
                      <a:pt x="26" y="90"/>
                    </a:lnTo>
                    <a:lnTo>
                      <a:pt x="25" y="90"/>
                    </a:lnTo>
                    <a:lnTo>
                      <a:pt x="23" y="90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7"/>
                    </a:lnTo>
                    <a:lnTo>
                      <a:pt x="14" y="86"/>
                    </a:lnTo>
                    <a:lnTo>
                      <a:pt x="13" y="85"/>
                    </a:lnTo>
                    <a:lnTo>
                      <a:pt x="12" y="84"/>
                    </a:lnTo>
                    <a:lnTo>
                      <a:pt x="11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5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1" y="12"/>
                    </a:lnTo>
                    <a:lnTo>
                      <a:pt x="52" y="13"/>
                    </a:lnTo>
                    <a:lnTo>
                      <a:pt x="52" y="15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4" y="20"/>
                    </a:lnTo>
                    <a:lnTo>
                      <a:pt x="55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7" y="29"/>
                    </a:lnTo>
                    <a:lnTo>
                      <a:pt x="57" y="31"/>
                    </a:lnTo>
                    <a:lnTo>
                      <a:pt x="58" y="33"/>
                    </a:lnTo>
                    <a:lnTo>
                      <a:pt x="58" y="36"/>
                    </a:lnTo>
                    <a:lnTo>
                      <a:pt x="58" y="38"/>
                    </a:lnTo>
                    <a:lnTo>
                      <a:pt x="58" y="41"/>
                    </a:lnTo>
                    <a:lnTo>
                      <a:pt x="58" y="43"/>
                    </a:lnTo>
                    <a:lnTo>
                      <a:pt x="58" y="4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294600" y="782640"/>
              <a:ext cx="52200" cy="322200"/>
            </a:xfrm>
            <a:custGeom>
              <a:avLst/>
              <a:gdLst/>
              <a:ahLst/>
              <a:rect l="l" t="t" r="r" b="b"/>
              <a:pathLst>
                <a:path w="37" h="203">
                  <a:moveTo>
                    <a:pt x="0" y="202"/>
                  </a:moveTo>
                  <a:lnTo>
                    <a:pt x="36" y="20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89640" y="858960"/>
              <a:ext cx="174600" cy="253800"/>
              <a:chOff x="6389640" y="858960"/>
              <a:chExt cx="174600" cy="253800"/>
            </a:xfrm>
          </p:grpSpPr>
          <p:sp>
            <p:nvSpPr>
              <p:cNvPr id="258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81"/>
                    </a:move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2"/>
                    </a:lnTo>
                    <a:lnTo>
                      <a:pt x="82" y="82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4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5"/>
                    </a:lnTo>
                    <a:lnTo>
                      <a:pt x="82" y="86"/>
                    </a:lnTo>
                    <a:lnTo>
                      <a:pt x="82" y="87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82" y="89"/>
                    </a:lnTo>
                    <a:lnTo>
                      <a:pt x="82" y="89"/>
                    </a:lnTo>
                    <a:lnTo>
                      <a:pt x="82" y="90"/>
                    </a:lnTo>
                    <a:lnTo>
                      <a:pt x="82" y="91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0" y="104"/>
                    </a:lnTo>
                    <a:lnTo>
                      <a:pt x="80" y="106"/>
                    </a:lnTo>
                    <a:lnTo>
                      <a:pt x="80" y="107"/>
                    </a:lnTo>
                    <a:lnTo>
                      <a:pt x="79" y="109"/>
                    </a:lnTo>
                    <a:lnTo>
                      <a:pt x="79" y="110"/>
                    </a:lnTo>
                    <a:lnTo>
                      <a:pt x="78" y="112"/>
                    </a:lnTo>
                    <a:lnTo>
                      <a:pt x="78" y="113"/>
                    </a:lnTo>
                    <a:lnTo>
                      <a:pt x="77" y="115"/>
                    </a:lnTo>
                    <a:lnTo>
                      <a:pt x="76" y="116"/>
                    </a:lnTo>
                    <a:lnTo>
                      <a:pt x="75" y="117"/>
                    </a:lnTo>
                    <a:lnTo>
                      <a:pt x="74" y="119"/>
                    </a:lnTo>
                    <a:lnTo>
                      <a:pt x="73" y="120"/>
                    </a:lnTo>
                    <a:lnTo>
                      <a:pt x="72" y="121"/>
                    </a:lnTo>
                    <a:lnTo>
                      <a:pt x="71" y="122"/>
                    </a:lnTo>
                    <a:lnTo>
                      <a:pt x="70" y="123"/>
                    </a:lnTo>
                    <a:lnTo>
                      <a:pt x="69" y="123"/>
                    </a:lnTo>
                    <a:lnTo>
                      <a:pt x="68" y="124"/>
                    </a:lnTo>
                    <a:lnTo>
                      <a:pt x="66" y="125"/>
                    </a:lnTo>
                    <a:lnTo>
                      <a:pt x="65" y="126"/>
                    </a:lnTo>
                    <a:lnTo>
                      <a:pt x="64" y="127"/>
                    </a:lnTo>
                    <a:lnTo>
                      <a:pt x="62" y="127"/>
                    </a:lnTo>
                    <a:lnTo>
                      <a:pt x="61" y="127"/>
                    </a:lnTo>
                    <a:lnTo>
                      <a:pt x="59" y="128"/>
                    </a:lnTo>
                    <a:lnTo>
                      <a:pt x="58" y="128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3" y="129"/>
                    </a:lnTo>
                    <a:lnTo>
                      <a:pt x="51" y="129"/>
                    </a:lnTo>
                    <a:lnTo>
                      <a:pt x="49" y="129"/>
                    </a:lnTo>
                    <a:lnTo>
                      <a:pt x="48" y="129"/>
                    </a:lnTo>
                    <a:lnTo>
                      <a:pt x="47" y="129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4" y="127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6"/>
                    </a:lnTo>
                    <a:lnTo>
                      <a:pt x="41" y="126"/>
                    </a:lnTo>
                    <a:lnTo>
                      <a:pt x="40" y="125"/>
                    </a:lnTo>
                    <a:lnTo>
                      <a:pt x="39" y="125"/>
                    </a:lnTo>
                    <a:lnTo>
                      <a:pt x="39" y="124"/>
                    </a:lnTo>
                    <a:lnTo>
                      <a:pt x="38" y="124"/>
                    </a:lnTo>
                    <a:lnTo>
                      <a:pt x="38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5" y="118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4"/>
                    </a:lnTo>
                    <a:lnTo>
                      <a:pt x="34" y="113"/>
                    </a:lnTo>
                    <a:lnTo>
                      <a:pt x="34" y="112"/>
                    </a:lnTo>
                    <a:lnTo>
                      <a:pt x="34" y="111"/>
                    </a:lnTo>
                    <a:lnTo>
                      <a:pt x="34" y="109"/>
                    </a:lnTo>
                    <a:lnTo>
                      <a:pt x="34" y="108"/>
                    </a:lnTo>
                    <a:lnTo>
                      <a:pt x="34" y="107"/>
                    </a:lnTo>
                    <a:lnTo>
                      <a:pt x="34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3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6" y="101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9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7"/>
                    </a:lnTo>
                    <a:lnTo>
                      <a:pt x="39" y="96"/>
                    </a:lnTo>
                    <a:lnTo>
                      <a:pt x="40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4"/>
                    </a:lnTo>
                    <a:lnTo>
                      <a:pt x="44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3"/>
                    </a:lnTo>
                    <a:lnTo>
                      <a:pt x="47" y="92"/>
                    </a:lnTo>
                    <a:lnTo>
                      <a:pt x="48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2" y="91"/>
                    </a:lnTo>
                    <a:lnTo>
                      <a:pt x="52" y="91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9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4" y="88"/>
                    </a:lnTo>
                    <a:lnTo>
                      <a:pt x="64" y="87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7"/>
                    </a:lnTo>
                    <a:lnTo>
                      <a:pt x="68" y="86"/>
                    </a:lnTo>
                    <a:lnTo>
                      <a:pt x="70" y="86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3" y="85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6" y="83"/>
                    </a:lnTo>
                    <a:lnTo>
                      <a:pt x="78" y="82"/>
                    </a:lnTo>
                    <a:lnTo>
                      <a:pt x="79" y="82"/>
                    </a:lnTo>
                    <a:lnTo>
                      <a:pt x="80" y="81"/>
                    </a:lnTo>
                    <a:lnTo>
                      <a:pt x="82" y="81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7"/>
                    </a:lnTo>
                    <a:lnTo>
                      <a:pt x="82" y="89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7"/>
                    </a:lnTo>
                    <a:lnTo>
                      <a:pt x="82" y="99"/>
                    </a:lnTo>
                    <a:lnTo>
                      <a:pt x="82" y="101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2" y="106"/>
                    </a:lnTo>
                    <a:lnTo>
                      <a:pt x="82" y="107"/>
                    </a:lnTo>
                    <a:lnTo>
                      <a:pt x="82" y="109"/>
                    </a:lnTo>
                    <a:lnTo>
                      <a:pt x="82" y="111"/>
                    </a:lnTo>
                    <a:lnTo>
                      <a:pt x="82" y="113"/>
                    </a:lnTo>
                    <a:lnTo>
                      <a:pt x="82" y="114"/>
                    </a:lnTo>
                    <a:lnTo>
                      <a:pt x="82" y="116"/>
                    </a:lnTo>
                    <a:lnTo>
                      <a:pt x="82" y="118"/>
                    </a:lnTo>
                    <a:lnTo>
                      <a:pt x="82" y="119"/>
                    </a:lnTo>
                    <a:lnTo>
                      <a:pt x="82" y="121"/>
                    </a:lnTo>
                    <a:lnTo>
                      <a:pt x="82" y="123"/>
                    </a:lnTo>
                    <a:lnTo>
                      <a:pt x="82" y="125"/>
                    </a:lnTo>
                    <a:lnTo>
                      <a:pt x="82" y="127"/>
                    </a:lnTo>
                    <a:lnTo>
                      <a:pt x="82" y="128"/>
                    </a:lnTo>
                    <a:lnTo>
                      <a:pt x="82" y="130"/>
                    </a:lnTo>
                    <a:lnTo>
                      <a:pt x="82" y="132"/>
                    </a:lnTo>
                    <a:lnTo>
                      <a:pt x="82" y="133"/>
                    </a:lnTo>
                    <a:lnTo>
                      <a:pt x="82" y="135"/>
                    </a:ln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  <a:lnTo>
                      <a:pt x="82" y="132"/>
                    </a:lnTo>
                    <a:lnTo>
                      <a:pt x="82" y="130"/>
                    </a:lnTo>
                    <a:lnTo>
                      <a:pt x="82" y="129"/>
                    </a:lnTo>
                    <a:lnTo>
                      <a:pt x="82" y="127"/>
                    </a:lnTo>
                    <a:lnTo>
                      <a:pt x="82" y="125"/>
                    </a:lnTo>
                    <a:lnTo>
                      <a:pt x="82" y="123"/>
                    </a:lnTo>
                    <a:lnTo>
                      <a:pt x="82" y="122"/>
                    </a:lnTo>
                    <a:lnTo>
                      <a:pt x="82" y="120"/>
                    </a:lnTo>
                    <a:lnTo>
                      <a:pt x="82" y="118"/>
                    </a:lnTo>
                    <a:lnTo>
                      <a:pt x="82" y="117"/>
                    </a:lnTo>
                    <a:lnTo>
                      <a:pt x="82" y="115"/>
                    </a:lnTo>
                    <a:lnTo>
                      <a:pt x="82" y="113"/>
                    </a:lnTo>
                    <a:lnTo>
                      <a:pt x="82" y="111"/>
                    </a:lnTo>
                    <a:lnTo>
                      <a:pt x="82" y="110"/>
                    </a:lnTo>
                    <a:lnTo>
                      <a:pt x="82" y="108"/>
                    </a:lnTo>
                    <a:lnTo>
                      <a:pt x="82" y="106"/>
                    </a:lnTo>
                    <a:lnTo>
                      <a:pt x="82" y="105"/>
                    </a:lnTo>
                    <a:lnTo>
                      <a:pt x="82" y="103"/>
                    </a:lnTo>
                    <a:lnTo>
                      <a:pt x="82" y="101"/>
                    </a:lnTo>
                    <a:lnTo>
                      <a:pt x="82" y="99"/>
                    </a:lnTo>
                    <a:lnTo>
                      <a:pt x="82" y="98"/>
                    </a:lnTo>
                    <a:lnTo>
                      <a:pt x="82" y="96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1"/>
                    </a:lnTo>
                    <a:lnTo>
                      <a:pt x="82" y="89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4"/>
                    </a:lnTo>
                    <a:lnTo>
                      <a:pt x="82" y="82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37520" y="98748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0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8"/>
                    </a:lnTo>
                    <a:lnTo>
                      <a:pt x="39" y="39"/>
                    </a:lnTo>
                    <a:lnTo>
                      <a:pt x="38" y="40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5" y="42"/>
                    </a:lnTo>
                    <a:lnTo>
                      <a:pt x="34" y="43"/>
                    </a:lnTo>
                    <a:lnTo>
                      <a:pt x="32" y="44"/>
                    </a:lnTo>
                    <a:lnTo>
                      <a:pt x="31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9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4" y="48"/>
                    </a:lnTo>
                    <a:lnTo>
                      <a:pt x="13" y="48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7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135"/>
                    </a:move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595920" y="858960"/>
              <a:ext cx="16992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7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8" y="157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8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5" y="151"/>
                  </a:lnTo>
                  <a:lnTo>
                    <a:pt x="97" y="150"/>
                  </a:lnTo>
                  <a:lnTo>
                    <a:pt x="99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7" y="142"/>
                  </a:lnTo>
                  <a:lnTo>
                    <a:pt x="109" y="140"/>
                  </a:lnTo>
                  <a:lnTo>
                    <a:pt x="110" y="138"/>
                  </a:lnTo>
                  <a:lnTo>
                    <a:pt x="112" y="136"/>
                  </a:lnTo>
                  <a:lnTo>
                    <a:pt x="113" y="134"/>
                  </a:lnTo>
                  <a:lnTo>
                    <a:pt x="114" y="132"/>
                  </a:lnTo>
                  <a:lnTo>
                    <a:pt x="115" y="129"/>
                  </a:lnTo>
                  <a:lnTo>
                    <a:pt x="116" y="127"/>
                  </a:lnTo>
                  <a:lnTo>
                    <a:pt x="117" y="125"/>
                  </a:lnTo>
                  <a:lnTo>
                    <a:pt x="118" y="122"/>
                  </a:lnTo>
                  <a:lnTo>
                    <a:pt x="118" y="119"/>
                  </a:lnTo>
                  <a:lnTo>
                    <a:pt x="119" y="116"/>
                  </a:lnTo>
                  <a:lnTo>
                    <a:pt x="119" y="113"/>
                  </a:lnTo>
                  <a:lnTo>
                    <a:pt x="119" y="110"/>
                  </a:lnTo>
                  <a:lnTo>
                    <a:pt x="120" y="107"/>
                  </a:lnTo>
                  <a:lnTo>
                    <a:pt x="119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7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79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69" y="61"/>
                  </a:lnTo>
                  <a:lnTo>
                    <a:pt x="67" y="61"/>
                  </a:lnTo>
                  <a:lnTo>
                    <a:pt x="65" y="60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4" y="31"/>
                  </a:lnTo>
                  <a:lnTo>
                    <a:pt x="55" y="31"/>
                  </a:lnTo>
                  <a:lnTo>
                    <a:pt x="56" y="31"/>
                  </a:lnTo>
                  <a:lnTo>
                    <a:pt x="58" y="31"/>
                  </a:lnTo>
                  <a:lnTo>
                    <a:pt x="60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5" y="31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7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8" y="41"/>
                  </a:lnTo>
                  <a:lnTo>
                    <a:pt x="79" y="42"/>
                  </a:lnTo>
                  <a:lnTo>
                    <a:pt x="79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7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1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7" y="11"/>
                  </a:lnTo>
                  <a:lnTo>
                    <a:pt x="95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7" y="69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7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3" y="93"/>
                  </a:lnTo>
                  <a:lnTo>
                    <a:pt x="46" y="93"/>
                  </a:lnTo>
                  <a:lnTo>
                    <a:pt x="49" y="95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7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6"/>
                  </a:lnTo>
                  <a:lnTo>
                    <a:pt x="72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5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9" y="105"/>
                  </a:lnTo>
                  <a:lnTo>
                    <a:pt x="28" y="105"/>
                  </a:lnTo>
                  <a:lnTo>
                    <a:pt x="26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0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5440" y="860400"/>
              <a:ext cx="266760" cy="244440"/>
            </a:xfrm>
            <a:custGeom>
              <a:avLst/>
              <a:gdLst/>
              <a:ahLst/>
              <a:rect l="l" t="t" r="r" b="b"/>
              <a:pathLst>
                <a:path w="189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0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4"/>
                  </a:lnTo>
                  <a:lnTo>
                    <a:pt x="35" y="142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7" y="50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9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2"/>
                  </a:lnTo>
                  <a:lnTo>
                    <a:pt x="42" y="41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4" y="38"/>
                  </a:lnTo>
                  <a:lnTo>
                    <a:pt x="45" y="38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2" y="35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4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6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8"/>
                  </a:lnTo>
                  <a:lnTo>
                    <a:pt x="70" y="39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3" y="42"/>
                  </a:lnTo>
                  <a:lnTo>
                    <a:pt x="73" y="43"/>
                  </a:lnTo>
                  <a:lnTo>
                    <a:pt x="74" y="44"/>
                  </a:lnTo>
                  <a:lnTo>
                    <a:pt x="74" y="45"/>
                  </a:lnTo>
                  <a:lnTo>
                    <a:pt x="75" y="46"/>
                  </a:lnTo>
                  <a:lnTo>
                    <a:pt x="75" y="47"/>
                  </a:lnTo>
                  <a:lnTo>
                    <a:pt x="75" y="48"/>
                  </a:lnTo>
                  <a:lnTo>
                    <a:pt x="75" y="50"/>
                  </a:lnTo>
                  <a:lnTo>
                    <a:pt x="76" y="51"/>
                  </a:lnTo>
                  <a:lnTo>
                    <a:pt x="76" y="52"/>
                  </a:lnTo>
                  <a:lnTo>
                    <a:pt x="76" y="53"/>
                  </a:lnTo>
                  <a:lnTo>
                    <a:pt x="76" y="55"/>
                  </a:lnTo>
                  <a:lnTo>
                    <a:pt x="76" y="56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60"/>
                  </a:lnTo>
                  <a:lnTo>
                    <a:pt x="77" y="62"/>
                  </a:lnTo>
                  <a:lnTo>
                    <a:pt x="77" y="64"/>
                  </a:lnTo>
                  <a:lnTo>
                    <a:pt x="77" y="66"/>
                  </a:lnTo>
                  <a:lnTo>
                    <a:pt x="77" y="69"/>
                  </a:lnTo>
                  <a:lnTo>
                    <a:pt x="77" y="72"/>
                  </a:lnTo>
                  <a:lnTo>
                    <a:pt x="77" y="76"/>
                  </a:lnTo>
                  <a:lnTo>
                    <a:pt x="77" y="80"/>
                  </a:lnTo>
                  <a:lnTo>
                    <a:pt x="77" y="83"/>
                  </a:lnTo>
                  <a:lnTo>
                    <a:pt x="77" y="88"/>
                  </a:lnTo>
                  <a:lnTo>
                    <a:pt x="77" y="92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7" y="105"/>
                  </a:lnTo>
                  <a:lnTo>
                    <a:pt x="77" y="110"/>
                  </a:lnTo>
                  <a:lnTo>
                    <a:pt x="77" y="114"/>
                  </a:lnTo>
                  <a:lnTo>
                    <a:pt x="77" y="118"/>
                  </a:lnTo>
                  <a:lnTo>
                    <a:pt x="77" y="122"/>
                  </a:lnTo>
                  <a:lnTo>
                    <a:pt x="77" y="126"/>
                  </a:lnTo>
                  <a:lnTo>
                    <a:pt x="77" y="130"/>
                  </a:lnTo>
                  <a:lnTo>
                    <a:pt x="77" y="134"/>
                  </a:lnTo>
                  <a:lnTo>
                    <a:pt x="77" y="138"/>
                  </a:lnTo>
                  <a:lnTo>
                    <a:pt x="77" y="141"/>
                  </a:lnTo>
                  <a:lnTo>
                    <a:pt x="77" y="144"/>
                  </a:lnTo>
                  <a:lnTo>
                    <a:pt x="77" y="146"/>
                  </a:lnTo>
                  <a:lnTo>
                    <a:pt x="77" y="148"/>
                  </a:lnTo>
                  <a:lnTo>
                    <a:pt x="77" y="150"/>
                  </a:lnTo>
                  <a:lnTo>
                    <a:pt x="77" y="152"/>
                  </a:lnTo>
                  <a:lnTo>
                    <a:pt x="77" y="152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4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100" y="153"/>
                  </a:lnTo>
                  <a:lnTo>
                    <a:pt x="101" y="153"/>
                  </a:lnTo>
                  <a:lnTo>
                    <a:pt x="103" y="153"/>
                  </a:lnTo>
                  <a:lnTo>
                    <a:pt x="104" y="153"/>
                  </a:lnTo>
                  <a:lnTo>
                    <a:pt x="105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10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1" y="150"/>
                  </a:lnTo>
                  <a:lnTo>
                    <a:pt x="111" y="149"/>
                  </a:lnTo>
                  <a:lnTo>
                    <a:pt x="111" y="147"/>
                  </a:lnTo>
                  <a:lnTo>
                    <a:pt x="111" y="144"/>
                  </a:lnTo>
                  <a:lnTo>
                    <a:pt x="111" y="142"/>
                  </a:lnTo>
                  <a:lnTo>
                    <a:pt x="111" y="138"/>
                  </a:lnTo>
                  <a:lnTo>
                    <a:pt x="111" y="135"/>
                  </a:lnTo>
                  <a:lnTo>
                    <a:pt x="111" y="132"/>
                  </a:lnTo>
                  <a:lnTo>
                    <a:pt x="111" y="128"/>
                  </a:lnTo>
                  <a:lnTo>
                    <a:pt x="111" y="124"/>
                  </a:lnTo>
                  <a:lnTo>
                    <a:pt x="111" y="120"/>
                  </a:lnTo>
                  <a:lnTo>
                    <a:pt x="111" y="116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3"/>
                  </a:lnTo>
                  <a:lnTo>
                    <a:pt x="111" y="99"/>
                  </a:lnTo>
                  <a:lnTo>
                    <a:pt x="111" y="95"/>
                  </a:lnTo>
                  <a:lnTo>
                    <a:pt x="111" y="91"/>
                  </a:lnTo>
                  <a:lnTo>
                    <a:pt x="111" y="87"/>
                  </a:lnTo>
                  <a:lnTo>
                    <a:pt x="111" y="84"/>
                  </a:lnTo>
                  <a:lnTo>
                    <a:pt x="111" y="80"/>
                  </a:lnTo>
                  <a:lnTo>
                    <a:pt x="111" y="77"/>
                  </a:lnTo>
                  <a:lnTo>
                    <a:pt x="111" y="74"/>
                  </a:lnTo>
                  <a:lnTo>
                    <a:pt x="111" y="71"/>
                  </a:lnTo>
                  <a:lnTo>
                    <a:pt x="111" y="68"/>
                  </a:lnTo>
                  <a:lnTo>
                    <a:pt x="111" y="66"/>
                  </a:lnTo>
                  <a:lnTo>
                    <a:pt x="111" y="65"/>
                  </a:lnTo>
                  <a:lnTo>
                    <a:pt x="111" y="64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59"/>
                  </a:lnTo>
                  <a:lnTo>
                    <a:pt x="111" y="58"/>
                  </a:lnTo>
                  <a:lnTo>
                    <a:pt x="111" y="56"/>
                  </a:lnTo>
                  <a:lnTo>
                    <a:pt x="111" y="55"/>
                  </a:lnTo>
                  <a:lnTo>
                    <a:pt x="112" y="54"/>
                  </a:lnTo>
                  <a:lnTo>
                    <a:pt x="112" y="52"/>
                  </a:lnTo>
                  <a:lnTo>
                    <a:pt x="113" y="51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7"/>
                  </a:lnTo>
                  <a:lnTo>
                    <a:pt x="114" y="46"/>
                  </a:lnTo>
                  <a:lnTo>
                    <a:pt x="115" y="45"/>
                  </a:lnTo>
                  <a:lnTo>
                    <a:pt x="116" y="44"/>
                  </a:lnTo>
                  <a:lnTo>
                    <a:pt x="116" y="43"/>
                  </a:lnTo>
                  <a:lnTo>
                    <a:pt x="117" y="42"/>
                  </a:lnTo>
                  <a:lnTo>
                    <a:pt x="118" y="41"/>
                  </a:lnTo>
                  <a:lnTo>
                    <a:pt x="119" y="40"/>
                  </a:lnTo>
                  <a:lnTo>
                    <a:pt x="119" y="39"/>
                  </a:lnTo>
                  <a:lnTo>
                    <a:pt x="120" y="38"/>
                  </a:lnTo>
                  <a:lnTo>
                    <a:pt x="121" y="38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6" y="35"/>
                  </a:lnTo>
                  <a:lnTo>
                    <a:pt x="127" y="35"/>
                  </a:lnTo>
                  <a:lnTo>
                    <a:pt x="129" y="35"/>
                  </a:lnTo>
                  <a:lnTo>
                    <a:pt x="129" y="34"/>
                  </a:lnTo>
                  <a:lnTo>
                    <a:pt x="131" y="34"/>
                  </a:lnTo>
                  <a:lnTo>
                    <a:pt x="132" y="34"/>
                  </a:lnTo>
                  <a:lnTo>
                    <a:pt x="133" y="34"/>
                  </a:lnTo>
                  <a:lnTo>
                    <a:pt x="135" y="34"/>
                  </a:lnTo>
                  <a:lnTo>
                    <a:pt x="137" y="34"/>
                  </a:lnTo>
                  <a:lnTo>
                    <a:pt x="137" y="34"/>
                  </a:lnTo>
                  <a:lnTo>
                    <a:pt x="139" y="35"/>
                  </a:lnTo>
                  <a:lnTo>
                    <a:pt x="140" y="35"/>
                  </a:lnTo>
                  <a:lnTo>
                    <a:pt x="141" y="35"/>
                  </a:lnTo>
                  <a:lnTo>
                    <a:pt x="141" y="36"/>
                  </a:lnTo>
                  <a:lnTo>
                    <a:pt x="142" y="36"/>
                  </a:lnTo>
                  <a:lnTo>
                    <a:pt x="143" y="36"/>
                  </a:lnTo>
                  <a:lnTo>
                    <a:pt x="144" y="37"/>
                  </a:lnTo>
                  <a:lnTo>
                    <a:pt x="145" y="38"/>
                  </a:lnTo>
                  <a:lnTo>
                    <a:pt x="145" y="38"/>
                  </a:lnTo>
                  <a:lnTo>
                    <a:pt x="146" y="39"/>
                  </a:lnTo>
                  <a:lnTo>
                    <a:pt x="147" y="39"/>
                  </a:lnTo>
                  <a:lnTo>
                    <a:pt x="148" y="40"/>
                  </a:lnTo>
                  <a:lnTo>
                    <a:pt x="148" y="41"/>
                  </a:lnTo>
                  <a:lnTo>
                    <a:pt x="149" y="42"/>
                  </a:lnTo>
                  <a:lnTo>
                    <a:pt x="149" y="42"/>
                  </a:lnTo>
                  <a:lnTo>
                    <a:pt x="150" y="43"/>
                  </a:lnTo>
                  <a:lnTo>
                    <a:pt x="150" y="44"/>
                  </a:lnTo>
                  <a:lnTo>
                    <a:pt x="151" y="45"/>
                  </a:lnTo>
                  <a:lnTo>
                    <a:pt x="151" y="46"/>
                  </a:lnTo>
                  <a:lnTo>
                    <a:pt x="151" y="47"/>
                  </a:lnTo>
                  <a:lnTo>
                    <a:pt x="152" y="48"/>
                  </a:lnTo>
                  <a:lnTo>
                    <a:pt x="152" y="49"/>
                  </a:lnTo>
                  <a:lnTo>
                    <a:pt x="152" y="50"/>
                  </a:lnTo>
                  <a:lnTo>
                    <a:pt x="153" y="52"/>
                  </a:lnTo>
                  <a:lnTo>
                    <a:pt x="153" y="53"/>
                  </a:lnTo>
                  <a:lnTo>
                    <a:pt x="153" y="54"/>
                  </a:lnTo>
                  <a:lnTo>
                    <a:pt x="153" y="56"/>
                  </a:lnTo>
                  <a:lnTo>
                    <a:pt x="153" y="57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3" y="61"/>
                  </a:lnTo>
                  <a:lnTo>
                    <a:pt x="153" y="63"/>
                  </a:lnTo>
                  <a:lnTo>
                    <a:pt x="153" y="66"/>
                  </a:lnTo>
                  <a:lnTo>
                    <a:pt x="153" y="69"/>
                  </a:lnTo>
                  <a:lnTo>
                    <a:pt x="153" y="72"/>
                  </a:lnTo>
                  <a:lnTo>
                    <a:pt x="153" y="75"/>
                  </a:lnTo>
                  <a:lnTo>
                    <a:pt x="153" y="79"/>
                  </a:lnTo>
                  <a:lnTo>
                    <a:pt x="153" y="83"/>
                  </a:lnTo>
                  <a:lnTo>
                    <a:pt x="153" y="87"/>
                  </a:lnTo>
                  <a:lnTo>
                    <a:pt x="153" y="92"/>
                  </a:lnTo>
                  <a:lnTo>
                    <a:pt x="153" y="96"/>
                  </a:lnTo>
                  <a:lnTo>
                    <a:pt x="153" y="100"/>
                  </a:lnTo>
                  <a:lnTo>
                    <a:pt x="153" y="105"/>
                  </a:lnTo>
                  <a:lnTo>
                    <a:pt x="153" y="109"/>
                  </a:lnTo>
                  <a:lnTo>
                    <a:pt x="153" y="114"/>
                  </a:lnTo>
                  <a:lnTo>
                    <a:pt x="153" y="118"/>
                  </a:lnTo>
                  <a:lnTo>
                    <a:pt x="153" y="122"/>
                  </a:lnTo>
                  <a:lnTo>
                    <a:pt x="153" y="126"/>
                  </a:lnTo>
                  <a:lnTo>
                    <a:pt x="153" y="130"/>
                  </a:lnTo>
                  <a:lnTo>
                    <a:pt x="153" y="134"/>
                  </a:lnTo>
                  <a:lnTo>
                    <a:pt x="153" y="138"/>
                  </a:lnTo>
                  <a:lnTo>
                    <a:pt x="153" y="141"/>
                  </a:lnTo>
                  <a:lnTo>
                    <a:pt x="153" y="144"/>
                  </a:lnTo>
                  <a:lnTo>
                    <a:pt x="153" y="146"/>
                  </a:lnTo>
                  <a:lnTo>
                    <a:pt x="153" y="148"/>
                  </a:lnTo>
                  <a:lnTo>
                    <a:pt x="153" y="150"/>
                  </a:lnTo>
                  <a:lnTo>
                    <a:pt x="153" y="152"/>
                  </a:lnTo>
                  <a:lnTo>
                    <a:pt x="153" y="152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4" y="153"/>
                  </a:lnTo>
                  <a:lnTo>
                    <a:pt x="154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59" y="153"/>
                  </a:lnTo>
                  <a:lnTo>
                    <a:pt x="161" y="153"/>
                  </a:lnTo>
                  <a:lnTo>
                    <a:pt x="162" y="153"/>
                  </a:lnTo>
                  <a:lnTo>
                    <a:pt x="164" y="153"/>
                  </a:lnTo>
                  <a:lnTo>
                    <a:pt x="165" y="153"/>
                  </a:lnTo>
                  <a:lnTo>
                    <a:pt x="167" y="153"/>
                  </a:lnTo>
                  <a:lnTo>
                    <a:pt x="169" y="153"/>
                  </a:lnTo>
                  <a:lnTo>
                    <a:pt x="170" y="153"/>
                  </a:lnTo>
                  <a:lnTo>
                    <a:pt x="172" y="153"/>
                  </a:lnTo>
                  <a:lnTo>
                    <a:pt x="173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6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8" y="153"/>
                  </a:lnTo>
                  <a:lnTo>
                    <a:pt x="188" y="152"/>
                  </a:lnTo>
                  <a:lnTo>
                    <a:pt x="188" y="150"/>
                  </a:lnTo>
                  <a:lnTo>
                    <a:pt x="188" y="148"/>
                  </a:lnTo>
                  <a:lnTo>
                    <a:pt x="188" y="146"/>
                  </a:lnTo>
                  <a:lnTo>
                    <a:pt x="188" y="143"/>
                  </a:lnTo>
                  <a:lnTo>
                    <a:pt x="188" y="140"/>
                  </a:lnTo>
                  <a:lnTo>
                    <a:pt x="188" y="136"/>
                  </a:lnTo>
                  <a:lnTo>
                    <a:pt x="188" y="132"/>
                  </a:lnTo>
                  <a:lnTo>
                    <a:pt x="188" y="128"/>
                  </a:lnTo>
                  <a:lnTo>
                    <a:pt x="188" y="124"/>
                  </a:lnTo>
                  <a:lnTo>
                    <a:pt x="188" y="120"/>
                  </a:lnTo>
                  <a:lnTo>
                    <a:pt x="188" y="115"/>
                  </a:lnTo>
                  <a:lnTo>
                    <a:pt x="188" y="110"/>
                  </a:lnTo>
                  <a:lnTo>
                    <a:pt x="188" y="106"/>
                  </a:lnTo>
                  <a:lnTo>
                    <a:pt x="188" y="101"/>
                  </a:lnTo>
                  <a:lnTo>
                    <a:pt x="188" y="96"/>
                  </a:lnTo>
                  <a:lnTo>
                    <a:pt x="188" y="91"/>
                  </a:lnTo>
                  <a:lnTo>
                    <a:pt x="188" y="86"/>
                  </a:lnTo>
                  <a:lnTo>
                    <a:pt x="188" y="82"/>
                  </a:lnTo>
                  <a:lnTo>
                    <a:pt x="188" y="77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8" y="65"/>
                  </a:lnTo>
                  <a:lnTo>
                    <a:pt x="188" y="62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8" y="50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7" y="44"/>
                  </a:lnTo>
                  <a:lnTo>
                    <a:pt x="187" y="41"/>
                  </a:lnTo>
                  <a:lnTo>
                    <a:pt x="187" y="38"/>
                  </a:lnTo>
                  <a:lnTo>
                    <a:pt x="186" y="36"/>
                  </a:lnTo>
                  <a:lnTo>
                    <a:pt x="186" y="33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4" y="26"/>
                  </a:lnTo>
                  <a:lnTo>
                    <a:pt x="183" y="24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80" y="18"/>
                  </a:lnTo>
                  <a:lnTo>
                    <a:pt x="179" y="16"/>
                  </a:lnTo>
                  <a:lnTo>
                    <a:pt x="177" y="15"/>
                  </a:lnTo>
                  <a:lnTo>
                    <a:pt x="176" y="13"/>
                  </a:lnTo>
                  <a:lnTo>
                    <a:pt x="175" y="12"/>
                  </a:lnTo>
                  <a:lnTo>
                    <a:pt x="173" y="10"/>
                  </a:lnTo>
                  <a:lnTo>
                    <a:pt x="171" y="8"/>
                  </a:lnTo>
                  <a:lnTo>
                    <a:pt x="170" y="7"/>
                  </a:lnTo>
                  <a:lnTo>
                    <a:pt x="168" y="6"/>
                  </a:lnTo>
                  <a:lnTo>
                    <a:pt x="166" y="5"/>
                  </a:lnTo>
                  <a:lnTo>
                    <a:pt x="164" y="4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6" y="1"/>
                  </a:lnTo>
                  <a:lnTo>
                    <a:pt x="154" y="1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2" y="2"/>
                  </a:lnTo>
                  <a:lnTo>
                    <a:pt x="131" y="2"/>
                  </a:lnTo>
                  <a:lnTo>
                    <a:pt x="129" y="2"/>
                  </a:lnTo>
                  <a:lnTo>
                    <a:pt x="128" y="3"/>
                  </a:lnTo>
                  <a:lnTo>
                    <a:pt x="127" y="3"/>
                  </a:lnTo>
                  <a:lnTo>
                    <a:pt x="126" y="4"/>
                  </a:lnTo>
                  <a:lnTo>
                    <a:pt x="125" y="4"/>
                  </a:lnTo>
                  <a:lnTo>
                    <a:pt x="123" y="5"/>
                  </a:lnTo>
                  <a:lnTo>
                    <a:pt x="122" y="6"/>
                  </a:lnTo>
                  <a:lnTo>
                    <a:pt x="121" y="7"/>
                  </a:lnTo>
                  <a:lnTo>
                    <a:pt x="120" y="7"/>
                  </a:lnTo>
                  <a:lnTo>
                    <a:pt x="119" y="8"/>
                  </a:lnTo>
                  <a:lnTo>
                    <a:pt x="118" y="9"/>
                  </a:lnTo>
                  <a:lnTo>
                    <a:pt x="117" y="10"/>
                  </a:lnTo>
                  <a:lnTo>
                    <a:pt x="115" y="11"/>
                  </a:lnTo>
                  <a:lnTo>
                    <a:pt x="115" y="12"/>
                  </a:lnTo>
                  <a:lnTo>
                    <a:pt x="113" y="13"/>
                  </a:lnTo>
                  <a:lnTo>
                    <a:pt x="113" y="14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08" y="20"/>
                  </a:lnTo>
                  <a:lnTo>
                    <a:pt x="107" y="22"/>
                  </a:lnTo>
                  <a:lnTo>
                    <a:pt x="105" y="19"/>
                  </a:lnTo>
                  <a:lnTo>
                    <a:pt x="104" y="18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2" y="14"/>
                  </a:lnTo>
                  <a:lnTo>
                    <a:pt x="101" y="13"/>
                  </a:lnTo>
                  <a:lnTo>
                    <a:pt x="100" y="12"/>
                  </a:lnTo>
                  <a:lnTo>
                    <a:pt x="99" y="11"/>
                  </a:lnTo>
                  <a:lnTo>
                    <a:pt x="98" y="10"/>
                  </a:lnTo>
                  <a:lnTo>
                    <a:pt x="97" y="9"/>
                  </a:lnTo>
                  <a:lnTo>
                    <a:pt x="96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6"/>
                  </a:lnTo>
                  <a:lnTo>
                    <a:pt x="91" y="5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8" y="3"/>
                  </a:lnTo>
                  <a:lnTo>
                    <a:pt x="87" y="3"/>
                  </a:lnTo>
                  <a:lnTo>
                    <a:pt x="85" y="2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5" y="19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113600" y="858960"/>
              <a:ext cx="190440" cy="253800"/>
              <a:chOff x="7113600" y="858960"/>
              <a:chExt cx="190440" cy="253800"/>
            </a:xfrm>
          </p:grpSpPr>
          <p:sp>
            <p:nvSpPr>
              <p:cNvPr id="264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6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79" y="36"/>
                    </a:lnTo>
                    <a:lnTo>
                      <a:pt x="81" y="37"/>
                    </a:lnTo>
                    <a:lnTo>
                      <a:pt x="82" y="38"/>
                    </a:lnTo>
                    <a:lnTo>
                      <a:pt x="83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8" y="44"/>
                    </a:lnTo>
                    <a:lnTo>
                      <a:pt x="89" y="45"/>
                    </a:lnTo>
                    <a:lnTo>
                      <a:pt x="90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5" y="62"/>
                    </a:lnTo>
                    <a:lnTo>
                      <a:pt x="96" y="64"/>
                    </a:lnTo>
                    <a:lnTo>
                      <a:pt x="96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7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6" y="92"/>
                    </a:lnTo>
                    <a:lnTo>
                      <a:pt x="96" y="95"/>
                    </a:lnTo>
                    <a:lnTo>
                      <a:pt x="95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3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0" y="112"/>
                    </a:lnTo>
                    <a:lnTo>
                      <a:pt x="89" y="114"/>
                    </a:lnTo>
                    <a:lnTo>
                      <a:pt x="88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3" y="120"/>
                    </a:lnTo>
                    <a:lnTo>
                      <a:pt x="82" y="121"/>
                    </a:lnTo>
                    <a:lnTo>
                      <a:pt x="81" y="122"/>
                    </a:lnTo>
                    <a:lnTo>
                      <a:pt x="79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3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8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8" y="124"/>
                    </a:lnTo>
                    <a:lnTo>
                      <a:pt x="56" y="124"/>
                    </a:lnTo>
                    <a:lnTo>
                      <a:pt x="55" y="123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64360" y="911160"/>
                <a:ext cx="8748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1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2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2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0" y="91"/>
                    </a:lnTo>
                    <a:lnTo>
                      <a:pt x="19" y="90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33428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547040" y="782640"/>
              <a:ext cx="50760" cy="322200"/>
              <a:chOff x="7547040" y="782640"/>
              <a:chExt cx="50760" cy="322200"/>
            </a:xfrm>
          </p:grpSpPr>
          <p:sp>
            <p:nvSpPr>
              <p:cNvPr id="269" name=""/>
              <p:cNvSpPr/>
              <p:nvPr/>
            </p:nvSpPr>
            <p:spPr>
              <a:xfrm>
                <a:off x="7547040" y="78264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7"/>
                    </a:ln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47040" y="86688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47040" y="78264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0" y="37"/>
                    </a:move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63920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8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5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5" y="42"/>
                  </a:lnTo>
                  <a:lnTo>
                    <a:pt x="114" y="39"/>
                  </a:lnTo>
                  <a:lnTo>
                    <a:pt x="114" y="36"/>
                  </a:lnTo>
                  <a:lnTo>
                    <a:pt x="113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9" y="25"/>
                  </a:lnTo>
                  <a:lnTo>
                    <a:pt x="108" y="22"/>
                  </a:lnTo>
                  <a:lnTo>
                    <a:pt x="106" y="20"/>
                  </a:lnTo>
                  <a:lnTo>
                    <a:pt x="105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100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7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5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1"/>
                  </a:lnTo>
                  <a:lnTo>
                    <a:pt x="77" y="102"/>
                  </a:lnTo>
                  <a:lnTo>
                    <a:pt x="78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1" y="104"/>
                  </a:lnTo>
                  <a:lnTo>
                    <a:pt x="82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3" y="107"/>
                  </a:lnTo>
                  <a:lnTo>
                    <a:pt x="83" y="108"/>
                  </a:lnTo>
                  <a:lnTo>
                    <a:pt x="84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2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9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59" y="128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5" y="127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2" y="121"/>
                  </a:lnTo>
                  <a:lnTo>
                    <a:pt x="41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9" y="118"/>
                  </a:lnTo>
                  <a:lnTo>
                    <a:pt x="38" y="117"/>
                  </a:lnTo>
                  <a:lnTo>
                    <a:pt x="38" y="116"/>
                  </a:lnTo>
                  <a:lnTo>
                    <a:pt x="37" y="115"/>
                  </a:lnTo>
                  <a:lnTo>
                    <a:pt x="37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8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054760" y="1647720"/>
            <a:ext cx="1417320" cy="534960"/>
            <a:chOff x="5054760" y="1647720"/>
            <a:chExt cx="1417320" cy="534960"/>
          </a:xfrm>
        </p:grpSpPr>
        <p:grpSp>
          <p:nvGrpSpPr>
            <p:cNvPr id="274" name=""/>
            <p:cNvGrpSpPr/>
            <p:nvPr/>
          </p:nvGrpSpPr>
          <p:grpSpPr>
            <a:xfrm>
              <a:off x="5054760" y="1647720"/>
              <a:ext cx="514080" cy="534960"/>
              <a:chOff x="5054760" y="1647720"/>
              <a:chExt cx="514080" cy="534960"/>
            </a:xfrm>
          </p:grpSpPr>
          <p:sp>
            <p:nvSpPr>
              <p:cNvPr id="275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  <a:lnTo>
                      <a:pt x="5" y="168"/>
                    </a:lnTo>
                    <a:lnTo>
                      <a:pt x="8" y="168"/>
                    </a:lnTo>
                    <a:lnTo>
                      <a:pt x="10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17" y="168"/>
                    </a:lnTo>
                    <a:lnTo>
                      <a:pt x="20" y="168"/>
                    </a:lnTo>
                    <a:lnTo>
                      <a:pt x="22" y="168"/>
                    </a:lnTo>
                    <a:lnTo>
                      <a:pt x="24" y="168"/>
                    </a:lnTo>
                    <a:lnTo>
                      <a:pt x="27" y="168"/>
                    </a:lnTo>
                    <a:lnTo>
                      <a:pt x="30" y="168"/>
                    </a:lnTo>
                    <a:lnTo>
                      <a:pt x="32" y="168"/>
                    </a:lnTo>
                    <a:lnTo>
                      <a:pt x="34" y="168"/>
                    </a:lnTo>
                    <a:lnTo>
                      <a:pt x="37" y="168"/>
                    </a:lnTo>
                    <a:lnTo>
                      <a:pt x="39" y="168"/>
                    </a:lnTo>
                    <a:lnTo>
                      <a:pt x="42" y="168"/>
                    </a:lnTo>
                    <a:lnTo>
                      <a:pt x="44" y="168"/>
                    </a:lnTo>
                    <a:lnTo>
                      <a:pt x="46" y="168"/>
                    </a:lnTo>
                    <a:lnTo>
                      <a:pt x="49" y="168"/>
                    </a:lnTo>
                    <a:lnTo>
                      <a:pt x="52" y="168"/>
                    </a:lnTo>
                    <a:lnTo>
                      <a:pt x="54" y="168"/>
                    </a:lnTo>
                    <a:lnTo>
                      <a:pt x="56" y="168"/>
                    </a:lnTo>
                    <a:lnTo>
                      <a:pt x="59" y="168"/>
                    </a:lnTo>
                    <a:lnTo>
                      <a:pt x="61" y="168"/>
                    </a:lnTo>
                    <a:lnTo>
                      <a:pt x="64" y="168"/>
                    </a:lnTo>
                    <a:lnTo>
                      <a:pt x="66" y="168"/>
                    </a:lnTo>
                    <a:lnTo>
                      <a:pt x="69" y="168"/>
                    </a:lnTo>
                    <a:lnTo>
                      <a:pt x="71" y="168"/>
                    </a:lnTo>
                    <a:lnTo>
                      <a:pt x="74" y="168"/>
                    </a:lnTo>
                    <a:lnTo>
                      <a:pt x="76" y="168"/>
                    </a:lnTo>
                    <a:lnTo>
                      <a:pt x="79" y="168"/>
                    </a:lnTo>
                    <a:lnTo>
                      <a:pt x="79" y="155"/>
                    </a:lnTo>
                    <a:lnTo>
                      <a:pt x="80" y="149"/>
                    </a:lnTo>
                    <a:lnTo>
                      <a:pt x="80" y="143"/>
                    </a:lnTo>
                    <a:lnTo>
                      <a:pt x="81" y="138"/>
                    </a:lnTo>
                    <a:lnTo>
                      <a:pt x="82" y="132"/>
                    </a:lnTo>
                    <a:lnTo>
                      <a:pt x="84" y="126"/>
                    </a:lnTo>
                    <a:lnTo>
                      <a:pt x="86" y="121"/>
                    </a:lnTo>
                    <a:lnTo>
                      <a:pt x="88" y="116"/>
                    </a:lnTo>
                    <a:lnTo>
                      <a:pt x="90" y="111"/>
                    </a:lnTo>
                    <a:lnTo>
                      <a:pt x="92" y="107"/>
                    </a:lnTo>
                    <a:lnTo>
                      <a:pt x="94" y="102"/>
                    </a:lnTo>
                    <a:lnTo>
                      <a:pt x="97" y="98"/>
                    </a:lnTo>
                    <a:lnTo>
                      <a:pt x="100" y="94"/>
                    </a:lnTo>
                    <a:lnTo>
                      <a:pt x="102" y="90"/>
                    </a:lnTo>
                    <a:lnTo>
                      <a:pt x="106" y="86"/>
                    </a:lnTo>
                    <a:lnTo>
                      <a:pt x="109" y="83"/>
                    </a:lnTo>
                    <a:lnTo>
                      <a:pt x="113" y="80"/>
                    </a:lnTo>
                    <a:lnTo>
                      <a:pt x="116" y="77"/>
                    </a:lnTo>
                    <a:lnTo>
                      <a:pt x="120" y="74"/>
                    </a:lnTo>
                    <a:lnTo>
                      <a:pt x="124" y="71"/>
                    </a:lnTo>
                    <a:lnTo>
                      <a:pt x="129" y="69"/>
                    </a:lnTo>
                    <a:lnTo>
                      <a:pt x="133" y="67"/>
                    </a:lnTo>
                    <a:lnTo>
                      <a:pt x="138" y="65"/>
                    </a:lnTo>
                    <a:lnTo>
                      <a:pt x="143" y="63"/>
                    </a:lnTo>
                    <a:lnTo>
                      <a:pt x="148" y="62"/>
                    </a:lnTo>
                    <a:lnTo>
                      <a:pt x="153" y="60"/>
                    </a:lnTo>
                    <a:lnTo>
                      <a:pt x="158" y="59"/>
                    </a:lnTo>
                    <a:lnTo>
                      <a:pt x="164" y="58"/>
                    </a:lnTo>
                    <a:lnTo>
                      <a:pt x="169" y="58"/>
                    </a:lnTo>
                    <a:lnTo>
                      <a:pt x="175" y="58"/>
                    </a:lnTo>
                    <a:lnTo>
                      <a:pt x="181" y="58"/>
                    </a:lnTo>
                    <a:lnTo>
                      <a:pt x="193" y="58"/>
                    </a:lnTo>
                    <a:lnTo>
                      <a:pt x="198" y="58"/>
                    </a:lnTo>
                    <a:lnTo>
                      <a:pt x="204" y="59"/>
                    </a:lnTo>
                    <a:lnTo>
                      <a:pt x="210" y="60"/>
                    </a:lnTo>
                    <a:lnTo>
                      <a:pt x="215" y="62"/>
                    </a:lnTo>
                    <a:lnTo>
                      <a:pt x="220" y="63"/>
                    </a:lnTo>
                    <a:lnTo>
                      <a:pt x="225" y="65"/>
                    </a:lnTo>
                    <a:lnTo>
                      <a:pt x="230" y="67"/>
                    </a:lnTo>
                    <a:lnTo>
                      <a:pt x="234" y="69"/>
                    </a:lnTo>
                    <a:lnTo>
                      <a:pt x="238" y="71"/>
                    </a:lnTo>
                    <a:lnTo>
                      <a:pt x="243" y="74"/>
                    </a:lnTo>
                    <a:lnTo>
                      <a:pt x="247" y="77"/>
                    </a:lnTo>
                    <a:lnTo>
                      <a:pt x="250" y="80"/>
                    </a:lnTo>
                    <a:lnTo>
                      <a:pt x="254" y="83"/>
                    </a:lnTo>
                    <a:lnTo>
                      <a:pt x="258" y="86"/>
                    </a:lnTo>
                    <a:lnTo>
                      <a:pt x="261" y="90"/>
                    </a:lnTo>
                    <a:lnTo>
                      <a:pt x="264" y="94"/>
                    </a:lnTo>
                    <a:lnTo>
                      <a:pt x="267" y="98"/>
                    </a:lnTo>
                    <a:lnTo>
                      <a:pt x="270" y="102"/>
                    </a:lnTo>
                    <a:lnTo>
                      <a:pt x="272" y="107"/>
                    </a:lnTo>
                    <a:lnTo>
                      <a:pt x="274" y="111"/>
                    </a:lnTo>
                    <a:lnTo>
                      <a:pt x="276" y="116"/>
                    </a:lnTo>
                    <a:lnTo>
                      <a:pt x="278" y="121"/>
                    </a:lnTo>
                    <a:lnTo>
                      <a:pt x="280" y="126"/>
                    </a:lnTo>
                    <a:lnTo>
                      <a:pt x="281" y="132"/>
                    </a:lnTo>
                    <a:lnTo>
                      <a:pt x="282" y="138"/>
                    </a:lnTo>
                    <a:lnTo>
                      <a:pt x="284" y="143"/>
                    </a:lnTo>
                    <a:lnTo>
                      <a:pt x="284" y="149"/>
                    </a:lnTo>
                    <a:lnTo>
                      <a:pt x="285" y="155"/>
                    </a:lnTo>
                    <a:lnTo>
                      <a:pt x="285" y="162"/>
                    </a:lnTo>
                    <a:lnTo>
                      <a:pt x="286" y="168"/>
                    </a:lnTo>
                    <a:lnTo>
                      <a:pt x="285" y="181"/>
                    </a:lnTo>
                    <a:lnTo>
                      <a:pt x="284" y="187"/>
                    </a:lnTo>
                    <a:lnTo>
                      <a:pt x="284" y="193"/>
                    </a:lnTo>
                    <a:lnTo>
                      <a:pt x="282" y="199"/>
                    </a:lnTo>
                    <a:lnTo>
                      <a:pt x="281" y="205"/>
                    </a:lnTo>
                    <a:lnTo>
                      <a:pt x="280" y="210"/>
                    </a:lnTo>
                    <a:lnTo>
                      <a:pt x="278" y="215"/>
                    </a:lnTo>
                    <a:lnTo>
                      <a:pt x="276" y="220"/>
                    </a:lnTo>
                    <a:lnTo>
                      <a:pt x="274" y="225"/>
                    </a:lnTo>
                    <a:lnTo>
                      <a:pt x="272" y="230"/>
                    </a:lnTo>
                    <a:lnTo>
                      <a:pt x="270" y="234"/>
                    </a:lnTo>
                    <a:lnTo>
                      <a:pt x="267" y="238"/>
                    </a:lnTo>
                    <a:lnTo>
                      <a:pt x="264" y="242"/>
                    </a:lnTo>
                    <a:lnTo>
                      <a:pt x="261" y="246"/>
                    </a:lnTo>
                    <a:lnTo>
                      <a:pt x="258" y="250"/>
                    </a:lnTo>
                    <a:lnTo>
                      <a:pt x="254" y="253"/>
                    </a:lnTo>
                    <a:lnTo>
                      <a:pt x="250" y="256"/>
                    </a:lnTo>
                    <a:lnTo>
                      <a:pt x="247" y="260"/>
                    </a:lnTo>
                    <a:lnTo>
                      <a:pt x="243" y="262"/>
                    </a:lnTo>
                    <a:lnTo>
                      <a:pt x="238" y="265"/>
                    </a:lnTo>
                    <a:lnTo>
                      <a:pt x="234" y="267"/>
                    </a:lnTo>
                    <a:lnTo>
                      <a:pt x="230" y="269"/>
                    </a:lnTo>
                    <a:lnTo>
                      <a:pt x="225" y="271"/>
                    </a:lnTo>
                    <a:lnTo>
                      <a:pt x="220" y="273"/>
                    </a:lnTo>
                    <a:lnTo>
                      <a:pt x="215" y="274"/>
                    </a:lnTo>
                    <a:lnTo>
                      <a:pt x="210" y="276"/>
                    </a:lnTo>
                    <a:lnTo>
                      <a:pt x="204" y="277"/>
                    </a:lnTo>
                    <a:lnTo>
                      <a:pt x="198" y="278"/>
                    </a:lnTo>
                    <a:lnTo>
                      <a:pt x="193" y="278"/>
                    </a:lnTo>
                    <a:lnTo>
                      <a:pt x="187" y="278"/>
                    </a:lnTo>
                    <a:lnTo>
                      <a:pt x="181" y="279"/>
                    </a:lnTo>
                    <a:lnTo>
                      <a:pt x="169" y="278"/>
                    </a:lnTo>
                    <a:lnTo>
                      <a:pt x="164" y="278"/>
                    </a:lnTo>
                    <a:lnTo>
                      <a:pt x="158" y="277"/>
                    </a:lnTo>
                    <a:lnTo>
                      <a:pt x="153" y="276"/>
                    </a:lnTo>
                    <a:lnTo>
                      <a:pt x="148" y="274"/>
                    </a:lnTo>
                    <a:lnTo>
                      <a:pt x="143" y="273"/>
                    </a:lnTo>
                    <a:lnTo>
                      <a:pt x="138" y="271"/>
                    </a:lnTo>
                    <a:lnTo>
                      <a:pt x="133" y="269"/>
                    </a:lnTo>
                    <a:lnTo>
                      <a:pt x="129" y="267"/>
                    </a:lnTo>
                    <a:lnTo>
                      <a:pt x="124" y="265"/>
                    </a:lnTo>
                    <a:lnTo>
                      <a:pt x="120" y="262"/>
                    </a:lnTo>
                    <a:lnTo>
                      <a:pt x="116" y="260"/>
                    </a:lnTo>
                    <a:lnTo>
                      <a:pt x="113" y="256"/>
                    </a:lnTo>
                    <a:lnTo>
                      <a:pt x="109" y="253"/>
                    </a:lnTo>
                    <a:lnTo>
                      <a:pt x="106" y="250"/>
                    </a:lnTo>
                    <a:lnTo>
                      <a:pt x="102" y="246"/>
                    </a:lnTo>
                    <a:lnTo>
                      <a:pt x="100" y="242"/>
                    </a:lnTo>
                    <a:lnTo>
                      <a:pt x="97" y="238"/>
                    </a:lnTo>
                    <a:lnTo>
                      <a:pt x="94" y="234"/>
                    </a:lnTo>
                    <a:lnTo>
                      <a:pt x="92" y="230"/>
                    </a:lnTo>
                    <a:lnTo>
                      <a:pt x="90" y="225"/>
                    </a:lnTo>
                    <a:lnTo>
                      <a:pt x="88" y="220"/>
                    </a:lnTo>
                    <a:lnTo>
                      <a:pt x="86" y="215"/>
                    </a:lnTo>
                    <a:lnTo>
                      <a:pt x="84" y="210"/>
                    </a:lnTo>
                    <a:lnTo>
                      <a:pt x="82" y="205"/>
                    </a:lnTo>
                    <a:lnTo>
                      <a:pt x="81" y="199"/>
                    </a:lnTo>
                    <a:lnTo>
                      <a:pt x="80" y="193"/>
                    </a:lnTo>
                    <a:lnTo>
                      <a:pt x="80" y="187"/>
                    </a:lnTo>
                    <a:lnTo>
                      <a:pt x="79" y="181"/>
                    </a:lnTo>
                    <a:lnTo>
                      <a:pt x="79" y="175"/>
                    </a:lnTo>
                    <a:lnTo>
                      <a:pt x="79" y="168"/>
                    </a:lnTo>
                    <a:lnTo>
                      <a:pt x="74" y="168"/>
                    </a:lnTo>
                    <a:lnTo>
                      <a:pt x="71" y="168"/>
                    </a:lnTo>
                    <a:lnTo>
                      <a:pt x="69" y="168"/>
                    </a:lnTo>
                    <a:lnTo>
                      <a:pt x="66" y="168"/>
                    </a:lnTo>
                    <a:lnTo>
                      <a:pt x="64" y="168"/>
                    </a:lnTo>
                    <a:lnTo>
                      <a:pt x="62" y="168"/>
                    </a:lnTo>
                    <a:lnTo>
                      <a:pt x="59" y="168"/>
                    </a:lnTo>
                    <a:lnTo>
                      <a:pt x="57" y="168"/>
                    </a:lnTo>
                    <a:lnTo>
                      <a:pt x="54" y="168"/>
                    </a:lnTo>
                    <a:lnTo>
                      <a:pt x="52" y="168"/>
                    </a:lnTo>
                    <a:lnTo>
                      <a:pt x="49" y="168"/>
                    </a:lnTo>
                    <a:lnTo>
                      <a:pt x="47" y="168"/>
                    </a:lnTo>
                    <a:lnTo>
                      <a:pt x="44" y="168"/>
                    </a:lnTo>
                    <a:lnTo>
                      <a:pt x="42" y="168"/>
                    </a:lnTo>
                    <a:lnTo>
                      <a:pt x="40" y="168"/>
                    </a:lnTo>
                    <a:lnTo>
                      <a:pt x="37" y="168"/>
                    </a:lnTo>
                    <a:lnTo>
                      <a:pt x="35" y="168"/>
                    </a:lnTo>
                    <a:lnTo>
                      <a:pt x="32" y="168"/>
                    </a:lnTo>
                    <a:lnTo>
                      <a:pt x="30" y="168"/>
                    </a:lnTo>
                    <a:lnTo>
                      <a:pt x="27" y="168"/>
                    </a:lnTo>
                    <a:lnTo>
                      <a:pt x="25" y="168"/>
                    </a:lnTo>
                    <a:lnTo>
                      <a:pt x="22" y="168"/>
                    </a:lnTo>
                    <a:lnTo>
                      <a:pt x="20" y="168"/>
                    </a:lnTo>
                    <a:lnTo>
                      <a:pt x="18" y="168"/>
                    </a:lnTo>
                    <a:lnTo>
                      <a:pt x="15" y="168"/>
                    </a:lnTo>
                    <a:lnTo>
                      <a:pt x="12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5" y="168"/>
                    </a:lnTo>
                    <a:lnTo>
                      <a:pt x="3" y="168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66000" y="1739880"/>
                <a:ext cx="293400" cy="352440"/>
              </a:xfrm>
              <a:custGeom>
                <a:avLst/>
                <a:gdLst/>
                <a:ahLst/>
                <a:rect l="l" t="t" r="r" b="b"/>
                <a:pathLst>
                  <a:path w="208" h="222">
                    <a:moveTo>
                      <a:pt x="0" y="110"/>
                    </a:moveTo>
                    <a:lnTo>
                      <a:pt x="0" y="97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0"/>
                    </a:lnTo>
                    <a:lnTo>
                      <a:pt x="3" y="74"/>
                    </a:lnTo>
                    <a:lnTo>
                      <a:pt x="5" y="68"/>
                    </a:lnTo>
                    <a:lnTo>
                      <a:pt x="7" y="63"/>
                    </a:lnTo>
                    <a:lnTo>
                      <a:pt x="9" y="58"/>
                    </a:lnTo>
                    <a:lnTo>
                      <a:pt x="11" y="53"/>
                    </a:lnTo>
                    <a:lnTo>
                      <a:pt x="13" y="49"/>
                    </a:lnTo>
                    <a:lnTo>
                      <a:pt x="15" y="44"/>
                    </a:lnTo>
                    <a:lnTo>
                      <a:pt x="18" y="40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19"/>
                    </a:lnTo>
                    <a:lnTo>
                      <a:pt x="41" y="16"/>
                    </a:lnTo>
                    <a:lnTo>
                      <a:pt x="45" y="13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9" y="7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2"/>
                    </a:lnTo>
                    <a:lnTo>
                      <a:pt x="79" y="1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4" y="0"/>
                    </a:lnTo>
                    <a:lnTo>
                      <a:pt x="119" y="0"/>
                    </a:lnTo>
                    <a:lnTo>
                      <a:pt x="125" y="1"/>
                    </a:lnTo>
                    <a:lnTo>
                      <a:pt x="131" y="2"/>
                    </a:lnTo>
                    <a:lnTo>
                      <a:pt x="136" y="4"/>
                    </a:lnTo>
                    <a:lnTo>
                      <a:pt x="141" y="5"/>
                    </a:lnTo>
                    <a:lnTo>
                      <a:pt x="146" y="7"/>
                    </a:lnTo>
                    <a:lnTo>
                      <a:pt x="151" y="9"/>
                    </a:lnTo>
                    <a:lnTo>
                      <a:pt x="155" y="11"/>
                    </a:lnTo>
                    <a:lnTo>
                      <a:pt x="159" y="13"/>
                    </a:lnTo>
                    <a:lnTo>
                      <a:pt x="164" y="16"/>
                    </a:lnTo>
                    <a:lnTo>
                      <a:pt x="168" y="19"/>
                    </a:lnTo>
                    <a:lnTo>
                      <a:pt x="171" y="22"/>
                    </a:lnTo>
                    <a:lnTo>
                      <a:pt x="175" y="25"/>
                    </a:lnTo>
                    <a:lnTo>
                      <a:pt x="179" y="28"/>
                    </a:lnTo>
                    <a:lnTo>
                      <a:pt x="182" y="32"/>
                    </a:lnTo>
                    <a:lnTo>
                      <a:pt x="185" y="36"/>
                    </a:lnTo>
                    <a:lnTo>
                      <a:pt x="188" y="40"/>
                    </a:lnTo>
                    <a:lnTo>
                      <a:pt x="191" y="44"/>
                    </a:lnTo>
                    <a:lnTo>
                      <a:pt x="193" y="49"/>
                    </a:lnTo>
                    <a:lnTo>
                      <a:pt x="195" y="53"/>
                    </a:lnTo>
                    <a:lnTo>
                      <a:pt x="197" y="58"/>
                    </a:lnTo>
                    <a:lnTo>
                      <a:pt x="199" y="63"/>
                    </a:lnTo>
                    <a:lnTo>
                      <a:pt x="201" y="68"/>
                    </a:lnTo>
                    <a:lnTo>
                      <a:pt x="202" y="74"/>
                    </a:lnTo>
                    <a:lnTo>
                      <a:pt x="203" y="80"/>
                    </a:lnTo>
                    <a:lnTo>
                      <a:pt x="205" y="85"/>
                    </a:lnTo>
                    <a:lnTo>
                      <a:pt x="205" y="91"/>
                    </a:lnTo>
                    <a:lnTo>
                      <a:pt x="206" y="97"/>
                    </a:lnTo>
                    <a:lnTo>
                      <a:pt x="206" y="104"/>
                    </a:lnTo>
                    <a:lnTo>
                      <a:pt x="207" y="110"/>
                    </a:lnTo>
                    <a:lnTo>
                      <a:pt x="206" y="123"/>
                    </a:lnTo>
                    <a:lnTo>
                      <a:pt x="205" y="129"/>
                    </a:lnTo>
                    <a:lnTo>
                      <a:pt x="205" y="135"/>
                    </a:lnTo>
                    <a:lnTo>
                      <a:pt x="203" y="141"/>
                    </a:lnTo>
                    <a:lnTo>
                      <a:pt x="202" y="147"/>
                    </a:lnTo>
                    <a:lnTo>
                      <a:pt x="201" y="152"/>
                    </a:lnTo>
                    <a:lnTo>
                      <a:pt x="199" y="157"/>
                    </a:lnTo>
                    <a:lnTo>
                      <a:pt x="197" y="162"/>
                    </a:lnTo>
                    <a:lnTo>
                      <a:pt x="195" y="167"/>
                    </a:lnTo>
                    <a:lnTo>
                      <a:pt x="193" y="172"/>
                    </a:lnTo>
                    <a:lnTo>
                      <a:pt x="191" y="176"/>
                    </a:lnTo>
                    <a:lnTo>
                      <a:pt x="188" y="180"/>
                    </a:lnTo>
                    <a:lnTo>
                      <a:pt x="185" y="184"/>
                    </a:lnTo>
                    <a:lnTo>
                      <a:pt x="182" y="188"/>
                    </a:lnTo>
                    <a:lnTo>
                      <a:pt x="179" y="192"/>
                    </a:lnTo>
                    <a:lnTo>
                      <a:pt x="175" y="195"/>
                    </a:lnTo>
                    <a:lnTo>
                      <a:pt x="171" y="198"/>
                    </a:lnTo>
                    <a:lnTo>
                      <a:pt x="168" y="202"/>
                    </a:lnTo>
                    <a:lnTo>
                      <a:pt x="164" y="204"/>
                    </a:lnTo>
                    <a:lnTo>
                      <a:pt x="159" y="207"/>
                    </a:lnTo>
                    <a:lnTo>
                      <a:pt x="155" y="209"/>
                    </a:lnTo>
                    <a:lnTo>
                      <a:pt x="151" y="211"/>
                    </a:lnTo>
                    <a:lnTo>
                      <a:pt x="146" y="213"/>
                    </a:lnTo>
                    <a:lnTo>
                      <a:pt x="141" y="215"/>
                    </a:lnTo>
                    <a:lnTo>
                      <a:pt x="136" y="216"/>
                    </a:lnTo>
                    <a:lnTo>
                      <a:pt x="131" y="218"/>
                    </a:lnTo>
                    <a:lnTo>
                      <a:pt x="125" y="219"/>
                    </a:lnTo>
                    <a:lnTo>
                      <a:pt x="119" y="220"/>
                    </a:lnTo>
                    <a:lnTo>
                      <a:pt x="114" y="220"/>
                    </a:lnTo>
                    <a:lnTo>
                      <a:pt x="108" y="220"/>
                    </a:lnTo>
                    <a:lnTo>
                      <a:pt x="102" y="221"/>
                    </a:lnTo>
                    <a:lnTo>
                      <a:pt x="90" y="220"/>
                    </a:lnTo>
                    <a:lnTo>
                      <a:pt x="85" y="220"/>
                    </a:lnTo>
                    <a:lnTo>
                      <a:pt x="79" y="219"/>
                    </a:lnTo>
                    <a:lnTo>
                      <a:pt x="74" y="218"/>
                    </a:lnTo>
                    <a:lnTo>
                      <a:pt x="69" y="216"/>
                    </a:lnTo>
                    <a:lnTo>
                      <a:pt x="64" y="215"/>
                    </a:lnTo>
                    <a:lnTo>
                      <a:pt x="59" y="213"/>
                    </a:lnTo>
                    <a:lnTo>
                      <a:pt x="54" y="211"/>
                    </a:lnTo>
                    <a:lnTo>
                      <a:pt x="50" y="209"/>
                    </a:lnTo>
                    <a:lnTo>
                      <a:pt x="45" y="207"/>
                    </a:lnTo>
                    <a:lnTo>
                      <a:pt x="41" y="204"/>
                    </a:lnTo>
                    <a:lnTo>
                      <a:pt x="37" y="202"/>
                    </a:lnTo>
                    <a:lnTo>
                      <a:pt x="34" y="198"/>
                    </a:lnTo>
                    <a:lnTo>
                      <a:pt x="30" y="195"/>
                    </a:lnTo>
                    <a:lnTo>
                      <a:pt x="27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8" y="180"/>
                    </a:lnTo>
                    <a:lnTo>
                      <a:pt x="15" y="176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9" y="162"/>
                    </a:lnTo>
                    <a:lnTo>
                      <a:pt x="7" y="157"/>
                    </a:lnTo>
                    <a:lnTo>
                      <a:pt x="5" y="152"/>
                    </a:lnTo>
                    <a:lnTo>
                      <a:pt x="3" y="147"/>
                    </a:lnTo>
                    <a:lnTo>
                      <a:pt x="2" y="141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599080" y="1871640"/>
              <a:ext cx="136440" cy="304920"/>
            </a:xfrm>
            <a:custGeom>
              <a:avLst/>
              <a:gdLst/>
              <a:ahLst/>
              <a:rect l="l" t="t" r="r" b="b"/>
              <a:pathLst>
                <a:path w="97" h="192">
                  <a:moveTo>
                    <a:pt x="96" y="191"/>
                  </a:moveTo>
                  <a:lnTo>
                    <a:pt x="96" y="190"/>
                  </a:lnTo>
                  <a:lnTo>
                    <a:pt x="96" y="190"/>
                  </a:lnTo>
                  <a:lnTo>
                    <a:pt x="96" y="189"/>
                  </a:lnTo>
                  <a:lnTo>
                    <a:pt x="96" y="189"/>
                  </a:lnTo>
                  <a:lnTo>
                    <a:pt x="96" y="188"/>
                  </a:lnTo>
                  <a:lnTo>
                    <a:pt x="96" y="187"/>
                  </a:lnTo>
                  <a:lnTo>
                    <a:pt x="96" y="186"/>
                  </a:lnTo>
                  <a:lnTo>
                    <a:pt x="96" y="185"/>
                  </a:lnTo>
                  <a:lnTo>
                    <a:pt x="96" y="183"/>
                  </a:lnTo>
                  <a:lnTo>
                    <a:pt x="96" y="182"/>
                  </a:lnTo>
                  <a:lnTo>
                    <a:pt x="96" y="181"/>
                  </a:lnTo>
                  <a:lnTo>
                    <a:pt x="96" y="180"/>
                  </a:lnTo>
                  <a:lnTo>
                    <a:pt x="96" y="178"/>
                  </a:lnTo>
                  <a:lnTo>
                    <a:pt x="96" y="177"/>
                  </a:lnTo>
                  <a:lnTo>
                    <a:pt x="96" y="176"/>
                  </a:lnTo>
                  <a:lnTo>
                    <a:pt x="96" y="174"/>
                  </a:lnTo>
                  <a:lnTo>
                    <a:pt x="96" y="173"/>
                  </a:lnTo>
                  <a:lnTo>
                    <a:pt x="96" y="171"/>
                  </a:lnTo>
                  <a:lnTo>
                    <a:pt x="96" y="170"/>
                  </a:lnTo>
                  <a:lnTo>
                    <a:pt x="96" y="169"/>
                  </a:lnTo>
                  <a:lnTo>
                    <a:pt x="96" y="168"/>
                  </a:lnTo>
                  <a:lnTo>
                    <a:pt x="96" y="167"/>
                  </a:lnTo>
                  <a:lnTo>
                    <a:pt x="96" y="165"/>
                  </a:lnTo>
                  <a:lnTo>
                    <a:pt x="96" y="165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6" y="162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3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1" y="161"/>
                  </a:lnTo>
                  <a:lnTo>
                    <a:pt x="90" y="161"/>
                  </a:lnTo>
                  <a:lnTo>
                    <a:pt x="90" y="161"/>
                  </a:lnTo>
                  <a:lnTo>
                    <a:pt x="89" y="161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8" y="161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2" y="161"/>
                  </a:lnTo>
                  <a:lnTo>
                    <a:pt x="81" y="161"/>
                  </a:lnTo>
                  <a:lnTo>
                    <a:pt x="80" y="161"/>
                  </a:lnTo>
                  <a:lnTo>
                    <a:pt x="80" y="161"/>
                  </a:lnTo>
                  <a:lnTo>
                    <a:pt x="78" y="161"/>
                  </a:lnTo>
                  <a:lnTo>
                    <a:pt x="78" y="161"/>
                  </a:lnTo>
                  <a:lnTo>
                    <a:pt x="77" y="160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4" y="160"/>
                  </a:lnTo>
                  <a:lnTo>
                    <a:pt x="74" y="159"/>
                  </a:lnTo>
                  <a:lnTo>
                    <a:pt x="73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1" y="158"/>
                  </a:lnTo>
                  <a:lnTo>
                    <a:pt x="71" y="158"/>
                  </a:lnTo>
                  <a:lnTo>
                    <a:pt x="71" y="157"/>
                  </a:lnTo>
                  <a:lnTo>
                    <a:pt x="70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6"/>
                  </a:lnTo>
                  <a:lnTo>
                    <a:pt x="70" y="155"/>
                  </a:lnTo>
                  <a:lnTo>
                    <a:pt x="69" y="155"/>
                  </a:lnTo>
                  <a:lnTo>
                    <a:pt x="69" y="154"/>
                  </a:lnTo>
                  <a:lnTo>
                    <a:pt x="69" y="154"/>
                  </a:lnTo>
                  <a:lnTo>
                    <a:pt x="69" y="153"/>
                  </a:lnTo>
                  <a:lnTo>
                    <a:pt x="69" y="153"/>
                  </a:lnTo>
                  <a:lnTo>
                    <a:pt x="69" y="152"/>
                  </a:lnTo>
                  <a:lnTo>
                    <a:pt x="69" y="151"/>
                  </a:lnTo>
                  <a:lnTo>
                    <a:pt x="69" y="150"/>
                  </a:lnTo>
                  <a:lnTo>
                    <a:pt x="69" y="149"/>
                  </a:lnTo>
                  <a:lnTo>
                    <a:pt x="69" y="148"/>
                  </a:lnTo>
                  <a:lnTo>
                    <a:pt x="69" y="146"/>
                  </a:lnTo>
                  <a:lnTo>
                    <a:pt x="69" y="143"/>
                  </a:lnTo>
                  <a:lnTo>
                    <a:pt x="69" y="141"/>
                  </a:lnTo>
                  <a:lnTo>
                    <a:pt x="69" y="138"/>
                  </a:lnTo>
                  <a:lnTo>
                    <a:pt x="69" y="135"/>
                  </a:lnTo>
                  <a:lnTo>
                    <a:pt x="69" y="132"/>
                  </a:lnTo>
                  <a:lnTo>
                    <a:pt x="69" y="129"/>
                  </a:lnTo>
                  <a:lnTo>
                    <a:pt x="69" y="125"/>
                  </a:lnTo>
                  <a:lnTo>
                    <a:pt x="69" y="121"/>
                  </a:lnTo>
                  <a:lnTo>
                    <a:pt x="69" y="117"/>
                  </a:lnTo>
                  <a:lnTo>
                    <a:pt x="69" y="114"/>
                  </a:lnTo>
                  <a:lnTo>
                    <a:pt x="69" y="110"/>
                  </a:lnTo>
                  <a:lnTo>
                    <a:pt x="69" y="106"/>
                  </a:lnTo>
                  <a:lnTo>
                    <a:pt x="69" y="102"/>
                  </a:lnTo>
                  <a:lnTo>
                    <a:pt x="69" y="98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7"/>
                  </a:lnTo>
                  <a:lnTo>
                    <a:pt x="69" y="84"/>
                  </a:lnTo>
                  <a:lnTo>
                    <a:pt x="69" y="81"/>
                  </a:lnTo>
                  <a:lnTo>
                    <a:pt x="69" y="79"/>
                  </a:lnTo>
                  <a:lnTo>
                    <a:pt x="69" y="76"/>
                  </a:lnTo>
                  <a:lnTo>
                    <a:pt x="69" y="74"/>
                  </a:lnTo>
                  <a:lnTo>
                    <a:pt x="69" y="72"/>
                  </a:lnTo>
                  <a:lnTo>
                    <a:pt x="69" y="71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3" y="69"/>
                  </a:lnTo>
                  <a:lnTo>
                    <a:pt x="74" y="69"/>
                  </a:lnTo>
                  <a:lnTo>
                    <a:pt x="75" y="69"/>
                  </a:lnTo>
                  <a:lnTo>
                    <a:pt x="76" y="69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0" y="69"/>
                  </a:lnTo>
                  <a:lnTo>
                    <a:pt x="81" y="69"/>
                  </a:lnTo>
                  <a:lnTo>
                    <a:pt x="83" y="69"/>
                  </a:lnTo>
                  <a:lnTo>
                    <a:pt x="84" y="69"/>
                  </a:lnTo>
                  <a:lnTo>
                    <a:pt x="85" y="69"/>
                  </a:lnTo>
                  <a:lnTo>
                    <a:pt x="86" y="69"/>
                  </a:lnTo>
                  <a:lnTo>
                    <a:pt x="88" y="69"/>
                  </a:lnTo>
                  <a:lnTo>
                    <a:pt x="89" y="69"/>
                  </a:lnTo>
                  <a:lnTo>
                    <a:pt x="90" y="69"/>
                  </a:lnTo>
                  <a:lnTo>
                    <a:pt x="91" y="69"/>
                  </a:lnTo>
                  <a:lnTo>
                    <a:pt x="92" y="69"/>
                  </a:lnTo>
                  <a:lnTo>
                    <a:pt x="93" y="69"/>
                  </a:lnTo>
                  <a:lnTo>
                    <a:pt x="94" y="69"/>
                  </a:lnTo>
                  <a:lnTo>
                    <a:pt x="94" y="69"/>
                  </a:lnTo>
                  <a:lnTo>
                    <a:pt x="95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8"/>
                  </a:lnTo>
                  <a:lnTo>
                    <a:pt x="96" y="68"/>
                  </a:lnTo>
                  <a:lnTo>
                    <a:pt x="96" y="67"/>
                  </a:lnTo>
                  <a:lnTo>
                    <a:pt x="96" y="67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4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6"/>
                  </a:lnTo>
                  <a:lnTo>
                    <a:pt x="96" y="55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6" y="49"/>
                  </a:lnTo>
                  <a:lnTo>
                    <a:pt x="96" y="48"/>
                  </a:lnTo>
                  <a:lnTo>
                    <a:pt x="96" y="47"/>
                  </a:lnTo>
                  <a:lnTo>
                    <a:pt x="96" y="46"/>
                  </a:lnTo>
                  <a:lnTo>
                    <a:pt x="96" y="45"/>
                  </a:lnTo>
                  <a:lnTo>
                    <a:pt x="96" y="44"/>
                  </a:lnTo>
                  <a:lnTo>
                    <a:pt x="96" y="43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4" y="41"/>
                  </a:lnTo>
                  <a:lnTo>
                    <a:pt x="93" y="41"/>
                  </a:lnTo>
                  <a:lnTo>
                    <a:pt x="92" y="41"/>
                  </a:lnTo>
                  <a:lnTo>
                    <a:pt x="91" y="41"/>
                  </a:lnTo>
                  <a:lnTo>
                    <a:pt x="90" y="41"/>
                  </a:lnTo>
                  <a:lnTo>
                    <a:pt x="89" y="41"/>
                  </a:lnTo>
                  <a:lnTo>
                    <a:pt x="88" y="41"/>
                  </a:lnTo>
                  <a:lnTo>
                    <a:pt x="86" y="41"/>
                  </a:lnTo>
                  <a:lnTo>
                    <a:pt x="85" y="41"/>
                  </a:lnTo>
                  <a:lnTo>
                    <a:pt x="84" y="41"/>
                  </a:lnTo>
                  <a:lnTo>
                    <a:pt x="83" y="41"/>
                  </a:lnTo>
                  <a:lnTo>
                    <a:pt x="81" y="41"/>
                  </a:lnTo>
                  <a:lnTo>
                    <a:pt x="80" y="41"/>
                  </a:lnTo>
                  <a:lnTo>
                    <a:pt x="79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5" y="41"/>
                  </a:lnTo>
                  <a:lnTo>
                    <a:pt x="74" y="41"/>
                  </a:lnTo>
                  <a:lnTo>
                    <a:pt x="73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8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69" y="34"/>
                  </a:lnTo>
                  <a:lnTo>
                    <a:pt x="69" y="33"/>
                  </a:lnTo>
                  <a:lnTo>
                    <a:pt x="69" y="31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69" y="24"/>
                  </a:lnTo>
                  <a:lnTo>
                    <a:pt x="69" y="22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9" y="13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3" y="81"/>
                  </a:lnTo>
                  <a:lnTo>
                    <a:pt x="23" y="84"/>
                  </a:lnTo>
                  <a:lnTo>
                    <a:pt x="23" y="87"/>
                  </a:lnTo>
                  <a:lnTo>
                    <a:pt x="23" y="91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1"/>
                  </a:lnTo>
                  <a:lnTo>
                    <a:pt x="23" y="105"/>
                  </a:lnTo>
                  <a:lnTo>
                    <a:pt x="23" y="109"/>
                  </a:lnTo>
                  <a:lnTo>
                    <a:pt x="23" y="113"/>
                  </a:lnTo>
                  <a:lnTo>
                    <a:pt x="23" y="116"/>
                  </a:lnTo>
                  <a:lnTo>
                    <a:pt x="23" y="120"/>
                  </a:lnTo>
                  <a:lnTo>
                    <a:pt x="23" y="124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23" y="133"/>
                  </a:lnTo>
                  <a:lnTo>
                    <a:pt x="23" y="137"/>
                  </a:lnTo>
                  <a:lnTo>
                    <a:pt x="23" y="139"/>
                  </a:lnTo>
                  <a:lnTo>
                    <a:pt x="23" y="142"/>
                  </a:lnTo>
                  <a:lnTo>
                    <a:pt x="23" y="144"/>
                  </a:lnTo>
                  <a:lnTo>
                    <a:pt x="23" y="146"/>
                  </a:lnTo>
                  <a:lnTo>
                    <a:pt x="23" y="147"/>
                  </a:lnTo>
                  <a:lnTo>
                    <a:pt x="23" y="148"/>
                  </a:lnTo>
                  <a:lnTo>
                    <a:pt x="23" y="149"/>
                  </a:lnTo>
                  <a:lnTo>
                    <a:pt x="23" y="149"/>
                  </a:lnTo>
                  <a:lnTo>
                    <a:pt x="23" y="155"/>
                  </a:lnTo>
                  <a:lnTo>
                    <a:pt x="23" y="157"/>
                  </a:lnTo>
                  <a:lnTo>
                    <a:pt x="23" y="160"/>
                  </a:lnTo>
                  <a:lnTo>
                    <a:pt x="23" y="162"/>
                  </a:lnTo>
                  <a:lnTo>
                    <a:pt x="24" y="165"/>
                  </a:lnTo>
                  <a:lnTo>
                    <a:pt x="24" y="167"/>
                  </a:lnTo>
                  <a:lnTo>
                    <a:pt x="24" y="169"/>
                  </a:lnTo>
                  <a:lnTo>
                    <a:pt x="25" y="171"/>
                  </a:lnTo>
                  <a:lnTo>
                    <a:pt x="26" y="173"/>
                  </a:lnTo>
                  <a:lnTo>
                    <a:pt x="26" y="175"/>
                  </a:lnTo>
                  <a:lnTo>
                    <a:pt x="27" y="176"/>
                  </a:lnTo>
                  <a:lnTo>
                    <a:pt x="28" y="178"/>
                  </a:lnTo>
                  <a:lnTo>
                    <a:pt x="29" y="179"/>
                  </a:lnTo>
                  <a:lnTo>
                    <a:pt x="30" y="181"/>
                  </a:lnTo>
                  <a:lnTo>
                    <a:pt x="32" y="182"/>
                  </a:lnTo>
                  <a:lnTo>
                    <a:pt x="33" y="183"/>
                  </a:lnTo>
                  <a:lnTo>
                    <a:pt x="34" y="184"/>
                  </a:lnTo>
                  <a:lnTo>
                    <a:pt x="36" y="185"/>
                  </a:lnTo>
                  <a:lnTo>
                    <a:pt x="38" y="186"/>
                  </a:lnTo>
                  <a:lnTo>
                    <a:pt x="40" y="187"/>
                  </a:lnTo>
                  <a:lnTo>
                    <a:pt x="41" y="188"/>
                  </a:lnTo>
                  <a:lnTo>
                    <a:pt x="44" y="189"/>
                  </a:lnTo>
                  <a:lnTo>
                    <a:pt x="46" y="189"/>
                  </a:lnTo>
                  <a:lnTo>
                    <a:pt x="48" y="189"/>
                  </a:lnTo>
                  <a:lnTo>
                    <a:pt x="50" y="190"/>
                  </a:lnTo>
                  <a:lnTo>
                    <a:pt x="53" y="190"/>
                  </a:lnTo>
                  <a:lnTo>
                    <a:pt x="56" y="191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71" y="191"/>
                  </a:lnTo>
                  <a:lnTo>
                    <a:pt x="72" y="191"/>
                  </a:lnTo>
                  <a:lnTo>
                    <a:pt x="72" y="191"/>
                  </a:lnTo>
                  <a:lnTo>
                    <a:pt x="73" y="191"/>
                  </a:lnTo>
                  <a:lnTo>
                    <a:pt x="74" y="191"/>
                  </a:lnTo>
                  <a:lnTo>
                    <a:pt x="74" y="191"/>
                  </a:lnTo>
                  <a:lnTo>
                    <a:pt x="75" y="191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7" y="191"/>
                  </a:lnTo>
                  <a:lnTo>
                    <a:pt x="78" y="191"/>
                  </a:lnTo>
                  <a:lnTo>
                    <a:pt x="79" y="191"/>
                  </a:lnTo>
                  <a:lnTo>
                    <a:pt x="80" y="191"/>
                  </a:lnTo>
                  <a:lnTo>
                    <a:pt x="80" y="191"/>
                  </a:lnTo>
                  <a:lnTo>
                    <a:pt x="81" y="191"/>
                  </a:lnTo>
                  <a:lnTo>
                    <a:pt x="82" y="191"/>
                  </a:lnTo>
                  <a:lnTo>
                    <a:pt x="83" y="191"/>
                  </a:lnTo>
                  <a:lnTo>
                    <a:pt x="84" y="191"/>
                  </a:lnTo>
                  <a:lnTo>
                    <a:pt x="85" y="191"/>
                  </a:lnTo>
                  <a:lnTo>
                    <a:pt x="86" y="191"/>
                  </a:lnTo>
                  <a:lnTo>
                    <a:pt x="87" y="191"/>
                  </a:lnTo>
                  <a:lnTo>
                    <a:pt x="88" y="191"/>
                  </a:lnTo>
                  <a:lnTo>
                    <a:pt x="89" y="191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2" y="191"/>
                  </a:lnTo>
                  <a:lnTo>
                    <a:pt x="94" y="191"/>
                  </a:lnTo>
                  <a:lnTo>
                    <a:pt x="95" y="191"/>
                  </a:lnTo>
                  <a:lnTo>
                    <a:pt x="96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81600" y="1930320"/>
              <a:ext cx="142920" cy="243000"/>
            </a:xfrm>
            <a:custGeom>
              <a:avLst/>
              <a:gdLst/>
              <a:ahLst/>
              <a:rect l="l" t="t" r="r" b="b"/>
              <a:pathLst>
                <a:path w="102" h="153">
                  <a:moveTo>
                    <a:pt x="0" y="152"/>
                  </a:moveTo>
                  <a:lnTo>
                    <a:pt x="1" y="152"/>
                  </a:lnTo>
                  <a:lnTo>
                    <a:pt x="1" y="152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5" y="152"/>
                  </a:lnTo>
                  <a:lnTo>
                    <a:pt x="17" y="152"/>
                  </a:lnTo>
                  <a:lnTo>
                    <a:pt x="19" y="152"/>
                  </a:lnTo>
                  <a:lnTo>
                    <a:pt x="21" y="152"/>
                  </a:lnTo>
                  <a:lnTo>
                    <a:pt x="24" y="152"/>
                  </a:lnTo>
                  <a:lnTo>
                    <a:pt x="26" y="152"/>
                  </a:lnTo>
                  <a:lnTo>
                    <a:pt x="28" y="152"/>
                  </a:lnTo>
                  <a:lnTo>
                    <a:pt x="30" y="152"/>
                  </a:lnTo>
                  <a:lnTo>
                    <a:pt x="32" y="152"/>
                  </a:lnTo>
                  <a:lnTo>
                    <a:pt x="34" y="152"/>
                  </a:lnTo>
                  <a:lnTo>
                    <a:pt x="36" y="152"/>
                  </a:lnTo>
                  <a:lnTo>
                    <a:pt x="38" y="152"/>
                  </a:lnTo>
                  <a:lnTo>
                    <a:pt x="40" y="152"/>
                  </a:lnTo>
                  <a:lnTo>
                    <a:pt x="41" y="152"/>
                  </a:lnTo>
                  <a:lnTo>
                    <a:pt x="43" y="152"/>
                  </a:lnTo>
                  <a:lnTo>
                    <a:pt x="44" y="152"/>
                  </a:lnTo>
                  <a:lnTo>
                    <a:pt x="45" y="152"/>
                  </a:lnTo>
                  <a:lnTo>
                    <a:pt x="46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1"/>
                  </a:lnTo>
                  <a:lnTo>
                    <a:pt x="47" y="150"/>
                  </a:lnTo>
                  <a:lnTo>
                    <a:pt x="47" y="149"/>
                  </a:lnTo>
                  <a:lnTo>
                    <a:pt x="47" y="147"/>
                  </a:lnTo>
                  <a:lnTo>
                    <a:pt x="47" y="145"/>
                  </a:lnTo>
                  <a:lnTo>
                    <a:pt x="47" y="142"/>
                  </a:lnTo>
                  <a:lnTo>
                    <a:pt x="47" y="140"/>
                  </a:lnTo>
                  <a:lnTo>
                    <a:pt x="47" y="137"/>
                  </a:lnTo>
                  <a:lnTo>
                    <a:pt x="47" y="134"/>
                  </a:lnTo>
                  <a:lnTo>
                    <a:pt x="47" y="131"/>
                  </a:lnTo>
                  <a:lnTo>
                    <a:pt x="47" y="127"/>
                  </a:lnTo>
                  <a:lnTo>
                    <a:pt x="47" y="124"/>
                  </a:lnTo>
                  <a:lnTo>
                    <a:pt x="47" y="120"/>
                  </a:lnTo>
                  <a:lnTo>
                    <a:pt x="47" y="117"/>
                  </a:lnTo>
                  <a:lnTo>
                    <a:pt x="47" y="113"/>
                  </a:lnTo>
                  <a:lnTo>
                    <a:pt x="47" y="109"/>
                  </a:lnTo>
                  <a:lnTo>
                    <a:pt x="47" y="106"/>
                  </a:lnTo>
                  <a:lnTo>
                    <a:pt x="47" y="102"/>
                  </a:lnTo>
                  <a:lnTo>
                    <a:pt x="47" y="99"/>
                  </a:lnTo>
                  <a:lnTo>
                    <a:pt x="47" y="95"/>
                  </a:lnTo>
                  <a:lnTo>
                    <a:pt x="47" y="92"/>
                  </a:lnTo>
                  <a:lnTo>
                    <a:pt x="47" y="89"/>
                  </a:lnTo>
                  <a:lnTo>
                    <a:pt x="47" y="86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7" y="79"/>
                  </a:lnTo>
                  <a:lnTo>
                    <a:pt x="47" y="77"/>
                  </a:lnTo>
                  <a:lnTo>
                    <a:pt x="47" y="76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7" y="70"/>
                  </a:lnTo>
                  <a:lnTo>
                    <a:pt x="47" y="68"/>
                  </a:lnTo>
                  <a:lnTo>
                    <a:pt x="48" y="66"/>
                  </a:lnTo>
                  <a:lnTo>
                    <a:pt x="48" y="64"/>
                  </a:lnTo>
                  <a:lnTo>
                    <a:pt x="49" y="62"/>
                  </a:lnTo>
                  <a:lnTo>
                    <a:pt x="49" y="61"/>
                  </a:lnTo>
                  <a:lnTo>
                    <a:pt x="50" y="59"/>
                  </a:lnTo>
                  <a:lnTo>
                    <a:pt x="50" y="58"/>
                  </a:lnTo>
                  <a:lnTo>
                    <a:pt x="51" y="56"/>
                  </a:lnTo>
                  <a:lnTo>
                    <a:pt x="52" y="55"/>
                  </a:lnTo>
                  <a:lnTo>
                    <a:pt x="53" y="53"/>
                  </a:lnTo>
                  <a:lnTo>
                    <a:pt x="54" y="52"/>
                  </a:lnTo>
                  <a:lnTo>
                    <a:pt x="55" y="51"/>
                  </a:lnTo>
                  <a:lnTo>
                    <a:pt x="56" y="50"/>
                  </a:lnTo>
                  <a:lnTo>
                    <a:pt x="57" y="49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2" y="45"/>
                  </a:lnTo>
                  <a:lnTo>
                    <a:pt x="64" y="44"/>
                  </a:lnTo>
                  <a:lnTo>
                    <a:pt x="65" y="44"/>
                  </a:lnTo>
                  <a:lnTo>
                    <a:pt x="67" y="43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77" y="41"/>
                  </a:lnTo>
                  <a:lnTo>
                    <a:pt x="79" y="40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3" y="40"/>
                  </a:lnTo>
                  <a:lnTo>
                    <a:pt x="93" y="40"/>
                  </a:lnTo>
                  <a:lnTo>
                    <a:pt x="94" y="40"/>
                  </a:lnTo>
                  <a:lnTo>
                    <a:pt x="95" y="40"/>
                  </a:lnTo>
                  <a:lnTo>
                    <a:pt x="95" y="40"/>
                  </a:lnTo>
                  <a:lnTo>
                    <a:pt x="96" y="40"/>
                  </a:lnTo>
                  <a:lnTo>
                    <a:pt x="97" y="40"/>
                  </a:lnTo>
                  <a:lnTo>
                    <a:pt x="97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lnTo>
                    <a:pt x="101" y="38"/>
                  </a:lnTo>
                  <a:lnTo>
                    <a:pt x="101" y="36"/>
                  </a:lnTo>
                  <a:lnTo>
                    <a:pt x="101" y="35"/>
                  </a:lnTo>
                  <a:lnTo>
                    <a:pt x="101" y="34"/>
                  </a:lnTo>
                  <a:lnTo>
                    <a:pt x="101" y="32"/>
                  </a:lnTo>
                  <a:lnTo>
                    <a:pt x="101" y="31"/>
                  </a:lnTo>
                  <a:lnTo>
                    <a:pt x="101" y="29"/>
                  </a:lnTo>
                  <a:lnTo>
                    <a:pt x="101" y="27"/>
                  </a:lnTo>
                  <a:lnTo>
                    <a:pt x="101" y="26"/>
                  </a:lnTo>
                  <a:lnTo>
                    <a:pt x="101" y="24"/>
                  </a:lnTo>
                  <a:lnTo>
                    <a:pt x="101" y="22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10"/>
                  </a:lnTo>
                  <a:lnTo>
                    <a:pt x="101" y="9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1" y="4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8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3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956200" y="1927080"/>
              <a:ext cx="250920" cy="255600"/>
              <a:chOff x="5956200" y="1927080"/>
              <a:chExt cx="250920" cy="25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7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5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31" y="80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7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1" y="80"/>
                    </a:lnTo>
                    <a:lnTo>
                      <a:pt x="43" y="80"/>
                    </a:lnTo>
                    <a:lnTo>
                      <a:pt x="45" y="80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48" y="74"/>
                    </a:lnTo>
                    <a:lnTo>
                      <a:pt x="48" y="72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49" y="64"/>
                    </a:lnTo>
                    <a:lnTo>
                      <a:pt x="50" y="62"/>
                    </a:lnTo>
                    <a:lnTo>
                      <a:pt x="50" y="60"/>
                    </a:lnTo>
                    <a:lnTo>
                      <a:pt x="51" y="58"/>
                    </a:lnTo>
                    <a:lnTo>
                      <a:pt x="52" y="56"/>
                    </a:lnTo>
                    <a:lnTo>
                      <a:pt x="53" y="54"/>
                    </a:lnTo>
                    <a:lnTo>
                      <a:pt x="54" y="52"/>
                    </a:lnTo>
                    <a:lnTo>
                      <a:pt x="55" y="50"/>
                    </a:lnTo>
                    <a:lnTo>
                      <a:pt x="56" y="49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4"/>
                    </a:lnTo>
                    <a:lnTo>
                      <a:pt x="61" y="43"/>
                    </a:lnTo>
                    <a:lnTo>
                      <a:pt x="63" y="42"/>
                    </a:lnTo>
                    <a:lnTo>
                      <a:pt x="64" y="40"/>
                    </a:lnTo>
                    <a:lnTo>
                      <a:pt x="66" y="40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7"/>
                    </a:lnTo>
                    <a:lnTo>
                      <a:pt x="73" y="36"/>
                    </a:lnTo>
                    <a:lnTo>
                      <a:pt x="75" y="36"/>
                    </a:lnTo>
                    <a:lnTo>
                      <a:pt x="77" y="35"/>
                    </a:lnTo>
                    <a:lnTo>
                      <a:pt x="79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9" y="34"/>
                    </a:lnTo>
                    <a:lnTo>
                      <a:pt x="93" y="34"/>
                    </a:lnTo>
                    <a:lnTo>
                      <a:pt x="96" y="34"/>
                    </a:lnTo>
                    <a:lnTo>
                      <a:pt x="98" y="34"/>
                    </a:lnTo>
                    <a:lnTo>
                      <a:pt x="100" y="35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6" y="37"/>
                    </a:lnTo>
                    <a:lnTo>
                      <a:pt x="108" y="38"/>
                    </a:lnTo>
                    <a:lnTo>
                      <a:pt x="110" y="38"/>
                    </a:lnTo>
                    <a:lnTo>
                      <a:pt x="111" y="40"/>
                    </a:lnTo>
                    <a:lnTo>
                      <a:pt x="113" y="40"/>
                    </a:lnTo>
                    <a:lnTo>
                      <a:pt x="115" y="42"/>
                    </a:lnTo>
                    <a:lnTo>
                      <a:pt x="116" y="43"/>
                    </a:lnTo>
                    <a:lnTo>
                      <a:pt x="117" y="44"/>
                    </a:lnTo>
                    <a:lnTo>
                      <a:pt x="119" y="46"/>
                    </a:lnTo>
                    <a:lnTo>
                      <a:pt x="120" y="47"/>
                    </a:lnTo>
                    <a:lnTo>
                      <a:pt x="121" y="49"/>
                    </a:lnTo>
                    <a:lnTo>
                      <a:pt x="123" y="50"/>
                    </a:lnTo>
                    <a:lnTo>
                      <a:pt x="123" y="52"/>
                    </a:lnTo>
                    <a:lnTo>
                      <a:pt x="125" y="54"/>
                    </a:lnTo>
                    <a:lnTo>
                      <a:pt x="125" y="56"/>
                    </a:lnTo>
                    <a:lnTo>
                      <a:pt x="126" y="58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8" y="64"/>
                    </a:lnTo>
                    <a:lnTo>
                      <a:pt x="129" y="67"/>
                    </a:lnTo>
                    <a:lnTo>
                      <a:pt x="129" y="69"/>
                    </a:lnTo>
                    <a:lnTo>
                      <a:pt x="129" y="72"/>
                    </a:lnTo>
                    <a:lnTo>
                      <a:pt x="129" y="74"/>
                    </a:lnTo>
                    <a:lnTo>
                      <a:pt x="129" y="77"/>
                    </a:lnTo>
                    <a:lnTo>
                      <a:pt x="130" y="80"/>
                    </a:lnTo>
                    <a:lnTo>
                      <a:pt x="129" y="85"/>
                    </a:lnTo>
                    <a:lnTo>
                      <a:pt x="129" y="88"/>
                    </a:lnTo>
                    <a:lnTo>
                      <a:pt x="129" y="90"/>
                    </a:lnTo>
                    <a:lnTo>
                      <a:pt x="129" y="93"/>
                    </a:lnTo>
                    <a:lnTo>
                      <a:pt x="128" y="95"/>
                    </a:lnTo>
                    <a:lnTo>
                      <a:pt x="127" y="98"/>
                    </a:lnTo>
                    <a:lnTo>
                      <a:pt x="127" y="100"/>
                    </a:lnTo>
                    <a:lnTo>
                      <a:pt x="126" y="102"/>
                    </a:lnTo>
                    <a:lnTo>
                      <a:pt x="125" y="104"/>
                    </a:lnTo>
                    <a:lnTo>
                      <a:pt x="125" y="106"/>
                    </a:lnTo>
                    <a:lnTo>
                      <a:pt x="123" y="108"/>
                    </a:lnTo>
                    <a:lnTo>
                      <a:pt x="123" y="110"/>
                    </a:lnTo>
                    <a:lnTo>
                      <a:pt x="121" y="111"/>
                    </a:lnTo>
                    <a:lnTo>
                      <a:pt x="120" y="113"/>
                    </a:lnTo>
                    <a:lnTo>
                      <a:pt x="119" y="114"/>
                    </a:lnTo>
                    <a:lnTo>
                      <a:pt x="117" y="116"/>
                    </a:lnTo>
                    <a:lnTo>
                      <a:pt x="116" y="117"/>
                    </a:lnTo>
                    <a:lnTo>
                      <a:pt x="115" y="118"/>
                    </a:lnTo>
                    <a:lnTo>
                      <a:pt x="113" y="120"/>
                    </a:lnTo>
                    <a:lnTo>
                      <a:pt x="111" y="120"/>
                    </a:lnTo>
                    <a:lnTo>
                      <a:pt x="110" y="122"/>
                    </a:lnTo>
                    <a:lnTo>
                      <a:pt x="108" y="122"/>
                    </a:lnTo>
                    <a:lnTo>
                      <a:pt x="106" y="123"/>
                    </a:lnTo>
                    <a:lnTo>
                      <a:pt x="104" y="124"/>
                    </a:lnTo>
                    <a:lnTo>
                      <a:pt x="102" y="124"/>
                    </a:lnTo>
                    <a:lnTo>
                      <a:pt x="100" y="125"/>
                    </a:lnTo>
                    <a:lnTo>
                      <a:pt x="98" y="126"/>
                    </a:lnTo>
                    <a:lnTo>
                      <a:pt x="96" y="126"/>
                    </a:lnTo>
                    <a:lnTo>
                      <a:pt x="93" y="126"/>
                    </a:lnTo>
                    <a:lnTo>
                      <a:pt x="91" y="126"/>
                    </a:lnTo>
                    <a:lnTo>
                      <a:pt x="89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79" y="126"/>
                    </a:lnTo>
                    <a:lnTo>
                      <a:pt x="77" y="125"/>
                    </a:lnTo>
                    <a:lnTo>
                      <a:pt x="75" y="124"/>
                    </a:lnTo>
                    <a:lnTo>
                      <a:pt x="73" y="124"/>
                    </a:lnTo>
                    <a:lnTo>
                      <a:pt x="71" y="123"/>
                    </a:lnTo>
                    <a:lnTo>
                      <a:pt x="69" y="122"/>
                    </a:lnTo>
                    <a:lnTo>
                      <a:pt x="68" y="122"/>
                    </a:lnTo>
                    <a:lnTo>
                      <a:pt x="66" y="120"/>
                    </a:lnTo>
                    <a:lnTo>
                      <a:pt x="64" y="120"/>
                    </a:lnTo>
                    <a:lnTo>
                      <a:pt x="63" y="118"/>
                    </a:lnTo>
                    <a:lnTo>
                      <a:pt x="61" y="117"/>
                    </a:lnTo>
                    <a:lnTo>
                      <a:pt x="60" y="116"/>
                    </a:lnTo>
                    <a:lnTo>
                      <a:pt x="59" y="114"/>
                    </a:lnTo>
                    <a:lnTo>
                      <a:pt x="57" y="113"/>
                    </a:lnTo>
                    <a:lnTo>
                      <a:pt x="56" y="111"/>
                    </a:lnTo>
                    <a:lnTo>
                      <a:pt x="55" y="110"/>
                    </a:lnTo>
                    <a:lnTo>
                      <a:pt x="54" y="108"/>
                    </a:lnTo>
                    <a:lnTo>
                      <a:pt x="53" y="106"/>
                    </a:lnTo>
                    <a:lnTo>
                      <a:pt x="52" y="104"/>
                    </a:lnTo>
                    <a:lnTo>
                      <a:pt x="51" y="102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49" y="95"/>
                    </a:lnTo>
                    <a:lnTo>
                      <a:pt x="49" y="93"/>
                    </a:lnTo>
                    <a:lnTo>
                      <a:pt x="48" y="90"/>
                    </a:lnTo>
                    <a:lnTo>
                      <a:pt x="48" y="88"/>
                    </a:lnTo>
                    <a:lnTo>
                      <a:pt x="48" y="85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5" y="80"/>
                    </a:lnTo>
                    <a:lnTo>
                      <a:pt x="43" y="80"/>
                    </a:lnTo>
                    <a:lnTo>
                      <a:pt x="42" y="80"/>
                    </a:lnTo>
                    <a:lnTo>
                      <a:pt x="40" y="80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1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7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9" y="80"/>
                    </a:lnTo>
                    <a:lnTo>
                      <a:pt x="8" y="80"/>
                    </a:lnTo>
                    <a:lnTo>
                      <a:pt x="6" y="80"/>
                    </a:lnTo>
                    <a:lnTo>
                      <a:pt x="5" y="80"/>
                    </a:lnTo>
                    <a:lnTo>
                      <a:pt x="3" y="80"/>
                    </a:lnTo>
                    <a:lnTo>
                      <a:pt x="1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3880" y="1981080"/>
                <a:ext cx="117000" cy="147600"/>
              </a:xfrm>
              <a:custGeom>
                <a:avLst/>
                <a:gdLst/>
                <a:ahLst/>
                <a:rect l="l" t="t" r="r" b="b"/>
                <a:pathLst>
                  <a:path w="83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7" y="8"/>
                    </a:lnTo>
                    <a:lnTo>
                      <a:pt x="68" y="9"/>
                    </a:lnTo>
                    <a:lnTo>
                      <a:pt x="69" y="10"/>
                    </a:lnTo>
                    <a:lnTo>
                      <a:pt x="71" y="12"/>
                    </a:lnTo>
                    <a:lnTo>
                      <a:pt x="72" y="13"/>
                    </a:lnTo>
                    <a:lnTo>
                      <a:pt x="73" y="15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7" y="20"/>
                    </a:lnTo>
                    <a:lnTo>
                      <a:pt x="77" y="22"/>
                    </a:lnTo>
                    <a:lnTo>
                      <a:pt x="78" y="24"/>
                    </a:lnTo>
                    <a:lnTo>
                      <a:pt x="79" y="26"/>
                    </a:lnTo>
                    <a:lnTo>
                      <a:pt x="79" y="28"/>
                    </a:lnTo>
                    <a:lnTo>
                      <a:pt x="80" y="30"/>
                    </a:lnTo>
                    <a:lnTo>
                      <a:pt x="81" y="33"/>
                    </a:lnTo>
                    <a:lnTo>
                      <a:pt x="81" y="35"/>
                    </a:lnTo>
                    <a:lnTo>
                      <a:pt x="81" y="38"/>
                    </a:lnTo>
                    <a:lnTo>
                      <a:pt x="81" y="40"/>
                    </a:lnTo>
                    <a:lnTo>
                      <a:pt x="81" y="43"/>
                    </a:lnTo>
                    <a:lnTo>
                      <a:pt x="82" y="46"/>
                    </a:lnTo>
                    <a:lnTo>
                      <a:pt x="81" y="51"/>
                    </a:lnTo>
                    <a:lnTo>
                      <a:pt x="81" y="54"/>
                    </a:lnTo>
                    <a:lnTo>
                      <a:pt x="81" y="56"/>
                    </a:lnTo>
                    <a:lnTo>
                      <a:pt x="81" y="59"/>
                    </a:lnTo>
                    <a:lnTo>
                      <a:pt x="80" y="61"/>
                    </a:lnTo>
                    <a:lnTo>
                      <a:pt x="79" y="64"/>
                    </a:lnTo>
                    <a:lnTo>
                      <a:pt x="79" y="66"/>
                    </a:lnTo>
                    <a:lnTo>
                      <a:pt x="78" y="68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5" y="74"/>
                    </a:lnTo>
                    <a:lnTo>
                      <a:pt x="75" y="76"/>
                    </a:lnTo>
                    <a:lnTo>
                      <a:pt x="73" y="77"/>
                    </a:lnTo>
                    <a:lnTo>
                      <a:pt x="72" y="79"/>
                    </a:lnTo>
                    <a:lnTo>
                      <a:pt x="71" y="80"/>
                    </a:lnTo>
                    <a:lnTo>
                      <a:pt x="69" y="82"/>
                    </a:lnTo>
                    <a:lnTo>
                      <a:pt x="68" y="83"/>
                    </a:lnTo>
                    <a:lnTo>
                      <a:pt x="67" y="84"/>
                    </a:lnTo>
                    <a:lnTo>
                      <a:pt x="65" y="86"/>
                    </a:lnTo>
                    <a:lnTo>
                      <a:pt x="63" y="86"/>
                    </a:lnTo>
                    <a:lnTo>
                      <a:pt x="62" y="88"/>
                    </a:lnTo>
                    <a:lnTo>
                      <a:pt x="60" y="88"/>
                    </a:lnTo>
                    <a:lnTo>
                      <a:pt x="58" y="89"/>
                    </a:lnTo>
                    <a:lnTo>
                      <a:pt x="56" y="90"/>
                    </a:lnTo>
                    <a:lnTo>
                      <a:pt x="54" y="90"/>
                    </a:lnTo>
                    <a:lnTo>
                      <a:pt x="52" y="91"/>
                    </a:lnTo>
                    <a:lnTo>
                      <a:pt x="50" y="92"/>
                    </a:lnTo>
                    <a:lnTo>
                      <a:pt x="48" y="92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1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1" y="92"/>
                    </a:lnTo>
                    <a:lnTo>
                      <a:pt x="29" y="91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1" y="88"/>
                    </a:lnTo>
                    <a:lnTo>
                      <a:pt x="20" y="88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246720" y="1927080"/>
              <a:ext cx="225360" cy="255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3" y="124"/>
                  </a:lnTo>
                  <a:lnTo>
                    <a:pt x="3" y="127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7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2"/>
                  </a:lnTo>
                  <a:lnTo>
                    <a:pt x="17" y="144"/>
                  </a:lnTo>
                  <a:lnTo>
                    <a:pt x="20" y="146"/>
                  </a:lnTo>
                  <a:lnTo>
                    <a:pt x="22" y="147"/>
                  </a:lnTo>
                  <a:lnTo>
                    <a:pt x="25" y="149"/>
                  </a:lnTo>
                  <a:lnTo>
                    <a:pt x="28" y="150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1" y="155"/>
                  </a:lnTo>
                  <a:lnTo>
                    <a:pt x="44" y="156"/>
                  </a:lnTo>
                  <a:lnTo>
                    <a:pt x="47" y="157"/>
                  </a:lnTo>
                  <a:lnTo>
                    <a:pt x="51" y="157"/>
                  </a:lnTo>
                  <a:lnTo>
                    <a:pt x="55" y="158"/>
                  </a:lnTo>
                  <a:lnTo>
                    <a:pt x="59" y="158"/>
                  </a:lnTo>
                  <a:lnTo>
                    <a:pt x="63" y="159"/>
                  </a:lnTo>
                  <a:lnTo>
                    <a:pt x="68" y="159"/>
                  </a:lnTo>
                  <a:lnTo>
                    <a:pt x="72" y="159"/>
                  </a:lnTo>
                  <a:lnTo>
                    <a:pt x="77" y="160"/>
                  </a:lnTo>
                  <a:lnTo>
                    <a:pt x="87" y="159"/>
                  </a:lnTo>
                  <a:lnTo>
                    <a:pt x="91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04" y="158"/>
                  </a:lnTo>
                  <a:lnTo>
                    <a:pt x="108" y="157"/>
                  </a:lnTo>
                  <a:lnTo>
                    <a:pt x="112" y="156"/>
                  </a:lnTo>
                  <a:lnTo>
                    <a:pt x="116" y="155"/>
                  </a:lnTo>
                  <a:lnTo>
                    <a:pt x="119" y="154"/>
                  </a:lnTo>
                  <a:lnTo>
                    <a:pt x="123" y="153"/>
                  </a:lnTo>
                  <a:lnTo>
                    <a:pt x="126" y="152"/>
                  </a:lnTo>
                  <a:lnTo>
                    <a:pt x="129" y="151"/>
                  </a:lnTo>
                  <a:lnTo>
                    <a:pt x="132" y="149"/>
                  </a:lnTo>
                  <a:lnTo>
                    <a:pt x="135" y="148"/>
                  </a:lnTo>
                  <a:lnTo>
                    <a:pt x="138" y="146"/>
                  </a:lnTo>
                  <a:lnTo>
                    <a:pt x="140" y="144"/>
                  </a:lnTo>
                  <a:lnTo>
                    <a:pt x="143" y="143"/>
                  </a:lnTo>
                  <a:lnTo>
                    <a:pt x="145" y="141"/>
                  </a:lnTo>
                  <a:lnTo>
                    <a:pt x="147" y="139"/>
                  </a:lnTo>
                  <a:lnTo>
                    <a:pt x="149" y="137"/>
                  </a:lnTo>
                  <a:lnTo>
                    <a:pt x="151" y="135"/>
                  </a:lnTo>
                  <a:lnTo>
                    <a:pt x="152" y="132"/>
                  </a:lnTo>
                  <a:lnTo>
                    <a:pt x="153" y="130"/>
                  </a:lnTo>
                  <a:lnTo>
                    <a:pt x="155" y="128"/>
                  </a:lnTo>
                  <a:lnTo>
                    <a:pt x="156" y="125"/>
                  </a:lnTo>
                  <a:lnTo>
                    <a:pt x="157" y="122"/>
                  </a:lnTo>
                  <a:lnTo>
                    <a:pt x="157" y="120"/>
                  </a:lnTo>
                  <a:lnTo>
                    <a:pt x="158" y="117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59" y="103"/>
                  </a:lnTo>
                  <a:lnTo>
                    <a:pt x="158" y="101"/>
                  </a:lnTo>
                  <a:lnTo>
                    <a:pt x="158" y="98"/>
                  </a:lnTo>
                  <a:lnTo>
                    <a:pt x="157" y="96"/>
                  </a:lnTo>
                  <a:lnTo>
                    <a:pt x="157" y="94"/>
                  </a:lnTo>
                  <a:lnTo>
                    <a:pt x="156" y="92"/>
                  </a:lnTo>
                  <a:lnTo>
                    <a:pt x="155" y="91"/>
                  </a:lnTo>
                  <a:lnTo>
                    <a:pt x="154" y="89"/>
                  </a:lnTo>
                  <a:lnTo>
                    <a:pt x="153" y="87"/>
                  </a:lnTo>
                  <a:lnTo>
                    <a:pt x="152" y="86"/>
                  </a:lnTo>
                  <a:lnTo>
                    <a:pt x="150" y="84"/>
                  </a:lnTo>
                  <a:lnTo>
                    <a:pt x="149" y="82"/>
                  </a:lnTo>
                  <a:lnTo>
                    <a:pt x="147" y="81"/>
                  </a:lnTo>
                  <a:lnTo>
                    <a:pt x="145" y="80"/>
                  </a:lnTo>
                  <a:lnTo>
                    <a:pt x="144" y="78"/>
                  </a:lnTo>
                  <a:lnTo>
                    <a:pt x="142" y="77"/>
                  </a:lnTo>
                  <a:lnTo>
                    <a:pt x="140" y="76"/>
                  </a:lnTo>
                  <a:lnTo>
                    <a:pt x="137" y="75"/>
                  </a:lnTo>
                  <a:lnTo>
                    <a:pt x="135" y="74"/>
                  </a:lnTo>
                  <a:lnTo>
                    <a:pt x="133" y="72"/>
                  </a:lnTo>
                  <a:lnTo>
                    <a:pt x="130" y="72"/>
                  </a:lnTo>
                  <a:lnTo>
                    <a:pt x="128" y="70"/>
                  </a:lnTo>
                  <a:lnTo>
                    <a:pt x="125" y="70"/>
                  </a:lnTo>
                  <a:lnTo>
                    <a:pt x="122" y="69"/>
                  </a:lnTo>
                  <a:lnTo>
                    <a:pt x="119" y="68"/>
                  </a:lnTo>
                  <a:lnTo>
                    <a:pt x="116" y="67"/>
                  </a:lnTo>
                  <a:lnTo>
                    <a:pt x="113" y="66"/>
                  </a:lnTo>
                  <a:lnTo>
                    <a:pt x="109" y="65"/>
                  </a:lnTo>
                  <a:lnTo>
                    <a:pt x="106" y="64"/>
                  </a:lnTo>
                  <a:lnTo>
                    <a:pt x="102" y="64"/>
                  </a:lnTo>
                  <a:lnTo>
                    <a:pt x="99" y="63"/>
                  </a:lnTo>
                  <a:lnTo>
                    <a:pt x="92" y="62"/>
                  </a:lnTo>
                  <a:lnTo>
                    <a:pt x="89" y="61"/>
                  </a:lnTo>
                  <a:lnTo>
                    <a:pt x="87" y="61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79" y="59"/>
                  </a:lnTo>
                  <a:lnTo>
                    <a:pt x="77" y="59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4" y="56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59" y="54"/>
                  </a:lnTo>
                  <a:lnTo>
                    <a:pt x="58" y="54"/>
                  </a:lnTo>
                  <a:lnTo>
                    <a:pt x="57" y="53"/>
                  </a:lnTo>
                  <a:lnTo>
                    <a:pt x="56" y="53"/>
                  </a:lnTo>
                  <a:lnTo>
                    <a:pt x="55" y="52"/>
                  </a:lnTo>
                  <a:lnTo>
                    <a:pt x="54" y="52"/>
                  </a:lnTo>
                  <a:lnTo>
                    <a:pt x="53" y="51"/>
                  </a:lnTo>
                  <a:lnTo>
                    <a:pt x="53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1" y="48"/>
                  </a:lnTo>
                  <a:lnTo>
                    <a:pt x="51" y="47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5"/>
                  </a:lnTo>
                  <a:lnTo>
                    <a:pt x="51" y="43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1"/>
                  </a:lnTo>
                  <a:lnTo>
                    <a:pt x="52" y="40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62" y="33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1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5" y="31"/>
                  </a:lnTo>
                  <a:lnTo>
                    <a:pt x="77" y="31"/>
                  </a:lnTo>
                  <a:lnTo>
                    <a:pt x="80" y="31"/>
                  </a:lnTo>
                  <a:lnTo>
                    <a:pt x="82" y="31"/>
                  </a:lnTo>
                  <a:lnTo>
                    <a:pt x="83" y="31"/>
                  </a:lnTo>
                  <a:lnTo>
                    <a:pt x="85" y="32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90" y="32"/>
                  </a:lnTo>
                  <a:lnTo>
                    <a:pt x="91" y="33"/>
                  </a:lnTo>
                  <a:lnTo>
                    <a:pt x="92" y="33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6" y="34"/>
                  </a:lnTo>
                  <a:lnTo>
                    <a:pt x="97" y="35"/>
                  </a:lnTo>
                  <a:lnTo>
                    <a:pt x="98" y="3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0"/>
                  </a:lnTo>
                  <a:lnTo>
                    <a:pt x="104" y="41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7" y="46"/>
                  </a:lnTo>
                  <a:lnTo>
                    <a:pt x="107" y="46"/>
                  </a:lnTo>
                  <a:lnTo>
                    <a:pt x="107" y="48"/>
                  </a:lnTo>
                  <a:lnTo>
                    <a:pt x="107" y="49"/>
                  </a:lnTo>
                  <a:lnTo>
                    <a:pt x="107" y="50"/>
                  </a:lnTo>
                  <a:lnTo>
                    <a:pt x="108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09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8" y="51"/>
                  </a:lnTo>
                  <a:lnTo>
                    <a:pt x="120" y="51"/>
                  </a:lnTo>
                  <a:lnTo>
                    <a:pt x="122" y="51"/>
                  </a:lnTo>
                  <a:lnTo>
                    <a:pt x="124" y="51"/>
                  </a:lnTo>
                  <a:lnTo>
                    <a:pt x="126" y="51"/>
                  </a:lnTo>
                  <a:lnTo>
                    <a:pt x="128" y="51"/>
                  </a:lnTo>
                  <a:lnTo>
                    <a:pt x="131" y="51"/>
                  </a:lnTo>
                  <a:lnTo>
                    <a:pt x="133" y="51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39" y="51"/>
                  </a:lnTo>
                  <a:lnTo>
                    <a:pt x="141" y="51"/>
                  </a:lnTo>
                  <a:lnTo>
                    <a:pt x="143" y="51"/>
                  </a:lnTo>
                  <a:lnTo>
                    <a:pt x="144" y="51"/>
                  </a:lnTo>
                  <a:lnTo>
                    <a:pt x="146" y="51"/>
                  </a:lnTo>
                  <a:lnTo>
                    <a:pt x="147" y="51"/>
                  </a:lnTo>
                  <a:lnTo>
                    <a:pt x="149" y="51"/>
                  </a:lnTo>
                  <a:lnTo>
                    <a:pt x="150" y="51"/>
                  </a:lnTo>
                  <a:lnTo>
                    <a:pt x="151" y="51"/>
                  </a:lnTo>
                  <a:lnTo>
                    <a:pt x="152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45"/>
                  </a:lnTo>
                  <a:lnTo>
                    <a:pt x="152" y="42"/>
                  </a:lnTo>
                  <a:lnTo>
                    <a:pt x="151" y="40"/>
                  </a:lnTo>
                  <a:lnTo>
                    <a:pt x="150" y="37"/>
                  </a:lnTo>
                  <a:lnTo>
                    <a:pt x="149" y="34"/>
                  </a:lnTo>
                  <a:lnTo>
                    <a:pt x="148" y="32"/>
                  </a:lnTo>
                  <a:lnTo>
                    <a:pt x="147" y="30"/>
                  </a:lnTo>
                  <a:lnTo>
                    <a:pt x="145" y="27"/>
                  </a:lnTo>
                  <a:lnTo>
                    <a:pt x="144" y="25"/>
                  </a:lnTo>
                  <a:lnTo>
                    <a:pt x="142" y="23"/>
                  </a:lnTo>
                  <a:lnTo>
                    <a:pt x="141" y="21"/>
                  </a:lnTo>
                  <a:lnTo>
                    <a:pt x="139" y="19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2" y="14"/>
                  </a:lnTo>
                  <a:lnTo>
                    <a:pt x="129" y="12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1" y="8"/>
                  </a:lnTo>
                  <a:lnTo>
                    <a:pt x="118" y="6"/>
                  </a:lnTo>
                  <a:lnTo>
                    <a:pt x="115" y="6"/>
                  </a:lnTo>
                  <a:lnTo>
                    <a:pt x="111" y="4"/>
                  </a:lnTo>
                  <a:lnTo>
                    <a:pt x="108" y="4"/>
                  </a:lnTo>
                  <a:lnTo>
                    <a:pt x="105" y="3"/>
                  </a:lnTo>
                  <a:lnTo>
                    <a:pt x="101" y="2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50" y="3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7" y="37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9" y="68"/>
                  </a:lnTo>
                  <a:lnTo>
                    <a:pt x="11" y="70"/>
                  </a:lnTo>
                  <a:lnTo>
                    <a:pt x="12" y="71"/>
                  </a:lnTo>
                  <a:lnTo>
                    <a:pt x="13" y="73"/>
                  </a:lnTo>
                  <a:lnTo>
                    <a:pt x="15" y="74"/>
                  </a:lnTo>
                  <a:lnTo>
                    <a:pt x="16" y="76"/>
                  </a:lnTo>
                  <a:lnTo>
                    <a:pt x="18" y="77"/>
                  </a:lnTo>
                  <a:lnTo>
                    <a:pt x="20" y="78"/>
                  </a:lnTo>
                  <a:lnTo>
                    <a:pt x="21" y="80"/>
                  </a:lnTo>
                  <a:lnTo>
                    <a:pt x="23" y="81"/>
                  </a:lnTo>
                  <a:lnTo>
                    <a:pt x="26" y="82"/>
                  </a:lnTo>
                  <a:lnTo>
                    <a:pt x="28" y="83"/>
                  </a:lnTo>
                  <a:lnTo>
                    <a:pt x="31" y="84"/>
                  </a:lnTo>
                  <a:lnTo>
                    <a:pt x="33" y="86"/>
                  </a:lnTo>
                  <a:lnTo>
                    <a:pt x="36" y="86"/>
                  </a:lnTo>
                  <a:lnTo>
                    <a:pt x="39" y="88"/>
                  </a:lnTo>
                  <a:lnTo>
                    <a:pt x="41" y="88"/>
                  </a:lnTo>
                  <a:lnTo>
                    <a:pt x="45" y="90"/>
                  </a:lnTo>
                  <a:lnTo>
                    <a:pt x="48" y="90"/>
                  </a:lnTo>
                  <a:lnTo>
                    <a:pt x="51" y="92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2" y="94"/>
                  </a:lnTo>
                  <a:lnTo>
                    <a:pt x="66" y="95"/>
                  </a:lnTo>
                  <a:lnTo>
                    <a:pt x="71" y="96"/>
                  </a:lnTo>
                  <a:lnTo>
                    <a:pt x="74" y="96"/>
                  </a:lnTo>
                  <a:lnTo>
                    <a:pt x="77" y="97"/>
                  </a:lnTo>
                  <a:lnTo>
                    <a:pt x="79" y="98"/>
                  </a:lnTo>
                  <a:lnTo>
                    <a:pt x="81" y="98"/>
                  </a:lnTo>
                  <a:lnTo>
                    <a:pt x="83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7" y="101"/>
                  </a:lnTo>
                  <a:lnTo>
                    <a:pt x="99" y="101"/>
                  </a:lnTo>
                  <a:lnTo>
                    <a:pt x="100" y="102"/>
                  </a:lnTo>
                  <a:lnTo>
                    <a:pt x="101" y="102"/>
                  </a:lnTo>
                  <a:lnTo>
                    <a:pt x="103" y="103"/>
                  </a:lnTo>
                  <a:lnTo>
                    <a:pt x="104" y="103"/>
                  </a:lnTo>
                  <a:lnTo>
                    <a:pt x="105" y="104"/>
                  </a:lnTo>
                  <a:lnTo>
                    <a:pt x="106" y="104"/>
                  </a:lnTo>
                  <a:lnTo>
                    <a:pt x="107" y="105"/>
                  </a:lnTo>
                  <a:lnTo>
                    <a:pt x="108" y="105"/>
                  </a:lnTo>
                  <a:lnTo>
                    <a:pt x="109" y="106"/>
                  </a:lnTo>
                  <a:lnTo>
                    <a:pt x="109" y="107"/>
                  </a:lnTo>
                  <a:lnTo>
                    <a:pt x="110" y="108"/>
                  </a:lnTo>
                  <a:lnTo>
                    <a:pt x="111" y="108"/>
                  </a:lnTo>
                  <a:lnTo>
                    <a:pt x="111" y="109"/>
                  </a:lnTo>
                  <a:lnTo>
                    <a:pt x="111" y="110"/>
                  </a:lnTo>
                  <a:lnTo>
                    <a:pt x="111" y="111"/>
                  </a:lnTo>
                  <a:lnTo>
                    <a:pt x="111" y="112"/>
                  </a:lnTo>
                  <a:lnTo>
                    <a:pt x="112" y="114"/>
                  </a:lnTo>
                  <a:lnTo>
                    <a:pt x="111" y="115"/>
                  </a:lnTo>
                  <a:lnTo>
                    <a:pt x="111" y="116"/>
                  </a:lnTo>
                  <a:lnTo>
                    <a:pt x="111" y="117"/>
                  </a:lnTo>
                  <a:lnTo>
                    <a:pt x="111" y="118"/>
                  </a:lnTo>
                  <a:lnTo>
                    <a:pt x="111" y="118"/>
                  </a:lnTo>
                  <a:lnTo>
                    <a:pt x="110" y="119"/>
                  </a:lnTo>
                  <a:lnTo>
                    <a:pt x="110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8" y="122"/>
                  </a:lnTo>
                  <a:lnTo>
                    <a:pt x="107" y="122"/>
                  </a:lnTo>
                  <a:lnTo>
                    <a:pt x="107" y="123"/>
                  </a:lnTo>
                  <a:lnTo>
                    <a:pt x="106" y="124"/>
                  </a:lnTo>
                  <a:lnTo>
                    <a:pt x="105" y="124"/>
                  </a:lnTo>
                  <a:lnTo>
                    <a:pt x="104" y="125"/>
                  </a:lnTo>
                  <a:lnTo>
                    <a:pt x="103" y="125"/>
                  </a:lnTo>
                  <a:lnTo>
                    <a:pt x="102" y="126"/>
                  </a:lnTo>
                  <a:lnTo>
                    <a:pt x="101" y="126"/>
                  </a:lnTo>
                  <a:lnTo>
                    <a:pt x="100" y="126"/>
                  </a:lnTo>
                  <a:lnTo>
                    <a:pt x="99" y="127"/>
                  </a:lnTo>
                  <a:lnTo>
                    <a:pt x="98" y="127"/>
                  </a:lnTo>
                  <a:lnTo>
                    <a:pt x="97" y="127"/>
                  </a:lnTo>
                  <a:lnTo>
                    <a:pt x="95" y="128"/>
                  </a:lnTo>
                  <a:lnTo>
                    <a:pt x="94" y="128"/>
                  </a:lnTo>
                  <a:lnTo>
                    <a:pt x="93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88" y="128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9"/>
                  </a:lnTo>
                  <a:lnTo>
                    <a:pt x="79" y="128"/>
                  </a:lnTo>
                  <a:lnTo>
                    <a:pt x="76" y="128"/>
                  </a:lnTo>
                  <a:lnTo>
                    <a:pt x="74" y="128"/>
                  </a:lnTo>
                  <a:lnTo>
                    <a:pt x="73" y="128"/>
                  </a:lnTo>
                  <a:lnTo>
                    <a:pt x="71" y="128"/>
                  </a:lnTo>
                  <a:lnTo>
                    <a:pt x="69" y="128"/>
                  </a:lnTo>
                  <a:lnTo>
                    <a:pt x="67" y="127"/>
                  </a:lnTo>
                  <a:lnTo>
                    <a:pt x="65" y="127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61" y="125"/>
                  </a:lnTo>
                  <a:lnTo>
                    <a:pt x="59" y="125"/>
                  </a:lnTo>
                  <a:lnTo>
                    <a:pt x="58" y="124"/>
                  </a:lnTo>
                  <a:lnTo>
                    <a:pt x="57" y="124"/>
                  </a:lnTo>
                  <a:lnTo>
                    <a:pt x="56" y="123"/>
                  </a:lnTo>
                  <a:lnTo>
                    <a:pt x="55" y="122"/>
                  </a:lnTo>
                  <a:lnTo>
                    <a:pt x="54" y="121"/>
                  </a:lnTo>
                  <a:lnTo>
                    <a:pt x="53" y="120"/>
                  </a:lnTo>
                  <a:lnTo>
                    <a:pt x="52" y="120"/>
                  </a:lnTo>
                  <a:lnTo>
                    <a:pt x="51" y="119"/>
                  </a:lnTo>
                  <a:lnTo>
                    <a:pt x="50" y="118"/>
                  </a:lnTo>
                  <a:lnTo>
                    <a:pt x="50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7" y="110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6" y="106"/>
                  </a:lnTo>
                  <a:lnTo>
                    <a:pt x="45" y="106"/>
                  </a:lnTo>
                  <a:lnTo>
                    <a:pt x="44" y="106"/>
                  </a:lnTo>
                  <a:lnTo>
                    <a:pt x="43" y="106"/>
                  </a:lnTo>
                  <a:lnTo>
                    <a:pt x="42" y="106"/>
                  </a:lnTo>
                  <a:lnTo>
                    <a:pt x="41" y="106"/>
                  </a:lnTo>
                  <a:lnTo>
                    <a:pt x="39" y="106"/>
                  </a:lnTo>
                  <a:lnTo>
                    <a:pt x="37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1" y="106"/>
                  </a:lnTo>
                  <a:lnTo>
                    <a:pt x="29" y="106"/>
                  </a:lnTo>
                  <a:lnTo>
                    <a:pt x="27" y="106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21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5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065560" y="2725560"/>
            <a:ext cx="1808280" cy="527400"/>
            <a:chOff x="5065560" y="2725560"/>
            <a:chExt cx="1808280" cy="527400"/>
          </a:xfrm>
        </p:grpSpPr>
        <p:grpSp>
          <p:nvGrpSpPr>
            <p:cNvPr id="286" name=""/>
            <p:cNvGrpSpPr/>
            <p:nvPr/>
          </p:nvGrpSpPr>
          <p:grpSpPr>
            <a:xfrm>
              <a:off x="5065560" y="2725560"/>
              <a:ext cx="427320" cy="517680"/>
              <a:chOff x="5065560" y="2725560"/>
              <a:chExt cx="427320" cy="517680"/>
            </a:xfrm>
          </p:grpSpPr>
          <p:sp>
            <p:nvSpPr>
              <p:cNvPr id="287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  <a:lnTo>
                      <a:pt x="4" y="314"/>
                    </a:lnTo>
                    <a:lnTo>
                      <a:pt x="6" y="308"/>
                    </a:lnTo>
                    <a:lnTo>
                      <a:pt x="9" y="302"/>
                    </a:lnTo>
                    <a:lnTo>
                      <a:pt x="11" y="297"/>
                    </a:lnTo>
                    <a:lnTo>
                      <a:pt x="13" y="291"/>
                    </a:lnTo>
                    <a:lnTo>
                      <a:pt x="16" y="285"/>
                    </a:lnTo>
                    <a:lnTo>
                      <a:pt x="18" y="279"/>
                    </a:lnTo>
                    <a:lnTo>
                      <a:pt x="20" y="274"/>
                    </a:lnTo>
                    <a:lnTo>
                      <a:pt x="23" y="268"/>
                    </a:lnTo>
                    <a:lnTo>
                      <a:pt x="25" y="263"/>
                    </a:lnTo>
                    <a:lnTo>
                      <a:pt x="27" y="257"/>
                    </a:lnTo>
                    <a:lnTo>
                      <a:pt x="30" y="251"/>
                    </a:lnTo>
                    <a:lnTo>
                      <a:pt x="32" y="245"/>
                    </a:lnTo>
                    <a:lnTo>
                      <a:pt x="34" y="240"/>
                    </a:lnTo>
                    <a:lnTo>
                      <a:pt x="37" y="234"/>
                    </a:lnTo>
                    <a:lnTo>
                      <a:pt x="39" y="228"/>
                    </a:lnTo>
                    <a:lnTo>
                      <a:pt x="41" y="223"/>
                    </a:lnTo>
                    <a:lnTo>
                      <a:pt x="44" y="217"/>
                    </a:lnTo>
                    <a:lnTo>
                      <a:pt x="46" y="211"/>
                    </a:lnTo>
                    <a:lnTo>
                      <a:pt x="48" y="205"/>
                    </a:lnTo>
                    <a:lnTo>
                      <a:pt x="51" y="199"/>
                    </a:lnTo>
                    <a:lnTo>
                      <a:pt x="53" y="194"/>
                    </a:lnTo>
                    <a:lnTo>
                      <a:pt x="56" y="188"/>
                    </a:lnTo>
                    <a:lnTo>
                      <a:pt x="58" y="182"/>
                    </a:lnTo>
                    <a:lnTo>
                      <a:pt x="60" y="177"/>
                    </a:lnTo>
                    <a:lnTo>
                      <a:pt x="63" y="171"/>
                    </a:lnTo>
                    <a:lnTo>
                      <a:pt x="65" y="165"/>
                    </a:lnTo>
                    <a:lnTo>
                      <a:pt x="68" y="159"/>
                    </a:lnTo>
                    <a:lnTo>
                      <a:pt x="70" y="153"/>
                    </a:lnTo>
                    <a:lnTo>
                      <a:pt x="72" y="148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5" y="138"/>
                    </a:lnTo>
                    <a:lnTo>
                      <a:pt x="75" y="136"/>
                    </a:lnTo>
                    <a:lnTo>
                      <a:pt x="75" y="134"/>
                    </a:lnTo>
                    <a:lnTo>
                      <a:pt x="75" y="131"/>
                    </a:lnTo>
                    <a:lnTo>
                      <a:pt x="75" y="129"/>
                    </a:lnTo>
                    <a:lnTo>
                      <a:pt x="75" y="125"/>
                    </a:lnTo>
                    <a:lnTo>
                      <a:pt x="75" y="122"/>
                    </a:lnTo>
                    <a:lnTo>
                      <a:pt x="75" y="119"/>
                    </a:lnTo>
                    <a:lnTo>
                      <a:pt x="75" y="115"/>
                    </a:lnTo>
                    <a:lnTo>
                      <a:pt x="75" y="111"/>
                    </a:lnTo>
                    <a:lnTo>
                      <a:pt x="75" y="107"/>
                    </a:lnTo>
                    <a:lnTo>
                      <a:pt x="75" y="103"/>
                    </a:lnTo>
                    <a:lnTo>
                      <a:pt x="75" y="99"/>
                    </a:lnTo>
                    <a:lnTo>
                      <a:pt x="75" y="95"/>
                    </a:lnTo>
                    <a:lnTo>
                      <a:pt x="75" y="91"/>
                    </a:lnTo>
                    <a:lnTo>
                      <a:pt x="75" y="87"/>
                    </a:lnTo>
                    <a:lnTo>
                      <a:pt x="75" y="83"/>
                    </a:lnTo>
                    <a:lnTo>
                      <a:pt x="75" y="79"/>
                    </a:lnTo>
                    <a:lnTo>
                      <a:pt x="75" y="76"/>
                    </a:lnTo>
                    <a:lnTo>
                      <a:pt x="75" y="73"/>
                    </a:lnTo>
                    <a:lnTo>
                      <a:pt x="75" y="69"/>
                    </a:lnTo>
                    <a:lnTo>
                      <a:pt x="75" y="67"/>
                    </a:lnTo>
                    <a:lnTo>
                      <a:pt x="75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7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6" y="56"/>
                    </a:lnTo>
                    <a:lnTo>
                      <a:pt x="77" y="56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6" y="56"/>
                    </a:lnTo>
                    <a:lnTo>
                      <a:pt x="89" y="56"/>
                    </a:lnTo>
                    <a:lnTo>
                      <a:pt x="92" y="56"/>
                    </a:lnTo>
                    <a:lnTo>
                      <a:pt x="96" y="56"/>
                    </a:lnTo>
                    <a:lnTo>
                      <a:pt x="100" y="56"/>
                    </a:lnTo>
                    <a:lnTo>
                      <a:pt x="104" y="56"/>
                    </a:lnTo>
                    <a:lnTo>
                      <a:pt x="108" y="56"/>
                    </a:lnTo>
                    <a:lnTo>
                      <a:pt x="112" y="56"/>
                    </a:lnTo>
                    <a:lnTo>
                      <a:pt x="116" y="56"/>
                    </a:lnTo>
                    <a:lnTo>
                      <a:pt x="120" y="56"/>
                    </a:lnTo>
                    <a:lnTo>
                      <a:pt x="124" y="56"/>
                    </a:lnTo>
                    <a:lnTo>
                      <a:pt x="129" y="56"/>
                    </a:lnTo>
                    <a:lnTo>
                      <a:pt x="133" y="56"/>
                    </a:lnTo>
                    <a:lnTo>
                      <a:pt x="137" y="56"/>
                    </a:lnTo>
                    <a:lnTo>
                      <a:pt x="141" y="56"/>
                    </a:lnTo>
                    <a:lnTo>
                      <a:pt x="145" y="56"/>
                    </a:lnTo>
                    <a:lnTo>
                      <a:pt x="148" y="56"/>
                    </a:lnTo>
                    <a:lnTo>
                      <a:pt x="152" y="56"/>
                    </a:lnTo>
                    <a:lnTo>
                      <a:pt x="154" y="56"/>
                    </a:lnTo>
                    <a:lnTo>
                      <a:pt x="157" y="56"/>
                    </a:lnTo>
                    <a:lnTo>
                      <a:pt x="160" y="56"/>
                    </a:lnTo>
                    <a:lnTo>
                      <a:pt x="162" y="56"/>
                    </a:lnTo>
                    <a:lnTo>
                      <a:pt x="164" y="56"/>
                    </a:lnTo>
                    <a:lnTo>
                      <a:pt x="165" y="56"/>
                    </a:lnTo>
                    <a:lnTo>
                      <a:pt x="166" y="56"/>
                    </a:lnTo>
                    <a:lnTo>
                      <a:pt x="166" y="56"/>
                    </a:lnTo>
                    <a:lnTo>
                      <a:pt x="172" y="56"/>
                    </a:lnTo>
                    <a:lnTo>
                      <a:pt x="175" y="56"/>
                    </a:lnTo>
                    <a:lnTo>
                      <a:pt x="178" y="57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6" y="58"/>
                    </a:lnTo>
                    <a:lnTo>
                      <a:pt x="189" y="59"/>
                    </a:lnTo>
                    <a:lnTo>
                      <a:pt x="191" y="59"/>
                    </a:lnTo>
                    <a:lnTo>
                      <a:pt x="194" y="60"/>
                    </a:lnTo>
                    <a:lnTo>
                      <a:pt x="196" y="61"/>
                    </a:lnTo>
                    <a:lnTo>
                      <a:pt x="198" y="62"/>
                    </a:lnTo>
                    <a:lnTo>
                      <a:pt x="200" y="63"/>
                    </a:lnTo>
                    <a:lnTo>
                      <a:pt x="202" y="65"/>
                    </a:lnTo>
                    <a:lnTo>
                      <a:pt x="204" y="66"/>
                    </a:lnTo>
                    <a:lnTo>
                      <a:pt x="206" y="67"/>
                    </a:lnTo>
                    <a:lnTo>
                      <a:pt x="207" y="69"/>
                    </a:lnTo>
                    <a:lnTo>
                      <a:pt x="209" y="70"/>
                    </a:lnTo>
                    <a:lnTo>
                      <a:pt x="210" y="71"/>
                    </a:lnTo>
                    <a:lnTo>
                      <a:pt x="212" y="73"/>
                    </a:lnTo>
                    <a:lnTo>
                      <a:pt x="213" y="75"/>
                    </a:lnTo>
                    <a:lnTo>
                      <a:pt x="214" y="77"/>
                    </a:lnTo>
                    <a:lnTo>
                      <a:pt x="215" y="79"/>
                    </a:lnTo>
                    <a:lnTo>
                      <a:pt x="216" y="81"/>
                    </a:lnTo>
                    <a:lnTo>
                      <a:pt x="216" y="83"/>
                    </a:lnTo>
                    <a:lnTo>
                      <a:pt x="217" y="85"/>
                    </a:lnTo>
                    <a:lnTo>
                      <a:pt x="218" y="87"/>
                    </a:lnTo>
                    <a:lnTo>
                      <a:pt x="218" y="89"/>
                    </a:lnTo>
                    <a:lnTo>
                      <a:pt x="218" y="92"/>
                    </a:lnTo>
                    <a:lnTo>
                      <a:pt x="219" y="94"/>
                    </a:lnTo>
                    <a:lnTo>
                      <a:pt x="219" y="97"/>
                    </a:lnTo>
                    <a:lnTo>
                      <a:pt x="219" y="99"/>
                    </a:lnTo>
                    <a:lnTo>
                      <a:pt x="219" y="105"/>
                    </a:lnTo>
                    <a:lnTo>
                      <a:pt x="218" y="107"/>
                    </a:lnTo>
                    <a:lnTo>
                      <a:pt x="218" y="109"/>
                    </a:lnTo>
                    <a:lnTo>
                      <a:pt x="218" y="112"/>
                    </a:lnTo>
                    <a:lnTo>
                      <a:pt x="217" y="114"/>
                    </a:lnTo>
                    <a:lnTo>
                      <a:pt x="216" y="116"/>
                    </a:lnTo>
                    <a:lnTo>
                      <a:pt x="216" y="118"/>
                    </a:lnTo>
                    <a:lnTo>
                      <a:pt x="215" y="120"/>
                    </a:lnTo>
                    <a:lnTo>
                      <a:pt x="214" y="122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0" y="127"/>
                    </a:lnTo>
                    <a:lnTo>
                      <a:pt x="208" y="129"/>
                    </a:lnTo>
                    <a:lnTo>
                      <a:pt x="207" y="130"/>
                    </a:lnTo>
                    <a:lnTo>
                      <a:pt x="205" y="132"/>
                    </a:lnTo>
                    <a:lnTo>
                      <a:pt x="204" y="133"/>
                    </a:lnTo>
                    <a:lnTo>
                      <a:pt x="202" y="134"/>
                    </a:lnTo>
                    <a:lnTo>
                      <a:pt x="200" y="135"/>
                    </a:lnTo>
                    <a:lnTo>
                      <a:pt x="197" y="136"/>
                    </a:lnTo>
                    <a:lnTo>
                      <a:pt x="195" y="137"/>
                    </a:lnTo>
                    <a:lnTo>
                      <a:pt x="193" y="138"/>
                    </a:lnTo>
                    <a:lnTo>
                      <a:pt x="190" y="139"/>
                    </a:lnTo>
                    <a:lnTo>
                      <a:pt x="188" y="139"/>
                    </a:lnTo>
                    <a:lnTo>
                      <a:pt x="185" y="140"/>
                    </a:lnTo>
                    <a:lnTo>
                      <a:pt x="182" y="141"/>
                    </a:lnTo>
                    <a:lnTo>
                      <a:pt x="179" y="141"/>
                    </a:lnTo>
                    <a:lnTo>
                      <a:pt x="176" y="141"/>
                    </a:lnTo>
                    <a:lnTo>
                      <a:pt x="173" y="142"/>
                    </a:lnTo>
                    <a:lnTo>
                      <a:pt x="170" y="142"/>
                    </a:lnTo>
                    <a:lnTo>
                      <a:pt x="166" y="142"/>
                    </a:lnTo>
                    <a:lnTo>
                      <a:pt x="163" y="142"/>
                    </a:lnTo>
                    <a:lnTo>
                      <a:pt x="162" y="142"/>
                    </a:lnTo>
                    <a:lnTo>
                      <a:pt x="161" y="142"/>
                    </a:lnTo>
                    <a:lnTo>
                      <a:pt x="159" y="142"/>
                    </a:lnTo>
                    <a:lnTo>
                      <a:pt x="157" y="142"/>
                    </a:lnTo>
                    <a:lnTo>
                      <a:pt x="155" y="142"/>
                    </a:lnTo>
                    <a:lnTo>
                      <a:pt x="152" y="142"/>
                    </a:lnTo>
                    <a:lnTo>
                      <a:pt x="149" y="142"/>
                    </a:lnTo>
                    <a:lnTo>
                      <a:pt x="146" y="142"/>
                    </a:lnTo>
                    <a:lnTo>
                      <a:pt x="142" y="142"/>
                    </a:lnTo>
                    <a:lnTo>
                      <a:pt x="139" y="142"/>
                    </a:lnTo>
                    <a:lnTo>
                      <a:pt x="135" y="142"/>
                    </a:lnTo>
                    <a:lnTo>
                      <a:pt x="131" y="142"/>
                    </a:lnTo>
                    <a:lnTo>
                      <a:pt x="127" y="142"/>
                    </a:lnTo>
                    <a:lnTo>
                      <a:pt x="123" y="142"/>
                    </a:lnTo>
                    <a:lnTo>
                      <a:pt x="119" y="142"/>
                    </a:lnTo>
                    <a:lnTo>
                      <a:pt x="115" y="142"/>
                    </a:lnTo>
                    <a:lnTo>
                      <a:pt x="110" y="142"/>
                    </a:lnTo>
                    <a:lnTo>
                      <a:pt x="106" y="142"/>
                    </a:lnTo>
                    <a:lnTo>
                      <a:pt x="102" y="142"/>
                    </a:lnTo>
                    <a:lnTo>
                      <a:pt x="99" y="142"/>
                    </a:lnTo>
                    <a:lnTo>
                      <a:pt x="95" y="142"/>
                    </a:lnTo>
                    <a:lnTo>
                      <a:pt x="92" y="142"/>
                    </a:lnTo>
                    <a:lnTo>
                      <a:pt x="88" y="142"/>
                    </a:lnTo>
                    <a:lnTo>
                      <a:pt x="86" y="142"/>
                    </a:lnTo>
                    <a:lnTo>
                      <a:pt x="83" y="142"/>
                    </a:lnTo>
                    <a:lnTo>
                      <a:pt x="80" y="142"/>
                    </a:lnTo>
                    <a:lnTo>
                      <a:pt x="78" y="142"/>
                    </a:lnTo>
                    <a:lnTo>
                      <a:pt x="77" y="142"/>
                    </a:lnTo>
                    <a:lnTo>
                      <a:pt x="76" y="142"/>
                    </a:lnTo>
                    <a:lnTo>
                      <a:pt x="75" y="142"/>
                    </a:lnTo>
                    <a:lnTo>
                      <a:pt x="75" y="142"/>
                    </a:lnTo>
                    <a:lnTo>
                      <a:pt x="70" y="153"/>
                    </a:lnTo>
                    <a:lnTo>
                      <a:pt x="68" y="159"/>
                    </a:lnTo>
                    <a:lnTo>
                      <a:pt x="65" y="165"/>
                    </a:lnTo>
                    <a:lnTo>
                      <a:pt x="63" y="171"/>
                    </a:lnTo>
                    <a:lnTo>
                      <a:pt x="61" y="176"/>
                    </a:lnTo>
                    <a:lnTo>
                      <a:pt x="58" y="182"/>
                    </a:lnTo>
                    <a:lnTo>
                      <a:pt x="56" y="188"/>
                    </a:lnTo>
                    <a:lnTo>
                      <a:pt x="54" y="193"/>
                    </a:lnTo>
                    <a:lnTo>
                      <a:pt x="51" y="199"/>
                    </a:lnTo>
                    <a:lnTo>
                      <a:pt x="49" y="205"/>
                    </a:lnTo>
                    <a:lnTo>
                      <a:pt x="47" y="211"/>
                    </a:lnTo>
                    <a:lnTo>
                      <a:pt x="44" y="216"/>
                    </a:lnTo>
                    <a:lnTo>
                      <a:pt x="42" y="222"/>
                    </a:lnTo>
                    <a:lnTo>
                      <a:pt x="40" y="227"/>
                    </a:lnTo>
                    <a:lnTo>
                      <a:pt x="37" y="233"/>
                    </a:lnTo>
                    <a:lnTo>
                      <a:pt x="35" y="239"/>
                    </a:lnTo>
                    <a:lnTo>
                      <a:pt x="32" y="245"/>
                    </a:lnTo>
                    <a:lnTo>
                      <a:pt x="30" y="251"/>
                    </a:lnTo>
                    <a:lnTo>
                      <a:pt x="28" y="256"/>
                    </a:lnTo>
                    <a:lnTo>
                      <a:pt x="26" y="262"/>
                    </a:lnTo>
                    <a:lnTo>
                      <a:pt x="23" y="268"/>
                    </a:lnTo>
                    <a:lnTo>
                      <a:pt x="21" y="273"/>
                    </a:lnTo>
                    <a:lnTo>
                      <a:pt x="18" y="279"/>
                    </a:lnTo>
                    <a:lnTo>
                      <a:pt x="16" y="285"/>
                    </a:lnTo>
                    <a:lnTo>
                      <a:pt x="14" y="291"/>
                    </a:lnTo>
                    <a:lnTo>
                      <a:pt x="11" y="296"/>
                    </a:lnTo>
                    <a:lnTo>
                      <a:pt x="9" y="302"/>
                    </a:lnTo>
                    <a:lnTo>
                      <a:pt x="6" y="308"/>
                    </a:lnTo>
                    <a:lnTo>
                      <a:pt x="4" y="314"/>
                    </a:lnTo>
                    <a:lnTo>
                      <a:pt x="2" y="31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71400" y="2814480"/>
                <a:ext cx="204840" cy="138240"/>
              </a:xfrm>
              <a:custGeom>
                <a:avLst/>
                <a:gdLst/>
                <a:ahLst/>
                <a:rect l="l" t="t" r="r" b="b"/>
                <a:pathLst>
                  <a:path w="145" h="87">
                    <a:moveTo>
                      <a:pt x="0" y="86"/>
                    </a:moveTo>
                    <a:lnTo>
                      <a:pt x="0" y="85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09" y="1"/>
                    </a:lnTo>
                    <a:lnTo>
                      <a:pt x="111" y="2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9" y="4"/>
                    </a:lnTo>
                    <a:lnTo>
                      <a:pt x="121" y="5"/>
                    </a:lnTo>
                    <a:lnTo>
                      <a:pt x="123" y="6"/>
                    </a:lnTo>
                    <a:lnTo>
                      <a:pt x="125" y="7"/>
                    </a:lnTo>
                    <a:lnTo>
                      <a:pt x="127" y="9"/>
                    </a:lnTo>
                    <a:lnTo>
                      <a:pt x="129" y="10"/>
                    </a:lnTo>
                    <a:lnTo>
                      <a:pt x="131" y="11"/>
                    </a:lnTo>
                    <a:lnTo>
                      <a:pt x="132" y="13"/>
                    </a:lnTo>
                    <a:lnTo>
                      <a:pt x="134" y="14"/>
                    </a:lnTo>
                    <a:lnTo>
                      <a:pt x="135" y="15"/>
                    </a:lnTo>
                    <a:lnTo>
                      <a:pt x="137" y="17"/>
                    </a:lnTo>
                    <a:lnTo>
                      <a:pt x="138" y="19"/>
                    </a:lnTo>
                    <a:lnTo>
                      <a:pt x="139" y="21"/>
                    </a:lnTo>
                    <a:lnTo>
                      <a:pt x="140" y="23"/>
                    </a:lnTo>
                    <a:lnTo>
                      <a:pt x="141" y="25"/>
                    </a:lnTo>
                    <a:lnTo>
                      <a:pt x="141" y="27"/>
                    </a:lnTo>
                    <a:lnTo>
                      <a:pt x="142" y="29"/>
                    </a:lnTo>
                    <a:lnTo>
                      <a:pt x="143" y="31"/>
                    </a:lnTo>
                    <a:lnTo>
                      <a:pt x="143" y="33"/>
                    </a:lnTo>
                    <a:lnTo>
                      <a:pt x="143" y="36"/>
                    </a:lnTo>
                    <a:lnTo>
                      <a:pt x="144" y="38"/>
                    </a:lnTo>
                    <a:lnTo>
                      <a:pt x="144" y="41"/>
                    </a:lnTo>
                    <a:lnTo>
                      <a:pt x="144" y="43"/>
                    </a:lnTo>
                    <a:lnTo>
                      <a:pt x="144" y="49"/>
                    </a:lnTo>
                    <a:lnTo>
                      <a:pt x="143" y="51"/>
                    </a:lnTo>
                    <a:lnTo>
                      <a:pt x="143" y="53"/>
                    </a:lnTo>
                    <a:lnTo>
                      <a:pt x="143" y="56"/>
                    </a:lnTo>
                    <a:lnTo>
                      <a:pt x="142" y="58"/>
                    </a:lnTo>
                    <a:lnTo>
                      <a:pt x="141" y="60"/>
                    </a:lnTo>
                    <a:lnTo>
                      <a:pt x="141" y="62"/>
                    </a:lnTo>
                    <a:lnTo>
                      <a:pt x="140" y="64"/>
                    </a:lnTo>
                    <a:lnTo>
                      <a:pt x="139" y="66"/>
                    </a:lnTo>
                    <a:lnTo>
                      <a:pt x="137" y="68"/>
                    </a:lnTo>
                    <a:lnTo>
                      <a:pt x="136" y="70"/>
                    </a:lnTo>
                    <a:lnTo>
                      <a:pt x="135" y="71"/>
                    </a:lnTo>
                    <a:lnTo>
                      <a:pt x="133" y="73"/>
                    </a:lnTo>
                    <a:lnTo>
                      <a:pt x="132" y="74"/>
                    </a:lnTo>
                    <a:lnTo>
                      <a:pt x="130" y="76"/>
                    </a:lnTo>
                    <a:lnTo>
                      <a:pt x="129" y="77"/>
                    </a:lnTo>
                    <a:lnTo>
                      <a:pt x="127" y="78"/>
                    </a:lnTo>
                    <a:lnTo>
                      <a:pt x="125" y="79"/>
                    </a:lnTo>
                    <a:lnTo>
                      <a:pt x="122" y="80"/>
                    </a:lnTo>
                    <a:lnTo>
                      <a:pt x="120" y="81"/>
                    </a:lnTo>
                    <a:lnTo>
                      <a:pt x="118" y="82"/>
                    </a:lnTo>
                    <a:lnTo>
                      <a:pt x="115" y="83"/>
                    </a:lnTo>
                    <a:lnTo>
                      <a:pt x="113" y="83"/>
                    </a:lnTo>
                    <a:lnTo>
                      <a:pt x="110" y="84"/>
                    </a:lnTo>
                    <a:lnTo>
                      <a:pt x="107" y="85"/>
                    </a:lnTo>
                    <a:lnTo>
                      <a:pt x="104" y="85"/>
                    </a:lnTo>
                    <a:lnTo>
                      <a:pt x="101" y="85"/>
                    </a:lnTo>
                    <a:lnTo>
                      <a:pt x="98" y="86"/>
                    </a:lnTo>
                    <a:lnTo>
                      <a:pt x="95" y="86"/>
                    </a:lnTo>
                    <a:lnTo>
                      <a:pt x="91" y="86"/>
                    </a:lnTo>
                    <a:lnTo>
                      <a:pt x="88" y="86"/>
                    </a:lnTo>
                    <a:lnTo>
                      <a:pt x="87" y="86"/>
                    </a:lnTo>
                    <a:lnTo>
                      <a:pt x="86" y="86"/>
                    </a:lnTo>
                    <a:lnTo>
                      <a:pt x="84" y="86"/>
                    </a:lnTo>
                    <a:lnTo>
                      <a:pt x="82" y="86"/>
                    </a:lnTo>
                    <a:lnTo>
                      <a:pt x="80" y="86"/>
                    </a:lnTo>
                    <a:lnTo>
                      <a:pt x="77" y="86"/>
                    </a:lnTo>
                    <a:lnTo>
                      <a:pt x="74" y="86"/>
                    </a:lnTo>
                    <a:lnTo>
                      <a:pt x="71" y="86"/>
                    </a:lnTo>
                    <a:lnTo>
                      <a:pt x="67" y="86"/>
                    </a:lnTo>
                    <a:lnTo>
                      <a:pt x="64" y="86"/>
                    </a:lnTo>
                    <a:lnTo>
                      <a:pt x="60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48" y="86"/>
                    </a:lnTo>
                    <a:lnTo>
                      <a:pt x="44" y="86"/>
                    </a:lnTo>
                    <a:lnTo>
                      <a:pt x="40" y="86"/>
                    </a:lnTo>
                    <a:lnTo>
                      <a:pt x="35" y="86"/>
                    </a:lnTo>
                    <a:lnTo>
                      <a:pt x="31" y="86"/>
                    </a:lnTo>
                    <a:lnTo>
                      <a:pt x="27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7" y="86"/>
                    </a:lnTo>
                    <a:lnTo>
                      <a:pt x="13" y="86"/>
                    </a:lnTo>
                    <a:lnTo>
                      <a:pt x="11" y="86"/>
                    </a:lnTo>
                    <a:lnTo>
                      <a:pt x="8" y="86"/>
                    </a:lnTo>
                    <a:lnTo>
                      <a:pt x="5" y="86"/>
                    </a:lnTo>
                    <a:lnTo>
                      <a:pt x="3" y="86"/>
                    </a:lnTo>
                    <a:lnTo>
                      <a:pt x="2" y="86"/>
                    </a:lnTo>
                    <a:lnTo>
                      <a:pt x="1" y="86"/>
                    </a:lnTo>
                    <a:lnTo>
                      <a:pt x="0" y="86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545080" y="3006720"/>
              <a:ext cx="193680" cy="243000"/>
            </a:xfrm>
            <a:custGeom>
              <a:avLst/>
              <a:gdLst/>
              <a:ahLst/>
              <a:rect l="l" t="t" r="r" b="b"/>
              <a:pathLst>
                <a:path w="137" h="153">
                  <a:moveTo>
                    <a:pt x="136" y="0"/>
                  </a:moveTo>
                  <a:lnTo>
                    <a:pt x="136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2"/>
                  </a:lnTo>
                  <a:lnTo>
                    <a:pt x="96" y="3"/>
                  </a:lnTo>
                  <a:lnTo>
                    <a:pt x="96" y="5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6" y="13"/>
                  </a:lnTo>
                  <a:lnTo>
                    <a:pt x="96" y="16"/>
                  </a:lnTo>
                  <a:lnTo>
                    <a:pt x="96" y="20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2"/>
                  </a:lnTo>
                  <a:lnTo>
                    <a:pt x="96" y="56"/>
                  </a:lnTo>
                  <a:lnTo>
                    <a:pt x="96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6" y="74"/>
                  </a:lnTo>
                  <a:lnTo>
                    <a:pt x="96" y="77"/>
                  </a:lnTo>
                  <a:lnTo>
                    <a:pt x="96" y="80"/>
                  </a:lnTo>
                  <a:lnTo>
                    <a:pt x="96" y="82"/>
                  </a:lnTo>
                  <a:lnTo>
                    <a:pt x="96" y="84"/>
                  </a:lnTo>
                  <a:lnTo>
                    <a:pt x="96" y="86"/>
                  </a:lnTo>
                  <a:lnTo>
                    <a:pt x="96" y="87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5" y="91"/>
                  </a:lnTo>
                  <a:lnTo>
                    <a:pt x="95" y="93"/>
                  </a:lnTo>
                  <a:lnTo>
                    <a:pt x="95" y="95"/>
                  </a:lnTo>
                  <a:lnTo>
                    <a:pt x="94" y="96"/>
                  </a:lnTo>
                  <a:lnTo>
                    <a:pt x="94" y="98"/>
                  </a:lnTo>
                  <a:lnTo>
                    <a:pt x="94" y="99"/>
                  </a:lnTo>
                  <a:lnTo>
                    <a:pt x="93" y="101"/>
                  </a:lnTo>
                  <a:lnTo>
                    <a:pt x="92" y="102"/>
                  </a:lnTo>
                  <a:lnTo>
                    <a:pt x="92" y="104"/>
                  </a:lnTo>
                  <a:lnTo>
                    <a:pt x="91" y="105"/>
                  </a:lnTo>
                  <a:lnTo>
                    <a:pt x="90" y="106"/>
                  </a:lnTo>
                  <a:lnTo>
                    <a:pt x="90" y="107"/>
                  </a:lnTo>
                  <a:lnTo>
                    <a:pt x="89" y="108"/>
                  </a:lnTo>
                  <a:lnTo>
                    <a:pt x="88" y="110"/>
                  </a:lnTo>
                  <a:lnTo>
                    <a:pt x="87" y="111"/>
                  </a:lnTo>
                  <a:lnTo>
                    <a:pt x="86" y="112"/>
                  </a:lnTo>
                  <a:lnTo>
                    <a:pt x="85" y="112"/>
                  </a:lnTo>
                  <a:lnTo>
                    <a:pt x="84" y="113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80" y="116"/>
                  </a:lnTo>
                  <a:lnTo>
                    <a:pt x="78" y="116"/>
                  </a:lnTo>
                  <a:lnTo>
                    <a:pt x="77" y="117"/>
                  </a:lnTo>
                  <a:lnTo>
                    <a:pt x="76" y="117"/>
                  </a:lnTo>
                  <a:lnTo>
                    <a:pt x="74" y="118"/>
                  </a:lnTo>
                  <a:lnTo>
                    <a:pt x="72" y="118"/>
                  </a:lnTo>
                  <a:lnTo>
                    <a:pt x="71" y="118"/>
                  </a:lnTo>
                  <a:lnTo>
                    <a:pt x="69" y="119"/>
                  </a:lnTo>
                  <a:lnTo>
                    <a:pt x="68" y="119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1" y="119"/>
                  </a:lnTo>
                  <a:lnTo>
                    <a:pt x="60" y="119"/>
                  </a:lnTo>
                  <a:lnTo>
                    <a:pt x="58" y="118"/>
                  </a:lnTo>
                  <a:lnTo>
                    <a:pt x="57" y="118"/>
                  </a:lnTo>
                  <a:lnTo>
                    <a:pt x="56" y="118"/>
                  </a:lnTo>
                  <a:lnTo>
                    <a:pt x="54" y="118"/>
                  </a:lnTo>
                  <a:lnTo>
                    <a:pt x="53" y="117"/>
                  </a:lnTo>
                  <a:lnTo>
                    <a:pt x="52" y="117"/>
                  </a:lnTo>
                  <a:lnTo>
                    <a:pt x="51" y="116"/>
                  </a:lnTo>
                  <a:lnTo>
                    <a:pt x="50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5" y="111"/>
                  </a:lnTo>
                  <a:lnTo>
                    <a:pt x="44" y="110"/>
                  </a:lnTo>
                  <a:lnTo>
                    <a:pt x="44" y="109"/>
                  </a:lnTo>
                  <a:lnTo>
                    <a:pt x="44" y="108"/>
                  </a:lnTo>
                  <a:lnTo>
                    <a:pt x="43" y="106"/>
                  </a:lnTo>
                  <a:lnTo>
                    <a:pt x="42" y="105"/>
                  </a:lnTo>
                  <a:lnTo>
                    <a:pt x="42" y="104"/>
                  </a:lnTo>
                  <a:lnTo>
                    <a:pt x="42" y="102"/>
                  </a:lnTo>
                  <a:lnTo>
                    <a:pt x="42" y="101"/>
                  </a:lnTo>
                  <a:lnTo>
                    <a:pt x="41" y="100"/>
                  </a:lnTo>
                  <a:lnTo>
                    <a:pt x="41" y="98"/>
                  </a:lnTo>
                  <a:lnTo>
                    <a:pt x="41" y="96"/>
                  </a:lnTo>
                  <a:lnTo>
                    <a:pt x="41" y="95"/>
                  </a:lnTo>
                  <a:lnTo>
                    <a:pt x="41" y="93"/>
                  </a:lnTo>
                  <a:lnTo>
                    <a:pt x="41" y="91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1" y="84"/>
                  </a:lnTo>
                  <a:lnTo>
                    <a:pt x="41" y="81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1" y="53"/>
                  </a:lnTo>
                  <a:lnTo>
                    <a:pt x="41" y="48"/>
                  </a:lnTo>
                  <a:lnTo>
                    <a:pt x="41" y="44"/>
                  </a:lnTo>
                  <a:lnTo>
                    <a:pt x="41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41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3" y="123"/>
                  </a:lnTo>
                  <a:lnTo>
                    <a:pt x="4" y="126"/>
                  </a:lnTo>
                  <a:lnTo>
                    <a:pt x="5" y="128"/>
                  </a:lnTo>
                  <a:lnTo>
                    <a:pt x="6" y="130"/>
                  </a:lnTo>
                  <a:lnTo>
                    <a:pt x="7" y="132"/>
                  </a:lnTo>
                  <a:lnTo>
                    <a:pt x="8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5"/>
                  </a:lnTo>
                  <a:lnTo>
                    <a:pt x="21" y="146"/>
                  </a:lnTo>
                  <a:lnTo>
                    <a:pt x="23" y="147"/>
                  </a:lnTo>
                  <a:lnTo>
                    <a:pt x="26" y="148"/>
                  </a:lnTo>
                  <a:lnTo>
                    <a:pt x="28" y="149"/>
                  </a:lnTo>
                  <a:lnTo>
                    <a:pt x="30" y="149"/>
                  </a:lnTo>
                  <a:lnTo>
                    <a:pt x="33" y="150"/>
                  </a:lnTo>
                  <a:lnTo>
                    <a:pt x="35" y="150"/>
                  </a:lnTo>
                  <a:lnTo>
                    <a:pt x="38" y="151"/>
                  </a:lnTo>
                  <a:lnTo>
                    <a:pt x="41" y="151"/>
                  </a:lnTo>
                  <a:lnTo>
                    <a:pt x="44" y="152"/>
                  </a:lnTo>
                  <a:lnTo>
                    <a:pt x="47" y="152"/>
                  </a:lnTo>
                  <a:lnTo>
                    <a:pt x="50" y="152"/>
                  </a:lnTo>
                  <a:lnTo>
                    <a:pt x="53" y="152"/>
                  </a:lnTo>
                  <a:lnTo>
                    <a:pt x="55" y="152"/>
                  </a:lnTo>
                  <a:lnTo>
                    <a:pt x="57" y="152"/>
                  </a:lnTo>
                  <a:lnTo>
                    <a:pt x="58" y="151"/>
                  </a:lnTo>
                  <a:lnTo>
                    <a:pt x="60" y="151"/>
                  </a:lnTo>
                  <a:lnTo>
                    <a:pt x="62" y="151"/>
                  </a:lnTo>
                  <a:lnTo>
                    <a:pt x="64" y="150"/>
                  </a:lnTo>
                  <a:lnTo>
                    <a:pt x="65" y="150"/>
                  </a:lnTo>
                  <a:lnTo>
                    <a:pt x="67" y="150"/>
                  </a:lnTo>
                  <a:lnTo>
                    <a:pt x="68" y="149"/>
                  </a:lnTo>
                  <a:lnTo>
                    <a:pt x="70" y="149"/>
                  </a:lnTo>
                  <a:lnTo>
                    <a:pt x="71" y="148"/>
                  </a:lnTo>
                  <a:lnTo>
                    <a:pt x="73" y="148"/>
                  </a:lnTo>
                  <a:lnTo>
                    <a:pt x="74" y="147"/>
                  </a:lnTo>
                  <a:lnTo>
                    <a:pt x="76" y="147"/>
                  </a:lnTo>
                  <a:lnTo>
                    <a:pt x="77" y="146"/>
                  </a:lnTo>
                  <a:lnTo>
                    <a:pt x="79" y="145"/>
                  </a:lnTo>
                  <a:lnTo>
                    <a:pt x="80" y="144"/>
                  </a:lnTo>
                  <a:lnTo>
                    <a:pt x="81" y="144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1"/>
                  </a:lnTo>
                  <a:lnTo>
                    <a:pt x="86" y="140"/>
                  </a:lnTo>
                  <a:lnTo>
                    <a:pt x="88" y="139"/>
                  </a:lnTo>
                  <a:lnTo>
                    <a:pt x="89" y="138"/>
                  </a:lnTo>
                  <a:lnTo>
                    <a:pt x="90" y="137"/>
                  </a:lnTo>
                  <a:lnTo>
                    <a:pt x="91" y="136"/>
                  </a:lnTo>
                  <a:lnTo>
                    <a:pt x="92" y="134"/>
                  </a:lnTo>
                  <a:lnTo>
                    <a:pt x="94" y="133"/>
                  </a:lnTo>
                  <a:lnTo>
                    <a:pt x="95" y="132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6" y="134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6" y="138"/>
                  </a:lnTo>
                  <a:lnTo>
                    <a:pt x="96" y="138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6" y="141"/>
                  </a:lnTo>
                  <a:lnTo>
                    <a:pt x="96" y="142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44"/>
                  </a:lnTo>
                  <a:lnTo>
                    <a:pt x="96" y="145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7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7" y="148"/>
                  </a:lnTo>
                  <a:lnTo>
                    <a:pt x="98" y="148"/>
                  </a:lnTo>
                  <a:lnTo>
                    <a:pt x="98" y="148"/>
                  </a:lnTo>
                  <a:lnTo>
                    <a:pt x="100" y="148"/>
                  </a:lnTo>
                  <a:lnTo>
                    <a:pt x="101" y="148"/>
                  </a:lnTo>
                  <a:lnTo>
                    <a:pt x="102" y="148"/>
                  </a:lnTo>
                  <a:lnTo>
                    <a:pt x="104" y="148"/>
                  </a:lnTo>
                  <a:lnTo>
                    <a:pt x="105" y="148"/>
                  </a:lnTo>
                  <a:lnTo>
                    <a:pt x="107" y="148"/>
                  </a:lnTo>
                  <a:lnTo>
                    <a:pt x="108" y="148"/>
                  </a:lnTo>
                  <a:lnTo>
                    <a:pt x="110" y="148"/>
                  </a:lnTo>
                  <a:lnTo>
                    <a:pt x="112" y="148"/>
                  </a:lnTo>
                  <a:lnTo>
                    <a:pt x="114" y="148"/>
                  </a:lnTo>
                  <a:lnTo>
                    <a:pt x="116" y="148"/>
                  </a:lnTo>
                  <a:lnTo>
                    <a:pt x="118" y="148"/>
                  </a:lnTo>
                  <a:lnTo>
                    <a:pt x="120" y="148"/>
                  </a:lnTo>
                  <a:lnTo>
                    <a:pt x="122" y="148"/>
                  </a:lnTo>
                  <a:lnTo>
                    <a:pt x="124" y="148"/>
                  </a:lnTo>
                  <a:lnTo>
                    <a:pt x="125" y="148"/>
                  </a:lnTo>
                  <a:lnTo>
                    <a:pt x="127" y="148"/>
                  </a:lnTo>
                  <a:lnTo>
                    <a:pt x="128" y="148"/>
                  </a:lnTo>
                  <a:lnTo>
                    <a:pt x="130" y="148"/>
                  </a:lnTo>
                  <a:lnTo>
                    <a:pt x="131" y="148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34" y="148"/>
                  </a:lnTo>
                  <a:lnTo>
                    <a:pt x="135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6" y="138"/>
                  </a:lnTo>
                  <a:lnTo>
                    <a:pt x="136" y="134"/>
                  </a:lnTo>
                  <a:lnTo>
                    <a:pt x="136" y="130"/>
                  </a:lnTo>
                  <a:lnTo>
                    <a:pt x="136" y="125"/>
                  </a:lnTo>
                  <a:lnTo>
                    <a:pt x="136" y="120"/>
                  </a:lnTo>
                  <a:lnTo>
                    <a:pt x="136" y="114"/>
                  </a:lnTo>
                  <a:lnTo>
                    <a:pt x="136" y="108"/>
                  </a:lnTo>
                  <a:lnTo>
                    <a:pt x="136" y="101"/>
                  </a:lnTo>
                  <a:lnTo>
                    <a:pt x="136" y="94"/>
                  </a:lnTo>
                  <a:lnTo>
                    <a:pt x="136" y="88"/>
                  </a:lnTo>
                  <a:lnTo>
                    <a:pt x="136" y="81"/>
                  </a:lnTo>
                  <a:lnTo>
                    <a:pt x="136" y="74"/>
                  </a:lnTo>
                  <a:lnTo>
                    <a:pt x="136" y="67"/>
                  </a:lnTo>
                  <a:lnTo>
                    <a:pt x="136" y="60"/>
                  </a:lnTo>
                  <a:lnTo>
                    <a:pt x="136" y="53"/>
                  </a:lnTo>
                  <a:lnTo>
                    <a:pt x="136" y="46"/>
                  </a:lnTo>
                  <a:lnTo>
                    <a:pt x="136" y="40"/>
                  </a:lnTo>
                  <a:lnTo>
                    <a:pt x="136" y="34"/>
                  </a:lnTo>
                  <a:lnTo>
                    <a:pt x="136" y="28"/>
                  </a:lnTo>
                  <a:lnTo>
                    <a:pt x="136" y="23"/>
                  </a:lnTo>
                  <a:lnTo>
                    <a:pt x="136" y="18"/>
                  </a:lnTo>
                  <a:lnTo>
                    <a:pt x="136" y="13"/>
                  </a:lnTo>
                  <a:lnTo>
                    <a:pt x="136" y="9"/>
                  </a:lnTo>
                  <a:lnTo>
                    <a:pt x="136" y="6"/>
                  </a:lnTo>
                  <a:lnTo>
                    <a:pt x="136" y="3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800680" y="2922480"/>
              <a:ext cx="209520" cy="328680"/>
              <a:chOff x="5800680" y="2922480"/>
              <a:chExt cx="209520" cy="328680"/>
            </a:xfrm>
          </p:grpSpPr>
          <p:sp>
            <p:nvSpPr>
              <p:cNvPr id="292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107" y="126"/>
                    </a:moveTo>
                    <a:lnTo>
                      <a:pt x="107" y="131"/>
                    </a:lnTo>
                    <a:lnTo>
                      <a:pt x="107" y="134"/>
                    </a:lnTo>
                    <a:lnTo>
                      <a:pt x="106" y="137"/>
                    </a:lnTo>
                    <a:lnTo>
                      <a:pt x="106" y="139"/>
                    </a:lnTo>
                    <a:lnTo>
                      <a:pt x="105" y="141"/>
                    </a:lnTo>
                    <a:lnTo>
                      <a:pt x="105" y="144"/>
                    </a:lnTo>
                    <a:lnTo>
                      <a:pt x="105" y="146"/>
                    </a:lnTo>
                    <a:lnTo>
                      <a:pt x="104" y="148"/>
                    </a:lnTo>
                    <a:lnTo>
                      <a:pt x="103" y="150"/>
                    </a:lnTo>
                    <a:lnTo>
                      <a:pt x="103" y="152"/>
                    </a:lnTo>
                    <a:lnTo>
                      <a:pt x="102" y="154"/>
                    </a:lnTo>
                    <a:lnTo>
                      <a:pt x="101" y="156"/>
                    </a:lnTo>
                    <a:lnTo>
                      <a:pt x="100" y="157"/>
                    </a:lnTo>
                    <a:lnTo>
                      <a:pt x="99" y="159"/>
                    </a:lnTo>
                    <a:lnTo>
                      <a:pt x="98" y="161"/>
                    </a:lnTo>
                    <a:lnTo>
                      <a:pt x="97" y="162"/>
                    </a:lnTo>
                    <a:lnTo>
                      <a:pt x="96" y="163"/>
                    </a:lnTo>
                    <a:lnTo>
                      <a:pt x="95" y="165"/>
                    </a:lnTo>
                    <a:lnTo>
                      <a:pt x="93" y="166"/>
                    </a:lnTo>
                    <a:lnTo>
                      <a:pt x="92" y="167"/>
                    </a:lnTo>
                    <a:lnTo>
                      <a:pt x="91" y="168"/>
                    </a:lnTo>
                    <a:lnTo>
                      <a:pt x="89" y="169"/>
                    </a:lnTo>
                    <a:lnTo>
                      <a:pt x="87" y="169"/>
                    </a:lnTo>
                    <a:lnTo>
                      <a:pt x="86" y="170"/>
                    </a:lnTo>
                    <a:lnTo>
                      <a:pt x="84" y="171"/>
                    </a:lnTo>
                    <a:lnTo>
                      <a:pt x="82" y="171"/>
                    </a:lnTo>
                    <a:lnTo>
                      <a:pt x="81" y="172"/>
                    </a:lnTo>
                    <a:lnTo>
                      <a:pt x="79" y="172"/>
                    </a:lnTo>
                    <a:lnTo>
                      <a:pt x="77" y="172"/>
                    </a:lnTo>
                    <a:lnTo>
                      <a:pt x="75" y="172"/>
                    </a:lnTo>
                    <a:lnTo>
                      <a:pt x="73" y="173"/>
                    </a:lnTo>
                    <a:lnTo>
                      <a:pt x="69" y="172"/>
                    </a:lnTo>
                    <a:lnTo>
                      <a:pt x="67" y="172"/>
                    </a:lnTo>
                    <a:lnTo>
                      <a:pt x="65" y="172"/>
                    </a:lnTo>
                    <a:lnTo>
                      <a:pt x="63" y="171"/>
                    </a:lnTo>
                    <a:lnTo>
                      <a:pt x="62" y="171"/>
                    </a:lnTo>
                    <a:lnTo>
                      <a:pt x="60" y="170"/>
                    </a:lnTo>
                    <a:lnTo>
                      <a:pt x="59" y="169"/>
                    </a:lnTo>
                    <a:lnTo>
                      <a:pt x="57" y="169"/>
                    </a:lnTo>
                    <a:lnTo>
                      <a:pt x="55" y="168"/>
                    </a:lnTo>
                    <a:lnTo>
                      <a:pt x="54" y="167"/>
                    </a:lnTo>
                    <a:lnTo>
                      <a:pt x="53" y="166"/>
                    </a:lnTo>
                    <a:lnTo>
                      <a:pt x="51" y="165"/>
                    </a:lnTo>
                    <a:lnTo>
                      <a:pt x="50" y="163"/>
                    </a:lnTo>
                    <a:lnTo>
                      <a:pt x="49" y="162"/>
                    </a:lnTo>
                    <a:lnTo>
                      <a:pt x="48" y="161"/>
                    </a:lnTo>
                    <a:lnTo>
                      <a:pt x="47" y="159"/>
                    </a:lnTo>
                    <a:lnTo>
                      <a:pt x="46" y="157"/>
                    </a:lnTo>
                    <a:lnTo>
                      <a:pt x="45" y="156"/>
                    </a:lnTo>
                    <a:lnTo>
                      <a:pt x="44" y="154"/>
                    </a:lnTo>
                    <a:lnTo>
                      <a:pt x="44" y="152"/>
                    </a:lnTo>
                    <a:lnTo>
                      <a:pt x="43" y="150"/>
                    </a:lnTo>
                    <a:lnTo>
                      <a:pt x="42" y="148"/>
                    </a:lnTo>
                    <a:lnTo>
                      <a:pt x="42" y="146"/>
                    </a:lnTo>
                    <a:lnTo>
                      <a:pt x="41" y="144"/>
                    </a:lnTo>
                    <a:lnTo>
                      <a:pt x="41" y="141"/>
                    </a:lnTo>
                    <a:lnTo>
                      <a:pt x="41" y="139"/>
                    </a:lnTo>
                    <a:lnTo>
                      <a:pt x="40" y="137"/>
                    </a:lnTo>
                    <a:lnTo>
                      <a:pt x="40" y="134"/>
                    </a:lnTo>
                    <a:lnTo>
                      <a:pt x="40" y="131"/>
                    </a:lnTo>
                    <a:lnTo>
                      <a:pt x="40" y="129"/>
                    </a:lnTo>
                    <a:lnTo>
                      <a:pt x="40" y="126"/>
                    </a:lnTo>
                    <a:lnTo>
                      <a:pt x="40" y="121"/>
                    </a:lnTo>
                    <a:lnTo>
                      <a:pt x="40" y="118"/>
                    </a:lnTo>
                    <a:lnTo>
                      <a:pt x="40" y="116"/>
                    </a:lnTo>
                    <a:lnTo>
                      <a:pt x="41" y="113"/>
                    </a:lnTo>
                    <a:lnTo>
                      <a:pt x="41" y="111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3" y="105"/>
                    </a:lnTo>
                    <a:lnTo>
                      <a:pt x="43" y="103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6" y="98"/>
                    </a:lnTo>
                    <a:lnTo>
                      <a:pt x="47" y="96"/>
                    </a:lnTo>
                    <a:lnTo>
                      <a:pt x="47" y="95"/>
                    </a:lnTo>
                    <a:lnTo>
                      <a:pt x="49" y="93"/>
                    </a:lnTo>
                    <a:lnTo>
                      <a:pt x="50" y="92"/>
                    </a:lnTo>
                    <a:lnTo>
                      <a:pt x="51" y="91"/>
                    </a:lnTo>
                    <a:lnTo>
                      <a:pt x="52" y="89"/>
                    </a:lnTo>
                    <a:lnTo>
                      <a:pt x="53" y="88"/>
                    </a:lnTo>
                    <a:lnTo>
                      <a:pt x="55" y="87"/>
                    </a:lnTo>
                    <a:lnTo>
                      <a:pt x="56" y="86"/>
                    </a:lnTo>
                    <a:lnTo>
                      <a:pt x="58" y="85"/>
                    </a:lnTo>
                    <a:lnTo>
                      <a:pt x="59" y="85"/>
                    </a:lnTo>
                    <a:lnTo>
                      <a:pt x="61" y="84"/>
                    </a:lnTo>
                    <a:lnTo>
                      <a:pt x="63" y="83"/>
                    </a:lnTo>
                    <a:lnTo>
                      <a:pt x="64" y="83"/>
                    </a:lnTo>
                    <a:lnTo>
                      <a:pt x="66" y="82"/>
                    </a:lnTo>
                    <a:lnTo>
                      <a:pt x="68" y="82"/>
                    </a:lnTo>
                    <a:lnTo>
                      <a:pt x="70" y="82"/>
                    </a:lnTo>
                    <a:lnTo>
                      <a:pt x="72" y="82"/>
                    </a:lnTo>
                    <a:lnTo>
                      <a:pt x="74" y="82"/>
                    </a:lnTo>
                    <a:lnTo>
                      <a:pt x="77" y="82"/>
                    </a:lnTo>
                    <a:lnTo>
                      <a:pt x="79" y="82"/>
                    </a:lnTo>
                    <a:lnTo>
                      <a:pt x="81" y="82"/>
                    </a:lnTo>
                    <a:lnTo>
                      <a:pt x="83" y="83"/>
                    </a:lnTo>
                    <a:lnTo>
                      <a:pt x="84" y="83"/>
                    </a:lnTo>
                    <a:lnTo>
                      <a:pt x="86" y="84"/>
                    </a:lnTo>
                    <a:lnTo>
                      <a:pt x="87" y="85"/>
                    </a:lnTo>
                    <a:lnTo>
                      <a:pt x="89" y="85"/>
                    </a:lnTo>
                    <a:lnTo>
                      <a:pt x="90" y="86"/>
                    </a:lnTo>
                    <a:lnTo>
                      <a:pt x="91" y="87"/>
                    </a:lnTo>
                    <a:lnTo>
                      <a:pt x="93" y="88"/>
                    </a:lnTo>
                    <a:lnTo>
                      <a:pt x="94" y="89"/>
                    </a:lnTo>
                    <a:lnTo>
                      <a:pt x="95" y="91"/>
                    </a:lnTo>
                    <a:lnTo>
                      <a:pt x="97" y="92"/>
                    </a:lnTo>
                    <a:lnTo>
                      <a:pt x="98" y="93"/>
                    </a:lnTo>
                    <a:lnTo>
                      <a:pt x="99" y="95"/>
                    </a:lnTo>
                    <a:lnTo>
                      <a:pt x="100" y="96"/>
                    </a:lnTo>
                    <a:lnTo>
                      <a:pt x="101" y="98"/>
                    </a:lnTo>
                    <a:lnTo>
                      <a:pt x="101" y="99"/>
                    </a:lnTo>
                    <a:lnTo>
                      <a:pt x="102" y="101"/>
                    </a:lnTo>
                    <a:lnTo>
                      <a:pt x="103" y="103"/>
                    </a:lnTo>
                    <a:lnTo>
                      <a:pt x="104" y="105"/>
                    </a:lnTo>
                    <a:lnTo>
                      <a:pt x="105" y="107"/>
                    </a:lnTo>
                    <a:lnTo>
                      <a:pt x="105" y="109"/>
                    </a:lnTo>
                    <a:lnTo>
                      <a:pt x="105" y="111"/>
                    </a:lnTo>
                    <a:lnTo>
                      <a:pt x="106" y="113"/>
                    </a:lnTo>
                    <a:lnTo>
                      <a:pt x="106" y="116"/>
                    </a:lnTo>
                    <a:lnTo>
                      <a:pt x="107" y="118"/>
                    </a:lnTo>
                    <a:lnTo>
                      <a:pt x="107" y="121"/>
                    </a:lnTo>
                    <a:lnTo>
                      <a:pt x="107" y="123"/>
                    </a:lnTo>
                    <a:lnTo>
                      <a:pt x="107" y="126"/>
                    </a:lnTo>
                    <a:lnTo>
                      <a:pt x="100" y="118"/>
                    </a:lnTo>
                    <a:lnTo>
                      <a:pt x="97" y="114"/>
                    </a:lnTo>
                    <a:lnTo>
                      <a:pt x="93" y="110"/>
                    </a:lnTo>
                    <a:lnTo>
                      <a:pt x="90" y="106"/>
                    </a:lnTo>
                    <a:lnTo>
                      <a:pt x="87" y="102"/>
                    </a:lnTo>
                    <a:lnTo>
                      <a:pt x="83" y="98"/>
                    </a:lnTo>
                    <a:lnTo>
                      <a:pt x="80" y="94"/>
                    </a:lnTo>
                    <a:lnTo>
                      <a:pt x="77" y="90"/>
                    </a:lnTo>
                    <a:lnTo>
                      <a:pt x="73" y="86"/>
                    </a:lnTo>
                    <a:lnTo>
                      <a:pt x="70" y="82"/>
                    </a:lnTo>
                    <a:lnTo>
                      <a:pt x="67" y="78"/>
                    </a:lnTo>
                    <a:lnTo>
                      <a:pt x="63" y="74"/>
                    </a:lnTo>
                    <a:lnTo>
                      <a:pt x="60" y="71"/>
                    </a:lnTo>
                    <a:lnTo>
                      <a:pt x="57" y="67"/>
                    </a:lnTo>
                    <a:lnTo>
                      <a:pt x="53" y="63"/>
                    </a:lnTo>
                    <a:lnTo>
                      <a:pt x="50" y="59"/>
                    </a:lnTo>
                    <a:lnTo>
                      <a:pt x="47" y="55"/>
                    </a:lnTo>
                    <a:lnTo>
                      <a:pt x="43" y="51"/>
                    </a:lnTo>
                    <a:lnTo>
                      <a:pt x="40" y="47"/>
                    </a:lnTo>
                    <a:lnTo>
                      <a:pt x="37" y="43"/>
                    </a:lnTo>
                    <a:lnTo>
                      <a:pt x="33" y="39"/>
                    </a:lnTo>
                    <a:lnTo>
                      <a:pt x="30" y="35"/>
                    </a:lnTo>
                    <a:lnTo>
                      <a:pt x="27" y="31"/>
                    </a:lnTo>
                    <a:lnTo>
                      <a:pt x="23" y="27"/>
                    </a:lnTo>
                    <a:lnTo>
                      <a:pt x="20" y="23"/>
                    </a:lnTo>
                    <a:lnTo>
                      <a:pt x="17" y="19"/>
                    </a:lnTo>
                    <a:lnTo>
                      <a:pt x="13" y="15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7" y="19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7" y="31"/>
                    </a:lnTo>
                    <a:lnTo>
                      <a:pt x="30" y="35"/>
                    </a:lnTo>
                    <a:lnTo>
                      <a:pt x="33" y="39"/>
                    </a:lnTo>
                    <a:lnTo>
                      <a:pt x="37" y="43"/>
                    </a:lnTo>
                    <a:lnTo>
                      <a:pt x="40" y="47"/>
                    </a:lnTo>
                    <a:lnTo>
                      <a:pt x="43" y="51"/>
                    </a:lnTo>
                    <a:lnTo>
                      <a:pt x="47" y="55"/>
                    </a:lnTo>
                    <a:lnTo>
                      <a:pt x="50" y="59"/>
                    </a:lnTo>
                    <a:lnTo>
                      <a:pt x="53" y="63"/>
                    </a:lnTo>
                    <a:lnTo>
                      <a:pt x="57" y="67"/>
                    </a:lnTo>
                    <a:lnTo>
                      <a:pt x="60" y="71"/>
                    </a:lnTo>
                    <a:lnTo>
                      <a:pt x="63" y="74"/>
                    </a:lnTo>
                    <a:lnTo>
                      <a:pt x="67" y="78"/>
                    </a:lnTo>
                    <a:lnTo>
                      <a:pt x="70" y="82"/>
                    </a:lnTo>
                    <a:lnTo>
                      <a:pt x="73" y="86"/>
                    </a:lnTo>
                    <a:lnTo>
                      <a:pt x="77" y="90"/>
                    </a:lnTo>
                    <a:lnTo>
                      <a:pt x="80" y="94"/>
                    </a:lnTo>
                    <a:lnTo>
                      <a:pt x="83" y="98"/>
                    </a:lnTo>
                    <a:lnTo>
                      <a:pt x="87" y="102"/>
                    </a:lnTo>
                    <a:lnTo>
                      <a:pt x="90" y="106"/>
                    </a:lnTo>
                    <a:lnTo>
                      <a:pt x="93" y="110"/>
                    </a:lnTo>
                    <a:lnTo>
                      <a:pt x="97" y="114"/>
                    </a:lnTo>
                    <a:lnTo>
                      <a:pt x="100" y="118"/>
                    </a:lnTo>
                    <a:lnTo>
                      <a:pt x="103" y="122"/>
                    </a:lnTo>
                    <a:lnTo>
                      <a:pt x="107" y="126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57200" y="3052800"/>
                <a:ext cx="96120" cy="146160"/>
              </a:xfrm>
              <a:custGeom>
                <a:avLst/>
                <a:gdLst/>
                <a:ahLst/>
                <a:rect l="l" t="t" r="r" b="b"/>
                <a:pathLst>
                  <a:path w="68" h="92">
                    <a:moveTo>
                      <a:pt x="67" y="44"/>
                    </a:moveTo>
                    <a:lnTo>
                      <a:pt x="67" y="49"/>
                    </a:lnTo>
                    <a:lnTo>
                      <a:pt x="67" y="52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59"/>
                    </a:lnTo>
                    <a:lnTo>
                      <a:pt x="65" y="62"/>
                    </a:lnTo>
                    <a:lnTo>
                      <a:pt x="65" y="64"/>
                    </a:lnTo>
                    <a:lnTo>
                      <a:pt x="64" y="66"/>
                    </a:lnTo>
                    <a:lnTo>
                      <a:pt x="63" y="68"/>
                    </a:lnTo>
                    <a:lnTo>
                      <a:pt x="63" y="70"/>
                    </a:lnTo>
                    <a:lnTo>
                      <a:pt x="62" y="72"/>
                    </a:lnTo>
                    <a:lnTo>
                      <a:pt x="61" y="74"/>
                    </a:lnTo>
                    <a:lnTo>
                      <a:pt x="60" y="75"/>
                    </a:lnTo>
                    <a:lnTo>
                      <a:pt x="59" y="77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6" y="81"/>
                    </a:lnTo>
                    <a:lnTo>
                      <a:pt x="55" y="83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1" y="86"/>
                    </a:lnTo>
                    <a:lnTo>
                      <a:pt x="49" y="87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4" y="89"/>
                    </a:lnTo>
                    <a:lnTo>
                      <a:pt x="42" y="89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3" y="91"/>
                    </a:lnTo>
                    <a:lnTo>
                      <a:pt x="29" y="90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2" y="89"/>
                    </a:lnTo>
                    <a:lnTo>
                      <a:pt x="20" y="88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5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1" y="83"/>
                    </a:lnTo>
                    <a:lnTo>
                      <a:pt x="10" y="81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9" y="13"/>
                    </a:lnTo>
                    <a:lnTo>
                      <a:pt x="60" y="14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2" y="19"/>
                    </a:lnTo>
                    <a:lnTo>
                      <a:pt x="63" y="21"/>
                    </a:lnTo>
                    <a:lnTo>
                      <a:pt x="64" y="23"/>
                    </a:lnTo>
                    <a:lnTo>
                      <a:pt x="65" y="25"/>
                    </a:lnTo>
                    <a:lnTo>
                      <a:pt x="65" y="27"/>
                    </a:lnTo>
                    <a:lnTo>
                      <a:pt x="65" y="29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7" y="36"/>
                    </a:lnTo>
                    <a:lnTo>
                      <a:pt x="67" y="39"/>
                    </a:lnTo>
                    <a:lnTo>
                      <a:pt x="67" y="41"/>
                    </a:lnTo>
                    <a:lnTo>
                      <a:pt x="67" y="4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048360" y="2997360"/>
              <a:ext cx="206280" cy="253800"/>
              <a:chOff x="6048360" y="2997360"/>
              <a:chExt cx="206280" cy="253800"/>
            </a:xfrm>
          </p:grpSpPr>
          <p:sp>
            <p:nvSpPr>
              <p:cNvPr id="296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43" y="64"/>
                    </a:moveTo>
                    <a:lnTo>
                      <a:pt x="43" y="60"/>
                    </a:lnTo>
                    <a:lnTo>
                      <a:pt x="43" y="59"/>
                    </a:lnTo>
                    <a:lnTo>
                      <a:pt x="44" y="57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5" y="52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9" y="44"/>
                    </a:lnTo>
                    <a:lnTo>
                      <a:pt x="50" y="43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60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9" y="34"/>
                    </a:lnTo>
                    <a:lnTo>
                      <a:pt x="81" y="34"/>
                    </a:lnTo>
                    <a:lnTo>
                      <a:pt x="82" y="34"/>
                    </a:lnTo>
                    <a:lnTo>
                      <a:pt x="84" y="35"/>
                    </a:lnTo>
                    <a:lnTo>
                      <a:pt x="85" y="36"/>
                    </a:lnTo>
                    <a:lnTo>
                      <a:pt x="86" y="36"/>
                    </a:lnTo>
                    <a:lnTo>
                      <a:pt x="88" y="36"/>
                    </a:lnTo>
                    <a:lnTo>
                      <a:pt x="89" y="37"/>
                    </a:lnTo>
                    <a:lnTo>
                      <a:pt x="90" y="38"/>
                    </a:lnTo>
                    <a:lnTo>
                      <a:pt x="91" y="39"/>
                    </a:lnTo>
                    <a:lnTo>
                      <a:pt x="92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6" y="42"/>
                    </a:lnTo>
                    <a:lnTo>
                      <a:pt x="96" y="43"/>
                    </a:lnTo>
                    <a:lnTo>
                      <a:pt x="97" y="44"/>
                    </a:lnTo>
                    <a:lnTo>
                      <a:pt x="98" y="46"/>
                    </a:lnTo>
                    <a:lnTo>
                      <a:pt x="98" y="47"/>
                    </a:lnTo>
                    <a:lnTo>
                      <a:pt x="99" y="48"/>
                    </a:lnTo>
                    <a:lnTo>
                      <a:pt x="100" y="50"/>
                    </a:lnTo>
                    <a:lnTo>
                      <a:pt x="100" y="51"/>
                    </a:lnTo>
                    <a:lnTo>
                      <a:pt x="101" y="52"/>
                    </a:lnTo>
                    <a:lnTo>
                      <a:pt x="101" y="54"/>
                    </a:lnTo>
                    <a:lnTo>
                      <a:pt x="102" y="56"/>
                    </a:lnTo>
                    <a:lnTo>
                      <a:pt x="102" y="57"/>
                    </a:lnTo>
                    <a:lnTo>
                      <a:pt x="102" y="59"/>
                    </a:lnTo>
                    <a:lnTo>
                      <a:pt x="102" y="60"/>
                    </a:lnTo>
                    <a:lnTo>
                      <a:pt x="102" y="62"/>
                    </a:lnTo>
                    <a:lnTo>
                      <a:pt x="103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100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1" y="64"/>
                    </a:lnTo>
                    <a:lnTo>
                      <a:pt x="89" y="64"/>
                    </a:lnTo>
                    <a:lnTo>
                      <a:pt x="86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59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6" y="67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52" y="71"/>
                    </a:lnTo>
                    <a:lnTo>
                      <a:pt x="54" y="72"/>
                    </a:lnTo>
                    <a:lnTo>
                      <a:pt x="56" y="74"/>
                    </a:lnTo>
                    <a:lnTo>
                      <a:pt x="57" y="75"/>
                    </a:lnTo>
                    <a:lnTo>
                      <a:pt x="59" y="77"/>
                    </a:lnTo>
                    <a:lnTo>
                      <a:pt x="61" y="78"/>
                    </a:lnTo>
                    <a:lnTo>
                      <a:pt x="63" y="80"/>
                    </a:lnTo>
                    <a:lnTo>
                      <a:pt x="65" y="81"/>
                    </a:lnTo>
                    <a:lnTo>
                      <a:pt x="66" y="82"/>
                    </a:lnTo>
                    <a:lnTo>
                      <a:pt x="68" y="84"/>
                    </a:lnTo>
                    <a:lnTo>
                      <a:pt x="70" y="85"/>
                    </a:lnTo>
                    <a:lnTo>
                      <a:pt x="72" y="86"/>
                    </a:lnTo>
                    <a:lnTo>
                      <a:pt x="74" y="88"/>
                    </a:lnTo>
                    <a:lnTo>
                      <a:pt x="76" y="89"/>
                    </a:lnTo>
                    <a:lnTo>
                      <a:pt x="78" y="91"/>
                    </a:lnTo>
                    <a:lnTo>
                      <a:pt x="80" y="92"/>
                    </a:lnTo>
                    <a:lnTo>
                      <a:pt x="82" y="93"/>
                    </a:lnTo>
                    <a:lnTo>
                      <a:pt x="83" y="95"/>
                    </a:lnTo>
                    <a:lnTo>
                      <a:pt x="85" y="96"/>
                    </a:lnTo>
                    <a:lnTo>
                      <a:pt x="87" y="98"/>
                    </a:lnTo>
                    <a:lnTo>
                      <a:pt x="89" y="99"/>
                    </a:lnTo>
                    <a:lnTo>
                      <a:pt x="91" y="100"/>
                    </a:lnTo>
                    <a:lnTo>
                      <a:pt x="93" y="102"/>
                    </a:lnTo>
                    <a:lnTo>
                      <a:pt x="94" y="103"/>
                    </a:lnTo>
                    <a:lnTo>
                      <a:pt x="96" y="105"/>
                    </a:lnTo>
                    <a:lnTo>
                      <a:pt x="98" y="106"/>
                    </a:lnTo>
                    <a:lnTo>
                      <a:pt x="100" y="108"/>
                    </a:lnTo>
                    <a:lnTo>
                      <a:pt x="102" y="109"/>
                    </a:ln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  <a:lnTo>
                      <a:pt x="98" y="106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2"/>
                    </a:lnTo>
                    <a:lnTo>
                      <a:pt x="91" y="101"/>
                    </a:lnTo>
                    <a:lnTo>
                      <a:pt x="89" y="99"/>
                    </a:lnTo>
                    <a:lnTo>
                      <a:pt x="88" y="98"/>
                    </a:lnTo>
                    <a:lnTo>
                      <a:pt x="86" y="96"/>
                    </a:lnTo>
                    <a:lnTo>
                      <a:pt x="84" y="95"/>
                    </a:lnTo>
                    <a:lnTo>
                      <a:pt x="82" y="94"/>
                    </a:lnTo>
                    <a:lnTo>
                      <a:pt x="80" y="92"/>
                    </a:lnTo>
                    <a:lnTo>
                      <a:pt x="78" y="91"/>
                    </a:lnTo>
                    <a:lnTo>
                      <a:pt x="76" y="90"/>
                    </a:lnTo>
                    <a:lnTo>
                      <a:pt x="74" y="88"/>
                    </a:lnTo>
                    <a:lnTo>
                      <a:pt x="73" y="87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2"/>
                    </a:lnTo>
                    <a:lnTo>
                      <a:pt x="65" y="81"/>
                    </a:lnTo>
                    <a:lnTo>
                      <a:pt x="63" y="80"/>
                    </a:lnTo>
                    <a:lnTo>
                      <a:pt x="62" y="78"/>
                    </a:lnTo>
                    <a:lnTo>
                      <a:pt x="60" y="77"/>
                    </a:lnTo>
                    <a:lnTo>
                      <a:pt x="58" y="76"/>
                    </a:lnTo>
                    <a:lnTo>
                      <a:pt x="56" y="74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70"/>
                    </a:lnTo>
                    <a:lnTo>
                      <a:pt x="48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3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09200" y="3051000"/>
                <a:ext cx="86040" cy="4932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0" y="30"/>
                    </a:moveTo>
                    <a:lnTo>
                      <a:pt x="0" y="26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8" y="5"/>
                    </a:lnTo>
                    <a:lnTo>
                      <a:pt x="49" y="6"/>
                    </a:lnTo>
                    <a:lnTo>
                      <a:pt x="51" y="6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5" y="12"/>
                    </a:lnTo>
                    <a:lnTo>
                      <a:pt x="55" y="13"/>
                    </a:lnTo>
                    <a:lnTo>
                      <a:pt x="56" y="14"/>
                    </a:lnTo>
                    <a:lnTo>
                      <a:pt x="57" y="16"/>
                    </a:lnTo>
                    <a:lnTo>
                      <a:pt x="57" y="17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59" y="22"/>
                    </a:lnTo>
                    <a:lnTo>
                      <a:pt x="59" y="23"/>
                    </a:lnTo>
                    <a:lnTo>
                      <a:pt x="59" y="25"/>
                    </a:lnTo>
                    <a:lnTo>
                      <a:pt x="59" y="26"/>
                    </a:lnTo>
                    <a:lnTo>
                      <a:pt x="59" y="28"/>
                    </a:lnTo>
                    <a:lnTo>
                      <a:pt x="60" y="30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8" y="30"/>
                    </a:lnTo>
                    <a:lnTo>
                      <a:pt x="35" y="30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19" y="30"/>
                    </a:lnTo>
                    <a:lnTo>
                      <a:pt x="16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102" y="109"/>
                    </a:move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291360" y="2997360"/>
              <a:ext cx="218880" cy="253800"/>
              <a:chOff x="6291360" y="2997360"/>
              <a:chExt cx="218880" cy="253800"/>
            </a:xfrm>
          </p:grpSpPr>
          <p:sp>
            <p:nvSpPr>
              <p:cNvPr id="300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30" y="80"/>
                    </a:lnTo>
                    <a:lnTo>
                      <a:pt x="31" y="80"/>
                    </a:lnTo>
                    <a:lnTo>
                      <a:pt x="32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6" y="80"/>
                    </a:lnTo>
                    <a:lnTo>
                      <a:pt x="38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42" y="69"/>
                    </a:lnTo>
                    <a:lnTo>
                      <a:pt x="43" y="66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6" y="54"/>
                    </a:lnTo>
                    <a:lnTo>
                      <a:pt x="47" y="52"/>
                    </a:lnTo>
                    <a:lnTo>
                      <a:pt x="48" y="50"/>
                    </a:lnTo>
                    <a:lnTo>
                      <a:pt x="49" y="48"/>
                    </a:lnTo>
                    <a:lnTo>
                      <a:pt x="50" y="47"/>
                    </a:lnTo>
                    <a:lnTo>
                      <a:pt x="51" y="45"/>
                    </a:lnTo>
                    <a:lnTo>
                      <a:pt x="52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40"/>
                    </a:lnTo>
                    <a:lnTo>
                      <a:pt x="58" y="39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8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6" y="38"/>
                    </a:lnTo>
                    <a:lnTo>
                      <a:pt x="97" y="39"/>
                    </a:lnTo>
                    <a:lnTo>
                      <a:pt x="99" y="40"/>
                    </a:lnTo>
                    <a:lnTo>
                      <a:pt x="100" y="41"/>
                    </a:lnTo>
                    <a:lnTo>
                      <a:pt x="101" y="42"/>
                    </a:lnTo>
                    <a:lnTo>
                      <a:pt x="102" y="44"/>
                    </a:lnTo>
                    <a:lnTo>
                      <a:pt x="104" y="45"/>
                    </a:lnTo>
                    <a:lnTo>
                      <a:pt x="105" y="47"/>
                    </a:lnTo>
                    <a:lnTo>
                      <a:pt x="106" y="48"/>
                    </a:lnTo>
                    <a:lnTo>
                      <a:pt x="107" y="50"/>
                    </a:lnTo>
                    <a:lnTo>
                      <a:pt x="108" y="52"/>
                    </a:lnTo>
                    <a:lnTo>
                      <a:pt x="108" y="54"/>
                    </a:lnTo>
                    <a:lnTo>
                      <a:pt x="109" y="56"/>
                    </a:lnTo>
                    <a:lnTo>
                      <a:pt x="110" y="58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2" y="64"/>
                    </a:lnTo>
                    <a:lnTo>
                      <a:pt x="112" y="66"/>
                    </a:lnTo>
                    <a:lnTo>
                      <a:pt x="112" y="69"/>
                    </a:lnTo>
                    <a:lnTo>
                      <a:pt x="113" y="72"/>
                    </a:lnTo>
                    <a:lnTo>
                      <a:pt x="113" y="74"/>
                    </a:lnTo>
                    <a:lnTo>
                      <a:pt x="113" y="77"/>
                    </a:lnTo>
                    <a:lnTo>
                      <a:pt x="113" y="80"/>
                    </a:lnTo>
                    <a:lnTo>
                      <a:pt x="113" y="85"/>
                    </a:lnTo>
                    <a:lnTo>
                      <a:pt x="113" y="88"/>
                    </a:lnTo>
                    <a:lnTo>
                      <a:pt x="112" y="90"/>
                    </a:lnTo>
                    <a:lnTo>
                      <a:pt x="112" y="92"/>
                    </a:lnTo>
                    <a:lnTo>
                      <a:pt x="112" y="95"/>
                    </a:lnTo>
                    <a:lnTo>
                      <a:pt x="111" y="97"/>
                    </a:lnTo>
                    <a:lnTo>
                      <a:pt x="111" y="99"/>
                    </a:lnTo>
                    <a:lnTo>
                      <a:pt x="110" y="102"/>
                    </a:lnTo>
                    <a:lnTo>
                      <a:pt x="109" y="104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7" y="109"/>
                    </a:lnTo>
                    <a:lnTo>
                      <a:pt x="106" y="111"/>
                    </a:lnTo>
                    <a:lnTo>
                      <a:pt x="105" y="112"/>
                    </a:lnTo>
                    <a:lnTo>
                      <a:pt x="104" y="114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9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4" y="122"/>
                    </a:lnTo>
                    <a:lnTo>
                      <a:pt x="92" y="123"/>
                    </a:lnTo>
                    <a:lnTo>
                      <a:pt x="91" y="124"/>
                    </a:lnTo>
                    <a:lnTo>
                      <a:pt x="89" y="124"/>
                    </a:lnTo>
                    <a:lnTo>
                      <a:pt x="87" y="125"/>
                    </a:lnTo>
                    <a:lnTo>
                      <a:pt x="86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80" y="126"/>
                    </a:lnTo>
                    <a:lnTo>
                      <a:pt x="78" y="126"/>
                    </a:lnTo>
                    <a:lnTo>
                      <a:pt x="73" y="126"/>
                    </a:lnTo>
                    <a:lnTo>
                      <a:pt x="71" y="126"/>
                    </a:lnTo>
                    <a:lnTo>
                      <a:pt x="70" y="126"/>
                    </a:lnTo>
                    <a:lnTo>
                      <a:pt x="68" y="125"/>
                    </a:lnTo>
                    <a:lnTo>
                      <a:pt x="66" y="124"/>
                    </a:lnTo>
                    <a:lnTo>
                      <a:pt x="64" y="124"/>
                    </a:lnTo>
                    <a:lnTo>
                      <a:pt x="62" y="123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2" y="116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09"/>
                    </a:lnTo>
                    <a:lnTo>
                      <a:pt x="47" y="107"/>
                    </a:lnTo>
                    <a:lnTo>
                      <a:pt x="46" y="106"/>
                    </a:lnTo>
                    <a:lnTo>
                      <a:pt x="46" y="104"/>
                    </a:lnTo>
                    <a:lnTo>
                      <a:pt x="45" y="102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3" y="95"/>
                    </a:lnTo>
                    <a:lnTo>
                      <a:pt x="43" y="92"/>
                    </a:lnTo>
                    <a:lnTo>
                      <a:pt x="42" y="90"/>
                    </a:lnTo>
                    <a:lnTo>
                      <a:pt x="42" y="88"/>
                    </a:lnTo>
                    <a:lnTo>
                      <a:pt x="42" y="85"/>
                    </a:lnTo>
                    <a:lnTo>
                      <a:pt x="42" y="82"/>
                    </a:lnTo>
                    <a:lnTo>
                      <a:pt x="42" y="80"/>
                    </a:lnTo>
                    <a:lnTo>
                      <a:pt x="39" y="80"/>
                    </a:lnTo>
                    <a:lnTo>
                      <a:pt x="38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9" y="80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6" y="80"/>
                    </a:lnTo>
                    <a:lnTo>
                      <a:pt x="4" y="80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50040" y="3051000"/>
                <a:ext cx="100800" cy="147960"/>
              </a:xfrm>
              <a:custGeom>
                <a:avLst/>
                <a:gdLst/>
                <a:ahLst/>
                <a:rect l="l" t="t" r="r" b="b"/>
                <a:pathLst>
                  <a:path w="72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8" y="7"/>
                    </a:lnTo>
                    <a:lnTo>
                      <a:pt x="59" y="8"/>
                    </a:lnTo>
                    <a:lnTo>
                      <a:pt x="60" y="10"/>
                    </a:lnTo>
                    <a:lnTo>
                      <a:pt x="62" y="11"/>
                    </a:lnTo>
                    <a:lnTo>
                      <a:pt x="63" y="13"/>
                    </a:lnTo>
                    <a:lnTo>
                      <a:pt x="64" y="14"/>
                    </a:lnTo>
                    <a:lnTo>
                      <a:pt x="65" y="16"/>
                    </a:lnTo>
                    <a:lnTo>
                      <a:pt x="66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8" y="24"/>
                    </a:lnTo>
                    <a:lnTo>
                      <a:pt x="69" y="26"/>
                    </a:lnTo>
                    <a:lnTo>
                      <a:pt x="69" y="28"/>
                    </a:lnTo>
                    <a:lnTo>
                      <a:pt x="70" y="30"/>
                    </a:lnTo>
                    <a:lnTo>
                      <a:pt x="70" y="32"/>
                    </a:lnTo>
                    <a:lnTo>
                      <a:pt x="70" y="35"/>
                    </a:lnTo>
                    <a:lnTo>
                      <a:pt x="71" y="38"/>
                    </a:lnTo>
                    <a:lnTo>
                      <a:pt x="71" y="40"/>
                    </a:lnTo>
                    <a:lnTo>
                      <a:pt x="71" y="43"/>
                    </a:lnTo>
                    <a:lnTo>
                      <a:pt x="71" y="46"/>
                    </a:lnTo>
                    <a:lnTo>
                      <a:pt x="71" y="51"/>
                    </a:lnTo>
                    <a:lnTo>
                      <a:pt x="71" y="54"/>
                    </a:lnTo>
                    <a:lnTo>
                      <a:pt x="70" y="56"/>
                    </a:lnTo>
                    <a:lnTo>
                      <a:pt x="70" y="58"/>
                    </a:lnTo>
                    <a:lnTo>
                      <a:pt x="70" y="61"/>
                    </a:lnTo>
                    <a:lnTo>
                      <a:pt x="69" y="63"/>
                    </a:lnTo>
                    <a:lnTo>
                      <a:pt x="69" y="65"/>
                    </a:lnTo>
                    <a:lnTo>
                      <a:pt x="68" y="68"/>
                    </a:lnTo>
                    <a:lnTo>
                      <a:pt x="67" y="70"/>
                    </a:lnTo>
                    <a:lnTo>
                      <a:pt x="66" y="72"/>
                    </a:lnTo>
                    <a:lnTo>
                      <a:pt x="66" y="73"/>
                    </a:lnTo>
                    <a:lnTo>
                      <a:pt x="65" y="75"/>
                    </a:lnTo>
                    <a:lnTo>
                      <a:pt x="64" y="77"/>
                    </a:lnTo>
                    <a:lnTo>
                      <a:pt x="63" y="78"/>
                    </a:lnTo>
                    <a:lnTo>
                      <a:pt x="62" y="80"/>
                    </a:lnTo>
                    <a:lnTo>
                      <a:pt x="60" y="82"/>
                    </a:lnTo>
                    <a:lnTo>
                      <a:pt x="59" y="83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6"/>
                    </a:lnTo>
                    <a:lnTo>
                      <a:pt x="54" y="87"/>
                    </a:lnTo>
                    <a:lnTo>
                      <a:pt x="52" y="88"/>
                    </a:lnTo>
                    <a:lnTo>
                      <a:pt x="50" y="89"/>
                    </a:lnTo>
                    <a:lnTo>
                      <a:pt x="49" y="90"/>
                    </a:lnTo>
                    <a:lnTo>
                      <a:pt x="47" y="90"/>
                    </a:lnTo>
                    <a:lnTo>
                      <a:pt x="45" y="91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2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9" y="92"/>
                    </a:lnTo>
                    <a:lnTo>
                      <a:pt x="28" y="92"/>
                    </a:lnTo>
                    <a:lnTo>
                      <a:pt x="26" y="91"/>
                    </a:lnTo>
                    <a:lnTo>
                      <a:pt x="24" y="90"/>
                    </a:lnTo>
                    <a:lnTo>
                      <a:pt x="22" y="90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2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8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3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561000" y="2922480"/>
              <a:ext cx="61920" cy="320760"/>
            </a:xfrm>
            <a:custGeom>
              <a:avLst/>
              <a:gdLst/>
              <a:ahLst/>
              <a:rect l="l" t="t" r="r" b="b"/>
              <a:pathLst>
                <a:path w="43" h="202">
                  <a:moveTo>
                    <a:pt x="0" y="201"/>
                  </a:moveTo>
                  <a:lnTo>
                    <a:pt x="42" y="20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01"/>
                  </a:lnTo>
                  <a:lnTo>
                    <a:pt x="0" y="20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672240" y="2997360"/>
              <a:ext cx="201600" cy="255600"/>
              <a:chOff x="6672240" y="2997360"/>
              <a:chExt cx="201600" cy="255600"/>
            </a:xfrm>
          </p:grpSpPr>
          <p:sp>
            <p:nvSpPr>
              <p:cNvPr id="305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81"/>
                    </a:moveTo>
                    <a:lnTo>
                      <a:pt x="95" y="81"/>
                    </a:lnTo>
                    <a:lnTo>
                      <a:pt x="95" y="81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6"/>
                    </a:lnTo>
                    <a:lnTo>
                      <a:pt x="95" y="86"/>
                    </a:lnTo>
                    <a:lnTo>
                      <a:pt x="95" y="87"/>
                    </a:lnTo>
                    <a:lnTo>
                      <a:pt x="95" y="87"/>
                    </a:lnTo>
                    <a:lnTo>
                      <a:pt x="95" y="88"/>
                    </a:lnTo>
                    <a:lnTo>
                      <a:pt x="95" y="89"/>
                    </a:lnTo>
                    <a:lnTo>
                      <a:pt x="95" y="89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4" y="102"/>
                    </a:lnTo>
                    <a:lnTo>
                      <a:pt x="94" y="104"/>
                    </a:lnTo>
                    <a:lnTo>
                      <a:pt x="93" y="106"/>
                    </a:lnTo>
                    <a:lnTo>
                      <a:pt x="93" y="108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1" y="112"/>
                    </a:lnTo>
                    <a:lnTo>
                      <a:pt x="90" y="114"/>
                    </a:lnTo>
                    <a:lnTo>
                      <a:pt x="89" y="115"/>
                    </a:lnTo>
                    <a:lnTo>
                      <a:pt x="88" y="116"/>
                    </a:lnTo>
                    <a:lnTo>
                      <a:pt x="87" y="118"/>
                    </a:lnTo>
                    <a:lnTo>
                      <a:pt x="86" y="119"/>
                    </a:lnTo>
                    <a:lnTo>
                      <a:pt x="85" y="120"/>
                    </a:lnTo>
                    <a:lnTo>
                      <a:pt x="84" y="121"/>
                    </a:lnTo>
                    <a:lnTo>
                      <a:pt x="82" y="122"/>
                    </a:lnTo>
                    <a:lnTo>
                      <a:pt x="81" y="123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5"/>
                    </a:lnTo>
                    <a:lnTo>
                      <a:pt x="76" y="126"/>
                    </a:lnTo>
                    <a:lnTo>
                      <a:pt x="74" y="127"/>
                    </a:lnTo>
                    <a:lnTo>
                      <a:pt x="72" y="127"/>
                    </a:lnTo>
                    <a:lnTo>
                      <a:pt x="70" y="128"/>
                    </a:lnTo>
                    <a:lnTo>
                      <a:pt x="69" y="128"/>
                    </a:lnTo>
                    <a:lnTo>
                      <a:pt x="67" y="128"/>
                    </a:lnTo>
                    <a:lnTo>
                      <a:pt x="65" y="129"/>
                    </a:lnTo>
                    <a:lnTo>
                      <a:pt x="63" y="129"/>
                    </a:lnTo>
                    <a:lnTo>
                      <a:pt x="61" y="129"/>
                    </a:lnTo>
                    <a:lnTo>
                      <a:pt x="59" y="129"/>
                    </a:lnTo>
                    <a:lnTo>
                      <a:pt x="57" y="129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2" y="128"/>
                    </a:lnTo>
                    <a:lnTo>
                      <a:pt x="51" y="128"/>
                    </a:lnTo>
                    <a:lnTo>
                      <a:pt x="50" y="128"/>
                    </a:lnTo>
                    <a:lnTo>
                      <a:pt x="49" y="127"/>
                    </a:lnTo>
                    <a:lnTo>
                      <a:pt x="48" y="127"/>
                    </a:lnTo>
                    <a:lnTo>
                      <a:pt x="47" y="126"/>
                    </a:lnTo>
                    <a:lnTo>
                      <a:pt x="46" y="126"/>
                    </a:lnTo>
                    <a:lnTo>
                      <a:pt x="46" y="125"/>
                    </a:lnTo>
                    <a:lnTo>
                      <a:pt x="45" y="125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3" y="123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21"/>
                    </a:lnTo>
                    <a:lnTo>
                      <a:pt x="41" y="120"/>
                    </a:lnTo>
                    <a:lnTo>
                      <a:pt x="41" y="120"/>
                    </a:lnTo>
                    <a:lnTo>
                      <a:pt x="40" y="119"/>
                    </a:lnTo>
                    <a:lnTo>
                      <a:pt x="40" y="118"/>
                    </a:lnTo>
                    <a:lnTo>
                      <a:pt x="40" y="117"/>
                    </a:lnTo>
                    <a:lnTo>
                      <a:pt x="40" y="116"/>
                    </a:lnTo>
                    <a:lnTo>
                      <a:pt x="39" y="115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39" y="109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40" y="106"/>
                    </a:lnTo>
                    <a:lnTo>
                      <a:pt x="40" y="106"/>
                    </a:lnTo>
                    <a:lnTo>
                      <a:pt x="40" y="105"/>
                    </a:lnTo>
                    <a:lnTo>
                      <a:pt x="40" y="104"/>
                    </a:lnTo>
                    <a:lnTo>
                      <a:pt x="40" y="103"/>
                    </a:lnTo>
                    <a:lnTo>
                      <a:pt x="41" y="102"/>
                    </a:lnTo>
                    <a:lnTo>
                      <a:pt x="41" y="102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3" y="100"/>
                    </a:lnTo>
                    <a:lnTo>
                      <a:pt x="43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5" y="97"/>
                    </a:lnTo>
                    <a:lnTo>
                      <a:pt x="46" y="97"/>
                    </a:lnTo>
                    <a:lnTo>
                      <a:pt x="46" y="96"/>
                    </a:lnTo>
                    <a:lnTo>
                      <a:pt x="47" y="96"/>
                    </a:lnTo>
                    <a:lnTo>
                      <a:pt x="48" y="95"/>
                    </a:lnTo>
                    <a:lnTo>
                      <a:pt x="49" y="95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2" y="94"/>
                    </a:lnTo>
                    <a:lnTo>
                      <a:pt x="53" y="93"/>
                    </a:lnTo>
                    <a:lnTo>
                      <a:pt x="54" y="93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0" y="91"/>
                    </a:lnTo>
                    <a:lnTo>
                      <a:pt x="61" y="90"/>
                    </a:lnTo>
                    <a:lnTo>
                      <a:pt x="62" y="90"/>
                    </a:lnTo>
                    <a:lnTo>
                      <a:pt x="63" y="90"/>
                    </a:lnTo>
                    <a:lnTo>
                      <a:pt x="64" y="90"/>
                    </a:lnTo>
                    <a:lnTo>
                      <a:pt x="65" y="90"/>
                    </a:lnTo>
                    <a:lnTo>
                      <a:pt x="66" y="90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9" y="89"/>
                    </a:lnTo>
                    <a:lnTo>
                      <a:pt x="70" y="89"/>
                    </a:lnTo>
                    <a:lnTo>
                      <a:pt x="71" y="88"/>
                    </a:lnTo>
                    <a:lnTo>
                      <a:pt x="72" y="88"/>
                    </a:lnTo>
                    <a:lnTo>
                      <a:pt x="74" y="88"/>
                    </a:lnTo>
                    <a:lnTo>
                      <a:pt x="74" y="88"/>
                    </a:lnTo>
                    <a:lnTo>
                      <a:pt x="76" y="88"/>
                    </a:lnTo>
                    <a:lnTo>
                      <a:pt x="77" y="87"/>
                    </a:lnTo>
                    <a:lnTo>
                      <a:pt x="78" y="87"/>
                    </a:lnTo>
                    <a:lnTo>
                      <a:pt x="80" y="86"/>
                    </a:lnTo>
                    <a:lnTo>
                      <a:pt x="81" y="86"/>
                    </a:lnTo>
                    <a:lnTo>
                      <a:pt x="82" y="86"/>
                    </a:lnTo>
                    <a:lnTo>
                      <a:pt x="84" y="85"/>
                    </a:lnTo>
                    <a:lnTo>
                      <a:pt x="85" y="85"/>
                    </a:lnTo>
                    <a:lnTo>
                      <a:pt x="86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90" y="83"/>
                    </a:lnTo>
                    <a:lnTo>
                      <a:pt x="92" y="82"/>
                    </a:lnTo>
                    <a:lnTo>
                      <a:pt x="93" y="82"/>
                    </a:lnTo>
                    <a:lnTo>
                      <a:pt x="95" y="81"/>
                    </a:lnTo>
                    <a:lnTo>
                      <a:pt x="95" y="84"/>
                    </a:lnTo>
                    <a:lnTo>
                      <a:pt x="95" y="86"/>
                    </a:lnTo>
                    <a:lnTo>
                      <a:pt x="95" y="88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6"/>
                    </a:lnTo>
                    <a:lnTo>
                      <a:pt x="95" y="98"/>
                    </a:lnTo>
                    <a:lnTo>
                      <a:pt x="95" y="100"/>
                    </a:lnTo>
                    <a:lnTo>
                      <a:pt x="95" y="101"/>
                    </a:lnTo>
                    <a:lnTo>
                      <a:pt x="95" y="103"/>
                    </a:lnTo>
                    <a:lnTo>
                      <a:pt x="95" y="105"/>
                    </a:lnTo>
                    <a:lnTo>
                      <a:pt x="95" y="106"/>
                    </a:lnTo>
                    <a:lnTo>
                      <a:pt x="95" y="108"/>
                    </a:lnTo>
                    <a:lnTo>
                      <a:pt x="95" y="110"/>
                    </a:lnTo>
                    <a:lnTo>
                      <a:pt x="95" y="112"/>
                    </a:lnTo>
                    <a:lnTo>
                      <a:pt x="95" y="113"/>
                    </a:lnTo>
                    <a:lnTo>
                      <a:pt x="95" y="115"/>
                    </a:lnTo>
                    <a:lnTo>
                      <a:pt x="95" y="117"/>
                    </a:lnTo>
                    <a:lnTo>
                      <a:pt x="95" y="118"/>
                    </a:lnTo>
                    <a:lnTo>
                      <a:pt x="95" y="120"/>
                    </a:lnTo>
                    <a:lnTo>
                      <a:pt x="95" y="122"/>
                    </a:lnTo>
                    <a:lnTo>
                      <a:pt x="95" y="124"/>
                    </a:lnTo>
                    <a:lnTo>
                      <a:pt x="95" y="125"/>
                    </a:lnTo>
                    <a:lnTo>
                      <a:pt x="95" y="127"/>
                    </a:lnTo>
                    <a:lnTo>
                      <a:pt x="95" y="129"/>
                    </a:lnTo>
                    <a:lnTo>
                      <a:pt x="95" y="130"/>
                    </a:lnTo>
                    <a:lnTo>
                      <a:pt x="95" y="132"/>
                    </a:lnTo>
                    <a:lnTo>
                      <a:pt x="95" y="134"/>
                    </a:lnTo>
                    <a:lnTo>
                      <a:pt x="95" y="136"/>
                    </a:ln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  <a:lnTo>
                      <a:pt x="95" y="132"/>
                    </a:lnTo>
                    <a:lnTo>
                      <a:pt x="95" y="131"/>
                    </a:lnTo>
                    <a:lnTo>
                      <a:pt x="95" y="129"/>
                    </a:lnTo>
                    <a:lnTo>
                      <a:pt x="95" y="127"/>
                    </a:lnTo>
                    <a:lnTo>
                      <a:pt x="95" y="126"/>
                    </a:lnTo>
                    <a:lnTo>
                      <a:pt x="95" y="124"/>
                    </a:lnTo>
                    <a:lnTo>
                      <a:pt x="95" y="122"/>
                    </a:lnTo>
                    <a:lnTo>
                      <a:pt x="95" y="120"/>
                    </a:lnTo>
                    <a:lnTo>
                      <a:pt x="95" y="119"/>
                    </a:lnTo>
                    <a:lnTo>
                      <a:pt x="95" y="117"/>
                    </a:lnTo>
                    <a:lnTo>
                      <a:pt x="95" y="116"/>
                    </a:lnTo>
                    <a:lnTo>
                      <a:pt x="95" y="114"/>
                    </a:lnTo>
                    <a:lnTo>
                      <a:pt x="95" y="112"/>
                    </a:lnTo>
                    <a:lnTo>
                      <a:pt x="95" y="110"/>
                    </a:lnTo>
                    <a:lnTo>
                      <a:pt x="95" y="109"/>
                    </a:lnTo>
                    <a:lnTo>
                      <a:pt x="95" y="107"/>
                    </a:lnTo>
                    <a:lnTo>
                      <a:pt x="95" y="105"/>
                    </a:lnTo>
                    <a:lnTo>
                      <a:pt x="95" y="104"/>
                    </a:lnTo>
                    <a:lnTo>
                      <a:pt x="95" y="102"/>
                    </a:lnTo>
                    <a:lnTo>
                      <a:pt x="95" y="100"/>
                    </a:lnTo>
                    <a:lnTo>
                      <a:pt x="95" y="98"/>
                    </a:lnTo>
                    <a:lnTo>
                      <a:pt x="95" y="97"/>
                    </a:lnTo>
                    <a:lnTo>
                      <a:pt x="95" y="95"/>
                    </a:lnTo>
                    <a:lnTo>
                      <a:pt x="95" y="93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5" y="88"/>
                    </a:lnTo>
                    <a:lnTo>
                      <a:pt x="95" y="86"/>
                    </a:lnTo>
                    <a:lnTo>
                      <a:pt x="95" y="84"/>
                    </a:lnTo>
                    <a:lnTo>
                      <a:pt x="95" y="83"/>
                    </a:lnTo>
                    <a:lnTo>
                      <a:pt x="95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26960" y="3125880"/>
                <a:ext cx="80280" cy="7776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6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5" y="18"/>
                    </a:lnTo>
                    <a:lnTo>
                      <a:pt x="55" y="20"/>
                    </a:lnTo>
                    <a:lnTo>
                      <a:pt x="55" y="21"/>
                    </a:lnTo>
                    <a:lnTo>
                      <a:pt x="55" y="23"/>
                    </a:lnTo>
                    <a:lnTo>
                      <a:pt x="54" y="25"/>
                    </a:lnTo>
                    <a:lnTo>
                      <a:pt x="54" y="27"/>
                    </a:lnTo>
                    <a:lnTo>
                      <a:pt x="53" y="28"/>
                    </a:lnTo>
                    <a:lnTo>
                      <a:pt x="53" y="30"/>
                    </a:lnTo>
                    <a:lnTo>
                      <a:pt x="52" y="31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7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3" y="41"/>
                    </a:lnTo>
                    <a:lnTo>
                      <a:pt x="42" y="42"/>
                    </a:lnTo>
                    <a:lnTo>
                      <a:pt x="41" y="43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7" y="45"/>
                    </a:lnTo>
                    <a:lnTo>
                      <a:pt x="35" y="46"/>
                    </a:lnTo>
                    <a:lnTo>
                      <a:pt x="33" y="46"/>
                    </a:lnTo>
                    <a:lnTo>
                      <a:pt x="31" y="47"/>
                    </a:lnTo>
                    <a:lnTo>
                      <a:pt x="30" y="47"/>
                    </a:lnTo>
                    <a:lnTo>
                      <a:pt x="28" y="47"/>
                    </a:lnTo>
                    <a:lnTo>
                      <a:pt x="26" y="48"/>
                    </a:lnTo>
                    <a:lnTo>
                      <a:pt x="24" y="48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136"/>
                    </a:move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049720" y="3787920"/>
            <a:ext cx="2957760" cy="622080"/>
            <a:chOff x="5049720" y="3787920"/>
            <a:chExt cx="2957760" cy="622080"/>
          </a:xfrm>
        </p:grpSpPr>
        <p:sp>
          <p:nvSpPr>
            <p:cNvPr id="309" name=""/>
            <p:cNvSpPr/>
            <p:nvPr/>
          </p:nvSpPr>
          <p:spPr>
            <a:xfrm>
              <a:off x="5049720" y="3787920"/>
              <a:ext cx="414360" cy="534960"/>
            </a:xfrm>
            <a:custGeom>
              <a:avLst/>
              <a:gdLst/>
              <a:ahLst/>
              <a:rect l="l" t="t" r="r" b="b"/>
              <a:pathLst>
                <a:path w="293" h="337">
                  <a:moveTo>
                    <a:pt x="292" y="218"/>
                  </a:moveTo>
                  <a:lnTo>
                    <a:pt x="291" y="218"/>
                  </a:lnTo>
                  <a:lnTo>
                    <a:pt x="290" y="218"/>
                  </a:lnTo>
                  <a:lnTo>
                    <a:pt x="289" y="218"/>
                  </a:lnTo>
                  <a:lnTo>
                    <a:pt x="287" y="218"/>
                  </a:lnTo>
                  <a:lnTo>
                    <a:pt x="285" y="218"/>
                  </a:lnTo>
                  <a:lnTo>
                    <a:pt x="283" y="218"/>
                  </a:lnTo>
                  <a:lnTo>
                    <a:pt x="281" y="218"/>
                  </a:lnTo>
                  <a:lnTo>
                    <a:pt x="279" y="218"/>
                  </a:lnTo>
                  <a:lnTo>
                    <a:pt x="277" y="218"/>
                  </a:lnTo>
                  <a:lnTo>
                    <a:pt x="274" y="218"/>
                  </a:lnTo>
                  <a:lnTo>
                    <a:pt x="271" y="218"/>
                  </a:lnTo>
                  <a:lnTo>
                    <a:pt x="268" y="218"/>
                  </a:lnTo>
                  <a:lnTo>
                    <a:pt x="265" y="218"/>
                  </a:lnTo>
                  <a:lnTo>
                    <a:pt x="262" y="218"/>
                  </a:lnTo>
                  <a:lnTo>
                    <a:pt x="259" y="218"/>
                  </a:lnTo>
                  <a:lnTo>
                    <a:pt x="256" y="218"/>
                  </a:lnTo>
                  <a:lnTo>
                    <a:pt x="253" y="218"/>
                  </a:lnTo>
                  <a:lnTo>
                    <a:pt x="250" y="218"/>
                  </a:lnTo>
                  <a:lnTo>
                    <a:pt x="247" y="218"/>
                  </a:lnTo>
                  <a:lnTo>
                    <a:pt x="244" y="218"/>
                  </a:lnTo>
                  <a:lnTo>
                    <a:pt x="241" y="218"/>
                  </a:lnTo>
                  <a:lnTo>
                    <a:pt x="239" y="218"/>
                  </a:lnTo>
                  <a:lnTo>
                    <a:pt x="237" y="218"/>
                  </a:lnTo>
                  <a:lnTo>
                    <a:pt x="234" y="218"/>
                  </a:lnTo>
                  <a:lnTo>
                    <a:pt x="233" y="218"/>
                  </a:lnTo>
                  <a:lnTo>
                    <a:pt x="231" y="218"/>
                  </a:lnTo>
                  <a:lnTo>
                    <a:pt x="229" y="218"/>
                  </a:lnTo>
                  <a:lnTo>
                    <a:pt x="228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5" y="224"/>
                  </a:lnTo>
                  <a:lnTo>
                    <a:pt x="224" y="228"/>
                  </a:lnTo>
                  <a:lnTo>
                    <a:pt x="223" y="231"/>
                  </a:lnTo>
                  <a:lnTo>
                    <a:pt x="221" y="234"/>
                  </a:lnTo>
                  <a:lnTo>
                    <a:pt x="220" y="237"/>
                  </a:lnTo>
                  <a:lnTo>
                    <a:pt x="219" y="240"/>
                  </a:lnTo>
                  <a:lnTo>
                    <a:pt x="217" y="242"/>
                  </a:lnTo>
                  <a:lnTo>
                    <a:pt x="216" y="245"/>
                  </a:lnTo>
                  <a:lnTo>
                    <a:pt x="214" y="248"/>
                  </a:lnTo>
                  <a:lnTo>
                    <a:pt x="212" y="250"/>
                  </a:lnTo>
                  <a:lnTo>
                    <a:pt x="210" y="252"/>
                  </a:lnTo>
                  <a:lnTo>
                    <a:pt x="208" y="255"/>
                  </a:lnTo>
                  <a:lnTo>
                    <a:pt x="206" y="257"/>
                  </a:lnTo>
                  <a:lnTo>
                    <a:pt x="204" y="259"/>
                  </a:lnTo>
                  <a:lnTo>
                    <a:pt x="202" y="261"/>
                  </a:lnTo>
                  <a:lnTo>
                    <a:pt x="199" y="262"/>
                  </a:lnTo>
                  <a:lnTo>
                    <a:pt x="197" y="264"/>
                  </a:lnTo>
                  <a:lnTo>
                    <a:pt x="194" y="266"/>
                  </a:lnTo>
                  <a:lnTo>
                    <a:pt x="192" y="267"/>
                  </a:lnTo>
                  <a:lnTo>
                    <a:pt x="189" y="268"/>
                  </a:lnTo>
                  <a:lnTo>
                    <a:pt x="186" y="270"/>
                  </a:lnTo>
                  <a:lnTo>
                    <a:pt x="183" y="271"/>
                  </a:lnTo>
                  <a:lnTo>
                    <a:pt x="180" y="272"/>
                  </a:lnTo>
                  <a:lnTo>
                    <a:pt x="177" y="273"/>
                  </a:lnTo>
                  <a:lnTo>
                    <a:pt x="174" y="274"/>
                  </a:lnTo>
                  <a:lnTo>
                    <a:pt x="171" y="274"/>
                  </a:lnTo>
                  <a:lnTo>
                    <a:pt x="167" y="275"/>
                  </a:lnTo>
                  <a:lnTo>
                    <a:pt x="164" y="275"/>
                  </a:lnTo>
                  <a:lnTo>
                    <a:pt x="160" y="276"/>
                  </a:lnTo>
                  <a:lnTo>
                    <a:pt x="157" y="276"/>
                  </a:lnTo>
                  <a:lnTo>
                    <a:pt x="153" y="276"/>
                  </a:lnTo>
                  <a:lnTo>
                    <a:pt x="143" y="275"/>
                  </a:lnTo>
                  <a:lnTo>
                    <a:pt x="138" y="275"/>
                  </a:lnTo>
                  <a:lnTo>
                    <a:pt x="134" y="274"/>
                  </a:lnTo>
                  <a:lnTo>
                    <a:pt x="129" y="273"/>
                  </a:lnTo>
                  <a:lnTo>
                    <a:pt x="125" y="272"/>
                  </a:lnTo>
                  <a:lnTo>
                    <a:pt x="121" y="270"/>
                  </a:lnTo>
                  <a:lnTo>
                    <a:pt x="117" y="269"/>
                  </a:lnTo>
                  <a:lnTo>
                    <a:pt x="113" y="267"/>
                  </a:lnTo>
                  <a:lnTo>
                    <a:pt x="109" y="265"/>
                  </a:lnTo>
                  <a:lnTo>
                    <a:pt x="105" y="262"/>
                  </a:lnTo>
                  <a:lnTo>
                    <a:pt x="102" y="260"/>
                  </a:lnTo>
                  <a:lnTo>
                    <a:pt x="99" y="257"/>
                  </a:lnTo>
                  <a:lnTo>
                    <a:pt x="95" y="254"/>
                  </a:lnTo>
                  <a:lnTo>
                    <a:pt x="93" y="251"/>
                  </a:lnTo>
                  <a:lnTo>
                    <a:pt x="90" y="248"/>
                  </a:lnTo>
                  <a:lnTo>
                    <a:pt x="87" y="244"/>
                  </a:lnTo>
                  <a:lnTo>
                    <a:pt x="85" y="240"/>
                  </a:lnTo>
                  <a:lnTo>
                    <a:pt x="82" y="236"/>
                  </a:lnTo>
                  <a:lnTo>
                    <a:pt x="80" y="232"/>
                  </a:lnTo>
                  <a:lnTo>
                    <a:pt x="78" y="228"/>
                  </a:lnTo>
                  <a:lnTo>
                    <a:pt x="76" y="224"/>
                  </a:lnTo>
                  <a:lnTo>
                    <a:pt x="75" y="219"/>
                  </a:lnTo>
                  <a:lnTo>
                    <a:pt x="73" y="214"/>
                  </a:lnTo>
                  <a:lnTo>
                    <a:pt x="72" y="209"/>
                  </a:lnTo>
                  <a:lnTo>
                    <a:pt x="71" y="203"/>
                  </a:lnTo>
                  <a:lnTo>
                    <a:pt x="69" y="198"/>
                  </a:lnTo>
                  <a:lnTo>
                    <a:pt x="69" y="192"/>
                  </a:lnTo>
                  <a:lnTo>
                    <a:pt x="68" y="186"/>
                  </a:lnTo>
                  <a:lnTo>
                    <a:pt x="67" y="180"/>
                  </a:lnTo>
                  <a:lnTo>
                    <a:pt x="67" y="174"/>
                  </a:lnTo>
                  <a:lnTo>
                    <a:pt x="67" y="168"/>
                  </a:lnTo>
                  <a:lnTo>
                    <a:pt x="67" y="154"/>
                  </a:lnTo>
                  <a:lnTo>
                    <a:pt x="68" y="148"/>
                  </a:lnTo>
                  <a:lnTo>
                    <a:pt x="69" y="142"/>
                  </a:lnTo>
                  <a:lnTo>
                    <a:pt x="69" y="136"/>
                  </a:lnTo>
                  <a:lnTo>
                    <a:pt x="70" y="131"/>
                  </a:lnTo>
                  <a:lnTo>
                    <a:pt x="71" y="126"/>
                  </a:lnTo>
                  <a:lnTo>
                    <a:pt x="73" y="120"/>
                  </a:lnTo>
                  <a:lnTo>
                    <a:pt x="74" y="115"/>
                  </a:lnTo>
                  <a:lnTo>
                    <a:pt x="76" y="110"/>
                  </a:lnTo>
                  <a:lnTo>
                    <a:pt x="78" y="106"/>
                  </a:lnTo>
                  <a:lnTo>
                    <a:pt x="80" y="102"/>
                  </a:lnTo>
                  <a:lnTo>
                    <a:pt x="82" y="97"/>
                  </a:lnTo>
                  <a:lnTo>
                    <a:pt x="84" y="93"/>
                  </a:lnTo>
                  <a:lnTo>
                    <a:pt x="87" y="90"/>
                  </a:lnTo>
                  <a:lnTo>
                    <a:pt x="90" y="86"/>
                  </a:lnTo>
                  <a:lnTo>
                    <a:pt x="93" y="82"/>
                  </a:lnTo>
                  <a:lnTo>
                    <a:pt x="95" y="79"/>
                  </a:lnTo>
                  <a:lnTo>
                    <a:pt x="99" y="76"/>
                  </a:lnTo>
                  <a:lnTo>
                    <a:pt x="102" y="74"/>
                  </a:lnTo>
                  <a:lnTo>
                    <a:pt x="106" y="71"/>
                  </a:lnTo>
                  <a:lnTo>
                    <a:pt x="109" y="69"/>
                  </a:lnTo>
                  <a:lnTo>
                    <a:pt x="113" y="67"/>
                  </a:lnTo>
                  <a:lnTo>
                    <a:pt x="117" y="65"/>
                  </a:lnTo>
                  <a:lnTo>
                    <a:pt x="121" y="63"/>
                  </a:lnTo>
                  <a:lnTo>
                    <a:pt x="126" y="62"/>
                  </a:lnTo>
                  <a:lnTo>
                    <a:pt x="131" y="60"/>
                  </a:lnTo>
                  <a:lnTo>
                    <a:pt x="135" y="60"/>
                  </a:lnTo>
                  <a:lnTo>
                    <a:pt x="140" y="59"/>
                  </a:lnTo>
                  <a:lnTo>
                    <a:pt x="145" y="58"/>
                  </a:lnTo>
                  <a:lnTo>
                    <a:pt x="150" y="58"/>
                  </a:lnTo>
                  <a:lnTo>
                    <a:pt x="156" y="58"/>
                  </a:lnTo>
                  <a:lnTo>
                    <a:pt x="163" y="58"/>
                  </a:lnTo>
                  <a:lnTo>
                    <a:pt x="167" y="58"/>
                  </a:lnTo>
                  <a:lnTo>
                    <a:pt x="170" y="59"/>
                  </a:lnTo>
                  <a:lnTo>
                    <a:pt x="173" y="59"/>
                  </a:lnTo>
                  <a:lnTo>
                    <a:pt x="177" y="60"/>
                  </a:lnTo>
                  <a:lnTo>
                    <a:pt x="180" y="60"/>
                  </a:lnTo>
                  <a:lnTo>
                    <a:pt x="183" y="62"/>
                  </a:lnTo>
                  <a:lnTo>
                    <a:pt x="186" y="62"/>
                  </a:lnTo>
                  <a:lnTo>
                    <a:pt x="189" y="64"/>
                  </a:lnTo>
                  <a:lnTo>
                    <a:pt x="191" y="65"/>
                  </a:lnTo>
                  <a:lnTo>
                    <a:pt x="194" y="66"/>
                  </a:lnTo>
                  <a:lnTo>
                    <a:pt x="197" y="67"/>
                  </a:lnTo>
                  <a:lnTo>
                    <a:pt x="199" y="69"/>
                  </a:lnTo>
                  <a:lnTo>
                    <a:pt x="202" y="70"/>
                  </a:lnTo>
                  <a:lnTo>
                    <a:pt x="204" y="72"/>
                  </a:lnTo>
                  <a:lnTo>
                    <a:pt x="206" y="74"/>
                  </a:lnTo>
                  <a:lnTo>
                    <a:pt x="208" y="76"/>
                  </a:lnTo>
                  <a:lnTo>
                    <a:pt x="210" y="78"/>
                  </a:lnTo>
                  <a:lnTo>
                    <a:pt x="212" y="80"/>
                  </a:lnTo>
                  <a:lnTo>
                    <a:pt x="214" y="82"/>
                  </a:lnTo>
                  <a:lnTo>
                    <a:pt x="215" y="85"/>
                  </a:lnTo>
                  <a:lnTo>
                    <a:pt x="217" y="87"/>
                  </a:lnTo>
                  <a:lnTo>
                    <a:pt x="219" y="90"/>
                  </a:lnTo>
                  <a:lnTo>
                    <a:pt x="220" y="92"/>
                  </a:lnTo>
                  <a:lnTo>
                    <a:pt x="221" y="95"/>
                  </a:lnTo>
                  <a:lnTo>
                    <a:pt x="222" y="98"/>
                  </a:lnTo>
                  <a:lnTo>
                    <a:pt x="223" y="101"/>
                  </a:lnTo>
                  <a:lnTo>
                    <a:pt x="224" y="104"/>
                  </a:lnTo>
                  <a:lnTo>
                    <a:pt x="225" y="107"/>
                  </a:lnTo>
                  <a:lnTo>
                    <a:pt x="225" y="110"/>
                  </a:lnTo>
                  <a:lnTo>
                    <a:pt x="226" y="114"/>
                  </a:lnTo>
                  <a:lnTo>
                    <a:pt x="227" y="114"/>
                  </a:lnTo>
                  <a:lnTo>
                    <a:pt x="227" y="114"/>
                  </a:lnTo>
                  <a:lnTo>
                    <a:pt x="229" y="114"/>
                  </a:lnTo>
                  <a:lnTo>
                    <a:pt x="230" y="114"/>
                  </a:lnTo>
                  <a:lnTo>
                    <a:pt x="232" y="114"/>
                  </a:lnTo>
                  <a:lnTo>
                    <a:pt x="234" y="114"/>
                  </a:lnTo>
                  <a:lnTo>
                    <a:pt x="236" y="114"/>
                  </a:lnTo>
                  <a:lnTo>
                    <a:pt x="239" y="114"/>
                  </a:lnTo>
                  <a:lnTo>
                    <a:pt x="241" y="114"/>
                  </a:lnTo>
                  <a:lnTo>
                    <a:pt x="244" y="114"/>
                  </a:lnTo>
                  <a:lnTo>
                    <a:pt x="247" y="114"/>
                  </a:lnTo>
                  <a:lnTo>
                    <a:pt x="249" y="114"/>
                  </a:lnTo>
                  <a:lnTo>
                    <a:pt x="252" y="114"/>
                  </a:lnTo>
                  <a:lnTo>
                    <a:pt x="255" y="114"/>
                  </a:lnTo>
                  <a:lnTo>
                    <a:pt x="259" y="114"/>
                  </a:lnTo>
                  <a:lnTo>
                    <a:pt x="261" y="114"/>
                  </a:lnTo>
                  <a:lnTo>
                    <a:pt x="265" y="114"/>
                  </a:lnTo>
                  <a:lnTo>
                    <a:pt x="267" y="114"/>
                  </a:lnTo>
                  <a:lnTo>
                    <a:pt x="270" y="114"/>
                  </a:lnTo>
                  <a:lnTo>
                    <a:pt x="273" y="114"/>
                  </a:lnTo>
                  <a:lnTo>
                    <a:pt x="276" y="114"/>
                  </a:lnTo>
                  <a:lnTo>
                    <a:pt x="278" y="114"/>
                  </a:lnTo>
                  <a:lnTo>
                    <a:pt x="281" y="114"/>
                  </a:lnTo>
                  <a:lnTo>
                    <a:pt x="283" y="114"/>
                  </a:lnTo>
                  <a:lnTo>
                    <a:pt x="285" y="114"/>
                  </a:lnTo>
                  <a:lnTo>
                    <a:pt x="287" y="114"/>
                  </a:lnTo>
                  <a:lnTo>
                    <a:pt x="288" y="114"/>
                  </a:lnTo>
                  <a:lnTo>
                    <a:pt x="289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1" y="114"/>
                  </a:lnTo>
                  <a:lnTo>
                    <a:pt x="289" y="100"/>
                  </a:lnTo>
                  <a:lnTo>
                    <a:pt x="288" y="94"/>
                  </a:lnTo>
                  <a:lnTo>
                    <a:pt x="287" y="88"/>
                  </a:lnTo>
                  <a:lnTo>
                    <a:pt x="285" y="82"/>
                  </a:lnTo>
                  <a:lnTo>
                    <a:pt x="284" y="76"/>
                  </a:lnTo>
                  <a:lnTo>
                    <a:pt x="282" y="70"/>
                  </a:lnTo>
                  <a:lnTo>
                    <a:pt x="279" y="65"/>
                  </a:lnTo>
                  <a:lnTo>
                    <a:pt x="277" y="60"/>
                  </a:lnTo>
                  <a:lnTo>
                    <a:pt x="274" y="55"/>
                  </a:lnTo>
                  <a:lnTo>
                    <a:pt x="271" y="50"/>
                  </a:lnTo>
                  <a:lnTo>
                    <a:pt x="268" y="46"/>
                  </a:lnTo>
                  <a:lnTo>
                    <a:pt x="264" y="41"/>
                  </a:lnTo>
                  <a:lnTo>
                    <a:pt x="261" y="37"/>
                  </a:lnTo>
                  <a:lnTo>
                    <a:pt x="257" y="33"/>
                  </a:lnTo>
                  <a:lnTo>
                    <a:pt x="252" y="30"/>
                  </a:lnTo>
                  <a:lnTo>
                    <a:pt x="248" y="26"/>
                  </a:lnTo>
                  <a:lnTo>
                    <a:pt x="243" y="22"/>
                  </a:lnTo>
                  <a:lnTo>
                    <a:pt x="238" y="19"/>
                  </a:lnTo>
                  <a:lnTo>
                    <a:pt x="233" y="16"/>
                  </a:lnTo>
                  <a:lnTo>
                    <a:pt x="228" y="14"/>
                  </a:lnTo>
                  <a:lnTo>
                    <a:pt x="222" y="11"/>
                  </a:lnTo>
                  <a:lnTo>
                    <a:pt x="217" y="9"/>
                  </a:lnTo>
                  <a:lnTo>
                    <a:pt x="211" y="7"/>
                  </a:lnTo>
                  <a:lnTo>
                    <a:pt x="205" y="5"/>
                  </a:lnTo>
                  <a:lnTo>
                    <a:pt x="198" y="4"/>
                  </a:lnTo>
                  <a:lnTo>
                    <a:pt x="191" y="2"/>
                  </a:lnTo>
                  <a:lnTo>
                    <a:pt x="185" y="1"/>
                  </a:lnTo>
                  <a:lnTo>
                    <a:pt x="178" y="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37" y="0"/>
                  </a:lnTo>
                  <a:lnTo>
                    <a:pt x="129" y="1"/>
                  </a:lnTo>
                  <a:lnTo>
                    <a:pt x="120" y="2"/>
                  </a:lnTo>
                  <a:lnTo>
                    <a:pt x="112" y="4"/>
                  </a:lnTo>
                  <a:lnTo>
                    <a:pt x="104" y="6"/>
                  </a:lnTo>
                  <a:lnTo>
                    <a:pt x="96" y="8"/>
                  </a:lnTo>
                  <a:lnTo>
                    <a:pt x="89" y="10"/>
                  </a:lnTo>
                  <a:lnTo>
                    <a:pt x="82" y="13"/>
                  </a:lnTo>
                  <a:lnTo>
                    <a:pt x="75" y="16"/>
                  </a:lnTo>
                  <a:lnTo>
                    <a:pt x="68" y="20"/>
                  </a:lnTo>
                  <a:lnTo>
                    <a:pt x="62" y="24"/>
                  </a:lnTo>
                  <a:lnTo>
                    <a:pt x="56" y="28"/>
                  </a:lnTo>
                  <a:lnTo>
                    <a:pt x="51" y="32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5" y="48"/>
                  </a:lnTo>
                  <a:lnTo>
                    <a:pt x="31" y="54"/>
                  </a:lnTo>
                  <a:lnTo>
                    <a:pt x="27" y="60"/>
                  </a:lnTo>
                  <a:lnTo>
                    <a:pt x="23" y="66"/>
                  </a:lnTo>
                  <a:lnTo>
                    <a:pt x="19" y="73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6" y="112"/>
                  </a:lnTo>
                  <a:lnTo>
                    <a:pt x="4" y="120"/>
                  </a:lnTo>
                  <a:lnTo>
                    <a:pt x="3" y="129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" y="187"/>
                  </a:lnTo>
                  <a:lnTo>
                    <a:pt x="1" y="196"/>
                  </a:lnTo>
                  <a:lnTo>
                    <a:pt x="3" y="205"/>
                  </a:lnTo>
                  <a:lnTo>
                    <a:pt x="4" y="214"/>
                  </a:lnTo>
                  <a:lnTo>
                    <a:pt x="6" y="223"/>
                  </a:lnTo>
                  <a:lnTo>
                    <a:pt x="8" y="231"/>
                  </a:lnTo>
                  <a:lnTo>
                    <a:pt x="10" y="239"/>
                  </a:lnTo>
                  <a:lnTo>
                    <a:pt x="13" y="246"/>
                  </a:lnTo>
                  <a:lnTo>
                    <a:pt x="16" y="254"/>
                  </a:lnTo>
                  <a:lnTo>
                    <a:pt x="19" y="261"/>
                  </a:lnTo>
                  <a:lnTo>
                    <a:pt x="23" y="268"/>
                  </a:lnTo>
                  <a:lnTo>
                    <a:pt x="26" y="274"/>
                  </a:lnTo>
                  <a:lnTo>
                    <a:pt x="30" y="280"/>
                  </a:lnTo>
                  <a:lnTo>
                    <a:pt x="35" y="286"/>
                  </a:lnTo>
                  <a:lnTo>
                    <a:pt x="39" y="292"/>
                  </a:lnTo>
                  <a:lnTo>
                    <a:pt x="44" y="297"/>
                  </a:lnTo>
                  <a:lnTo>
                    <a:pt x="49" y="302"/>
                  </a:lnTo>
                  <a:lnTo>
                    <a:pt x="55" y="306"/>
                  </a:lnTo>
                  <a:lnTo>
                    <a:pt x="61" y="310"/>
                  </a:lnTo>
                  <a:lnTo>
                    <a:pt x="67" y="314"/>
                  </a:lnTo>
                  <a:lnTo>
                    <a:pt x="73" y="318"/>
                  </a:lnTo>
                  <a:lnTo>
                    <a:pt x="79" y="321"/>
                  </a:lnTo>
                  <a:lnTo>
                    <a:pt x="87" y="324"/>
                  </a:lnTo>
                  <a:lnTo>
                    <a:pt x="93" y="327"/>
                  </a:lnTo>
                  <a:lnTo>
                    <a:pt x="101" y="329"/>
                  </a:lnTo>
                  <a:lnTo>
                    <a:pt x="108" y="331"/>
                  </a:lnTo>
                  <a:lnTo>
                    <a:pt x="116" y="332"/>
                  </a:lnTo>
                  <a:lnTo>
                    <a:pt x="124" y="334"/>
                  </a:lnTo>
                  <a:lnTo>
                    <a:pt x="132" y="335"/>
                  </a:lnTo>
                  <a:lnTo>
                    <a:pt x="141" y="335"/>
                  </a:lnTo>
                  <a:lnTo>
                    <a:pt x="150" y="336"/>
                  </a:lnTo>
                  <a:lnTo>
                    <a:pt x="165" y="335"/>
                  </a:lnTo>
                  <a:lnTo>
                    <a:pt x="172" y="334"/>
                  </a:lnTo>
                  <a:lnTo>
                    <a:pt x="179" y="333"/>
                  </a:lnTo>
                  <a:lnTo>
                    <a:pt x="186" y="332"/>
                  </a:lnTo>
                  <a:lnTo>
                    <a:pt x="193" y="331"/>
                  </a:lnTo>
                  <a:lnTo>
                    <a:pt x="199" y="329"/>
                  </a:lnTo>
                  <a:lnTo>
                    <a:pt x="206" y="327"/>
                  </a:lnTo>
                  <a:lnTo>
                    <a:pt x="212" y="325"/>
                  </a:lnTo>
                  <a:lnTo>
                    <a:pt x="218" y="322"/>
                  </a:lnTo>
                  <a:lnTo>
                    <a:pt x="224" y="320"/>
                  </a:lnTo>
                  <a:lnTo>
                    <a:pt x="229" y="317"/>
                  </a:lnTo>
                  <a:lnTo>
                    <a:pt x="235" y="314"/>
                  </a:lnTo>
                  <a:lnTo>
                    <a:pt x="240" y="310"/>
                  </a:lnTo>
                  <a:lnTo>
                    <a:pt x="245" y="307"/>
                  </a:lnTo>
                  <a:lnTo>
                    <a:pt x="249" y="303"/>
                  </a:lnTo>
                  <a:lnTo>
                    <a:pt x="254" y="299"/>
                  </a:lnTo>
                  <a:lnTo>
                    <a:pt x="258" y="295"/>
                  </a:lnTo>
                  <a:lnTo>
                    <a:pt x="262" y="291"/>
                  </a:lnTo>
                  <a:lnTo>
                    <a:pt x="266" y="286"/>
                  </a:lnTo>
                  <a:lnTo>
                    <a:pt x="270" y="281"/>
                  </a:lnTo>
                  <a:lnTo>
                    <a:pt x="273" y="276"/>
                  </a:lnTo>
                  <a:lnTo>
                    <a:pt x="276" y="271"/>
                  </a:lnTo>
                  <a:lnTo>
                    <a:pt x="279" y="266"/>
                  </a:lnTo>
                  <a:lnTo>
                    <a:pt x="281" y="260"/>
                  </a:lnTo>
                  <a:lnTo>
                    <a:pt x="284" y="255"/>
                  </a:lnTo>
                  <a:lnTo>
                    <a:pt x="286" y="249"/>
                  </a:lnTo>
                  <a:lnTo>
                    <a:pt x="287" y="243"/>
                  </a:lnTo>
                  <a:lnTo>
                    <a:pt x="289" y="237"/>
                  </a:lnTo>
                  <a:lnTo>
                    <a:pt x="290" y="230"/>
                  </a:lnTo>
                  <a:lnTo>
                    <a:pt x="291" y="224"/>
                  </a:lnTo>
                  <a:lnTo>
                    <a:pt x="292" y="21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506920" y="3990960"/>
              <a:ext cx="50760" cy="322200"/>
              <a:chOff x="5506920" y="3990960"/>
              <a:chExt cx="50760" cy="322200"/>
            </a:xfrm>
          </p:grpSpPr>
          <p:sp>
            <p:nvSpPr>
              <p:cNvPr id="311" name=""/>
              <p:cNvSpPr/>
              <p:nvPr/>
            </p:nvSpPr>
            <p:spPr>
              <a:xfrm>
                <a:off x="5506920" y="399096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06920" y="407520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06920" y="39909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589720" y="4010040"/>
              <a:ext cx="101520" cy="30636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71" y="191"/>
                  </a:moveTo>
                  <a:lnTo>
                    <a:pt x="71" y="190"/>
                  </a:lnTo>
                  <a:lnTo>
                    <a:pt x="71" y="190"/>
                  </a:lnTo>
                  <a:lnTo>
                    <a:pt x="71" y="189"/>
                  </a:lnTo>
                  <a:lnTo>
                    <a:pt x="71" y="189"/>
                  </a:lnTo>
                  <a:lnTo>
                    <a:pt x="71" y="188"/>
                  </a:lnTo>
                  <a:lnTo>
                    <a:pt x="71" y="187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4"/>
                  </a:lnTo>
                  <a:lnTo>
                    <a:pt x="71" y="182"/>
                  </a:lnTo>
                  <a:lnTo>
                    <a:pt x="71" y="181"/>
                  </a:lnTo>
                  <a:lnTo>
                    <a:pt x="71" y="180"/>
                  </a:lnTo>
                  <a:lnTo>
                    <a:pt x="71" y="178"/>
                  </a:lnTo>
                  <a:lnTo>
                    <a:pt x="71" y="177"/>
                  </a:lnTo>
                  <a:lnTo>
                    <a:pt x="71" y="176"/>
                  </a:lnTo>
                  <a:lnTo>
                    <a:pt x="71" y="174"/>
                  </a:lnTo>
                  <a:lnTo>
                    <a:pt x="71" y="173"/>
                  </a:lnTo>
                  <a:lnTo>
                    <a:pt x="71" y="172"/>
                  </a:lnTo>
                  <a:lnTo>
                    <a:pt x="71" y="170"/>
                  </a:lnTo>
                  <a:lnTo>
                    <a:pt x="71" y="169"/>
                  </a:lnTo>
                  <a:lnTo>
                    <a:pt x="71" y="168"/>
                  </a:lnTo>
                  <a:lnTo>
                    <a:pt x="71" y="167"/>
                  </a:lnTo>
                  <a:lnTo>
                    <a:pt x="71" y="166"/>
                  </a:lnTo>
                  <a:lnTo>
                    <a:pt x="71" y="165"/>
                  </a:lnTo>
                  <a:lnTo>
                    <a:pt x="71" y="164"/>
                  </a:lnTo>
                  <a:lnTo>
                    <a:pt x="71" y="163"/>
                  </a:lnTo>
                  <a:lnTo>
                    <a:pt x="71" y="162"/>
                  </a:lnTo>
                  <a:lnTo>
                    <a:pt x="71" y="162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0" y="161"/>
                  </a:lnTo>
                  <a:lnTo>
                    <a:pt x="70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8" y="161"/>
                  </a:lnTo>
                  <a:lnTo>
                    <a:pt x="68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6" y="161"/>
                  </a:lnTo>
                  <a:lnTo>
                    <a:pt x="66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4" y="161"/>
                  </a:lnTo>
                  <a:lnTo>
                    <a:pt x="64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1" y="161"/>
                  </a:lnTo>
                  <a:lnTo>
                    <a:pt x="60" y="161"/>
                  </a:lnTo>
                  <a:lnTo>
                    <a:pt x="60" y="161"/>
                  </a:lnTo>
                  <a:lnTo>
                    <a:pt x="59" y="161"/>
                  </a:lnTo>
                  <a:lnTo>
                    <a:pt x="58" y="161"/>
                  </a:lnTo>
                  <a:lnTo>
                    <a:pt x="58" y="161"/>
                  </a:lnTo>
                  <a:lnTo>
                    <a:pt x="57" y="161"/>
                  </a:lnTo>
                  <a:lnTo>
                    <a:pt x="57" y="160"/>
                  </a:lnTo>
                  <a:lnTo>
                    <a:pt x="56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2" y="158"/>
                  </a:lnTo>
                  <a:lnTo>
                    <a:pt x="52" y="157"/>
                  </a:lnTo>
                  <a:lnTo>
                    <a:pt x="52" y="157"/>
                  </a:lnTo>
                  <a:lnTo>
                    <a:pt x="52" y="156"/>
                  </a:lnTo>
                  <a:lnTo>
                    <a:pt x="51" y="156"/>
                  </a:lnTo>
                  <a:lnTo>
                    <a:pt x="51" y="155"/>
                  </a:lnTo>
                  <a:lnTo>
                    <a:pt x="51" y="155"/>
                  </a:lnTo>
                  <a:lnTo>
                    <a:pt x="51" y="154"/>
                  </a:lnTo>
                  <a:lnTo>
                    <a:pt x="51" y="154"/>
                  </a:lnTo>
                  <a:lnTo>
                    <a:pt x="51" y="153"/>
                  </a:lnTo>
                  <a:lnTo>
                    <a:pt x="51" y="152"/>
                  </a:lnTo>
                  <a:lnTo>
                    <a:pt x="51" y="152"/>
                  </a:lnTo>
                  <a:lnTo>
                    <a:pt x="51" y="150"/>
                  </a:lnTo>
                  <a:lnTo>
                    <a:pt x="51" y="149"/>
                  </a:lnTo>
                  <a:lnTo>
                    <a:pt x="51" y="148"/>
                  </a:lnTo>
                  <a:lnTo>
                    <a:pt x="51" y="146"/>
                  </a:lnTo>
                  <a:lnTo>
                    <a:pt x="51" y="144"/>
                  </a:lnTo>
                  <a:lnTo>
                    <a:pt x="51" y="141"/>
                  </a:lnTo>
                  <a:lnTo>
                    <a:pt x="51" y="138"/>
                  </a:lnTo>
                  <a:lnTo>
                    <a:pt x="51" y="136"/>
                  </a:lnTo>
                  <a:lnTo>
                    <a:pt x="51" y="132"/>
                  </a:lnTo>
                  <a:lnTo>
                    <a:pt x="51" y="129"/>
                  </a:lnTo>
                  <a:lnTo>
                    <a:pt x="51" y="125"/>
                  </a:lnTo>
                  <a:lnTo>
                    <a:pt x="51" y="122"/>
                  </a:lnTo>
                  <a:lnTo>
                    <a:pt x="51" y="118"/>
                  </a:lnTo>
                  <a:lnTo>
                    <a:pt x="51" y="114"/>
                  </a:lnTo>
                  <a:lnTo>
                    <a:pt x="51" y="110"/>
                  </a:lnTo>
                  <a:lnTo>
                    <a:pt x="51" y="106"/>
                  </a:lnTo>
                  <a:lnTo>
                    <a:pt x="51" y="102"/>
                  </a:lnTo>
                  <a:lnTo>
                    <a:pt x="51" y="99"/>
                  </a:lnTo>
                  <a:lnTo>
                    <a:pt x="51" y="95"/>
                  </a:lnTo>
                  <a:lnTo>
                    <a:pt x="51" y="92"/>
                  </a:lnTo>
                  <a:lnTo>
                    <a:pt x="51" y="88"/>
                  </a:lnTo>
                  <a:lnTo>
                    <a:pt x="51" y="85"/>
                  </a:lnTo>
                  <a:lnTo>
                    <a:pt x="51" y="82"/>
                  </a:lnTo>
                  <a:lnTo>
                    <a:pt x="51" y="79"/>
                  </a:lnTo>
                  <a:lnTo>
                    <a:pt x="51" y="76"/>
                  </a:lnTo>
                  <a:lnTo>
                    <a:pt x="51" y="74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70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5" y="69"/>
                  </a:lnTo>
                  <a:lnTo>
                    <a:pt x="56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9"/>
                  </a:lnTo>
                  <a:lnTo>
                    <a:pt x="61" y="69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4" y="69"/>
                  </a:lnTo>
                  <a:lnTo>
                    <a:pt x="65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1" y="68"/>
                  </a:lnTo>
                  <a:lnTo>
                    <a:pt x="71" y="67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65"/>
                  </a:lnTo>
                  <a:lnTo>
                    <a:pt x="71" y="64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1" y="59"/>
                  </a:lnTo>
                  <a:lnTo>
                    <a:pt x="71" y="58"/>
                  </a:lnTo>
                  <a:lnTo>
                    <a:pt x="71" y="56"/>
                  </a:lnTo>
                  <a:lnTo>
                    <a:pt x="71" y="55"/>
                  </a:lnTo>
                  <a:lnTo>
                    <a:pt x="71" y="54"/>
                  </a:lnTo>
                  <a:lnTo>
                    <a:pt x="71" y="52"/>
                  </a:lnTo>
                  <a:lnTo>
                    <a:pt x="71" y="51"/>
                  </a:lnTo>
                  <a:lnTo>
                    <a:pt x="71" y="50"/>
                  </a:lnTo>
                  <a:lnTo>
                    <a:pt x="71" y="49"/>
                  </a:lnTo>
                  <a:lnTo>
                    <a:pt x="71" y="48"/>
                  </a:lnTo>
                  <a:lnTo>
                    <a:pt x="71" y="46"/>
                  </a:lnTo>
                  <a:lnTo>
                    <a:pt x="71" y="45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3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8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0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6" y="41"/>
                  </a:lnTo>
                  <a:lnTo>
                    <a:pt x="55" y="4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39"/>
                  </a:lnTo>
                  <a:lnTo>
                    <a:pt x="51" y="38"/>
                  </a:lnTo>
                  <a:lnTo>
                    <a:pt x="51" y="37"/>
                  </a:lnTo>
                  <a:lnTo>
                    <a:pt x="51" y="36"/>
                  </a:lnTo>
                  <a:lnTo>
                    <a:pt x="51" y="35"/>
                  </a:lnTo>
                  <a:lnTo>
                    <a:pt x="51" y="33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7" y="79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91"/>
                  </a:lnTo>
                  <a:lnTo>
                    <a:pt x="17" y="94"/>
                  </a:lnTo>
                  <a:lnTo>
                    <a:pt x="17" y="98"/>
                  </a:lnTo>
                  <a:lnTo>
                    <a:pt x="17" y="102"/>
                  </a:lnTo>
                  <a:lnTo>
                    <a:pt x="17" y="106"/>
                  </a:lnTo>
                  <a:lnTo>
                    <a:pt x="17" y="109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7" y="120"/>
                  </a:lnTo>
                  <a:lnTo>
                    <a:pt x="17" y="124"/>
                  </a:lnTo>
                  <a:lnTo>
                    <a:pt x="17" y="128"/>
                  </a:lnTo>
                  <a:lnTo>
                    <a:pt x="17" y="131"/>
                  </a:lnTo>
                  <a:lnTo>
                    <a:pt x="17" y="134"/>
                  </a:lnTo>
                  <a:lnTo>
                    <a:pt x="17" y="137"/>
                  </a:lnTo>
                  <a:lnTo>
                    <a:pt x="17" y="140"/>
                  </a:lnTo>
                  <a:lnTo>
                    <a:pt x="17" y="142"/>
                  </a:lnTo>
                  <a:lnTo>
                    <a:pt x="17" y="144"/>
                  </a:lnTo>
                  <a:lnTo>
                    <a:pt x="17" y="146"/>
                  </a:lnTo>
                  <a:lnTo>
                    <a:pt x="17" y="147"/>
                  </a:lnTo>
                  <a:lnTo>
                    <a:pt x="17" y="148"/>
                  </a:lnTo>
                  <a:lnTo>
                    <a:pt x="17" y="149"/>
                  </a:lnTo>
                  <a:lnTo>
                    <a:pt x="17" y="150"/>
                  </a:lnTo>
                  <a:lnTo>
                    <a:pt x="17" y="155"/>
                  </a:lnTo>
                  <a:lnTo>
                    <a:pt x="17" y="158"/>
                  </a:lnTo>
                  <a:lnTo>
                    <a:pt x="17" y="160"/>
                  </a:lnTo>
                  <a:lnTo>
                    <a:pt x="17" y="162"/>
                  </a:lnTo>
                  <a:lnTo>
                    <a:pt x="17" y="165"/>
                  </a:lnTo>
                  <a:lnTo>
                    <a:pt x="18" y="167"/>
                  </a:lnTo>
                  <a:lnTo>
                    <a:pt x="18" y="169"/>
                  </a:lnTo>
                  <a:lnTo>
                    <a:pt x="19" y="171"/>
                  </a:lnTo>
                  <a:lnTo>
                    <a:pt x="19" y="173"/>
                  </a:lnTo>
                  <a:lnTo>
                    <a:pt x="19" y="175"/>
                  </a:lnTo>
                  <a:lnTo>
                    <a:pt x="20" y="176"/>
                  </a:lnTo>
                  <a:lnTo>
                    <a:pt x="21" y="178"/>
                  </a:lnTo>
                  <a:lnTo>
                    <a:pt x="22" y="180"/>
                  </a:lnTo>
                  <a:lnTo>
                    <a:pt x="23" y="181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5" y="184"/>
                  </a:lnTo>
                  <a:lnTo>
                    <a:pt x="27" y="185"/>
                  </a:lnTo>
                  <a:lnTo>
                    <a:pt x="28" y="186"/>
                  </a:lnTo>
                  <a:lnTo>
                    <a:pt x="29" y="187"/>
                  </a:lnTo>
                  <a:lnTo>
                    <a:pt x="31" y="188"/>
                  </a:lnTo>
                  <a:lnTo>
                    <a:pt x="32" y="189"/>
                  </a:lnTo>
                  <a:lnTo>
                    <a:pt x="34" y="189"/>
                  </a:lnTo>
                  <a:lnTo>
                    <a:pt x="35" y="190"/>
                  </a:lnTo>
                  <a:lnTo>
                    <a:pt x="37" y="190"/>
                  </a:lnTo>
                  <a:lnTo>
                    <a:pt x="39" y="190"/>
                  </a:lnTo>
                  <a:lnTo>
                    <a:pt x="41" y="191"/>
                  </a:lnTo>
                  <a:lnTo>
                    <a:pt x="44" y="191"/>
                  </a:lnTo>
                  <a:lnTo>
                    <a:pt x="46" y="191"/>
                  </a:lnTo>
                  <a:lnTo>
                    <a:pt x="49" y="191"/>
                  </a:lnTo>
                  <a:lnTo>
                    <a:pt x="51" y="192"/>
                  </a:lnTo>
                  <a:lnTo>
                    <a:pt x="52" y="191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91"/>
                  </a:lnTo>
                  <a:lnTo>
                    <a:pt x="55" y="191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58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60" y="191"/>
                  </a:lnTo>
                  <a:lnTo>
                    <a:pt x="60" y="191"/>
                  </a:lnTo>
                  <a:lnTo>
                    <a:pt x="61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63" y="191"/>
                  </a:lnTo>
                  <a:lnTo>
                    <a:pt x="64" y="191"/>
                  </a:lnTo>
                  <a:lnTo>
                    <a:pt x="65" y="191"/>
                  </a:lnTo>
                  <a:lnTo>
                    <a:pt x="65" y="191"/>
                  </a:lnTo>
                  <a:lnTo>
                    <a:pt x="66" y="191"/>
                  </a:lnTo>
                  <a:lnTo>
                    <a:pt x="67" y="191"/>
                  </a:lnTo>
                  <a:lnTo>
                    <a:pt x="68" y="191"/>
                  </a:lnTo>
                  <a:lnTo>
                    <a:pt x="69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1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718240" y="4067280"/>
              <a:ext cx="187200" cy="253800"/>
              <a:chOff x="5718240" y="4067280"/>
              <a:chExt cx="187200" cy="253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8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3" y="45"/>
                    </a:lnTo>
                    <a:lnTo>
                      <a:pt x="44" y="44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8" y="39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2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2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8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1" y="52"/>
                    </a:lnTo>
                    <a:lnTo>
                      <a:pt x="92" y="53"/>
                    </a:lnTo>
                    <a:lnTo>
                      <a:pt x="93" y="55"/>
                    </a:lnTo>
                    <a:lnTo>
                      <a:pt x="93" y="57"/>
                    </a:lnTo>
                    <a:lnTo>
                      <a:pt x="94" y="59"/>
                    </a:lnTo>
                    <a:lnTo>
                      <a:pt x="94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5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6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5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4" y="97"/>
                    </a:lnTo>
                    <a:lnTo>
                      <a:pt x="94" y="99"/>
                    </a:lnTo>
                    <a:lnTo>
                      <a:pt x="93" y="101"/>
                    </a:lnTo>
                    <a:lnTo>
                      <a:pt x="93" y="103"/>
                    </a:lnTo>
                    <a:lnTo>
                      <a:pt x="92" y="105"/>
                    </a:lnTo>
                    <a:lnTo>
                      <a:pt x="91" y="107"/>
                    </a:lnTo>
                    <a:lnTo>
                      <a:pt x="90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8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2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4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6"/>
                    </a:lnTo>
                    <a:lnTo>
                      <a:pt x="67" y="126"/>
                    </a:lnTo>
                    <a:lnTo>
                      <a:pt x="66" y="126"/>
                    </a:lnTo>
                    <a:lnTo>
                      <a:pt x="62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4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4" y="115"/>
                    </a:lnTo>
                    <a:lnTo>
                      <a:pt x="43" y="114"/>
                    </a:lnTo>
                    <a:lnTo>
                      <a:pt x="42" y="112"/>
                    </a:lnTo>
                    <a:lnTo>
                      <a:pt x="41" y="110"/>
                    </a:lnTo>
                    <a:lnTo>
                      <a:pt x="40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8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6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67560" y="4119480"/>
                <a:ext cx="8676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5" y="17"/>
                    </a:lnTo>
                    <a:lnTo>
                      <a:pt x="56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8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1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0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8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6" y="74"/>
                    </a:lnTo>
                    <a:lnTo>
                      <a:pt x="55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1"/>
                    </a:lnTo>
                    <a:lnTo>
                      <a:pt x="40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5" y="92"/>
                    </a:lnTo>
                    <a:lnTo>
                      <a:pt x="34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945040" y="4068720"/>
              <a:ext cx="262080" cy="24444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5"/>
                  </a:lnTo>
                  <a:lnTo>
                    <a:pt x="35" y="142"/>
                  </a:lnTo>
                  <a:lnTo>
                    <a:pt x="35" y="139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9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7" y="48"/>
                  </a:lnTo>
                  <a:lnTo>
                    <a:pt x="37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4" y="38"/>
                  </a:lnTo>
                  <a:lnTo>
                    <a:pt x="45" y="37"/>
                  </a:lnTo>
                  <a:lnTo>
                    <a:pt x="46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70" y="40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71" y="43"/>
                  </a:lnTo>
                  <a:lnTo>
                    <a:pt x="72" y="43"/>
                  </a:lnTo>
                  <a:lnTo>
                    <a:pt x="73" y="44"/>
                  </a:lnTo>
                  <a:lnTo>
                    <a:pt x="73" y="45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4" y="49"/>
                  </a:lnTo>
                  <a:lnTo>
                    <a:pt x="74" y="49"/>
                  </a:lnTo>
                  <a:lnTo>
                    <a:pt x="74" y="51"/>
                  </a:lnTo>
                  <a:lnTo>
                    <a:pt x="75" y="52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5" y="56"/>
                  </a:lnTo>
                  <a:lnTo>
                    <a:pt x="75" y="57"/>
                  </a:lnTo>
                  <a:lnTo>
                    <a:pt x="75" y="58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5" y="66"/>
                  </a:lnTo>
                  <a:lnTo>
                    <a:pt x="75" y="69"/>
                  </a:lnTo>
                  <a:lnTo>
                    <a:pt x="75" y="72"/>
                  </a:lnTo>
                  <a:lnTo>
                    <a:pt x="75" y="75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5" y="87"/>
                  </a:lnTo>
                  <a:lnTo>
                    <a:pt x="75" y="92"/>
                  </a:lnTo>
                  <a:lnTo>
                    <a:pt x="75" y="96"/>
                  </a:lnTo>
                  <a:lnTo>
                    <a:pt x="75" y="101"/>
                  </a:lnTo>
                  <a:lnTo>
                    <a:pt x="75" y="105"/>
                  </a:lnTo>
                  <a:lnTo>
                    <a:pt x="75" y="109"/>
                  </a:lnTo>
                  <a:lnTo>
                    <a:pt x="75" y="114"/>
                  </a:lnTo>
                  <a:lnTo>
                    <a:pt x="75" y="118"/>
                  </a:lnTo>
                  <a:lnTo>
                    <a:pt x="75" y="123"/>
                  </a:lnTo>
                  <a:lnTo>
                    <a:pt x="75" y="127"/>
                  </a:lnTo>
                  <a:lnTo>
                    <a:pt x="75" y="131"/>
                  </a:lnTo>
                  <a:lnTo>
                    <a:pt x="75" y="134"/>
                  </a:lnTo>
                  <a:lnTo>
                    <a:pt x="75" y="138"/>
                  </a:lnTo>
                  <a:lnTo>
                    <a:pt x="75" y="141"/>
                  </a:lnTo>
                  <a:lnTo>
                    <a:pt x="75" y="144"/>
                  </a:lnTo>
                  <a:lnTo>
                    <a:pt x="75" y="147"/>
                  </a:lnTo>
                  <a:lnTo>
                    <a:pt x="75" y="149"/>
                  </a:lnTo>
                  <a:lnTo>
                    <a:pt x="75" y="151"/>
                  </a:lnTo>
                  <a:lnTo>
                    <a:pt x="75" y="152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6" y="153"/>
                  </a:lnTo>
                  <a:lnTo>
                    <a:pt x="76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80" y="153"/>
                  </a:lnTo>
                  <a:lnTo>
                    <a:pt x="81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5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3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99" y="153"/>
                  </a:lnTo>
                  <a:lnTo>
                    <a:pt x="101" y="153"/>
                  </a:lnTo>
                  <a:lnTo>
                    <a:pt x="102" y="153"/>
                  </a:lnTo>
                  <a:lnTo>
                    <a:pt x="103" y="153"/>
                  </a:lnTo>
                  <a:lnTo>
                    <a:pt x="105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2"/>
                  </a:lnTo>
                  <a:lnTo>
                    <a:pt x="109" y="151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5"/>
                  </a:lnTo>
                  <a:lnTo>
                    <a:pt x="109" y="142"/>
                  </a:lnTo>
                  <a:lnTo>
                    <a:pt x="109" y="139"/>
                  </a:lnTo>
                  <a:lnTo>
                    <a:pt x="109" y="135"/>
                  </a:lnTo>
                  <a:lnTo>
                    <a:pt x="109" y="132"/>
                  </a:lnTo>
                  <a:lnTo>
                    <a:pt x="109" y="128"/>
                  </a:lnTo>
                  <a:lnTo>
                    <a:pt x="109" y="124"/>
                  </a:lnTo>
                  <a:lnTo>
                    <a:pt x="109" y="120"/>
                  </a:lnTo>
                  <a:lnTo>
                    <a:pt x="109" y="116"/>
                  </a:lnTo>
                  <a:lnTo>
                    <a:pt x="109" y="112"/>
                  </a:lnTo>
                  <a:lnTo>
                    <a:pt x="109" y="108"/>
                  </a:lnTo>
                  <a:lnTo>
                    <a:pt x="109" y="103"/>
                  </a:lnTo>
                  <a:lnTo>
                    <a:pt x="109" y="99"/>
                  </a:lnTo>
                  <a:lnTo>
                    <a:pt x="109" y="95"/>
                  </a:lnTo>
                  <a:lnTo>
                    <a:pt x="109" y="91"/>
                  </a:lnTo>
                  <a:lnTo>
                    <a:pt x="109" y="87"/>
                  </a:lnTo>
                  <a:lnTo>
                    <a:pt x="109" y="83"/>
                  </a:lnTo>
                  <a:lnTo>
                    <a:pt x="109" y="80"/>
                  </a:lnTo>
                  <a:lnTo>
                    <a:pt x="109" y="77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9" y="68"/>
                  </a:lnTo>
                  <a:lnTo>
                    <a:pt x="109" y="66"/>
                  </a:lnTo>
                  <a:lnTo>
                    <a:pt x="109" y="65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59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09" y="55"/>
                  </a:lnTo>
                  <a:lnTo>
                    <a:pt x="110" y="53"/>
                  </a:lnTo>
                  <a:lnTo>
                    <a:pt x="110" y="52"/>
                  </a:lnTo>
                  <a:lnTo>
                    <a:pt x="111" y="51"/>
                  </a:lnTo>
                  <a:lnTo>
                    <a:pt x="111" y="49"/>
                  </a:lnTo>
                  <a:lnTo>
                    <a:pt x="111" y="48"/>
                  </a:lnTo>
                  <a:lnTo>
                    <a:pt x="112" y="47"/>
                  </a:lnTo>
                  <a:lnTo>
                    <a:pt x="112" y="46"/>
                  </a:lnTo>
                  <a:lnTo>
                    <a:pt x="113" y="45"/>
                  </a:lnTo>
                  <a:lnTo>
                    <a:pt x="113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6" y="41"/>
                  </a:lnTo>
                  <a:lnTo>
                    <a:pt x="117" y="40"/>
                  </a:lnTo>
                  <a:lnTo>
                    <a:pt x="117" y="39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6"/>
                  </a:lnTo>
                  <a:lnTo>
                    <a:pt x="123" y="35"/>
                  </a:lnTo>
                  <a:lnTo>
                    <a:pt x="124" y="35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7" y="34"/>
                  </a:lnTo>
                  <a:lnTo>
                    <a:pt x="129" y="34"/>
                  </a:lnTo>
                  <a:lnTo>
                    <a:pt x="130" y="34"/>
                  </a:lnTo>
                  <a:lnTo>
                    <a:pt x="131" y="34"/>
                  </a:lnTo>
                  <a:lnTo>
                    <a:pt x="133" y="34"/>
                  </a:lnTo>
                  <a:lnTo>
                    <a:pt x="134" y="34"/>
                  </a:lnTo>
                  <a:lnTo>
                    <a:pt x="135" y="34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9" y="35"/>
                  </a:lnTo>
                  <a:lnTo>
                    <a:pt x="140" y="36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2" y="37"/>
                  </a:lnTo>
                  <a:lnTo>
                    <a:pt x="143" y="38"/>
                  </a:lnTo>
                  <a:lnTo>
                    <a:pt x="144" y="39"/>
                  </a:lnTo>
                  <a:lnTo>
                    <a:pt x="145" y="39"/>
                  </a:lnTo>
                  <a:lnTo>
                    <a:pt x="145" y="40"/>
                  </a:lnTo>
                  <a:lnTo>
                    <a:pt x="146" y="41"/>
                  </a:lnTo>
                  <a:lnTo>
                    <a:pt x="146" y="41"/>
                  </a:lnTo>
                  <a:lnTo>
                    <a:pt x="147" y="42"/>
                  </a:lnTo>
                  <a:lnTo>
                    <a:pt x="147" y="43"/>
                  </a:lnTo>
                  <a:lnTo>
                    <a:pt x="148" y="44"/>
                  </a:lnTo>
                  <a:lnTo>
                    <a:pt x="148" y="45"/>
                  </a:lnTo>
                  <a:lnTo>
                    <a:pt x="149" y="46"/>
                  </a:lnTo>
                  <a:lnTo>
                    <a:pt x="149" y="47"/>
                  </a:lnTo>
                  <a:lnTo>
                    <a:pt x="149" y="48"/>
                  </a:lnTo>
                  <a:lnTo>
                    <a:pt x="149" y="49"/>
                  </a:lnTo>
                  <a:lnTo>
                    <a:pt x="150" y="51"/>
                  </a:lnTo>
                  <a:lnTo>
                    <a:pt x="150" y="52"/>
                  </a:lnTo>
                  <a:lnTo>
                    <a:pt x="150" y="53"/>
                  </a:lnTo>
                  <a:lnTo>
                    <a:pt x="150" y="54"/>
                  </a:lnTo>
                  <a:lnTo>
                    <a:pt x="150" y="55"/>
                  </a:lnTo>
                  <a:lnTo>
                    <a:pt x="151" y="57"/>
                  </a:lnTo>
                  <a:lnTo>
                    <a:pt x="151" y="58"/>
                  </a:lnTo>
                  <a:lnTo>
                    <a:pt x="151" y="59"/>
                  </a:lnTo>
                  <a:lnTo>
                    <a:pt x="151" y="61"/>
                  </a:lnTo>
                  <a:lnTo>
                    <a:pt x="151" y="63"/>
                  </a:lnTo>
                  <a:lnTo>
                    <a:pt x="151" y="66"/>
                  </a:lnTo>
                  <a:lnTo>
                    <a:pt x="151" y="69"/>
                  </a:lnTo>
                  <a:lnTo>
                    <a:pt x="151" y="72"/>
                  </a:lnTo>
                  <a:lnTo>
                    <a:pt x="151" y="75"/>
                  </a:lnTo>
                  <a:lnTo>
                    <a:pt x="151" y="79"/>
                  </a:lnTo>
                  <a:lnTo>
                    <a:pt x="151" y="83"/>
                  </a:lnTo>
                  <a:lnTo>
                    <a:pt x="151" y="87"/>
                  </a:lnTo>
                  <a:lnTo>
                    <a:pt x="151" y="91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5"/>
                  </a:lnTo>
                  <a:lnTo>
                    <a:pt x="151" y="109"/>
                  </a:lnTo>
                  <a:lnTo>
                    <a:pt x="151" y="114"/>
                  </a:lnTo>
                  <a:lnTo>
                    <a:pt x="151" y="118"/>
                  </a:lnTo>
                  <a:lnTo>
                    <a:pt x="151" y="123"/>
                  </a:lnTo>
                  <a:lnTo>
                    <a:pt x="151" y="127"/>
                  </a:lnTo>
                  <a:lnTo>
                    <a:pt x="151" y="131"/>
                  </a:lnTo>
                  <a:lnTo>
                    <a:pt x="151" y="134"/>
                  </a:lnTo>
                  <a:lnTo>
                    <a:pt x="151" y="138"/>
                  </a:lnTo>
                  <a:lnTo>
                    <a:pt x="151" y="141"/>
                  </a:lnTo>
                  <a:lnTo>
                    <a:pt x="151" y="144"/>
                  </a:lnTo>
                  <a:lnTo>
                    <a:pt x="151" y="147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51" y="152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2" y="153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60" y="153"/>
                  </a:lnTo>
                  <a:lnTo>
                    <a:pt x="161" y="153"/>
                  </a:lnTo>
                  <a:lnTo>
                    <a:pt x="163" y="153"/>
                  </a:lnTo>
                  <a:lnTo>
                    <a:pt x="164" y="153"/>
                  </a:lnTo>
                  <a:lnTo>
                    <a:pt x="166" y="153"/>
                  </a:lnTo>
                  <a:lnTo>
                    <a:pt x="168" y="153"/>
                  </a:lnTo>
                  <a:lnTo>
                    <a:pt x="169" y="153"/>
                  </a:lnTo>
                  <a:lnTo>
                    <a:pt x="171" y="153"/>
                  </a:lnTo>
                  <a:lnTo>
                    <a:pt x="172" y="153"/>
                  </a:lnTo>
                  <a:lnTo>
                    <a:pt x="174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2"/>
                  </a:lnTo>
                  <a:lnTo>
                    <a:pt x="185" y="150"/>
                  </a:lnTo>
                  <a:lnTo>
                    <a:pt x="185" y="148"/>
                  </a:lnTo>
                  <a:lnTo>
                    <a:pt x="185" y="146"/>
                  </a:lnTo>
                  <a:lnTo>
                    <a:pt x="185" y="143"/>
                  </a:lnTo>
                  <a:lnTo>
                    <a:pt x="185" y="140"/>
                  </a:lnTo>
                  <a:lnTo>
                    <a:pt x="185" y="137"/>
                  </a:lnTo>
                  <a:lnTo>
                    <a:pt x="185" y="133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5" y="120"/>
                  </a:lnTo>
                  <a:lnTo>
                    <a:pt x="185" y="115"/>
                  </a:lnTo>
                  <a:lnTo>
                    <a:pt x="185" y="111"/>
                  </a:lnTo>
                  <a:lnTo>
                    <a:pt x="185" y="106"/>
                  </a:lnTo>
                  <a:lnTo>
                    <a:pt x="185" y="101"/>
                  </a:lnTo>
                  <a:lnTo>
                    <a:pt x="185" y="96"/>
                  </a:lnTo>
                  <a:lnTo>
                    <a:pt x="185" y="91"/>
                  </a:lnTo>
                  <a:lnTo>
                    <a:pt x="185" y="86"/>
                  </a:lnTo>
                  <a:lnTo>
                    <a:pt x="185" y="82"/>
                  </a:lnTo>
                  <a:lnTo>
                    <a:pt x="185" y="77"/>
                  </a:lnTo>
                  <a:lnTo>
                    <a:pt x="185" y="73"/>
                  </a:lnTo>
                  <a:lnTo>
                    <a:pt x="185" y="69"/>
                  </a:lnTo>
                  <a:lnTo>
                    <a:pt x="185" y="65"/>
                  </a:lnTo>
                  <a:lnTo>
                    <a:pt x="185" y="61"/>
                  </a:lnTo>
                  <a:lnTo>
                    <a:pt x="185" y="58"/>
                  </a:lnTo>
                  <a:lnTo>
                    <a:pt x="185" y="55"/>
                  </a:lnTo>
                  <a:lnTo>
                    <a:pt x="185" y="53"/>
                  </a:lnTo>
                  <a:lnTo>
                    <a:pt x="185" y="51"/>
                  </a:lnTo>
                  <a:lnTo>
                    <a:pt x="185" y="50"/>
                  </a:lnTo>
                  <a:lnTo>
                    <a:pt x="185" y="49"/>
                  </a:lnTo>
                  <a:lnTo>
                    <a:pt x="185" y="49"/>
                  </a:lnTo>
                  <a:lnTo>
                    <a:pt x="185" y="43"/>
                  </a:lnTo>
                  <a:lnTo>
                    <a:pt x="184" y="41"/>
                  </a:lnTo>
                  <a:lnTo>
                    <a:pt x="184" y="38"/>
                  </a:lnTo>
                  <a:lnTo>
                    <a:pt x="183" y="35"/>
                  </a:lnTo>
                  <a:lnTo>
                    <a:pt x="183" y="33"/>
                  </a:lnTo>
                  <a:lnTo>
                    <a:pt x="183" y="31"/>
                  </a:lnTo>
                  <a:lnTo>
                    <a:pt x="182" y="28"/>
                  </a:lnTo>
                  <a:lnTo>
                    <a:pt x="181" y="26"/>
                  </a:lnTo>
                  <a:lnTo>
                    <a:pt x="180" y="24"/>
                  </a:lnTo>
                  <a:lnTo>
                    <a:pt x="179" y="22"/>
                  </a:lnTo>
                  <a:lnTo>
                    <a:pt x="178" y="20"/>
                  </a:lnTo>
                  <a:lnTo>
                    <a:pt x="177" y="18"/>
                  </a:lnTo>
                  <a:lnTo>
                    <a:pt x="176" y="16"/>
                  </a:lnTo>
                  <a:lnTo>
                    <a:pt x="175" y="15"/>
                  </a:lnTo>
                  <a:lnTo>
                    <a:pt x="173" y="13"/>
                  </a:lnTo>
                  <a:lnTo>
                    <a:pt x="172" y="11"/>
                  </a:lnTo>
                  <a:lnTo>
                    <a:pt x="170" y="10"/>
                  </a:lnTo>
                  <a:lnTo>
                    <a:pt x="169" y="8"/>
                  </a:lnTo>
                  <a:lnTo>
                    <a:pt x="167" y="7"/>
                  </a:lnTo>
                  <a:lnTo>
                    <a:pt x="165" y="6"/>
                  </a:lnTo>
                  <a:lnTo>
                    <a:pt x="163" y="5"/>
                  </a:lnTo>
                  <a:lnTo>
                    <a:pt x="161" y="4"/>
                  </a:lnTo>
                  <a:lnTo>
                    <a:pt x="160" y="3"/>
                  </a:lnTo>
                  <a:lnTo>
                    <a:pt x="158" y="2"/>
                  </a:lnTo>
                  <a:lnTo>
                    <a:pt x="155" y="1"/>
                  </a:lnTo>
                  <a:lnTo>
                    <a:pt x="153" y="1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29" y="1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3"/>
                  </a:lnTo>
                  <a:lnTo>
                    <a:pt x="125" y="3"/>
                  </a:lnTo>
                  <a:lnTo>
                    <a:pt x="123" y="4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20" y="6"/>
                  </a:lnTo>
                  <a:lnTo>
                    <a:pt x="119" y="7"/>
                  </a:lnTo>
                  <a:lnTo>
                    <a:pt x="118" y="7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0"/>
                  </a:lnTo>
                  <a:lnTo>
                    <a:pt x="113" y="11"/>
                  </a:lnTo>
                  <a:lnTo>
                    <a:pt x="113" y="12"/>
                  </a:lnTo>
                  <a:lnTo>
                    <a:pt x="111" y="13"/>
                  </a:lnTo>
                  <a:lnTo>
                    <a:pt x="111" y="14"/>
                  </a:lnTo>
                  <a:lnTo>
                    <a:pt x="109" y="15"/>
                  </a:lnTo>
                  <a:lnTo>
                    <a:pt x="109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0"/>
                  </a:lnTo>
                  <a:lnTo>
                    <a:pt x="105" y="22"/>
                  </a:lnTo>
                  <a:lnTo>
                    <a:pt x="103" y="19"/>
                  </a:lnTo>
                  <a:lnTo>
                    <a:pt x="103" y="17"/>
                  </a:lnTo>
                  <a:lnTo>
                    <a:pt x="102" y="16"/>
                  </a:lnTo>
                  <a:lnTo>
                    <a:pt x="101" y="15"/>
                  </a:lnTo>
                  <a:lnTo>
                    <a:pt x="100" y="14"/>
                  </a:lnTo>
                  <a:lnTo>
                    <a:pt x="99" y="13"/>
                  </a:lnTo>
                  <a:lnTo>
                    <a:pt x="98" y="12"/>
                  </a:lnTo>
                  <a:lnTo>
                    <a:pt x="97" y="11"/>
                  </a:lnTo>
                  <a:lnTo>
                    <a:pt x="96" y="10"/>
                  </a:lnTo>
                  <a:lnTo>
                    <a:pt x="95" y="9"/>
                  </a:lnTo>
                  <a:lnTo>
                    <a:pt x="94" y="8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9" y="4"/>
                  </a:lnTo>
                  <a:lnTo>
                    <a:pt x="88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246720" y="4067280"/>
              <a:ext cx="174600" cy="253800"/>
              <a:chOff x="6246720" y="4067280"/>
              <a:chExt cx="174600" cy="25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36" y="64"/>
                    </a:moveTo>
                    <a:lnTo>
                      <a:pt x="36" y="60"/>
                    </a:lnTo>
                    <a:lnTo>
                      <a:pt x="36" y="58"/>
                    </a:lnTo>
                    <a:lnTo>
                      <a:pt x="37" y="57"/>
                    </a:lnTo>
                    <a:lnTo>
                      <a:pt x="37" y="55"/>
                    </a:lnTo>
                    <a:lnTo>
                      <a:pt x="37" y="54"/>
                    </a:lnTo>
                    <a:lnTo>
                      <a:pt x="38" y="52"/>
                    </a:lnTo>
                    <a:lnTo>
                      <a:pt x="38" y="50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0" y="46"/>
                    </a:lnTo>
                    <a:lnTo>
                      <a:pt x="41" y="45"/>
                    </a:lnTo>
                    <a:lnTo>
                      <a:pt x="41" y="44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3" y="41"/>
                    </a:lnTo>
                    <a:lnTo>
                      <a:pt x="44" y="40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3" y="34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9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2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2" y="44"/>
                    </a:lnTo>
                    <a:lnTo>
                      <a:pt x="83" y="45"/>
                    </a:lnTo>
                    <a:lnTo>
                      <a:pt x="83" y="46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5" y="50"/>
                    </a:lnTo>
                    <a:lnTo>
                      <a:pt x="85" y="52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6" y="57"/>
                    </a:lnTo>
                    <a:lnTo>
                      <a:pt x="87" y="58"/>
                    </a:lnTo>
                    <a:lnTo>
                      <a:pt x="87" y="60"/>
                    </a:lnTo>
                    <a:lnTo>
                      <a:pt x="87" y="62"/>
                    </a:lnTo>
                    <a:lnTo>
                      <a:pt x="87" y="64"/>
                    </a:lnTo>
                    <a:lnTo>
                      <a:pt x="86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3" y="64"/>
                    </a:lnTo>
                    <a:lnTo>
                      <a:pt x="82" y="64"/>
                    </a:lnTo>
                    <a:lnTo>
                      <a:pt x="81" y="64"/>
                    </a:lnTo>
                    <a:lnTo>
                      <a:pt x="79" y="64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8" y="64"/>
                    </a:lnTo>
                    <a:lnTo>
                      <a:pt x="66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0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7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9" y="66"/>
                    </a:lnTo>
                    <a:lnTo>
                      <a:pt x="40" y="68"/>
                    </a:lnTo>
                    <a:lnTo>
                      <a:pt x="42" y="69"/>
                    </a:lnTo>
                    <a:lnTo>
                      <a:pt x="43" y="71"/>
                    </a:lnTo>
                    <a:lnTo>
                      <a:pt x="45" y="72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50" y="76"/>
                    </a:lnTo>
                    <a:lnTo>
                      <a:pt x="51" y="78"/>
                    </a:lnTo>
                    <a:lnTo>
                      <a:pt x="53" y="79"/>
                    </a:lnTo>
                    <a:lnTo>
                      <a:pt x="55" y="80"/>
                    </a:lnTo>
                    <a:lnTo>
                      <a:pt x="56" y="82"/>
                    </a:lnTo>
                    <a:lnTo>
                      <a:pt x="58" y="83"/>
                    </a:lnTo>
                    <a:lnTo>
                      <a:pt x="59" y="85"/>
                    </a:lnTo>
                    <a:lnTo>
                      <a:pt x="61" y="86"/>
                    </a:lnTo>
                    <a:lnTo>
                      <a:pt x="63" y="88"/>
                    </a:lnTo>
                    <a:lnTo>
                      <a:pt x="64" y="89"/>
                    </a:lnTo>
                    <a:lnTo>
                      <a:pt x="65" y="90"/>
                    </a:lnTo>
                    <a:lnTo>
                      <a:pt x="67" y="92"/>
                    </a:lnTo>
                    <a:lnTo>
                      <a:pt x="69" y="93"/>
                    </a:lnTo>
                    <a:lnTo>
                      <a:pt x="70" y="94"/>
                    </a:lnTo>
                    <a:lnTo>
                      <a:pt x="72" y="96"/>
                    </a:lnTo>
                    <a:lnTo>
                      <a:pt x="73" y="97"/>
                    </a:lnTo>
                    <a:lnTo>
                      <a:pt x="75" y="99"/>
                    </a:lnTo>
                    <a:lnTo>
                      <a:pt x="77" y="100"/>
                    </a:lnTo>
                    <a:lnTo>
                      <a:pt x="78" y="102"/>
                    </a:lnTo>
                    <a:lnTo>
                      <a:pt x="80" y="103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5" y="107"/>
                    </a:lnTo>
                    <a:lnTo>
                      <a:pt x="87" y="109"/>
                    </a:ln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3" y="106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9" y="102"/>
                    </a:lnTo>
                    <a:lnTo>
                      <a:pt x="77" y="100"/>
                    </a:lnTo>
                    <a:lnTo>
                      <a:pt x="75" y="99"/>
                    </a:lnTo>
                    <a:lnTo>
                      <a:pt x="74" y="98"/>
                    </a:lnTo>
                    <a:lnTo>
                      <a:pt x="72" y="96"/>
                    </a:lnTo>
                    <a:lnTo>
                      <a:pt x="71" y="95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6" y="90"/>
                    </a:lnTo>
                    <a:lnTo>
                      <a:pt x="64" y="89"/>
                    </a:lnTo>
                    <a:lnTo>
                      <a:pt x="63" y="88"/>
                    </a:lnTo>
                    <a:lnTo>
                      <a:pt x="61" y="86"/>
                    </a:lnTo>
                    <a:lnTo>
                      <a:pt x="59" y="85"/>
                    </a:lnTo>
                    <a:lnTo>
                      <a:pt x="58" y="84"/>
                    </a:lnTo>
                    <a:lnTo>
                      <a:pt x="56" y="82"/>
                    </a:lnTo>
                    <a:lnTo>
                      <a:pt x="55" y="81"/>
                    </a:lnTo>
                    <a:lnTo>
                      <a:pt x="53" y="79"/>
                    </a:lnTo>
                    <a:lnTo>
                      <a:pt x="51" y="78"/>
                    </a:lnTo>
                    <a:lnTo>
                      <a:pt x="50" y="76"/>
                    </a:lnTo>
                    <a:lnTo>
                      <a:pt x="49" y="75"/>
                    </a:lnTo>
                    <a:lnTo>
                      <a:pt x="47" y="74"/>
                    </a:lnTo>
                    <a:lnTo>
                      <a:pt x="45" y="72"/>
                    </a:lnTo>
                    <a:lnTo>
                      <a:pt x="43" y="71"/>
                    </a:lnTo>
                    <a:lnTo>
                      <a:pt x="42" y="70"/>
                    </a:lnTo>
                    <a:lnTo>
                      <a:pt x="40" y="68"/>
                    </a:lnTo>
                    <a:lnTo>
                      <a:pt x="39" y="67"/>
                    </a:lnTo>
                    <a:lnTo>
                      <a:pt x="37" y="65"/>
                    </a:lnTo>
                    <a:lnTo>
                      <a:pt x="36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119480"/>
                <a:ext cx="73080" cy="507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5" y="10"/>
                    </a:lnTo>
                    <a:lnTo>
                      <a:pt x="46" y="11"/>
                    </a:lnTo>
                    <a:lnTo>
                      <a:pt x="47" y="12"/>
                    </a:lnTo>
                    <a:lnTo>
                      <a:pt x="47" y="13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1" y="25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5" y="31"/>
                    </a:lnTo>
                    <a:lnTo>
                      <a:pt x="23" y="31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7" y="109"/>
                    </a:move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451560" y="4067280"/>
              <a:ext cx="179280" cy="342720"/>
              <a:chOff x="6451560" y="4067280"/>
              <a:chExt cx="179280" cy="342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6" y="162"/>
                    </a:lnTo>
                    <a:lnTo>
                      <a:pt x="7" y="159"/>
                    </a:lnTo>
                    <a:lnTo>
                      <a:pt x="8" y="156"/>
                    </a:lnTo>
                    <a:lnTo>
                      <a:pt x="9" y="154"/>
                    </a:lnTo>
                    <a:lnTo>
                      <a:pt x="10" y="151"/>
                    </a:lnTo>
                    <a:lnTo>
                      <a:pt x="11" y="148"/>
                    </a:lnTo>
                    <a:lnTo>
                      <a:pt x="12" y="145"/>
                    </a:lnTo>
                    <a:lnTo>
                      <a:pt x="12" y="142"/>
                    </a:lnTo>
                    <a:lnTo>
                      <a:pt x="14" y="140"/>
                    </a:lnTo>
                    <a:lnTo>
                      <a:pt x="14" y="137"/>
                    </a:lnTo>
                    <a:lnTo>
                      <a:pt x="16" y="134"/>
                    </a:lnTo>
                    <a:lnTo>
                      <a:pt x="16" y="131"/>
                    </a:lnTo>
                    <a:lnTo>
                      <a:pt x="18" y="128"/>
                    </a:lnTo>
                    <a:lnTo>
                      <a:pt x="18" y="126"/>
                    </a:lnTo>
                    <a:lnTo>
                      <a:pt x="20" y="123"/>
                    </a:lnTo>
                    <a:lnTo>
                      <a:pt x="20" y="120"/>
                    </a:lnTo>
                    <a:lnTo>
                      <a:pt x="21" y="117"/>
                    </a:lnTo>
                    <a:lnTo>
                      <a:pt x="22" y="114"/>
                    </a:lnTo>
                    <a:lnTo>
                      <a:pt x="23" y="111"/>
                    </a:lnTo>
                    <a:lnTo>
                      <a:pt x="24" y="108"/>
                    </a:lnTo>
                    <a:lnTo>
                      <a:pt x="25" y="106"/>
                    </a:lnTo>
                    <a:lnTo>
                      <a:pt x="26" y="103"/>
                    </a:lnTo>
                    <a:lnTo>
                      <a:pt x="27" y="100"/>
                    </a:lnTo>
                    <a:lnTo>
                      <a:pt x="28" y="97"/>
                    </a:lnTo>
                    <a:lnTo>
                      <a:pt x="29" y="94"/>
                    </a:lnTo>
                    <a:lnTo>
                      <a:pt x="30" y="91"/>
                    </a:lnTo>
                    <a:lnTo>
                      <a:pt x="31" y="88"/>
                    </a:lnTo>
                    <a:lnTo>
                      <a:pt x="32" y="86"/>
                    </a:lnTo>
                    <a:lnTo>
                      <a:pt x="33" y="83"/>
                    </a:lnTo>
                    <a:lnTo>
                      <a:pt x="34" y="80"/>
                    </a:lnTo>
                    <a:lnTo>
                      <a:pt x="35" y="77"/>
                    </a:lnTo>
                    <a:lnTo>
                      <a:pt x="35" y="72"/>
                    </a:lnTo>
                    <a:lnTo>
                      <a:pt x="35" y="70"/>
                    </a:lnTo>
                    <a:lnTo>
                      <a:pt x="36" y="67"/>
                    </a:lnTo>
                    <a:lnTo>
                      <a:pt x="36" y="65"/>
                    </a:lnTo>
                    <a:lnTo>
                      <a:pt x="36" y="63"/>
                    </a:lnTo>
                    <a:lnTo>
                      <a:pt x="36" y="61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2" y="45"/>
                    </a:lnTo>
                    <a:lnTo>
                      <a:pt x="44" y="44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5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1" y="41"/>
                    </a:lnTo>
                    <a:lnTo>
                      <a:pt x="82" y="42"/>
                    </a:lnTo>
                    <a:lnTo>
                      <a:pt x="83" y="44"/>
                    </a:lnTo>
                    <a:lnTo>
                      <a:pt x="84" y="45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0" y="62"/>
                    </a:lnTo>
                    <a:lnTo>
                      <a:pt x="91" y="64"/>
                    </a:lnTo>
                    <a:lnTo>
                      <a:pt x="91" y="66"/>
                    </a:lnTo>
                    <a:lnTo>
                      <a:pt x="91" y="69"/>
                    </a:lnTo>
                    <a:lnTo>
                      <a:pt x="91" y="71"/>
                    </a:lnTo>
                    <a:lnTo>
                      <a:pt x="91" y="74"/>
                    </a:lnTo>
                    <a:lnTo>
                      <a:pt x="92" y="76"/>
                    </a:lnTo>
                    <a:lnTo>
                      <a:pt x="91" y="82"/>
                    </a:lnTo>
                    <a:lnTo>
                      <a:pt x="91" y="84"/>
                    </a:lnTo>
                    <a:lnTo>
                      <a:pt x="91" y="86"/>
                    </a:lnTo>
                    <a:lnTo>
                      <a:pt x="91" y="89"/>
                    </a:lnTo>
                    <a:lnTo>
                      <a:pt x="90" y="91"/>
                    </a:lnTo>
                    <a:lnTo>
                      <a:pt x="90" y="93"/>
                    </a:lnTo>
                    <a:lnTo>
                      <a:pt x="90" y="96"/>
                    </a:lnTo>
                    <a:lnTo>
                      <a:pt x="89" y="98"/>
                    </a:lnTo>
                    <a:lnTo>
                      <a:pt x="88" y="100"/>
                    </a:lnTo>
                    <a:lnTo>
                      <a:pt x="88" y="101"/>
                    </a:lnTo>
                    <a:lnTo>
                      <a:pt x="87" y="103"/>
                    </a:lnTo>
                    <a:lnTo>
                      <a:pt x="87" y="105"/>
                    </a:lnTo>
                    <a:lnTo>
                      <a:pt x="86" y="106"/>
                    </a:lnTo>
                    <a:lnTo>
                      <a:pt x="85" y="108"/>
                    </a:lnTo>
                    <a:lnTo>
                      <a:pt x="84" y="109"/>
                    </a:lnTo>
                    <a:lnTo>
                      <a:pt x="83" y="111"/>
                    </a:lnTo>
                    <a:lnTo>
                      <a:pt x="82" y="112"/>
                    </a:lnTo>
                    <a:lnTo>
                      <a:pt x="81" y="113"/>
                    </a:lnTo>
                    <a:lnTo>
                      <a:pt x="80" y="114"/>
                    </a:lnTo>
                    <a:lnTo>
                      <a:pt x="79" y="115"/>
                    </a:lnTo>
                    <a:lnTo>
                      <a:pt x="78" y="116"/>
                    </a:lnTo>
                    <a:lnTo>
                      <a:pt x="77" y="117"/>
                    </a:lnTo>
                    <a:lnTo>
                      <a:pt x="76" y="118"/>
                    </a:lnTo>
                    <a:lnTo>
                      <a:pt x="74" y="118"/>
                    </a:lnTo>
                    <a:lnTo>
                      <a:pt x="73" y="119"/>
                    </a:lnTo>
                    <a:lnTo>
                      <a:pt x="71" y="120"/>
                    </a:lnTo>
                    <a:lnTo>
                      <a:pt x="70" y="120"/>
                    </a:lnTo>
                    <a:lnTo>
                      <a:pt x="68" y="120"/>
                    </a:lnTo>
                    <a:lnTo>
                      <a:pt x="67" y="120"/>
                    </a:lnTo>
                    <a:lnTo>
                      <a:pt x="65" y="120"/>
                    </a:lnTo>
                    <a:lnTo>
                      <a:pt x="64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20"/>
                    </a:lnTo>
                    <a:lnTo>
                      <a:pt x="56" y="120"/>
                    </a:lnTo>
                    <a:lnTo>
                      <a:pt x="54" y="119"/>
                    </a:lnTo>
                    <a:lnTo>
                      <a:pt x="53" y="118"/>
                    </a:lnTo>
                    <a:lnTo>
                      <a:pt x="51" y="118"/>
                    </a:lnTo>
                    <a:lnTo>
                      <a:pt x="50" y="117"/>
                    </a:lnTo>
                    <a:lnTo>
                      <a:pt x="49" y="116"/>
                    </a:lnTo>
                    <a:lnTo>
                      <a:pt x="48" y="115"/>
                    </a:lnTo>
                    <a:lnTo>
                      <a:pt x="46" y="114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3" y="111"/>
                    </a:lnTo>
                    <a:lnTo>
                      <a:pt x="42" y="110"/>
                    </a:lnTo>
                    <a:lnTo>
                      <a:pt x="42" y="108"/>
                    </a:lnTo>
                    <a:lnTo>
                      <a:pt x="41" y="106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7" y="98"/>
                    </a:lnTo>
                    <a:lnTo>
                      <a:pt x="37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89"/>
                    </a:lnTo>
                    <a:lnTo>
                      <a:pt x="36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80"/>
                    </a:lnTo>
                    <a:lnTo>
                      <a:pt x="35" y="77"/>
                    </a:lnTo>
                    <a:lnTo>
                      <a:pt x="33" y="83"/>
                    </a:lnTo>
                    <a:lnTo>
                      <a:pt x="32" y="86"/>
                    </a:lnTo>
                    <a:lnTo>
                      <a:pt x="31" y="88"/>
                    </a:lnTo>
                    <a:lnTo>
                      <a:pt x="30" y="91"/>
                    </a:lnTo>
                    <a:lnTo>
                      <a:pt x="29" y="94"/>
                    </a:lnTo>
                    <a:lnTo>
                      <a:pt x="28" y="97"/>
                    </a:lnTo>
                    <a:lnTo>
                      <a:pt x="27" y="100"/>
                    </a:lnTo>
                    <a:lnTo>
                      <a:pt x="26" y="102"/>
                    </a:lnTo>
                    <a:lnTo>
                      <a:pt x="25" y="105"/>
                    </a:lnTo>
                    <a:lnTo>
                      <a:pt x="24" y="108"/>
                    </a:lnTo>
                    <a:lnTo>
                      <a:pt x="23" y="111"/>
                    </a:lnTo>
                    <a:lnTo>
                      <a:pt x="22" y="114"/>
                    </a:lnTo>
                    <a:lnTo>
                      <a:pt x="21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18" y="125"/>
                    </a:lnTo>
                    <a:lnTo>
                      <a:pt x="18" y="128"/>
                    </a:lnTo>
                    <a:lnTo>
                      <a:pt x="16" y="130"/>
                    </a:lnTo>
                    <a:lnTo>
                      <a:pt x="16" y="134"/>
                    </a:lnTo>
                    <a:lnTo>
                      <a:pt x="14" y="136"/>
                    </a:lnTo>
                    <a:lnTo>
                      <a:pt x="14" y="139"/>
                    </a:lnTo>
                    <a:lnTo>
                      <a:pt x="12" y="142"/>
                    </a:lnTo>
                    <a:lnTo>
                      <a:pt x="12" y="145"/>
                    </a:lnTo>
                    <a:lnTo>
                      <a:pt x="11" y="148"/>
                    </a:lnTo>
                    <a:lnTo>
                      <a:pt x="10" y="150"/>
                    </a:lnTo>
                    <a:lnTo>
                      <a:pt x="9" y="153"/>
                    </a:lnTo>
                    <a:lnTo>
                      <a:pt x="8" y="156"/>
                    </a:lnTo>
                    <a:lnTo>
                      <a:pt x="7" y="159"/>
                    </a:lnTo>
                    <a:lnTo>
                      <a:pt x="6" y="162"/>
                    </a:lnTo>
                    <a:lnTo>
                      <a:pt x="5" y="165"/>
                    </a:lnTo>
                    <a:lnTo>
                      <a:pt x="4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00880" y="4121280"/>
                <a:ext cx="81360" cy="13968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43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2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2" y="17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4" y="22"/>
                    </a:lnTo>
                    <a:lnTo>
                      <a:pt x="55" y="24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6" y="37"/>
                    </a:lnTo>
                    <a:lnTo>
                      <a:pt x="56" y="40"/>
                    </a:lnTo>
                    <a:lnTo>
                      <a:pt x="57" y="42"/>
                    </a:lnTo>
                    <a:lnTo>
                      <a:pt x="56" y="48"/>
                    </a:lnTo>
                    <a:lnTo>
                      <a:pt x="56" y="50"/>
                    </a:lnTo>
                    <a:lnTo>
                      <a:pt x="56" y="52"/>
                    </a:lnTo>
                    <a:lnTo>
                      <a:pt x="56" y="55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5" y="62"/>
                    </a:lnTo>
                    <a:lnTo>
                      <a:pt x="54" y="64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51" y="72"/>
                    </a:lnTo>
                    <a:lnTo>
                      <a:pt x="50" y="74"/>
                    </a:lnTo>
                    <a:lnTo>
                      <a:pt x="49" y="75"/>
                    </a:lnTo>
                    <a:lnTo>
                      <a:pt x="48" y="77"/>
                    </a:lnTo>
                    <a:lnTo>
                      <a:pt x="47" y="78"/>
                    </a:lnTo>
                    <a:lnTo>
                      <a:pt x="46" y="79"/>
                    </a:lnTo>
                    <a:lnTo>
                      <a:pt x="45" y="80"/>
                    </a:lnTo>
                    <a:lnTo>
                      <a:pt x="44" y="81"/>
                    </a:lnTo>
                    <a:lnTo>
                      <a:pt x="43" y="82"/>
                    </a:lnTo>
                    <a:lnTo>
                      <a:pt x="42" y="83"/>
                    </a:lnTo>
                    <a:lnTo>
                      <a:pt x="41" y="84"/>
                    </a:lnTo>
                    <a:lnTo>
                      <a:pt x="39" y="84"/>
                    </a:lnTo>
                    <a:lnTo>
                      <a:pt x="38" y="85"/>
                    </a:lnTo>
                    <a:lnTo>
                      <a:pt x="36" y="86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32" y="86"/>
                    </a:lnTo>
                    <a:lnTo>
                      <a:pt x="30" y="86"/>
                    </a:lnTo>
                    <a:lnTo>
                      <a:pt x="29" y="87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5"/>
                    </a:lnTo>
                    <a:lnTo>
                      <a:pt x="18" y="84"/>
                    </a:lnTo>
                    <a:lnTo>
                      <a:pt x="16" y="84"/>
                    </a:lnTo>
                    <a:lnTo>
                      <a:pt x="15" y="83"/>
                    </a:lnTo>
                    <a:lnTo>
                      <a:pt x="14" y="82"/>
                    </a:lnTo>
                    <a:lnTo>
                      <a:pt x="13" y="81"/>
                    </a:lnTo>
                    <a:lnTo>
                      <a:pt x="11" y="80"/>
                    </a:lnTo>
                    <a:lnTo>
                      <a:pt x="10" y="79"/>
                    </a:lnTo>
                    <a:lnTo>
                      <a:pt x="9" y="78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670800" y="4067280"/>
              <a:ext cx="171360" cy="253800"/>
              <a:chOff x="6670800" y="4067280"/>
              <a:chExt cx="171360" cy="253800"/>
            </a:xfrm>
          </p:grpSpPr>
          <p:sp>
            <p:nvSpPr>
              <p:cNvPr id="329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81"/>
                    </a:moveTo>
                    <a:lnTo>
                      <a:pt x="81" y="81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5"/>
                    </a:lnTo>
                    <a:lnTo>
                      <a:pt x="81" y="86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8"/>
                    </a:lnTo>
                    <a:lnTo>
                      <a:pt x="81" y="88"/>
                    </a:lnTo>
                    <a:lnTo>
                      <a:pt x="81" y="89"/>
                    </a:lnTo>
                    <a:lnTo>
                      <a:pt x="81" y="90"/>
                    </a:lnTo>
                    <a:lnTo>
                      <a:pt x="81" y="90"/>
                    </a:lnTo>
                    <a:lnTo>
                      <a:pt x="81" y="91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5"/>
                    </a:lnTo>
                    <a:lnTo>
                      <a:pt x="80" y="98"/>
                    </a:lnTo>
                    <a:lnTo>
                      <a:pt x="80" y="100"/>
                    </a:lnTo>
                    <a:lnTo>
                      <a:pt x="80" y="102"/>
                    </a:lnTo>
                    <a:lnTo>
                      <a:pt x="79" y="104"/>
                    </a:lnTo>
                    <a:lnTo>
                      <a:pt x="79" y="106"/>
                    </a:lnTo>
                    <a:lnTo>
                      <a:pt x="79" y="107"/>
                    </a:lnTo>
                    <a:lnTo>
                      <a:pt x="78" y="109"/>
                    </a:lnTo>
                    <a:lnTo>
                      <a:pt x="78" y="110"/>
                    </a:lnTo>
                    <a:lnTo>
                      <a:pt x="77" y="112"/>
                    </a:lnTo>
                    <a:lnTo>
                      <a:pt x="77" y="113"/>
                    </a:lnTo>
                    <a:lnTo>
                      <a:pt x="76" y="115"/>
                    </a:lnTo>
                    <a:lnTo>
                      <a:pt x="75" y="116"/>
                    </a:lnTo>
                    <a:lnTo>
                      <a:pt x="74" y="117"/>
                    </a:lnTo>
                    <a:lnTo>
                      <a:pt x="73" y="118"/>
                    </a:lnTo>
                    <a:lnTo>
                      <a:pt x="73" y="120"/>
                    </a:lnTo>
                    <a:lnTo>
                      <a:pt x="71" y="120"/>
                    </a:lnTo>
                    <a:lnTo>
                      <a:pt x="70" y="122"/>
                    </a:lnTo>
                    <a:lnTo>
                      <a:pt x="69" y="122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6" y="125"/>
                    </a:lnTo>
                    <a:lnTo>
                      <a:pt x="64" y="126"/>
                    </a:lnTo>
                    <a:lnTo>
                      <a:pt x="63" y="126"/>
                    </a:lnTo>
                    <a:lnTo>
                      <a:pt x="61" y="127"/>
                    </a:lnTo>
                    <a:lnTo>
                      <a:pt x="60" y="127"/>
                    </a:lnTo>
                    <a:lnTo>
                      <a:pt x="59" y="128"/>
                    </a:lnTo>
                    <a:lnTo>
                      <a:pt x="57" y="128"/>
                    </a:lnTo>
                    <a:lnTo>
                      <a:pt x="55" y="128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1" y="129"/>
                    </a:lnTo>
                    <a:lnTo>
                      <a:pt x="49" y="128"/>
                    </a:lnTo>
                    <a:lnTo>
                      <a:pt x="47" y="128"/>
                    </a:lnTo>
                    <a:lnTo>
                      <a:pt x="47" y="128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7"/>
                    </a:lnTo>
                    <a:lnTo>
                      <a:pt x="41" y="126"/>
                    </a:lnTo>
                    <a:lnTo>
                      <a:pt x="40" y="126"/>
                    </a:lnTo>
                    <a:lnTo>
                      <a:pt x="39" y="125"/>
                    </a:lnTo>
                    <a:lnTo>
                      <a:pt x="39" y="125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7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7"/>
                    </a:lnTo>
                    <a:lnTo>
                      <a:pt x="34" y="116"/>
                    </a:lnTo>
                    <a:lnTo>
                      <a:pt x="33" y="115"/>
                    </a:lnTo>
                    <a:lnTo>
                      <a:pt x="33" y="114"/>
                    </a:lnTo>
                    <a:lnTo>
                      <a:pt x="33" y="113"/>
                    </a:lnTo>
                    <a:lnTo>
                      <a:pt x="33" y="112"/>
                    </a:lnTo>
                    <a:lnTo>
                      <a:pt x="33" y="111"/>
                    </a:lnTo>
                    <a:lnTo>
                      <a:pt x="33" y="109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3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4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5" y="100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1" y="94"/>
                    </a:lnTo>
                    <a:lnTo>
                      <a:pt x="42" y="94"/>
                    </a:lnTo>
                    <a:lnTo>
                      <a:pt x="43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2" y="90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5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61" y="88"/>
                    </a:lnTo>
                    <a:lnTo>
                      <a:pt x="61" y="88"/>
                    </a:lnTo>
                    <a:lnTo>
                      <a:pt x="63" y="88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0" y="85"/>
                    </a:lnTo>
                    <a:lnTo>
                      <a:pt x="71" y="85"/>
                    </a:lnTo>
                    <a:lnTo>
                      <a:pt x="72" y="84"/>
                    </a:lnTo>
                    <a:lnTo>
                      <a:pt x="73" y="84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7" y="82"/>
                    </a:lnTo>
                    <a:lnTo>
                      <a:pt x="78" y="82"/>
                    </a:lnTo>
                    <a:lnTo>
                      <a:pt x="79" y="81"/>
                    </a:lnTo>
                    <a:lnTo>
                      <a:pt x="81" y="81"/>
                    </a:lnTo>
                    <a:lnTo>
                      <a:pt x="81" y="84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9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4"/>
                    </a:lnTo>
                    <a:lnTo>
                      <a:pt x="81" y="96"/>
                    </a:lnTo>
                    <a:lnTo>
                      <a:pt x="81" y="98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1"/>
                    </a:lnTo>
                    <a:lnTo>
                      <a:pt x="81" y="113"/>
                    </a:lnTo>
                    <a:lnTo>
                      <a:pt x="81" y="114"/>
                    </a:lnTo>
                    <a:lnTo>
                      <a:pt x="81" y="116"/>
                    </a:lnTo>
                    <a:lnTo>
                      <a:pt x="81" y="118"/>
                    </a:lnTo>
                    <a:lnTo>
                      <a:pt x="81" y="120"/>
                    </a:lnTo>
                    <a:lnTo>
                      <a:pt x="81" y="122"/>
                    </a:lnTo>
                    <a:lnTo>
                      <a:pt x="81" y="123"/>
                    </a:lnTo>
                    <a:lnTo>
                      <a:pt x="81" y="125"/>
                    </a:lnTo>
                    <a:lnTo>
                      <a:pt x="81" y="127"/>
                    </a:lnTo>
                    <a:lnTo>
                      <a:pt x="81" y="128"/>
                    </a:lnTo>
                    <a:lnTo>
                      <a:pt x="81" y="130"/>
                    </a:lnTo>
                    <a:lnTo>
                      <a:pt x="81" y="132"/>
                    </a:lnTo>
                    <a:lnTo>
                      <a:pt x="81" y="134"/>
                    </a:lnTo>
                    <a:lnTo>
                      <a:pt x="81" y="136"/>
                    </a:ln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  <a:lnTo>
                      <a:pt x="81" y="132"/>
                    </a:lnTo>
                    <a:lnTo>
                      <a:pt x="81" y="130"/>
                    </a:lnTo>
                    <a:lnTo>
                      <a:pt x="81" y="129"/>
                    </a:lnTo>
                    <a:lnTo>
                      <a:pt x="81" y="127"/>
                    </a:lnTo>
                    <a:lnTo>
                      <a:pt x="81" y="125"/>
                    </a:lnTo>
                    <a:lnTo>
                      <a:pt x="81" y="124"/>
                    </a:lnTo>
                    <a:lnTo>
                      <a:pt x="81" y="122"/>
                    </a:lnTo>
                    <a:lnTo>
                      <a:pt x="81" y="120"/>
                    </a:lnTo>
                    <a:lnTo>
                      <a:pt x="81" y="118"/>
                    </a:lnTo>
                    <a:lnTo>
                      <a:pt x="81" y="117"/>
                    </a:lnTo>
                    <a:lnTo>
                      <a:pt x="81" y="115"/>
                    </a:lnTo>
                    <a:lnTo>
                      <a:pt x="81" y="113"/>
                    </a:lnTo>
                    <a:lnTo>
                      <a:pt x="81" y="112"/>
                    </a:lnTo>
                    <a:lnTo>
                      <a:pt x="81" y="110"/>
                    </a:lnTo>
                    <a:lnTo>
                      <a:pt x="81" y="108"/>
                    </a:lnTo>
                    <a:lnTo>
                      <a:pt x="81" y="106"/>
                    </a:lnTo>
                    <a:lnTo>
                      <a:pt x="81" y="105"/>
                    </a:lnTo>
                    <a:lnTo>
                      <a:pt x="81" y="103"/>
                    </a:lnTo>
                    <a:lnTo>
                      <a:pt x="81" y="102"/>
                    </a:lnTo>
                    <a:lnTo>
                      <a:pt x="81" y="100"/>
                    </a:lnTo>
                    <a:lnTo>
                      <a:pt x="81" y="98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9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1" y="84"/>
                    </a:lnTo>
                    <a:lnTo>
                      <a:pt x="81" y="82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16880" y="419580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7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6" y="41"/>
                    </a:lnTo>
                    <a:lnTo>
                      <a:pt x="35" y="43"/>
                    </a:lnTo>
                    <a:lnTo>
                      <a:pt x="34" y="43"/>
                    </a:lnTo>
                    <a:lnTo>
                      <a:pt x="33" y="44"/>
                    </a:lnTo>
                    <a:lnTo>
                      <a:pt x="31" y="45"/>
                    </a:lnTo>
                    <a:lnTo>
                      <a:pt x="30" y="45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2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136"/>
                    </a:move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883560" y="3990960"/>
              <a:ext cx="50760" cy="322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202"/>
                  </a:moveTo>
                  <a:lnTo>
                    <a:pt x="35" y="20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975360" y="4067280"/>
              <a:ext cx="187560" cy="253800"/>
              <a:chOff x="6975360" y="4067280"/>
              <a:chExt cx="187560" cy="253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7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3" y="45"/>
                    </a:lnTo>
                    <a:lnTo>
                      <a:pt x="45" y="44"/>
                    </a:lnTo>
                    <a:lnTo>
                      <a:pt x="45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0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9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3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9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1" y="50"/>
                    </a:lnTo>
                    <a:lnTo>
                      <a:pt x="92" y="52"/>
                    </a:lnTo>
                    <a:lnTo>
                      <a:pt x="93" y="53"/>
                    </a:lnTo>
                    <a:lnTo>
                      <a:pt x="93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5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6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7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6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5" y="97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3" y="103"/>
                    </a:lnTo>
                    <a:lnTo>
                      <a:pt x="93" y="105"/>
                    </a:lnTo>
                    <a:lnTo>
                      <a:pt x="92" y="107"/>
                    </a:lnTo>
                    <a:lnTo>
                      <a:pt x="91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9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3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69" y="126"/>
                    </a:lnTo>
                    <a:lnTo>
                      <a:pt x="68" y="126"/>
                    </a:lnTo>
                    <a:lnTo>
                      <a:pt x="66" y="126"/>
                    </a:lnTo>
                    <a:lnTo>
                      <a:pt x="63" y="126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5" y="124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0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3" y="114"/>
                    </a:lnTo>
                    <a:lnTo>
                      <a:pt x="43" y="112"/>
                    </a:lnTo>
                    <a:lnTo>
                      <a:pt x="41" y="110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7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24680" y="4119480"/>
                <a:ext cx="8820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2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1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18" y="90"/>
                    </a:lnTo>
                    <a:lnTo>
                      <a:pt x="17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3" y="86"/>
                    </a:lnTo>
                    <a:lnTo>
                      <a:pt x="12" y="85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81"/>
                    </a:lnTo>
                    <a:lnTo>
                      <a:pt x="8" y="79"/>
                    </a:lnTo>
                    <a:lnTo>
                      <a:pt x="6" y="77"/>
                    </a:lnTo>
                    <a:lnTo>
                      <a:pt x="6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7182000" y="4075200"/>
              <a:ext cx="182520" cy="23796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46" y="149"/>
                  </a:moveTo>
                  <a:lnTo>
                    <a:pt x="82" y="149"/>
                  </a:lnTo>
                  <a:lnTo>
                    <a:pt x="128" y="0"/>
                  </a:lnTo>
                  <a:lnTo>
                    <a:pt x="92" y="0"/>
                  </a:lnTo>
                  <a:lnTo>
                    <a:pt x="64" y="10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46" y="149"/>
                  </a:lnTo>
                  <a:lnTo>
                    <a:pt x="46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394400" y="3990960"/>
              <a:ext cx="51120" cy="322200"/>
              <a:chOff x="7394400" y="3990960"/>
              <a:chExt cx="51120" cy="322200"/>
            </a:xfrm>
          </p:grpSpPr>
          <p:sp>
            <p:nvSpPr>
              <p:cNvPr id="339" name=""/>
              <p:cNvSpPr/>
              <p:nvPr/>
            </p:nvSpPr>
            <p:spPr>
              <a:xfrm>
                <a:off x="7394400" y="3990960"/>
                <a:ext cx="5112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94400" y="4075200"/>
                <a:ext cx="5112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94400" y="399096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496280" y="4068720"/>
              <a:ext cx="106200" cy="244440"/>
            </a:xfrm>
            <a:custGeom>
              <a:avLst/>
              <a:gdLst/>
              <a:ahLst/>
              <a:rect l="l" t="t" r="r" b="b"/>
              <a:pathLst>
                <a:path w="76" h="154">
                  <a:moveTo>
                    <a:pt x="0" y="153"/>
                  </a:moveTo>
                  <a:lnTo>
                    <a:pt x="0" y="153"/>
                  </a:lnTo>
                  <a:lnTo>
                    <a:pt x="0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0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6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5" y="143"/>
                  </a:lnTo>
                  <a:lnTo>
                    <a:pt x="35" y="141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1"/>
                  </a:lnTo>
                  <a:lnTo>
                    <a:pt x="35" y="128"/>
                  </a:lnTo>
                  <a:lnTo>
                    <a:pt x="35" y="125"/>
                  </a:lnTo>
                  <a:lnTo>
                    <a:pt x="35" y="121"/>
                  </a:lnTo>
                  <a:lnTo>
                    <a:pt x="35" y="117"/>
                  </a:lnTo>
                  <a:lnTo>
                    <a:pt x="35" y="114"/>
                  </a:lnTo>
                  <a:lnTo>
                    <a:pt x="35" y="110"/>
                  </a:lnTo>
                  <a:lnTo>
                    <a:pt x="35" y="106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6"/>
                  </a:lnTo>
                  <a:lnTo>
                    <a:pt x="35" y="93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8"/>
                  </a:lnTo>
                  <a:lnTo>
                    <a:pt x="35" y="76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0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6" y="63"/>
                  </a:lnTo>
                  <a:lnTo>
                    <a:pt x="36" y="61"/>
                  </a:lnTo>
                  <a:lnTo>
                    <a:pt x="36" y="60"/>
                  </a:lnTo>
                  <a:lnTo>
                    <a:pt x="37" y="58"/>
                  </a:lnTo>
                  <a:lnTo>
                    <a:pt x="37" y="57"/>
                  </a:lnTo>
                  <a:lnTo>
                    <a:pt x="38" y="55"/>
                  </a:lnTo>
                  <a:lnTo>
                    <a:pt x="39" y="54"/>
                  </a:lnTo>
                  <a:lnTo>
                    <a:pt x="39" y="53"/>
                  </a:lnTo>
                  <a:lnTo>
                    <a:pt x="40" y="51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3" y="48"/>
                  </a:lnTo>
                  <a:lnTo>
                    <a:pt x="44" y="47"/>
                  </a:lnTo>
                  <a:lnTo>
                    <a:pt x="45" y="46"/>
                  </a:lnTo>
                  <a:lnTo>
                    <a:pt x="46" y="45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2" y="42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60" y="41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5" y="41"/>
                  </a:lnTo>
                  <a:lnTo>
                    <a:pt x="65" y="41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5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5" y="31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5" y="24"/>
                  </a:lnTo>
                  <a:lnTo>
                    <a:pt x="75" y="22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5" y="17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5" y="11"/>
                  </a:lnTo>
                  <a:lnTo>
                    <a:pt x="75" y="9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4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35960" y="4075200"/>
              <a:ext cx="164880" cy="244440"/>
            </a:xfrm>
            <a:custGeom>
              <a:avLst/>
              <a:gdLst/>
              <a:ahLst/>
              <a:rect l="l" t="t" r="r" b="b"/>
              <a:pathLst>
                <a:path w="117" h="154">
                  <a:moveTo>
                    <a:pt x="116" y="0"/>
                  </a:move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1"/>
                  </a:lnTo>
                  <a:lnTo>
                    <a:pt x="81" y="2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81" y="11"/>
                  </a:lnTo>
                  <a:lnTo>
                    <a:pt x="81" y="14"/>
                  </a:lnTo>
                  <a:lnTo>
                    <a:pt x="81" y="17"/>
                  </a:lnTo>
                  <a:lnTo>
                    <a:pt x="81" y="21"/>
                  </a:lnTo>
                  <a:lnTo>
                    <a:pt x="81" y="24"/>
                  </a:lnTo>
                  <a:lnTo>
                    <a:pt x="81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8"/>
                  </a:lnTo>
                  <a:lnTo>
                    <a:pt x="81" y="53"/>
                  </a:lnTo>
                  <a:lnTo>
                    <a:pt x="81" y="57"/>
                  </a:lnTo>
                  <a:lnTo>
                    <a:pt x="81" y="61"/>
                  </a:lnTo>
                  <a:lnTo>
                    <a:pt x="81" y="64"/>
                  </a:lnTo>
                  <a:lnTo>
                    <a:pt x="81" y="68"/>
                  </a:lnTo>
                  <a:lnTo>
                    <a:pt x="81" y="71"/>
                  </a:lnTo>
                  <a:lnTo>
                    <a:pt x="81" y="75"/>
                  </a:lnTo>
                  <a:lnTo>
                    <a:pt x="81" y="77"/>
                  </a:lnTo>
                  <a:lnTo>
                    <a:pt x="81" y="80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6"/>
                  </a:lnTo>
                  <a:lnTo>
                    <a:pt x="81" y="87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9" y="101"/>
                  </a:lnTo>
                  <a:lnTo>
                    <a:pt x="79" y="103"/>
                  </a:lnTo>
                  <a:lnTo>
                    <a:pt x="78" y="104"/>
                  </a:lnTo>
                  <a:lnTo>
                    <a:pt x="78" y="105"/>
                  </a:lnTo>
                  <a:lnTo>
                    <a:pt x="77" y="107"/>
                  </a:lnTo>
                  <a:lnTo>
                    <a:pt x="76" y="108"/>
                  </a:lnTo>
                  <a:lnTo>
                    <a:pt x="76" y="109"/>
                  </a:lnTo>
                  <a:lnTo>
                    <a:pt x="75" y="110"/>
                  </a:lnTo>
                  <a:lnTo>
                    <a:pt x="74" y="111"/>
                  </a:lnTo>
                  <a:lnTo>
                    <a:pt x="73" y="112"/>
                  </a:lnTo>
                  <a:lnTo>
                    <a:pt x="72" y="113"/>
                  </a:lnTo>
                  <a:lnTo>
                    <a:pt x="71" y="114"/>
                  </a:lnTo>
                  <a:lnTo>
                    <a:pt x="70" y="115"/>
                  </a:lnTo>
                  <a:lnTo>
                    <a:pt x="69" y="115"/>
                  </a:lnTo>
                  <a:lnTo>
                    <a:pt x="68" y="116"/>
                  </a:lnTo>
                  <a:lnTo>
                    <a:pt x="67" y="117"/>
                  </a:lnTo>
                  <a:lnTo>
                    <a:pt x="66" y="117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2" y="119"/>
                  </a:lnTo>
                  <a:lnTo>
                    <a:pt x="61" y="119"/>
                  </a:lnTo>
                  <a:lnTo>
                    <a:pt x="59" y="119"/>
                  </a:lnTo>
                  <a:lnTo>
                    <a:pt x="58" y="119"/>
                  </a:lnTo>
                  <a:lnTo>
                    <a:pt x="56" y="119"/>
                  </a:lnTo>
                  <a:lnTo>
                    <a:pt x="55" y="120"/>
                  </a:lnTo>
                  <a:lnTo>
                    <a:pt x="52" y="119"/>
                  </a:lnTo>
                  <a:lnTo>
                    <a:pt x="51" y="119"/>
                  </a:lnTo>
                  <a:lnTo>
                    <a:pt x="50" y="119"/>
                  </a:lnTo>
                  <a:lnTo>
                    <a:pt x="49" y="119"/>
                  </a:lnTo>
                  <a:lnTo>
                    <a:pt x="47" y="119"/>
                  </a:lnTo>
                  <a:lnTo>
                    <a:pt x="46" y="118"/>
                  </a:lnTo>
                  <a:lnTo>
                    <a:pt x="45" y="118"/>
                  </a:lnTo>
                  <a:lnTo>
                    <a:pt x="45" y="117"/>
                  </a:lnTo>
                  <a:lnTo>
                    <a:pt x="43" y="117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41" y="115"/>
                  </a:lnTo>
                  <a:lnTo>
                    <a:pt x="41" y="114"/>
                  </a:lnTo>
                  <a:lnTo>
                    <a:pt x="40" y="113"/>
                  </a:lnTo>
                  <a:lnTo>
                    <a:pt x="39" y="112"/>
                  </a:lnTo>
                  <a:lnTo>
                    <a:pt x="39" y="111"/>
                  </a:lnTo>
                  <a:lnTo>
                    <a:pt x="38" y="110"/>
                  </a:lnTo>
                  <a:lnTo>
                    <a:pt x="38" y="109"/>
                  </a:lnTo>
                  <a:lnTo>
                    <a:pt x="37" y="108"/>
                  </a:lnTo>
                  <a:lnTo>
                    <a:pt x="37" y="107"/>
                  </a:lnTo>
                  <a:lnTo>
                    <a:pt x="37" y="106"/>
                  </a:lnTo>
                  <a:lnTo>
                    <a:pt x="36" y="104"/>
                  </a:lnTo>
                  <a:lnTo>
                    <a:pt x="36" y="103"/>
                  </a:lnTo>
                  <a:lnTo>
                    <a:pt x="35" y="102"/>
                  </a:lnTo>
                  <a:lnTo>
                    <a:pt x="35" y="100"/>
                  </a:lnTo>
                  <a:lnTo>
                    <a:pt x="35" y="99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89"/>
                  </a:lnTo>
                  <a:lnTo>
                    <a:pt x="35" y="88"/>
                  </a:lnTo>
                  <a:lnTo>
                    <a:pt x="35" y="86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6"/>
                  </a:lnTo>
                  <a:lnTo>
                    <a:pt x="35" y="73"/>
                  </a:lnTo>
                  <a:lnTo>
                    <a:pt x="35" y="69"/>
                  </a:lnTo>
                  <a:lnTo>
                    <a:pt x="35" y="65"/>
                  </a:lnTo>
                  <a:lnTo>
                    <a:pt x="35" y="61"/>
                  </a:lnTo>
                  <a:lnTo>
                    <a:pt x="35" y="57"/>
                  </a:lnTo>
                  <a:lnTo>
                    <a:pt x="35" y="53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3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5" y="11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1" y="119"/>
                  </a:lnTo>
                  <a:lnTo>
                    <a:pt x="2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9" y="138"/>
                  </a:lnTo>
                  <a:lnTo>
                    <a:pt x="10" y="140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4"/>
                  </a:lnTo>
                  <a:lnTo>
                    <a:pt x="16" y="145"/>
                  </a:lnTo>
                  <a:lnTo>
                    <a:pt x="18" y="146"/>
                  </a:lnTo>
                  <a:lnTo>
                    <a:pt x="20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50"/>
                  </a:lnTo>
                  <a:lnTo>
                    <a:pt x="28" y="151"/>
                  </a:lnTo>
                  <a:lnTo>
                    <a:pt x="30" y="151"/>
                  </a:lnTo>
                  <a:lnTo>
                    <a:pt x="32" y="152"/>
                  </a:lnTo>
                  <a:lnTo>
                    <a:pt x="35" y="152"/>
                  </a:lnTo>
                  <a:lnTo>
                    <a:pt x="37" y="152"/>
                  </a:lnTo>
                  <a:lnTo>
                    <a:pt x="40" y="152"/>
                  </a:lnTo>
                  <a:lnTo>
                    <a:pt x="43" y="153"/>
                  </a:lnTo>
                  <a:lnTo>
                    <a:pt x="45" y="152"/>
                  </a:lnTo>
                  <a:lnTo>
                    <a:pt x="47" y="152"/>
                  </a:lnTo>
                  <a:lnTo>
                    <a:pt x="48" y="152"/>
                  </a:lnTo>
                  <a:lnTo>
                    <a:pt x="50" y="152"/>
                  </a:lnTo>
                  <a:lnTo>
                    <a:pt x="51" y="152"/>
                  </a:lnTo>
                  <a:lnTo>
                    <a:pt x="53" y="151"/>
                  </a:lnTo>
                  <a:lnTo>
                    <a:pt x="54" y="151"/>
                  </a:lnTo>
                  <a:lnTo>
                    <a:pt x="55" y="151"/>
                  </a:lnTo>
                  <a:lnTo>
                    <a:pt x="57" y="150"/>
                  </a:lnTo>
                  <a:lnTo>
                    <a:pt x="58" y="150"/>
                  </a:lnTo>
                  <a:lnTo>
                    <a:pt x="59" y="149"/>
                  </a:lnTo>
                  <a:lnTo>
                    <a:pt x="61" y="149"/>
                  </a:lnTo>
                  <a:lnTo>
                    <a:pt x="62" y="149"/>
                  </a:lnTo>
                  <a:lnTo>
                    <a:pt x="63" y="148"/>
                  </a:lnTo>
                  <a:lnTo>
                    <a:pt x="65" y="147"/>
                  </a:lnTo>
                  <a:lnTo>
                    <a:pt x="66" y="147"/>
                  </a:lnTo>
                  <a:lnTo>
                    <a:pt x="67" y="146"/>
                  </a:lnTo>
                  <a:lnTo>
                    <a:pt x="68" y="145"/>
                  </a:lnTo>
                  <a:lnTo>
                    <a:pt x="69" y="144"/>
                  </a:lnTo>
                  <a:lnTo>
                    <a:pt x="71" y="143"/>
                  </a:lnTo>
                  <a:lnTo>
                    <a:pt x="71" y="143"/>
                  </a:lnTo>
                  <a:lnTo>
                    <a:pt x="73" y="141"/>
                  </a:lnTo>
                  <a:lnTo>
                    <a:pt x="74" y="141"/>
                  </a:lnTo>
                  <a:lnTo>
                    <a:pt x="75" y="139"/>
                  </a:lnTo>
                  <a:lnTo>
                    <a:pt x="76" y="139"/>
                  </a:lnTo>
                  <a:lnTo>
                    <a:pt x="77" y="137"/>
                  </a:lnTo>
                  <a:lnTo>
                    <a:pt x="78" y="136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3"/>
                  </a:lnTo>
                  <a:lnTo>
                    <a:pt x="82" y="131"/>
                  </a:lnTo>
                  <a:lnTo>
                    <a:pt x="82" y="131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3"/>
                  </a:lnTo>
                  <a:lnTo>
                    <a:pt x="82" y="133"/>
                  </a:lnTo>
                  <a:lnTo>
                    <a:pt x="82" y="134"/>
                  </a:lnTo>
                  <a:lnTo>
                    <a:pt x="82" y="135"/>
                  </a:lnTo>
                  <a:lnTo>
                    <a:pt x="82" y="135"/>
                  </a:lnTo>
                  <a:lnTo>
                    <a:pt x="82" y="136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82" y="138"/>
                  </a:lnTo>
                  <a:lnTo>
                    <a:pt x="82" y="139"/>
                  </a:lnTo>
                  <a:lnTo>
                    <a:pt x="82" y="140"/>
                  </a:lnTo>
                  <a:lnTo>
                    <a:pt x="82" y="141"/>
                  </a:lnTo>
                  <a:lnTo>
                    <a:pt x="82" y="142"/>
                  </a:lnTo>
                  <a:lnTo>
                    <a:pt x="82" y="143"/>
                  </a:lnTo>
                  <a:lnTo>
                    <a:pt x="82" y="143"/>
                  </a:lnTo>
                  <a:lnTo>
                    <a:pt x="82" y="144"/>
                  </a:lnTo>
                  <a:lnTo>
                    <a:pt x="82" y="145"/>
                  </a:lnTo>
                  <a:lnTo>
                    <a:pt x="82" y="145"/>
                  </a:lnTo>
                  <a:lnTo>
                    <a:pt x="82" y="146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3" y="149"/>
                  </a:lnTo>
                  <a:lnTo>
                    <a:pt x="83" y="149"/>
                  </a:lnTo>
                  <a:lnTo>
                    <a:pt x="84" y="149"/>
                  </a:lnTo>
                  <a:lnTo>
                    <a:pt x="85" y="149"/>
                  </a:lnTo>
                  <a:lnTo>
                    <a:pt x="86" y="149"/>
                  </a:lnTo>
                  <a:lnTo>
                    <a:pt x="87" y="149"/>
                  </a:lnTo>
                  <a:lnTo>
                    <a:pt x="88" y="149"/>
                  </a:lnTo>
                  <a:lnTo>
                    <a:pt x="89" y="149"/>
                  </a:lnTo>
                  <a:lnTo>
                    <a:pt x="91" y="149"/>
                  </a:lnTo>
                  <a:lnTo>
                    <a:pt x="93" y="149"/>
                  </a:lnTo>
                  <a:lnTo>
                    <a:pt x="94" y="149"/>
                  </a:lnTo>
                  <a:lnTo>
                    <a:pt x="95" y="149"/>
                  </a:lnTo>
                  <a:lnTo>
                    <a:pt x="97" y="149"/>
                  </a:lnTo>
                  <a:lnTo>
                    <a:pt x="99" y="149"/>
                  </a:lnTo>
                  <a:lnTo>
                    <a:pt x="100" y="149"/>
                  </a:lnTo>
                  <a:lnTo>
                    <a:pt x="102" y="149"/>
                  </a:lnTo>
                  <a:lnTo>
                    <a:pt x="103" y="149"/>
                  </a:lnTo>
                  <a:lnTo>
                    <a:pt x="105" y="149"/>
                  </a:lnTo>
                  <a:lnTo>
                    <a:pt x="107" y="149"/>
                  </a:lnTo>
                  <a:lnTo>
                    <a:pt x="108" y="149"/>
                  </a:lnTo>
                  <a:lnTo>
                    <a:pt x="109" y="149"/>
                  </a:lnTo>
                  <a:lnTo>
                    <a:pt x="111" y="149"/>
                  </a:lnTo>
                  <a:lnTo>
                    <a:pt x="112" y="149"/>
                  </a:lnTo>
                  <a:lnTo>
                    <a:pt x="113" y="149"/>
                  </a:lnTo>
                  <a:lnTo>
                    <a:pt x="114" y="149"/>
                  </a:lnTo>
                  <a:lnTo>
                    <a:pt x="115" y="149"/>
                  </a:lnTo>
                  <a:lnTo>
                    <a:pt x="115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7"/>
                  </a:lnTo>
                  <a:lnTo>
                    <a:pt x="116" y="145"/>
                  </a:lnTo>
                  <a:lnTo>
                    <a:pt x="116" y="143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1"/>
                  </a:lnTo>
                  <a:lnTo>
                    <a:pt x="116" y="125"/>
                  </a:lnTo>
                  <a:lnTo>
                    <a:pt x="116" y="120"/>
                  </a:lnTo>
                  <a:lnTo>
                    <a:pt x="116" y="114"/>
                  </a:lnTo>
                  <a:lnTo>
                    <a:pt x="116" y="108"/>
                  </a:lnTo>
                  <a:lnTo>
                    <a:pt x="116" y="102"/>
                  </a:lnTo>
                  <a:lnTo>
                    <a:pt x="116" y="95"/>
                  </a:lnTo>
                  <a:lnTo>
                    <a:pt x="116" y="88"/>
                  </a:lnTo>
                  <a:lnTo>
                    <a:pt x="116" y="81"/>
                  </a:lnTo>
                  <a:lnTo>
                    <a:pt x="116" y="75"/>
                  </a:lnTo>
                  <a:lnTo>
                    <a:pt x="116" y="67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6" y="47"/>
                  </a:lnTo>
                  <a:lnTo>
                    <a:pt x="116" y="41"/>
                  </a:lnTo>
                  <a:lnTo>
                    <a:pt x="116" y="35"/>
                  </a:lnTo>
                  <a:lnTo>
                    <a:pt x="116" y="29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0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1"/>
                  </a:lnTo>
                  <a:lnTo>
                    <a:pt x="11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0800" y="4067280"/>
              <a:ext cx="166680" cy="253800"/>
            </a:xfrm>
            <a:custGeom>
              <a:avLst/>
              <a:gdLst/>
              <a:ahLst/>
              <a:rect l="l" t="t" r="r" b="b"/>
              <a:pathLst>
                <a:path w="119" h="160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6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5" y="156"/>
                  </a:lnTo>
                  <a:lnTo>
                    <a:pt x="38" y="156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7" y="158"/>
                  </a:lnTo>
                  <a:lnTo>
                    <a:pt x="50" y="158"/>
                  </a:lnTo>
                  <a:lnTo>
                    <a:pt x="54" y="158"/>
                  </a:lnTo>
                  <a:lnTo>
                    <a:pt x="57" y="159"/>
                  </a:lnTo>
                  <a:lnTo>
                    <a:pt x="64" y="158"/>
                  </a:lnTo>
                  <a:lnTo>
                    <a:pt x="68" y="158"/>
                  </a:lnTo>
                  <a:lnTo>
                    <a:pt x="71" y="158"/>
                  </a:lnTo>
                  <a:lnTo>
                    <a:pt x="74" y="157"/>
                  </a:lnTo>
                  <a:lnTo>
                    <a:pt x="77" y="157"/>
                  </a:lnTo>
                  <a:lnTo>
                    <a:pt x="80" y="156"/>
                  </a:lnTo>
                  <a:lnTo>
                    <a:pt x="83" y="155"/>
                  </a:lnTo>
                  <a:lnTo>
                    <a:pt x="86" y="154"/>
                  </a:lnTo>
                  <a:lnTo>
                    <a:pt x="89" y="153"/>
                  </a:lnTo>
                  <a:lnTo>
                    <a:pt x="91" y="152"/>
                  </a:lnTo>
                  <a:lnTo>
                    <a:pt x="94" y="151"/>
                  </a:lnTo>
                  <a:lnTo>
                    <a:pt x="96" y="150"/>
                  </a:lnTo>
                  <a:lnTo>
                    <a:pt x="98" y="148"/>
                  </a:lnTo>
                  <a:lnTo>
                    <a:pt x="100" y="147"/>
                  </a:lnTo>
                  <a:lnTo>
                    <a:pt x="102" y="146"/>
                  </a:lnTo>
                  <a:lnTo>
                    <a:pt x="104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9" y="138"/>
                  </a:lnTo>
                  <a:lnTo>
                    <a:pt x="110" y="136"/>
                  </a:lnTo>
                  <a:lnTo>
                    <a:pt x="112" y="134"/>
                  </a:lnTo>
                  <a:lnTo>
                    <a:pt x="113" y="132"/>
                  </a:lnTo>
                  <a:lnTo>
                    <a:pt x="114" y="129"/>
                  </a:lnTo>
                  <a:lnTo>
                    <a:pt x="115" y="127"/>
                  </a:lnTo>
                  <a:lnTo>
                    <a:pt x="116" y="124"/>
                  </a:lnTo>
                  <a:lnTo>
                    <a:pt x="116" y="122"/>
                  </a:lnTo>
                  <a:lnTo>
                    <a:pt x="117" y="119"/>
                  </a:lnTo>
                  <a:lnTo>
                    <a:pt x="117" y="116"/>
                  </a:lnTo>
                  <a:lnTo>
                    <a:pt x="118" y="113"/>
                  </a:lnTo>
                  <a:lnTo>
                    <a:pt x="118" y="110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7" y="100"/>
                  </a:lnTo>
                  <a:lnTo>
                    <a:pt x="117" y="98"/>
                  </a:lnTo>
                  <a:lnTo>
                    <a:pt x="117" y="96"/>
                  </a:lnTo>
                  <a:lnTo>
                    <a:pt x="116" y="94"/>
                  </a:lnTo>
                  <a:lnTo>
                    <a:pt x="116" y="92"/>
                  </a:lnTo>
                  <a:lnTo>
                    <a:pt x="115" y="90"/>
                  </a:lnTo>
                  <a:lnTo>
                    <a:pt x="114" y="88"/>
                  </a:lnTo>
                  <a:lnTo>
                    <a:pt x="114" y="86"/>
                  </a:lnTo>
                  <a:lnTo>
                    <a:pt x="112" y="85"/>
                  </a:lnTo>
                  <a:lnTo>
                    <a:pt x="112" y="83"/>
                  </a:lnTo>
                  <a:lnTo>
                    <a:pt x="110" y="82"/>
                  </a:lnTo>
                  <a:lnTo>
                    <a:pt x="109" y="80"/>
                  </a:lnTo>
                  <a:lnTo>
                    <a:pt x="108" y="79"/>
                  </a:lnTo>
                  <a:lnTo>
                    <a:pt x="107" y="78"/>
                  </a:lnTo>
                  <a:lnTo>
                    <a:pt x="105" y="76"/>
                  </a:lnTo>
                  <a:lnTo>
                    <a:pt x="104" y="75"/>
                  </a:lnTo>
                  <a:lnTo>
                    <a:pt x="102" y="74"/>
                  </a:lnTo>
                  <a:lnTo>
                    <a:pt x="100" y="73"/>
                  </a:lnTo>
                  <a:lnTo>
                    <a:pt x="98" y="72"/>
                  </a:lnTo>
                  <a:lnTo>
                    <a:pt x="97" y="71"/>
                  </a:lnTo>
                  <a:lnTo>
                    <a:pt x="95" y="70"/>
                  </a:lnTo>
                  <a:lnTo>
                    <a:pt x="93" y="69"/>
                  </a:lnTo>
                  <a:lnTo>
                    <a:pt x="90" y="68"/>
                  </a:lnTo>
                  <a:lnTo>
                    <a:pt x="88" y="67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1" y="64"/>
                  </a:lnTo>
                  <a:lnTo>
                    <a:pt x="78" y="64"/>
                  </a:lnTo>
                  <a:lnTo>
                    <a:pt x="76" y="63"/>
                  </a:lnTo>
                  <a:lnTo>
                    <a:pt x="73" y="62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60"/>
                  </a:lnTo>
                  <a:lnTo>
                    <a:pt x="62" y="60"/>
                  </a:lnTo>
                  <a:lnTo>
                    <a:pt x="61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2" y="57"/>
                  </a:lnTo>
                  <a:lnTo>
                    <a:pt x="51" y="56"/>
                  </a:lnTo>
                  <a:lnTo>
                    <a:pt x="50" y="56"/>
                  </a:lnTo>
                  <a:lnTo>
                    <a:pt x="48" y="56"/>
                  </a:lnTo>
                  <a:lnTo>
                    <a:pt x="47" y="55"/>
                  </a:lnTo>
                  <a:lnTo>
                    <a:pt x="46" y="55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5" y="30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1" y="30"/>
                  </a:lnTo>
                  <a:lnTo>
                    <a:pt x="62" y="30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1" y="34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7" y="40"/>
                  </a:lnTo>
                  <a:lnTo>
                    <a:pt x="78" y="41"/>
                  </a:lnTo>
                  <a:lnTo>
                    <a:pt x="78" y="42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79" y="45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50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8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3" y="42"/>
                  </a:lnTo>
                  <a:lnTo>
                    <a:pt x="112" y="39"/>
                  </a:lnTo>
                  <a:lnTo>
                    <a:pt x="112" y="36"/>
                  </a:lnTo>
                  <a:lnTo>
                    <a:pt x="111" y="34"/>
                  </a:lnTo>
                  <a:lnTo>
                    <a:pt x="110" y="32"/>
                  </a:lnTo>
                  <a:lnTo>
                    <a:pt x="109" y="29"/>
                  </a:lnTo>
                  <a:lnTo>
                    <a:pt x="108" y="27"/>
                  </a:lnTo>
                  <a:lnTo>
                    <a:pt x="107" y="24"/>
                  </a:lnTo>
                  <a:lnTo>
                    <a:pt x="106" y="22"/>
                  </a:lnTo>
                  <a:lnTo>
                    <a:pt x="104" y="20"/>
                  </a:lnTo>
                  <a:lnTo>
                    <a:pt x="103" y="18"/>
                  </a:lnTo>
                  <a:lnTo>
                    <a:pt x="101" y="16"/>
                  </a:lnTo>
                  <a:lnTo>
                    <a:pt x="100" y="15"/>
                  </a:lnTo>
                  <a:lnTo>
                    <a:pt x="98" y="13"/>
                  </a:lnTo>
                  <a:lnTo>
                    <a:pt x="96" y="11"/>
                  </a:lnTo>
                  <a:lnTo>
                    <a:pt x="94" y="10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3" y="4"/>
                  </a:lnTo>
                  <a:lnTo>
                    <a:pt x="80" y="3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6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2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8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5" y="90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3"/>
                  </a:lnTo>
                  <a:lnTo>
                    <a:pt x="49" y="94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7" y="99"/>
                  </a:lnTo>
                  <a:lnTo>
                    <a:pt x="68" y="99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77" y="103"/>
                  </a:lnTo>
                  <a:lnTo>
                    <a:pt x="78" y="103"/>
                  </a:lnTo>
                  <a:lnTo>
                    <a:pt x="79" y="104"/>
                  </a:lnTo>
                  <a:lnTo>
                    <a:pt x="80" y="104"/>
                  </a:lnTo>
                  <a:lnTo>
                    <a:pt x="80" y="105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2" y="107"/>
                  </a:lnTo>
                  <a:lnTo>
                    <a:pt x="82" y="108"/>
                  </a:lnTo>
                  <a:lnTo>
                    <a:pt x="82" y="109"/>
                  </a:lnTo>
                  <a:lnTo>
                    <a:pt x="83" y="110"/>
                  </a:lnTo>
                  <a:lnTo>
                    <a:pt x="83" y="111"/>
                  </a:lnTo>
                  <a:lnTo>
                    <a:pt x="83" y="112"/>
                  </a:lnTo>
                  <a:lnTo>
                    <a:pt x="83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82" y="117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82" y="119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0" y="121"/>
                  </a:lnTo>
                  <a:lnTo>
                    <a:pt x="80" y="122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8" y="123"/>
                  </a:lnTo>
                  <a:lnTo>
                    <a:pt x="78" y="124"/>
                  </a:lnTo>
                  <a:lnTo>
                    <a:pt x="77" y="124"/>
                  </a:lnTo>
                  <a:lnTo>
                    <a:pt x="76" y="125"/>
                  </a:lnTo>
                  <a:lnTo>
                    <a:pt x="75" y="125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2" y="126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8" y="127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62" y="128"/>
                  </a:lnTo>
                  <a:lnTo>
                    <a:pt x="58" y="128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6" y="125"/>
                  </a:lnTo>
                  <a:lnTo>
                    <a:pt x="45" y="125"/>
                  </a:lnTo>
                  <a:lnTo>
                    <a:pt x="44" y="124"/>
                  </a:lnTo>
                  <a:lnTo>
                    <a:pt x="43" y="124"/>
                  </a:lnTo>
                  <a:lnTo>
                    <a:pt x="42" y="123"/>
                  </a:lnTo>
                  <a:lnTo>
                    <a:pt x="42" y="122"/>
                  </a:lnTo>
                  <a:lnTo>
                    <a:pt x="41" y="122"/>
                  </a:lnTo>
                  <a:lnTo>
                    <a:pt x="40" y="121"/>
                  </a:lnTo>
                  <a:lnTo>
                    <a:pt x="39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5" y="112"/>
                  </a:lnTo>
                  <a:lnTo>
                    <a:pt x="35" y="111"/>
                  </a:lnTo>
                  <a:lnTo>
                    <a:pt x="35" y="110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6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33" y="106"/>
                  </a:lnTo>
                  <a:lnTo>
                    <a:pt x="32" y="106"/>
                  </a:lnTo>
                  <a:lnTo>
                    <a:pt x="31" y="106"/>
                  </a:lnTo>
                  <a:lnTo>
                    <a:pt x="30" y="106"/>
                  </a:lnTo>
                  <a:lnTo>
                    <a:pt x="29" y="106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5" y="106"/>
                  </a:lnTo>
                  <a:lnTo>
                    <a:pt x="24" y="106"/>
                  </a:lnTo>
                  <a:lnTo>
                    <a:pt x="22" y="106"/>
                  </a:lnTo>
                  <a:lnTo>
                    <a:pt x="20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6" y="106"/>
                  </a:lnTo>
                  <a:lnTo>
                    <a:pt x="14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8" y="106"/>
                  </a:lnTo>
                  <a:lnTo>
                    <a:pt x="6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67360" y="4863960"/>
            <a:ext cx="1639800" cy="614520"/>
            <a:chOff x="5067360" y="4863960"/>
            <a:chExt cx="1639800" cy="614520"/>
          </a:xfrm>
        </p:grpSpPr>
        <p:sp>
          <p:nvSpPr>
            <p:cNvPr id="346" name=""/>
            <p:cNvSpPr/>
            <p:nvPr/>
          </p:nvSpPr>
          <p:spPr>
            <a:xfrm>
              <a:off x="5067360" y="4863960"/>
              <a:ext cx="438120" cy="519120"/>
            </a:xfrm>
            <a:custGeom>
              <a:avLst/>
              <a:gdLst/>
              <a:ahLst/>
              <a:rect l="l" t="t" r="r" b="b"/>
              <a:pathLst>
                <a:path w="311" h="327">
                  <a:moveTo>
                    <a:pt x="0" y="326"/>
                  </a:moveTo>
                  <a:lnTo>
                    <a:pt x="78" y="326"/>
                  </a:lnTo>
                  <a:lnTo>
                    <a:pt x="78" y="182"/>
                  </a:lnTo>
                  <a:lnTo>
                    <a:pt x="232" y="182"/>
                  </a:lnTo>
                  <a:lnTo>
                    <a:pt x="232" y="326"/>
                  </a:lnTo>
                  <a:lnTo>
                    <a:pt x="310" y="326"/>
                  </a:lnTo>
                  <a:lnTo>
                    <a:pt x="310" y="0"/>
                  </a:lnTo>
                  <a:lnTo>
                    <a:pt x="232" y="0"/>
                  </a:lnTo>
                  <a:lnTo>
                    <a:pt x="232" y="122"/>
                  </a:lnTo>
                  <a:lnTo>
                    <a:pt x="78" y="1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326"/>
                  </a:lnTo>
                  <a:lnTo>
                    <a:pt x="0" y="32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559480" y="5137200"/>
              <a:ext cx="214200" cy="253800"/>
              <a:chOff x="5559480" y="5137200"/>
              <a:chExt cx="214200" cy="25380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44" y="64"/>
                    </a:moveTo>
                    <a:lnTo>
                      <a:pt x="44" y="60"/>
                    </a:lnTo>
                    <a:lnTo>
                      <a:pt x="44" y="58"/>
                    </a:lnTo>
                    <a:lnTo>
                      <a:pt x="45" y="56"/>
                    </a:lnTo>
                    <a:lnTo>
                      <a:pt x="45" y="55"/>
                    </a:lnTo>
                    <a:lnTo>
                      <a:pt x="46" y="53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7" y="49"/>
                    </a:lnTo>
                    <a:lnTo>
                      <a:pt x="48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0" y="44"/>
                    </a:lnTo>
                    <a:lnTo>
                      <a:pt x="51" y="42"/>
                    </a:lnTo>
                    <a:lnTo>
                      <a:pt x="52" y="42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1" y="35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8" y="33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3"/>
                    </a:lnTo>
                    <a:lnTo>
                      <a:pt x="84" y="33"/>
                    </a:lnTo>
                    <a:lnTo>
                      <a:pt x="85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90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0"/>
                    </a:lnTo>
                    <a:lnTo>
                      <a:pt x="99" y="42"/>
                    </a:lnTo>
                    <a:lnTo>
                      <a:pt x="100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4" y="50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6" y="55"/>
                    </a:lnTo>
                    <a:lnTo>
                      <a:pt x="106" y="56"/>
                    </a:lnTo>
                    <a:lnTo>
                      <a:pt x="106" y="58"/>
                    </a:lnTo>
                    <a:lnTo>
                      <a:pt x="106" y="60"/>
                    </a:lnTo>
                    <a:lnTo>
                      <a:pt x="106" y="62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4" y="64"/>
                    </a:lnTo>
                    <a:lnTo>
                      <a:pt x="92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2" y="64"/>
                    </a:lnTo>
                    <a:lnTo>
                      <a:pt x="69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8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3" y="70"/>
                    </a:lnTo>
                    <a:lnTo>
                      <a:pt x="55" y="72"/>
                    </a:lnTo>
                    <a:lnTo>
                      <a:pt x="57" y="73"/>
                    </a:lnTo>
                    <a:lnTo>
                      <a:pt x="59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2" y="84"/>
                    </a:lnTo>
                    <a:lnTo>
                      <a:pt x="74" y="86"/>
                    </a:lnTo>
                    <a:lnTo>
                      <a:pt x="76" y="87"/>
                    </a:lnTo>
                    <a:lnTo>
                      <a:pt x="78" y="88"/>
                    </a:lnTo>
                    <a:lnTo>
                      <a:pt x="80" y="90"/>
                    </a:lnTo>
                    <a:lnTo>
                      <a:pt x="82" y="91"/>
                    </a:lnTo>
                    <a:lnTo>
                      <a:pt x="84" y="93"/>
                    </a:lnTo>
                    <a:lnTo>
                      <a:pt x="86" y="94"/>
                    </a:lnTo>
                    <a:lnTo>
                      <a:pt x="88" y="96"/>
                    </a:lnTo>
                    <a:lnTo>
                      <a:pt x="90" y="97"/>
                    </a:lnTo>
                    <a:lnTo>
                      <a:pt x="92" y="98"/>
                    </a:lnTo>
                    <a:lnTo>
                      <a:pt x="94" y="100"/>
                    </a:lnTo>
                    <a:lnTo>
                      <a:pt x="96" y="101"/>
                    </a:lnTo>
                    <a:lnTo>
                      <a:pt x="98" y="103"/>
                    </a:lnTo>
                    <a:lnTo>
                      <a:pt x="100" y="104"/>
                    </a:lnTo>
                    <a:lnTo>
                      <a:pt x="102" y="106"/>
                    </a:lnTo>
                    <a:lnTo>
                      <a:pt x="104" y="107"/>
                    </a:lnTo>
                    <a:lnTo>
                      <a:pt x="106" y="109"/>
                    </a:ln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2" y="106"/>
                    </a:lnTo>
                    <a:lnTo>
                      <a:pt x="100" y="104"/>
                    </a:lnTo>
                    <a:lnTo>
                      <a:pt x="98" y="103"/>
                    </a:lnTo>
                    <a:lnTo>
                      <a:pt x="96" y="102"/>
                    </a:lnTo>
                    <a:lnTo>
                      <a:pt x="94" y="100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88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5" y="86"/>
                    </a:lnTo>
                    <a:lnTo>
                      <a:pt x="73" y="85"/>
                    </a:lnTo>
                    <a:lnTo>
                      <a:pt x="71" y="84"/>
                    </a:lnTo>
                    <a:lnTo>
                      <a:pt x="69" y="82"/>
                    </a:lnTo>
                    <a:lnTo>
                      <a:pt x="67" y="81"/>
                    </a:lnTo>
                    <a:lnTo>
                      <a:pt x="65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4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21400" y="5189400"/>
                <a:ext cx="90000" cy="50760"/>
              </a:xfrm>
              <a:custGeom>
                <a:avLst/>
                <a:gdLst/>
                <a:ahLst/>
                <a:rect l="l" t="t" r="r" b="b"/>
                <a:pathLst>
                  <a:path w="64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7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6" y="9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7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5" y="31"/>
                    </a:lnTo>
                    <a:lnTo>
                      <a:pt x="53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3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106" y="109"/>
                    </a:move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5821200" y="5138640"/>
              <a:ext cx="130320" cy="244440"/>
            </a:xfrm>
            <a:custGeom>
              <a:avLst/>
              <a:gdLst/>
              <a:ahLst/>
              <a:rect l="l" t="t" r="r" b="b"/>
              <a:pathLst>
                <a:path w="93" h="154">
                  <a:moveTo>
                    <a:pt x="0" y="153"/>
                  </a:move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3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5" y="153"/>
                  </a:lnTo>
                  <a:lnTo>
                    <a:pt x="36" y="153"/>
                  </a:lnTo>
                  <a:lnTo>
                    <a:pt x="37" y="153"/>
                  </a:lnTo>
                  <a:lnTo>
                    <a:pt x="39" y="153"/>
                  </a:lnTo>
                  <a:lnTo>
                    <a:pt x="40" y="153"/>
                  </a:lnTo>
                  <a:lnTo>
                    <a:pt x="41" y="153"/>
                  </a:lnTo>
                  <a:lnTo>
                    <a:pt x="42" y="153"/>
                  </a:lnTo>
                  <a:lnTo>
                    <a:pt x="42" y="153"/>
                  </a:lnTo>
                  <a:lnTo>
                    <a:pt x="43" y="153"/>
                  </a:lnTo>
                  <a:lnTo>
                    <a:pt x="43" y="153"/>
                  </a:lnTo>
                  <a:lnTo>
                    <a:pt x="43" y="151"/>
                  </a:lnTo>
                  <a:lnTo>
                    <a:pt x="43" y="151"/>
                  </a:lnTo>
                  <a:lnTo>
                    <a:pt x="43" y="149"/>
                  </a:lnTo>
                  <a:lnTo>
                    <a:pt x="43" y="147"/>
                  </a:lnTo>
                  <a:lnTo>
                    <a:pt x="43" y="145"/>
                  </a:lnTo>
                  <a:lnTo>
                    <a:pt x="43" y="143"/>
                  </a:lnTo>
                  <a:lnTo>
                    <a:pt x="43" y="140"/>
                  </a:lnTo>
                  <a:lnTo>
                    <a:pt x="43" y="137"/>
                  </a:lnTo>
                  <a:lnTo>
                    <a:pt x="43" y="134"/>
                  </a:lnTo>
                  <a:lnTo>
                    <a:pt x="43" y="131"/>
                  </a:lnTo>
                  <a:lnTo>
                    <a:pt x="43" y="127"/>
                  </a:lnTo>
                  <a:lnTo>
                    <a:pt x="43" y="124"/>
                  </a:lnTo>
                  <a:lnTo>
                    <a:pt x="43" y="121"/>
                  </a:lnTo>
                  <a:lnTo>
                    <a:pt x="43" y="117"/>
                  </a:lnTo>
                  <a:lnTo>
                    <a:pt x="43" y="113"/>
                  </a:lnTo>
                  <a:lnTo>
                    <a:pt x="43" y="109"/>
                  </a:lnTo>
                  <a:lnTo>
                    <a:pt x="43" y="106"/>
                  </a:lnTo>
                  <a:lnTo>
                    <a:pt x="43" y="102"/>
                  </a:lnTo>
                  <a:lnTo>
                    <a:pt x="43" y="99"/>
                  </a:lnTo>
                  <a:lnTo>
                    <a:pt x="43" y="95"/>
                  </a:lnTo>
                  <a:lnTo>
                    <a:pt x="43" y="92"/>
                  </a:lnTo>
                  <a:lnTo>
                    <a:pt x="43" y="89"/>
                  </a:lnTo>
                  <a:lnTo>
                    <a:pt x="43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79"/>
                  </a:lnTo>
                  <a:lnTo>
                    <a:pt x="43" y="77"/>
                  </a:lnTo>
                  <a:lnTo>
                    <a:pt x="43" y="76"/>
                  </a:lnTo>
                  <a:lnTo>
                    <a:pt x="43" y="75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3" y="66"/>
                  </a:lnTo>
                  <a:lnTo>
                    <a:pt x="44" y="64"/>
                  </a:lnTo>
                  <a:lnTo>
                    <a:pt x="44" y="63"/>
                  </a:lnTo>
                  <a:lnTo>
                    <a:pt x="45" y="61"/>
                  </a:lnTo>
                  <a:lnTo>
                    <a:pt x="45" y="59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7" y="55"/>
                  </a:lnTo>
                  <a:lnTo>
                    <a:pt x="48" y="53"/>
                  </a:lnTo>
                  <a:lnTo>
                    <a:pt x="49" y="52"/>
                  </a:lnTo>
                  <a:lnTo>
                    <a:pt x="50" y="51"/>
                  </a:lnTo>
                  <a:lnTo>
                    <a:pt x="51" y="50"/>
                  </a:lnTo>
                  <a:lnTo>
                    <a:pt x="52" y="49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2" y="40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2" y="39"/>
                  </a:lnTo>
                  <a:lnTo>
                    <a:pt x="92" y="38"/>
                  </a:lnTo>
                  <a:lnTo>
                    <a:pt x="92" y="37"/>
                  </a:lnTo>
                  <a:lnTo>
                    <a:pt x="92" y="36"/>
                  </a:lnTo>
                  <a:lnTo>
                    <a:pt x="92" y="35"/>
                  </a:lnTo>
                  <a:lnTo>
                    <a:pt x="92" y="3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2" y="29"/>
                  </a:lnTo>
                  <a:lnTo>
                    <a:pt x="92" y="27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2" y="22"/>
                  </a:lnTo>
                  <a:lnTo>
                    <a:pt x="92" y="20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4"/>
                  </a:lnTo>
                  <a:lnTo>
                    <a:pt x="62" y="5"/>
                  </a:lnTo>
                  <a:lnTo>
                    <a:pt x="61" y="6"/>
                  </a:lnTo>
                  <a:lnTo>
                    <a:pt x="59" y="7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5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49" y="16"/>
                  </a:lnTo>
                  <a:lnTo>
                    <a:pt x="47" y="17"/>
                  </a:lnTo>
                  <a:lnTo>
                    <a:pt x="46" y="19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6"/>
                  </a:lnTo>
                  <a:lnTo>
                    <a:pt x="40" y="25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994360" y="5137200"/>
              <a:ext cx="219240" cy="341280"/>
              <a:chOff x="5994360" y="5137200"/>
              <a:chExt cx="219240" cy="341280"/>
            </a:xfrm>
          </p:grpSpPr>
          <p:sp>
            <p:nvSpPr>
              <p:cNvPr id="353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10" y="201"/>
                    </a:lnTo>
                    <a:lnTo>
                      <a:pt x="13" y="197"/>
                    </a:lnTo>
                    <a:lnTo>
                      <a:pt x="17" y="192"/>
                    </a:lnTo>
                    <a:lnTo>
                      <a:pt x="20" y="188"/>
                    </a:lnTo>
                    <a:lnTo>
                      <a:pt x="24" y="184"/>
                    </a:lnTo>
                    <a:lnTo>
                      <a:pt x="27" y="180"/>
                    </a:lnTo>
                    <a:lnTo>
                      <a:pt x="31" y="176"/>
                    </a:lnTo>
                    <a:lnTo>
                      <a:pt x="34" y="172"/>
                    </a:lnTo>
                    <a:lnTo>
                      <a:pt x="38" y="168"/>
                    </a:lnTo>
                    <a:lnTo>
                      <a:pt x="41" y="164"/>
                    </a:lnTo>
                    <a:lnTo>
                      <a:pt x="45" y="159"/>
                    </a:lnTo>
                    <a:lnTo>
                      <a:pt x="48" y="155"/>
                    </a:lnTo>
                    <a:lnTo>
                      <a:pt x="52" y="151"/>
                    </a:lnTo>
                    <a:lnTo>
                      <a:pt x="55" y="147"/>
                    </a:lnTo>
                    <a:lnTo>
                      <a:pt x="59" y="143"/>
                    </a:lnTo>
                    <a:lnTo>
                      <a:pt x="62" y="138"/>
                    </a:lnTo>
                    <a:lnTo>
                      <a:pt x="66" y="134"/>
                    </a:lnTo>
                    <a:lnTo>
                      <a:pt x="69" y="130"/>
                    </a:lnTo>
                    <a:lnTo>
                      <a:pt x="73" y="126"/>
                    </a:lnTo>
                    <a:lnTo>
                      <a:pt x="76" y="122"/>
                    </a:lnTo>
                    <a:lnTo>
                      <a:pt x="80" y="118"/>
                    </a:lnTo>
                    <a:lnTo>
                      <a:pt x="83" y="114"/>
                    </a:lnTo>
                    <a:lnTo>
                      <a:pt x="87" y="109"/>
                    </a:lnTo>
                    <a:lnTo>
                      <a:pt x="90" y="105"/>
                    </a:lnTo>
                    <a:lnTo>
                      <a:pt x="94" y="101"/>
                    </a:lnTo>
                    <a:lnTo>
                      <a:pt x="97" y="97"/>
                    </a:lnTo>
                    <a:lnTo>
                      <a:pt x="101" y="93"/>
                    </a:lnTo>
                    <a:lnTo>
                      <a:pt x="104" y="88"/>
                    </a:lnTo>
                    <a:lnTo>
                      <a:pt x="108" y="84"/>
                    </a:lnTo>
                    <a:lnTo>
                      <a:pt x="112" y="80"/>
                    </a:lnTo>
                    <a:lnTo>
                      <a:pt x="111" y="85"/>
                    </a:lnTo>
                    <a:lnTo>
                      <a:pt x="111" y="88"/>
                    </a:lnTo>
                    <a:lnTo>
                      <a:pt x="111" y="90"/>
                    </a:lnTo>
                    <a:lnTo>
                      <a:pt x="110" y="92"/>
                    </a:lnTo>
                    <a:lnTo>
                      <a:pt x="110" y="95"/>
                    </a:lnTo>
                    <a:lnTo>
                      <a:pt x="110" y="97"/>
                    </a:lnTo>
                    <a:lnTo>
                      <a:pt x="109" y="99"/>
                    </a:lnTo>
                    <a:lnTo>
                      <a:pt x="108" y="101"/>
                    </a:lnTo>
                    <a:lnTo>
                      <a:pt x="108" y="103"/>
                    </a:lnTo>
                    <a:lnTo>
                      <a:pt x="107" y="105"/>
                    </a:lnTo>
                    <a:lnTo>
                      <a:pt x="106" y="106"/>
                    </a:lnTo>
                    <a:lnTo>
                      <a:pt x="105" y="108"/>
                    </a:lnTo>
                    <a:lnTo>
                      <a:pt x="104" y="110"/>
                    </a:lnTo>
                    <a:lnTo>
                      <a:pt x="103" y="111"/>
                    </a:lnTo>
                    <a:lnTo>
                      <a:pt x="102" y="113"/>
                    </a:lnTo>
                    <a:lnTo>
                      <a:pt x="101" y="114"/>
                    </a:lnTo>
                    <a:lnTo>
                      <a:pt x="100" y="115"/>
                    </a:lnTo>
                    <a:lnTo>
                      <a:pt x="98" y="116"/>
                    </a:lnTo>
                    <a:lnTo>
                      <a:pt x="97" y="118"/>
                    </a:lnTo>
                    <a:lnTo>
                      <a:pt x="96" y="119"/>
                    </a:lnTo>
                    <a:lnTo>
                      <a:pt x="94" y="120"/>
                    </a:lnTo>
                    <a:lnTo>
                      <a:pt x="92" y="120"/>
                    </a:lnTo>
                    <a:lnTo>
                      <a:pt x="91" y="121"/>
                    </a:lnTo>
                    <a:lnTo>
                      <a:pt x="89" y="122"/>
                    </a:lnTo>
                    <a:lnTo>
                      <a:pt x="88" y="122"/>
                    </a:lnTo>
                    <a:lnTo>
                      <a:pt x="86" y="123"/>
                    </a:lnTo>
                    <a:lnTo>
                      <a:pt x="84" y="124"/>
                    </a:lnTo>
                    <a:lnTo>
                      <a:pt x="82" y="124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4"/>
                    </a:lnTo>
                    <a:lnTo>
                      <a:pt x="72" y="124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3"/>
                    </a:lnTo>
                    <a:lnTo>
                      <a:pt x="65" y="122"/>
                    </a:lnTo>
                    <a:lnTo>
                      <a:pt x="63" y="122"/>
                    </a:lnTo>
                    <a:lnTo>
                      <a:pt x="62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4"/>
                    </a:lnTo>
                    <a:lnTo>
                      <a:pt x="50" y="113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7" y="108"/>
                    </a:lnTo>
                    <a:lnTo>
                      <a:pt x="46" y="106"/>
                    </a:lnTo>
                    <a:lnTo>
                      <a:pt x="46" y="105"/>
                    </a:lnTo>
                    <a:lnTo>
                      <a:pt x="45" y="103"/>
                    </a:lnTo>
                    <a:lnTo>
                      <a:pt x="44" y="101"/>
                    </a:lnTo>
                    <a:lnTo>
                      <a:pt x="44" y="99"/>
                    </a:lnTo>
                    <a:lnTo>
                      <a:pt x="43" y="97"/>
                    </a:lnTo>
                    <a:lnTo>
                      <a:pt x="42" y="95"/>
                    </a:lnTo>
                    <a:lnTo>
                      <a:pt x="42" y="92"/>
                    </a:lnTo>
                    <a:lnTo>
                      <a:pt x="42" y="90"/>
                    </a:lnTo>
                    <a:lnTo>
                      <a:pt x="41" y="88"/>
                    </a:lnTo>
                    <a:lnTo>
                      <a:pt x="41" y="85"/>
                    </a:lnTo>
                    <a:lnTo>
                      <a:pt x="41" y="83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2"/>
                    </a:lnTo>
                    <a:lnTo>
                      <a:pt x="42" y="70"/>
                    </a:lnTo>
                    <a:lnTo>
                      <a:pt x="42" y="67"/>
                    </a:lnTo>
                    <a:lnTo>
                      <a:pt x="42" y="65"/>
                    </a:lnTo>
                    <a:lnTo>
                      <a:pt x="43" y="62"/>
                    </a:lnTo>
                    <a:lnTo>
                      <a:pt x="43" y="60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5" y="54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50" y="46"/>
                    </a:lnTo>
                    <a:lnTo>
                      <a:pt x="51" y="44"/>
                    </a:lnTo>
                    <a:lnTo>
                      <a:pt x="52" y="43"/>
                    </a:lnTo>
                    <a:lnTo>
                      <a:pt x="54" y="42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8" y="38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6" y="34"/>
                    </a:lnTo>
                    <a:lnTo>
                      <a:pt x="80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5"/>
                    </a:lnTo>
                    <a:lnTo>
                      <a:pt x="88" y="36"/>
                    </a:lnTo>
                    <a:lnTo>
                      <a:pt x="89" y="36"/>
                    </a:lnTo>
                    <a:lnTo>
                      <a:pt x="91" y="37"/>
                    </a:lnTo>
                    <a:lnTo>
                      <a:pt x="92" y="38"/>
                    </a:lnTo>
                    <a:lnTo>
                      <a:pt x="94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2"/>
                    </a:lnTo>
                    <a:lnTo>
                      <a:pt x="100" y="43"/>
                    </a:lnTo>
                    <a:lnTo>
                      <a:pt x="101" y="44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6" y="52"/>
                    </a:lnTo>
                    <a:lnTo>
                      <a:pt x="107" y="54"/>
                    </a:lnTo>
                    <a:lnTo>
                      <a:pt x="108" y="56"/>
                    </a:lnTo>
                    <a:lnTo>
                      <a:pt x="108" y="58"/>
                    </a:lnTo>
                    <a:lnTo>
                      <a:pt x="109" y="60"/>
                    </a:lnTo>
                    <a:lnTo>
                      <a:pt x="110" y="62"/>
                    </a:lnTo>
                    <a:lnTo>
                      <a:pt x="110" y="65"/>
                    </a:lnTo>
                    <a:lnTo>
                      <a:pt x="110" y="67"/>
                    </a:lnTo>
                    <a:lnTo>
                      <a:pt x="111" y="70"/>
                    </a:lnTo>
                    <a:lnTo>
                      <a:pt x="111" y="72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2" y="80"/>
                    </a:lnTo>
                    <a:lnTo>
                      <a:pt x="104" y="88"/>
                    </a:lnTo>
                    <a:lnTo>
                      <a:pt x="101" y="93"/>
                    </a:lnTo>
                    <a:lnTo>
                      <a:pt x="98" y="97"/>
                    </a:lnTo>
                    <a:lnTo>
                      <a:pt x="94" y="101"/>
                    </a:lnTo>
                    <a:lnTo>
                      <a:pt x="90" y="105"/>
                    </a:lnTo>
                    <a:lnTo>
                      <a:pt x="87" y="109"/>
                    </a:lnTo>
                    <a:lnTo>
                      <a:pt x="84" y="114"/>
                    </a:lnTo>
                    <a:lnTo>
                      <a:pt x="80" y="118"/>
                    </a:lnTo>
                    <a:lnTo>
                      <a:pt x="76" y="122"/>
                    </a:lnTo>
                    <a:lnTo>
                      <a:pt x="73" y="126"/>
                    </a:lnTo>
                    <a:lnTo>
                      <a:pt x="70" y="130"/>
                    </a:lnTo>
                    <a:lnTo>
                      <a:pt x="66" y="134"/>
                    </a:lnTo>
                    <a:lnTo>
                      <a:pt x="62" y="138"/>
                    </a:lnTo>
                    <a:lnTo>
                      <a:pt x="59" y="143"/>
                    </a:lnTo>
                    <a:lnTo>
                      <a:pt x="56" y="147"/>
                    </a:lnTo>
                    <a:lnTo>
                      <a:pt x="52" y="151"/>
                    </a:lnTo>
                    <a:lnTo>
                      <a:pt x="48" y="155"/>
                    </a:lnTo>
                    <a:lnTo>
                      <a:pt x="45" y="159"/>
                    </a:lnTo>
                    <a:lnTo>
                      <a:pt x="42" y="164"/>
                    </a:lnTo>
                    <a:lnTo>
                      <a:pt x="38" y="168"/>
                    </a:lnTo>
                    <a:lnTo>
                      <a:pt x="34" y="172"/>
                    </a:lnTo>
                    <a:lnTo>
                      <a:pt x="31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7" y="192"/>
                    </a:lnTo>
                    <a:lnTo>
                      <a:pt x="14" y="197"/>
                    </a:lnTo>
                    <a:lnTo>
                      <a:pt x="10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51960" y="5191200"/>
                <a:ext cx="101880" cy="144360"/>
              </a:xfrm>
              <a:custGeom>
                <a:avLst/>
                <a:gdLst/>
                <a:ahLst/>
                <a:rect l="l" t="t" r="r" b="b"/>
                <a:pathLst>
                  <a:path w="72" h="91">
                    <a:moveTo>
                      <a:pt x="71" y="46"/>
                    </a:moveTo>
                    <a:lnTo>
                      <a:pt x="70" y="51"/>
                    </a:lnTo>
                    <a:lnTo>
                      <a:pt x="70" y="54"/>
                    </a:lnTo>
                    <a:lnTo>
                      <a:pt x="70" y="56"/>
                    </a:lnTo>
                    <a:lnTo>
                      <a:pt x="69" y="58"/>
                    </a:lnTo>
                    <a:lnTo>
                      <a:pt x="69" y="61"/>
                    </a:lnTo>
                    <a:lnTo>
                      <a:pt x="69" y="63"/>
                    </a:lnTo>
                    <a:lnTo>
                      <a:pt x="68" y="65"/>
                    </a:lnTo>
                    <a:lnTo>
                      <a:pt x="67" y="67"/>
                    </a:lnTo>
                    <a:lnTo>
                      <a:pt x="67" y="69"/>
                    </a:lnTo>
                    <a:lnTo>
                      <a:pt x="66" y="71"/>
                    </a:lnTo>
                    <a:lnTo>
                      <a:pt x="65" y="72"/>
                    </a:lnTo>
                    <a:lnTo>
                      <a:pt x="64" y="74"/>
                    </a:lnTo>
                    <a:lnTo>
                      <a:pt x="63" y="76"/>
                    </a:lnTo>
                    <a:lnTo>
                      <a:pt x="62" y="77"/>
                    </a:lnTo>
                    <a:lnTo>
                      <a:pt x="61" y="79"/>
                    </a:lnTo>
                    <a:lnTo>
                      <a:pt x="60" y="80"/>
                    </a:lnTo>
                    <a:lnTo>
                      <a:pt x="59" y="81"/>
                    </a:lnTo>
                    <a:lnTo>
                      <a:pt x="57" y="82"/>
                    </a:lnTo>
                    <a:lnTo>
                      <a:pt x="56" y="84"/>
                    </a:lnTo>
                    <a:lnTo>
                      <a:pt x="55" y="85"/>
                    </a:lnTo>
                    <a:lnTo>
                      <a:pt x="53" y="86"/>
                    </a:lnTo>
                    <a:lnTo>
                      <a:pt x="51" y="86"/>
                    </a:lnTo>
                    <a:lnTo>
                      <a:pt x="50" y="87"/>
                    </a:lnTo>
                    <a:lnTo>
                      <a:pt x="48" y="88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6" y="90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8" y="90"/>
                    </a:lnTo>
                    <a:lnTo>
                      <a:pt x="26" y="89"/>
                    </a:lnTo>
                    <a:lnTo>
                      <a:pt x="24" y="88"/>
                    </a:lnTo>
                    <a:lnTo>
                      <a:pt x="22" y="88"/>
                    </a:lnTo>
                    <a:lnTo>
                      <a:pt x="21" y="87"/>
                    </a:lnTo>
                    <a:lnTo>
                      <a:pt x="19" y="86"/>
                    </a:lnTo>
                    <a:lnTo>
                      <a:pt x="17" y="86"/>
                    </a:lnTo>
                    <a:lnTo>
                      <a:pt x="16" y="85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2"/>
                    </a:lnTo>
                    <a:lnTo>
                      <a:pt x="62" y="13"/>
                    </a:lnTo>
                    <a:lnTo>
                      <a:pt x="63" y="15"/>
                    </a:lnTo>
                    <a:lnTo>
                      <a:pt x="64" y="16"/>
                    </a:lnTo>
                    <a:lnTo>
                      <a:pt x="65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7" y="24"/>
                    </a:lnTo>
                    <a:lnTo>
                      <a:pt x="68" y="26"/>
                    </a:lnTo>
                    <a:lnTo>
                      <a:pt x="69" y="28"/>
                    </a:lnTo>
                    <a:lnTo>
                      <a:pt x="69" y="31"/>
                    </a:lnTo>
                    <a:lnTo>
                      <a:pt x="69" y="33"/>
                    </a:lnTo>
                    <a:lnTo>
                      <a:pt x="70" y="36"/>
                    </a:lnTo>
                    <a:lnTo>
                      <a:pt x="70" y="38"/>
                    </a:lnTo>
                    <a:lnTo>
                      <a:pt x="70" y="41"/>
                    </a:lnTo>
                    <a:lnTo>
                      <a:pt x="70" y="43"/>
                    </a:lnTo>
                    <a:lnTo>
                      <a:pt x="71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249960" y="5137200"/>
              <a:ext cx="216000" cy="253800"/>
              <a:chOff x="6249960" y="5137200"/>
              <a:chExt cx="216000" cy="253800"/>
            </a:xfrm>
          </p:grpSpPr>
          <p:sp>
            <p:nvSpPr>
              <p:cNvPr id="357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45" y="64"/>
                    </a:moveTo>
                    <a:lnTo>
                      <a:pt x="45" y="60"/>
                    </a:lnTo>
                    <a:lnTo>
                      <a:pt x="45" y="58"/>
                    </a:lnTo>
                    <a:lnTo>
                      <a:pt x="45" y="56"/>
                    </a:lnTo>
                    <a:lnTo>
                      <a:pt x="46" y="55"/>
                    </a:lnTo>
                    <a:lnTo>
                      <a:pt x="47" y="53"/>
                    </a:lnTo>
                    <a:lnTo>
                      <a:pt x="47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1" y="44"/>
                    </a:lnTo>
                    <a:lnTo>
                      <a:pt x="52" y="42"/>
                    </a:lnTo>
                    <a:lnTo>
                      <a:pt x="53" y="42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7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3" y="35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6" y="33"/>
                    </a:lnTo>
                    <a:lnTo>
                      <a:pt x="79" y="33"/>
                    </a:lnTo>
                    <a:lnTo>
                      <a:pt x="81" y="33"/>
                    </a:lnTo>
                    <a:lnTo>
                      <a:pt x="83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0" y="35"/>
                    </a:lnTo>
                    <a:lnTo>
                      <a:pt x="92" y="36"/>
                    </a:lnTo>
                    <a:lnTo>
                      <a:pt x="93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7" y="39"/>
                    </a:lnTo>
                    <a:lnTo>
                      <a:pt x="97" y="40"/>
                    </a:lnTo>
                    <a:lnTo>
                      <a:pt x="99" y="40"/>
                    </a:lnTo>
                    <a:lnTo>
                      <a:pt x="99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3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5" y="52"/>
                    </a:lnTo>
                    <a:lnTo>
                      <a:pt x="106" y="53"/>
                    </a:lnTo>
                    <a:lnTo>
                      <a:pt x="106" y="55"/>
                    </a:lnTo>
                    <a:lnTo>
                      <a:pt x="107" y="56"/>
                    </a:lnTo>
                    <a:lnTo>
                      <a:pt x="107" y="58"/>
                    </a:lnTo>
                    <a:lnTo>
                      <a:pt x="107" y="60"/>
                    </a:lnTo>
                    <a:lnTo>
                      <a:pt x="107" y="62"/>
                    </a:lnTo>
                    <a:lnTo>
                      <a:pt x="107" y="64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3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5" y="64"/>
                    </a:lnTo>
                    <a:lnTo>
                      <a:pt x="82" y="64"/>
                    </a:lnTo>
                    <a:lnTo>
                      <a:pt x="79" y="64"/>
                    </a:lnTo>
                    <a:lnTo>
                      <a:pt x="76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4" y="70"/>
                    </a:lnTo>
                    <a:lnTo>
                      <a:pt x="56" y="72"/>
                    </a:lnTo>
                    <a:lnTo>
                      <a:pt x="58" y="73"/>
                    </a:lnTo>
                    <a:lnTo>
                      <a:pt x="60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3" y="84"/>
                    </a:lnTo>
                    <a:lnTo>
                      <a:pt x="75" y="86"/>
                    </a:lnTo>
                    <a:lnTo>
                      <a:pt x="77" y="87"/>
                    </a:lnTo>
                    <a:lnTo>
                      <a:pt x="79" y="88"/>
                    </a:lnTo>
                    <a:lnTo>
                      <a:pt x="81" y="90"/>
                    </a:lnTo>
                    <a:lnTo>
                      <a:pt x="83" y="91"/>
                    </a:lnTo>
                    <a:lnTo>
                      <a:pt x="85" y="93"/>
                    </a:lnTo>
                    <a:lnTo>
                      <a:pt x="87" y="94"/>
                    </a:lnTo>
                    <a:lnTo>
                      <a:pt x="89" y="96"/>
                    </a:lnTo>
                    <a:lnTo>
                      <a:pt x="91" y="97"/>
                    </a:lnTo>
                    <a:lnTo>
                      <a:pt x="93" y="98"/>
                    </a:lnTo>
                    <a:lnTo>
                      <a:pt x="95" y="100"/>
                    </a:lnTo>
                    <a:lnTo>
                      <a:pt x="97" y="101"/>
                    </a:lnTo>
                    <a:lnTo>
                      <a:pt x="99" y="103"/>
                    </a:lnTo>
                    <a:lnTo>
                      <a:pt x="101" y="104"/>
                    </a:lnTo>
                    <a:lnTo>
                      <a:pt x="103" y="106"/>
                    </a:lnTo>
                    <a:lnTo>
                      <a:pt x="104" y="107"/>
                    </a:lnTo>
                    <a:lnTo>
                      <a:pt x="107" y="109"/>
                    </a:ln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3" y="106"/>
                    </a:lnTo>
                    <a:lnTo>
                      <a:pt x="101" y="104"/>
                    </a:lnTo>
                    <a:lnTo>
                      <a:pt x="99" y="103"/>
                    </a:lnTo>
                    <a:lnTo>
                      <a:pt x="97" y="102"/>
                    </a:lnTo>
                    <a:lnTo>
                      <a:pt x="95" y="100"/>
                    </a:lnTo>
                    <a:lnTo>
                      <a:pt x="93" y="99"/>
                    </a:lnTo>
                    <a:lnTo>
                      <a:pt x="91" y="98"/>
                    </a:lnTo>
                    <a:lnTo>
                      <a:pt x="89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6" y="86"/>
                    </a:lnTo>
                    <a:lnTo>
                      <a:pt x="74" y="85"/>
                    </a:lnTo>
                    <a:lnTo>
                      <a:pt x="72" y="84"/>
                    </a:lnTo>
                    <a:lnTo>
                      <a:pt x="70" y="82"/>
                    </a:lnTo>
                    <a:lnTo>
                      <a:pt x="68" y="81"/>
                    </a:lnTo>
                    <a:lnTo>
                      <a:pt x="66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5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13320" y="518940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4"/>
                    </a:lnTo>
                    <a:lnTo>
                      <a:pt x="50" y="5"/>
                    </a:lnTo>
                    <a:lnTo>
                      <a:pt x="52" y="6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7" y="12"/>
                    </a:lnTo>
                    <a:lnTo>
                      <a:pt x="58" y="13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60" y="17"/>
                    </a:lnTo>
                    <a:lnTo>
                      <a:pt x="60" y="19"/>
                    </a:lnTo>
                    <a:lnTo>
                      <a:pt x="61" y="20"/>
                    </a:lnTo>
                    <a:lnTo>
                      <a:pt x="61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6" y="31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2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107" y="109"/>
                    </a:move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499080" y="5137200"/>
              <a:ext cx="208080" cy="25380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5" y="131"/>
                  </a:lnTo>
                  <a:lnTo>
                    <a:pt x="7" y="133"/>
                  </a:lnTo>
                  <a:lnTo>
                    <a:pt x="8" y="135"/>
                  </a:lnTo>
                  <a:lnTo>
                    <a:pt x="10" y="137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3"/>
                  </a:lnTo>
                  <a:lnTo>
                    <a:pt x="18" y="145"/>
                  </a:lnTo>
                  <a:lnTo>
                    <a:pt x="20" y="146"/>
                  </a:lnTo>
                  <a:lnTo>
                    <a:pt x="23" y="148"/>
                  </a:lnTo>
                  <a:lnTo>
                    <a:pt x="25" y="149"/>
                  </a:lnTo>
                  <a:lnTo>
                    <a:pt x="28" y="151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0" y="155"/>
                  </a:lnTo>
                  <a:lnTo>
                    <a:pt x="44" y="156"/>
                  </a:lnTo>
                  <a:lnTo>
                    <a:pt x="47" y="156"/>
                  </a:lnTo>
                  <a:lnTo>
                    <a:pt x="50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0" y="159"/>
                  </a:lnTo>
                  <a:lnTo>
                    <a:pt x="79" y="158"/>
                  </a:lnTo>
                  <a:lnTo>
                    <a:pt x="84" y="158"/>
                  </a:lnTo>
                  <a:lnTo>
                    <a:pt x="88" y="158"/>
                  </a:lnTo>
                  <a:lnTo>
                    <a:pt x="92" y="157"/>
                  </a:lnTo>
                  <a:lnTo>
                    <a:pt x="96" y="157"/>
                  </a:lnTo>
                  <a:lnTo>
                    <a:pt x="99" y="156"/>
                  </a:lnTo>
                  <a:lnTo>
                    <a:pt x="103" y="155"/>
                  </a:lnTo>
                  <a:lnTo>
                    <a:pt x="106" y="154"/>
                  </a:lnTo>
                  <a:lnTo>
                    <a:pt x="110" y="153"/>
                  </a:lnTo>
                  <a:lnTo>
                    <a:pt x="112" y="152"/>
                  </a:lnTo>
                  <a:lnTo>
                    <a:pt x="116" y="151"/>
                  </a:lnTo>
                  <a:lnTo>
                    <a:pt x="118" y="150"/>
                  </a:lnTo>
                  <a:lnTo>
                    <a:pt x="121" y="148"/>
                  </a:lnTo>
                  <a:lnTo>
                    <a:pt x="124" y="147"/>
                  </a:lnTo>
                  <a:lnTo>
                    <a:pt x="126" y="146"/>
                  </a:lnTo>
                  <a:lnTo>
                    <a:pt x="128" y="144"/>
                  </a:lnTo>
                  <a:lnTo>
                    <a:pt x="131" y="142"/>
                  </a:lnTo>
                  <a:lnTo>
                    <a:pt x="133" y="140"/>
                  </a:lnTo>
                  <a:lnTo>
                    <a:pt x="134" y="138"/>
                  </a:lnTo>
                  <a:lnTo>
                    <a:pt x="136" y="136"/>
                  </a:lnTo>
                  <a:lnTo>
                    <a:pt x="138" y="134"/>
                  </a:lnTo>
                  <a:lnTo>
                    <a:pt x="139" y="132"/>
                  </a:lnTo>
                  <a:lnTo>
                    <a:pt x="140" y="129"/>
                  </a:lnTo>
                  <a:lnTo>
                    <a:pt x="142" y="127"/>
                  </a:lnTo>
                  <a:lnTo>
                    <a:pt x="143" y="124"/>
                  </a:lnTo>
                  <a:lnTo>
                    <a:pt x="144" y="122"/>
                  </a:lnTo>
                  <a:lnTo>
                    <a:pt x="144" y="119"/>
                  </a:lnTo>
                  <a:lnTo>
                    <a:pt x="145" y="116"/>
                  </a:lnTo>
                  <a:lnTo>
                    <a:pt x="145" y="113"/>
                  </a:lnTo>
                  <a:lnTo>
                    <a:pt x="145" y="110"/>
                  </a:lnTo>
                  <a:lnTo>
                    <a:pt x="146" y="107"/>
                  </a:lnTo>
                  <a:lnTo>
                    <a:pt x="145" y="102"/>
                  </a:lnTo>
                  <a:lnTo>
                    <a:pt x="145" y="100"/>
                  </a:lnTo>
                  <a:lnTo>
                    <a:pt x="144" y="98"/>
                  </a:lnTo>
                  <a:lnTo>
                    <a:pt x="144" y="96"/>
                  </a:lnTo>
                  <a:lnTo>
                    <a:pt x="144" y="94"/>
                  </a:lnTo>
                  <a:lnTo>
                    <a:pt x="143" y="92"/>
                  </a:lnTo>
                  <a:lnTo>
                    <a:pt x="142" y="90"/>
                  </a:lnTo>
                  <a:lnTo>
                    <a:pt x="141" y="88"/>
                  </a:lnTo>
                  <a:lnTo>
                    <a:pt x="140" y="86"/>
                  </a:lnTo>
                  <a:lnTo>
                    <a:pt x="139" y="85"/>
                  </a:lnTo>
                  <a:lnTo>
                    <a:pt x="138" y="83"/>
                  </a:lnTo>
                  <a:lnTo>
                    <a:pt x="136" y="82"/>
                  </a:lnTo>
                  <a:lnTo>
                    <a:pt x="135" y="80"/>
                  </a:lnTo>
                  <a:lnTo>
                    <a:pt x="133" y="79"/>
                  </a:lnTo>
                  <a:lnTo>
                    <a:pt x="132" y="78"/>
                  </a:lnTo>
                  <a:lnTo>
                    <a:pt x="130" y="76"/>
                  </a:lnTo>
                  <a:lnTo>
                    <a:pt x="128" y="75"/>
                  </a:lnTo>
                  <a:lnTo>
                    <a:pt x="126" y="74"/>
                  </a:lnTo>
                  <a:lnTo>
                    <a:pt x="124" y="73"/>
                  </a:lnTo>
                  <a:lnTo>
                    <a:pt x="122" y="72"/>
                  </a:lnTo>
                  <a:lnTo>
                    <a:pt x="119" y="71"/>
                  </a:lnTo>
                  <a:lnTo>
                    <a:pt x="117" y="70"/>
                  </a:lnTo>
                  <a:lnTo>
                    <a:pt x="114" y="69"/>
                  </a:lnTo>
                  <a:lnTo>
                    <a:pt x="112" y="68"/>
                  </a:lnTo>
                  <a:lnTo>
                    <a:pt x="109" y="67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3" y="63"/>
                  </a:lnTo>
                  <a:lnTo>
                    <a:pt x="90" y="62"/>
                  </a:lnTo>
                  <a:lnTo>
                    <a:pt x="84" y="61"/>
                  </a:lnTo>
                  <a:lnTo>
                    <a:pt x="82" y="60"/>
                  </a:lnTo>
                  <a:lnTo>
                    <a:pt x="79" y="60"/>
                  </a:lnTo>
                  <a:lnTo>
                    <a:pt x="77" y="59"/>
                  </a:lnTo>
                  <a:lnTo>
                    <a:pt x="75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3" y="56"/>
                  </a:lnTo>
                  <a:lnTo>
                    <a:pt x="61" y="56"/>
                  </a:lnTo>
                  <a:lnTo>
                    <a:pt x="60" y="55"/>
                  </a:lnTo>
                  <a:lnTo>
                    <a:pt x="58" y="55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2"/>
                  </a:lnTo>
                  <a:lnTo>
                    <a:pt x="50" y="51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8" y="49"/>
                  </a:lnTo>
                  <a:lnTo>
                    <a:pt x="48" y="48"/>
                  </a:lnTo>
                  <a:lnTo>
                    <a:pt x="47" y="48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5"/>
                  </a:lnTo>
                  <a:lnTo>
                    <a:pt x="47" y="44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8" y="32"/>
                  </a:lnTo>
                  <a:lnTo>
                    <a:pt x="59" y="31"/>
                  </a:lnTo>
                  <a:lnTo>
                    <a:pt x="60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4" y="30"/>
                  </a:lnTo>
                  <a:lnTo>
                    <a:pt x="65" y="30"/>
                  </a:lnTo>
                  <a:lnTo>
                    <a:pt x="66" y="30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80" y="31"/>
                  </a:lnTo>
                  <a:lnTo>
                    <a:pt x="81" y="31"/>
                  </a:lnTo>
                  <a:lnTo>
                    <a:pt x="82" y="32"/>
                  </a:lnTo>
                  <a:lnTo>
                    <a:pt x="83" y="32"/>
                  </a:lnTo>
                  <a:lnTo>
                    <a:pt x="84" y="32"/>
                  </a:lnTo>
                  <a:lnTo>
                    <a:pt x="86" y="33"/>
                  </a:lnTo>
                  <a:lnTo>
                    <a:pt x="87" y="33"/>
                  </a:lnTo>
                  <a:lnTo>
                    <a:pt x="88" y="34"/>
                  </a:lnTo>
                  <a:lnTo>
                    <a:pt x="89" y="34"/>
                  </a:lnTo>
                  <a:lnTo>
                    <a:pt x="90" y="35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2" y="37"/>
                  </a:lnTo>
                  <a:lnTo>
                    <a:pt x="93" y="38"/>
                  </a:lnTo>
                  <a:lnTo>
                    <a:pt x="94" y="38"/>
                  </a:lnTo>
                  <a:lnTo>
                    <a:pt x="94" y="39"/>
                  </a:lnTo>
                  <a:lnTo>
                    <a:pt x="95" y="40"/>
                  </a:lnTo>
                  <a:lnTo>
                    <a:pt x="96" y="41"/>
                  </a:lnTo>
                  <a:lnTo>
                    <a:pt x="96" y="42"/>
                  </a:lnTo>
                  <a:lnTo>
                    <a:pt x="97" y="43"/>
                  </a:lnTo>
                  <a:lnTo>
                    <a:pt x="97" y="44"/>
                  </a:lnTo>
                  <a:lnTo>
                    <a:pt x="98" y="45"/>
                  </a:lnTo>
                  <a:lnTo>
                    <a:pt x="98" y="46"/>
                  </a:lnTo>
                  <a:lnTo>
                    <a:pt x="98" y="47"/>
                  </a:lnTo>
                  <a:lnTo>
                    <a:pt x="98" y="48"/>
                  </a:lnTo>
                  <a:lnTo>
                    <a:pt x="98" y="49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1" y="50"/>
                  </a:lnTo>
                  <a:lnTo>
                    <a:pt x="102" y="50"/>
                  </a:lnTo>
                  <a:lnTo>
                    <a:pt x="104" y="50"/>
                  </a:lnTo>
                  <a:lnTo>
                    <a:pt x="105" y="50"/>
                  </a:lnTo>
                  <a:lnTo>
                    <a:pt x="107" y="50"/>
                  </a:lnTo>
                  <a:lnTo>
                    <a:pt x="108" y="50"/>
                  </a:lnTo>
                  <a:lnTo>
                    <a:pt x="110" y="50"/>
                  </a:lnTo>
                  <a:lnTo>
                    <a:pt x="112" y="50"/>
                  </a:lnTo>
                  <a:lnTo>
                    <a:pt x="114" y="50"/>
                  </a:lnTo>
                  <a:lnTo>
                    <a:pt x="116" y="50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3" y="50"/>
                  </a:lnTo>
                  <a:lnTo>
                    <a:pt x="125" y="50"/>
                  </a:lnTo>
                  <a:lnTo>
                    <a:pt x="127" y="50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5" y="50"/>
                  </a:lnTo>
                  <a:lnTo>
                    <a:pt x="136" y="50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39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44"/>
                  </a:lnTo>
                  <a:lnTo>
                    <a:pt x="139" y="42"/>
                  </a:lnTo>
                  <a:lnTo>
                    <a:pt x="138" y="39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1"/>
                  </a:lnTo>
                  <a:lnTo>
                    <a:pt x="135" y="29"/>
                  </a:lnTo>
                  <a:lnTo>
                    <a:pt x="133" y="26"/>
                  </a:lnTo>
                  <a:lnTo>
                    <a:pt x="132" y="24"/>
                  </a:lnTo>
                  <a:lnTo>
                    <a:pt x="130" y="22"/>
                  </a:lnTo>
                  <a:lnTo>
                    <a:pt x="129" y="20"/>
                  </a:lnTo>
                  <a:lnTo>
                    <a:pt x="127" y="18"/>
                  </a:lnTo>
                  <a:lnTo>
                    <a:pt x="125" y="16"/>
                  </a:lnTo>
                  <a:lnTo>
                    <a:pt x="123" y="14"/>
                  </a:lnTo>
                  <a:lnTo>
                    <a:pt x="121" y="13"/>
                  </a:lnTo>
                  <a:lnTo>
                    <a:pt x="118" y="11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1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8" y="31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7" y="64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0" y="69"/>
                  </a:lnTo>
                  <a:lnTo>
                    <a:pt x="11" y="70"/>
                  </a:lnTo>
                  <a:lnTo>
                    <a:pt x="12" y="72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6" y="76"/>
                  </a:lnTo>
                  <a:lnTo>
                    <a:pt x="18" y="78"/>
                  </a:lnTo>
                  <a:lnTo>
                    <a:pt x="20" y="79"/>
                  </a:lnTo>
                  <a:lnTo>
                    <a:pt x="22" y="80"/>
                  </a:lnTo>
                  <a:lnTo>
                    <a:pt x="24" y="81"/>
                  </a:lnTo>
                  <a:lnTo>
                    <a:pt x="26" y="82"/>
                  </a:lnTo>
                  <a:lnTo>
                    <a:pt x="28" y="84"/>
                  </a:lnTo>
                  <a:lnTo>
                    <a:pt x="30" y="84"/>
                  </a:lnTo>
                  <a:lnTo>
                    <a:pt x="33" y="86"/>
                  </a:lnTo>
                  <a:lnTo>
                    <a:pt x="36" y="87"/>
                  </a:lnTo>
                  <a:lnTo>
                    <a:pt x="38" y="88"/>
                  </a:lnTo>
                  <a:lnTo>
                    <a:pt x="41" y="88"/>
                  </a:lnTo>
                  <a:lnTo>
                    <a:pt x="44" y="90"/>
                  </a:lnTo>
                  <a:lnTo>
                    <a:pt x="47" y="90"/>
                  </a:lnTo>
                  <a:lnTo>
                    <a:pt x="50" y="91"/>
                  </a:lnTo>
                  <a:lnTo>
                    <a:pt x="53" y="92"/>
                  </a:lnTo>
                  <a:lnTo>
                    <a:pt x="57" y="93"/>
                  </a:lnTo>
                  <a:lnTo>
                    <a:pt x="60" y="94"/>
                  </a:lnTo>
                  <a:lnTo>
                    <a:pt x="65" y="95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7"/>
                  </a:lnTo>
                  <a:lnTo>
                    <a:pt x="76" y="97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2" y="98"/>
                  </a:lnTo>
                  <a:lnTo>
                    <a:pt x="84" y="99"/>
                  </a:lnTo>
                  <a:lnTo>
                    <a:pt x="86" y="99"/>
                  </a:lnTo>
                  <a:lnTo>
                    <a:pt x="87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4" y="102"/>
                  </a:lnTo>
                  <a:lnTo>
                    <a:pt x="95" y="102"/>
                  </a:lnTo>
                  <a:lnTo>
                    <a:pt x="96" y="103"/>
                  </a:lnTo>
                  <a:lnTo>
                    <a:pt x="97" y="103"/>
                  </a:lnTo>
                  <a:lnTo>
                    <a:pt x="98" y="104"/>
                  </a:lnTo>
                  <a:lnTo>
                    <a:pt x="99" y="104"/>
                  </a:lnTo>
                  <a:lnTo>
                    <a:pt x="100" y="105"/>
                  </a:lnTo>
                  <a:lnTo>
                    <a:pt x="100" y="106"/>
                  </a:lnTo>
                  <a:lnTo>
                    <a:pt x="101" y="107"/>
                  </a:lnTo>
                  <a:lnTo>
                    <a:pt x="101" y="108"/>
                  </a:lnTo>
                  <a:lnTo>
                    <a:pt x="102" y="108"/>
                  </a:lnTo>
                  <a:lnTo>
                    <a:pt x="102" y="109"/>
                  </a:lnTo>
                  <a:lnTo>
                    <a:pt x="102" y="110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4"/>
                  </a:lnTo>
                  <a:lnTo>
                    <a:pt x="102" y="115"/>
                  </a:lnTo>
                  <a:lnTo>
                    <a:pt x="102" y="116"/>
                  </a:lnTo>
                  <a:lnTo>
                    <a:pt x="102" y="117"/>
                  </a:lnTo>
                  <a:lnTo>
                    <a:pt x="101" y="118"/>
                  </a:lnTo>
                  <a:lnTo>
                    <a:pt x="101" y="118"/>
                  </a:lnTo>
                  <a:lnTo>
                    <a:pt x="100" y="119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99" y="121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7" y="123"/>
                  </a:lnTo>
                  <a:lnTo>
                    <a:pt x="96" y="123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93" y="125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88" y="126"/>
                  </a:lnTo>
                  <a:lnTo>
                    <a:pt x="87" y="126"/>
                  </a:lnTo>
                  <a:lnTo>
                    <a:pt x="86" y="127"/>
                  </a:lnTo>
                  <a:lnTo>
                    <a:pt x="84" y="127"/>
                  </a:lnTo>
                  <a:lnTo>
                    <a:pt x="83" y="127"/>
                  </a:lnTo>
                  <a:lnTo>
                    <a:pt x="82" y="127"/>
                  </a:lnTo>
                  <a:lnTo>
                    <a:pt x="80" y="127"/>
                  </a:lnTo>
                  <a:lnTo>
                    <a:pt x="79" y="127"/>
                  </a:lnTo>
                  <a:lnTo>
                    <a:pt x="77" y="127"/>
                  </a:lnTo>
                  <a:lnTo>
                    <a:pt x="76" y="128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6" y="127"/>
                  </a:lnTo>
                  <a:lnTo>
                    <a:pt x="64" y="127"/>
                  </a:lnTo>
                  <a:lnTo>
                    <a:pt x="63" y="126"/>
                  </a:lnTo>
                  <a:lnTo>
                    <a:pt x="61" y="126"/>
                  </a:lnTo>
                  <a:lnTo>
                    <a:pt x="60" y="126"/>
                  </a:lnTo>
                  <a:lnTo>
                    <a:pt x="58" y="125"/>
                  </a:lnTo>
                  <a:lnTo>
                    <a:pt x="57" y="125"/>
                  </a:lnTo>
                  <a:lnTo>
                    <a:pt x="56" y="124"/>
                  </a:lnTo>
                  <a:lnTo>
                    <a:pt x="54" y="124"/>
                  </a:lnTo>
                  <a:lnTo>
                    <a:pt x="53" y="123"/>
                  </a:lnTo>
                  <a:lnTo>
                    <a:pt x="52" y="122"/>
                  </a:lnTo>
                  <a:lnTo>
                    <a:pt x="51" y="122"/>
                  </a:lnTo>
                  <a:lnTo>
                    <a:pt x="50" y="121"/>
                  </a:lnTo>
                  <a:lnTo>
                    <a:pt x="49" y="120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7" y="118"/>
                  </a:lnTo>
                  <a:lnTo>
                    <a:pt x="46" y="117"/>
                  </a:lnTo>
                  <a:lnTo>
                    <a:pt x="45" y="116"/>
                  </a:lnTo>
                  <a:lnTo>
                    <a:pt x="45" y="115"/>
                  </a:lnTo>
                  <a:lnTo>
                    <a:pt x="44" y="114"/>
                  </a:lnTo>
                  <a:lnTo>
                    <a:pt x="44" y="113"/>
                  </a:lnTo>
                  <a:lnTo>
                    <a:pt x="44" y="112"/>
                  </a:lnTo>
                  <a:lnTo>
                    <a:pt x="43" y="110"/>
                  </a:lnTo>
                  <a:lnTo>
                    <a:pt x="43" y="109"/>
                  </a:lnTo>
                  <a:lnTo>
                    <a:pt x="43" y="108"/>
                  </a:lnTo>
                  <a:lnTo>
                    <a:pt x="43" y="106"/>
                  </a:lnTo>
                  <a:lnTo>
                    <a:pt x="43" y="105"/>
                  </a:lnTo>
                  <a:lnTo>
                    <a:pt x="42" y="105"/>
                  </a:lnTo>
                  <a:lnTo>
                    <a:pt x="42" y="105"/>
                  </a:lnTo>
                  <a:lnTo>
                    <a:pt x="41" y="105"/>
                  </a:lnTo>
                  <a:lnTo>
                    <a:pt x="40" y="105"/>
                  </a:lnTo>
                  <a:lnTo>
                    <a:pt x="38" y="105"/>
                  </a:lnTo>
                  <a:lnTo>
                    <a:pt x="37" y="105"/>
                  </a:lnTo>
                  <a:lnTo>
                    <a:pt x="36" y="105"/>
                  </a:lnTo>
                  <a:lnTo>
                    <a:pt x="34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29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3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4427640" y="1916280"/>
            <a:ext cx="449280" cy="18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203640" y="189000"/>
            <a:ext cx="1064520" cy="6552720"/>
            <a:chOff x="3203640" y="189000"/>
            <a:chExt cx="1064520" cy="6552720"/>
          </a:xfrm>
        </p:grpSpPr>
        <p:sp>
          <p:nvSpPr>
            <p:cNvPr id="363" name=""/>
            <p:cNvSpPr/>
            <p:nvPr/>
          </p:nvSpPr>
          <p:spPr>
            <a:xfrm>
              <a:off x="3203640" y="189000"/>
              <a:ext cx="739440" cy="6552720"/>
            </a:xfrm>
            <a:custGeom>
              <a:avLst/>
              <a:gdLst/>
              <a:ahLst/>
              <a:rect l="l" t="t" r="r" b="b"/>
              <a:pathLst>
                <a:path w="319" h="4123">
                  <a:moveTo>
                    <a:pt x="0" y="4122"/>
                  </a:moveTo>
                  <a:lnTo>
                    <a:pt x="318" y="4122"/>
                  </a:lnTo>
                  <a:lnTo>
                    <a:pt x="318" y="0"/>
                  </a:lnTo>
                  <a:lnTo>
                    <a:pt x="106" y="0"/>
                  </a:lnTo>
                </a:path>
              </a:pathLst>
            </a:custGeom>
            <a:noFill/>
            <a:ln w="27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14280" y="1784880"/>
              <a:ext cx="353880" cy="27756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0" y="174"/>
                  </a:moveTo>
                  <a:lnTo>
                    <a:pt x="3" y="0"/>
                  </a:lnTo>
                  <a:lnTo>
                    <a:pt x="152" y="89"/>
                  </a:lnTo>
                  <a:lnTo>
                    <a:pt x="0" y="174"/>
                  </a:lnTo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243400" y="2286000"/>
            <a:ext cx="1193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73200" y="361800"/>
            <a:ext cx="569880" cy="271440"/>
            <a:chOff x="673200" y="361800"/>
            <a:chExt cx="569880" cy="271440"/>
          </a:xfrm>
        </p:grpSpPr>
        <p:sp>
          <p:nvSpPr>
            <p:cNvPr id="367" name=""/>
            <p:cNvSpPr/>
            <p:nvPr/>
          </p:nvSpPr>
          <p:spPr>
            <a:xfrm>
              <a:off x="673200" y="361800"/>
              <a:ext cx="220680" cy="27144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60" y="170"/>
                  </a:moveTo>
                  <a:lnTo>
                    <a:pt x="95" y="170"/>
                  </a:lnTo>
                  <a:lnTo>
                    <a:pt x="155" y="0"/>
                  </a:lnTo>
                  <a:lnTo>
                    <a:pt x="115" y="0"/>
                  </a:lnTo>
                  <a:lnTo>
                    <a:pt x="77" y="12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60" y="170"/>
                  </a:lnTo>
                  <a:lnTo>
                    <a:pt x="6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23760" y="361800"/>
              <a:ext cx="52560" cy="271440"/>
            </a:xfrm>
            <a:custGeom>
              <a:avLst/>
              <a:gdLst/>
              <a:ahLst/>
              <a:rect l="l" t="t" r="r" b="b"/>
              <a:pathLst>
                <a:path w="37" h="171">
                  <a:moveTo>
                    <a:pt x="0" y="170"/>
                  </a:moveTo>
                  <a:lnTo>
                    <a:pt x="36" y="17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5000" y="361800"/>
              <a:ext cx="208080" cy="27144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0" y="170"/>
                  </a:moveTo>
                  <a:lnTo>
                    <a:pt x="37" y="170"/>
                  </a:lnTo>
                  <a:lnTo>
                    <a:pt x="37" y="95"/>
                  </a:lnTo>
                  <a:lnTo>
                    <a:pt x="109" y="95"/>
                  </a:lnTo>
                  <a:lnTo>
                    <a:pt x="109" y="170"/>
                  </a:lnTo>
                  <a:lnTo>
                    <a:pt x="146" y="170"/>
                  </a:lnTo>
                  <a:lnTo>
                    <a:pt x="146" y="0"/>
                  </a:lnTo>
                  <a:lnTo>
                    <a:pt x="109" y="0"/>
                  </a:lnTo>
                  <a:lnTo>
                    <a:pt x="109" y="64"/>
                  </a:lnTo>
                  <a:lnTo>
                    <a:pt x="37" y="6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6207120" y="6165720"/>
          <a:ext cx="2697120" cy="487440"/>
        </p:xfrm>
        <a:graphic>
          <a:graphicData uri="http://schemas.openxmlformats.org/drawingml/2006/table">
            <a:tbl>
              <a:tblPr/>
              <a:tblGrid>
                <a:gridCol w="2697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S - TOR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Recordar:</a:t>
            </a:r>
            <a:r>
              <a:rPr b="0" i="1" lang="es-AR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Sinergia ETS y VIH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con ETS son mucho más susceptibles al VIH porque las lesiones y respuesta inmune a las ETS facilitan entrada del VIH al organis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Una persona VIH (+) puede adquirir más fácilmente otras ETS que una VIH (-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VIH (+) con ETS son  mucho más contagiantes del VIH que las sin 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201680"/>
            <a:ext cx="9144000" cy="279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3440" y="411156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ience 313: 523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8440" y="4576680"/>
            <a:ext cx="77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an trogloditas troglodi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 el reservorio natural de VIH-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Comic Sans MS"/>
              </a:rPr>
              <a:t>Basada en: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c0000"/>
                </a:solidFill>
                <a:latin typeface="Comic Sans MS"/>
              </a:rPr>
              <a:t>Solicitud examen de VIH: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Sólo a partir de Julio / 2005 es norma ofrecer a toda mujer embarazada el </a:t>
            </a:r>
            <a:r>
              <a:rPr b="0" lang="es-ES" sz="3100" spc="-1" strike="noStrike">
                <a:solidFill>
                  <a:srgbClr val="cc0000"/>
                </a:solidFill>
                <a:latin typeface="Comic Sans MS"/>
              </a:rPr>
              <a:t>examen de VIH 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con consentimiento informado y consejería pre y post-examen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 flipV="1">
            <a:off x="5940360" y="2564280"/>
            <a:ext cx="320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TRANSM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VERTICAL V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060200" y="1700280"/>
            <a:ext cx="761508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EMBARAZO, VIH </a:t>
            </a:r>
            <a:br>
              <a:rPr sz="4700"/>
            </a:b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971640" y="2771640"/>
            <a:ext cx="4464000" cy="3178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378" name=""/>
          <p:cNvSpPr/>
          <p:nvPr/>
        </p:nvSpPr>
        <p:spPr>
          <a:xfrm flipH="1">
            <a:off x="5651280" y="3933720"/>
            <a:ext cx="1584360" cy="71928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80360" y="2492280"/>
            <a:ext cx="0" cy="43200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770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Período Transmisión VIH Madre-Hijo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in útero, intraparto, postparto (lech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Factores maternos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carga viral (alta), CD4 (bajos), etapas clínicas (aguda, de SIDA), otros (ej. infs. génito-urinarias, E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r>
              <a:rPr b="0" lang="es-ES" sz="2500" spc="-1" strike="noStrike">
                <a:solidFill>
                  <a:srgbClr val="cc0000"/>
                </a:solidFill>
                <a:latin typeface="Comic Sans MS"/>
              </a:rPr>
              <a:t> VIH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15720" y="1628640"/>
            <a:ext cx="8577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obstétric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lacentari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no integridad, infeccion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otura de membrana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&gt; 4 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prematuro, &gt; duración trabajo de parto, hemorragia intraparto, </a:t>
            </a: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parto vagi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rocedimientos obstétric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y/o M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onitoreo fetal invasiv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durante el embarazo y/o parto (amnioscopía, amniocentesis, fórceps, otros)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tros (ej. inf. ovular clínic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producto de la gestación: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 Feto / RN (susceptibilidad, capacidad de respuesta inmu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USO o NO de TAR preventiva</a:t>
            </a:r>
            <a:r>
              <a:rPr b="0" lang="es-AR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de transmisión vertical del VI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etección infección por VIH en mujer embarazada ya sea por factores de riesgo o por manifestaciones clí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ingresa a control de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8000" y="2327040"/>
            <a:ext cx="421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 ex. VIH con consentimiento informado y consejería pre y post-exa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acepta 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VIH (-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2565360"/>
            <a:ext cx="647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924360" y="2852640"/>
            <a:ext cx="1224000" cy="22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020000" y="4292280"/>
            <a:ext cx="865080" cy="7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20000" y="4365720"/>
            <a:ext cx="72072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88360" y="5445000"/>
            <a:ext cx="0" cy="1224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3894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embarazada detectada VIH (+) durante embaraz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VIH (+) que     se embara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720" y="177300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3600" spc="-1" strike="noStrike">
                <a:solidFill>
                  <a:srgbClr val="cc0000"/>
                </a:solidFill>
                <a:latin typeface="Comic Sans MS"/>
              </a:rPr>
              <a:t>CONDUCTA</a:t>
            </a:r>
            <a:r>
              <a:rPr b="1" lang="es-A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quipo Alto Riesgo Obstétr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eguir control o contactar urgente equipo de VIH / SIDA adulto para su evaluación / estudio y manejo (indicar TARV preventiva transmisión vertical / terapéu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ntactar con el Programa de VIH / SIDA Pediátrico del SS o de la Región y con el Servicio de Neonatología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060640"/>
            <a:ext cx="502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80000" y="2133720"/>
            <a:ext cx="863280" cy="1511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 co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N MUJERES CON CONTROL 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MBARA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Protocolo PACTG 07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Otros protocol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Triterapi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95280" y="220176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77742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800000"/>
                </a:solidFill>
                <a:latin typeface="Comic Sans MS"/>
              </a:rPr>
              <a:t>Esquemas Prevención Transmisión Vertic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Embarazo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+ 3TC (Combivir) + NF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F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Saquinavir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SQV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NV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VP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Intra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i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o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GES para TARV para Personas que viven con el VIH / SIDA </a:t>
            </a:r>
            <a:br>
              <a:rPr sz="2100"/>
            </a:b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(Anexo Decreto Supremo 228 23/12/2005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4365720"/>
            <a:ext cx="3225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ZDV + 3TC: coformulación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VP: si toxicidad a IP; con &lt; 250 CD4/m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45560" y="6365880"/>
            <a:ext cx="5293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0000"/>
                </a:solidFill>
                <a:latin typeface="Arial"/>
              </a:rPr>
              <a:t>En este decreto NO se contempla NVP para el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Conducta a seguir por el Programa de Atención de VIH /SIDA Pediátrico del SS o de la Regió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 la mujer embarazada exámenes de ETS / TORCH,  TBC u otros de enfermedades transmisibles posibles de tratar o preven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onocer fecha probable parto: tener disponible y a mano los ARV de prevención del RN (ZDV, NV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l neonatólog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inmediata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/ estudio mediato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egurarse de que el RN Expuesto será enviado al Programa de Atención de VIH / SIDA Pediátrico para su ingreso al Protocolo de 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7564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mic Sans MS"/>
              </a:rPr>
              <a:t>PESQUISA VIH EN NIÑOS POR </a:t>
            </a:r>
            <a:r>
              <a:rPr b="0" lang="es-AR" sz="2300" spc="-1" strike="noStrike">
                <a:solidFill>
                  <a:srgbClr val="000000"/>
                </a:solidFill>
                <a:latin typeface="Comic Sans MS"/>
              </a:rPr>
              <a:t>DETECCION DE EMBARAZADAS VIH (+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6920" y="28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mujeres sin control del embaraz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89000"/>
            <a:ext cx="8589960" cy="93636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  <a:close/>
              </a:path>
            </a:pathLst>
          </a:cu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33680" y="2001960"/>
            <a:ext cx="4913280" cy="3456000"/>
          </a:xfrm>
          <a:custGeom>
            <a:avLst/>
            <a:gdLst/>
            <a:ahLst/>
            <a:rect l="l" t="t" r="r" b="b"/>
            <a:pathLst>
              <a:path w="3482" h="2177">
                <a:moveTo>
                  <a:pt x="2645" y="2108"/>
                </a:moveTo>
                <a:lnTo>
                  <a:pt x="2635" y="2106"/>
                </a:lnTo>
                <a:lnTo>
                  <a:pt x="2628" y="2105"/>
                </a:lnTo>
                <a:lnTo>
                  <a:pt x="2622" y="2105"/>
                </a:lnTo>
                <a:lnTo>
                  <a:pt x="2619" y="2106"/>
                </a:lnTo>
                <a:lnTo>
                  <a:pt x="2617" y="2108"/>
                </a:lnTo>
                <a:lnTo>
                  <a:pt x="2612" y="2110"/>
                </a:lnTo>
                <a:lnTo>
                  <a:pt x="2605" y="2112"/>
                </a:lnTo>
                <a:lnTo>
                  <a:pt x="2594" y="2112"/>
                </a:lnTo>
                <a:lnTo>
                  <a:pt x="2590" y="2108"/>
                </a:lnTo>
                <a:lnTo>
                  <a:pt x="2587" y="2101"/>
                </a:lnTo>
                <a:lnTo>
                  <a:pt x="2582" y="2096"/>
                </a:lnTo>
                <a:lnTo>
                  <a:pt x="2578" y="2089"/>
                </a:lnTo>
                <a:lnTo>
                  <a:pt x="2575" y="2082"/>
                </a:lnTo>
                <a:lnTo>
                  <a:pt x="2571" y="2075"/>
                </a:lnTo>
                <a:lnTo>
                  <a:pt x="2569" y="2069"/>
                </a:lnTo>
                <a:lnTo>
                  <a:pt x="2567" y="2066"/>
                </a:lnTo>
                <a:lnTo>
                  <a:pt x="2578" y="2062"/>
                </a:lnTo>
                <a:lnTo>
                  <a:pt x="2587" y="2057"/>
                </a:lnTo>
                <a:lnTo>
                  <a:pt x="2598" y="2052"/>
                </a:lnTo>
                <a:lnTo>
                  <a:pt x="2608" y="2044"/>
                </a:lnTo>
                <a:lnTo>
                  <a:pt x="2617" y="2037"/>
                </a:lnTo>
                <a:lnTo>
                  <a:pt x="2628" y="2029"/>
                </a:lnTo>
                <a:lnTo>
                  <a:pt x="2636" y="2020"/>
                </a:lnTo>
                <a:lnTo>
                  <a:pt x="2647" y="2011"/>
                </a:lnTo>
                <a:lnTo>
                  <a:pt x="2652" y="2011"/>
                </a:lnTo>
                <a:lnTo>
                  <a:pt x="2658" y="2011"/>
                </a:lnTo>
                <a:lnTo>
                  <a:pt x="2663" y="2013"/>
                </a:lnTo>
                <a:lnTo>
                  <a:pt x="2668" y="2014"/>
                </a:lnTo>
                <a:lnTo>
                  <a:pt x="2672" y="2016"/>
                </a:lnTo>
                <a:lnTo>
                  <a:pt x="2677" y="2018"/>
                </a:lnTo>
                <a:lnTo>
                  <a:pt x="2682" y="2018"/>
                </a:lnTo>
                <a:lnTo>
                  <a:pt x="2689" y="2018"/>
                </a:lnTo>
                <a:lnTo>
                  <a:pt x="2700" y="2009"/>
                </a:lnTo>
                <a:lnTo>
                  <a:pt x="2712" y="2000"/>
                </a:lnTo>
                <a:lnTo>
                  <a:pt x="2725" y="1993"/>
                </a:lnTo>
                <a:lnTo>
                  <a:pt x="2737" y="1986"/>
                </a:lnTo>
                <a:lnTo>
                  <a:pt x="2749" y="1979"/>
                </a:lnTo>
                <a:lnTo>
                  <a:pt x="2764" y="1972"/>
                </a:lnTo>
                <a:lnTo>
                  <a:pt x="2774" y="1963"/>
                </a:lnTo>
                <a:lnTo>
                  <a:pt x="2785" y="1954"/>
                </a:lnTo>
                <a:lnTo>
                  <a:pt x="2788" y="1954"/>
                </a:lnTo>
                <a:lnTo>
                  <a:pt x="2794" y="1956"/>
                </a:lnTo>
                <a:lnTo>
                  <a:pt x="2797" y="1960"/>
                </a:lnTo>
                <a:lnTo>
                  <a:pt x="2802" y="1963"/>
                </a:lnTo>
                <a:lnTo>
                  <a:pt x="2808" y="1967"/>
                </a:lnTo>
                <a:lnTo>
                  <a:pt x="2811" y="1970"/>
                </a:lnTo>
                <a:lnTo>
                  <a:pt x="2817" y="1972"/>
                </a:lnTo>
                <a:lnTo>
                  <a:pt x="2820" y="1972"/>
                </a:lnTo>
                <a:lnTo>
                  <a:pt x="2824" y="1965"/>
                </a:lnTo>
                <a:lnTo>
                  <a:pt x="2825" y="1960"/>
                </a:lnTo>
                <a:lnTo>
                  <a:pt x="2825" y="1954"/>
                </a:lnTo>
                <a:lnTo>
                  <a:pt x="2825" y="1949"/>
                </a:lnTo>
                <a:lnTo>
                  <a:pt x="2824" y="1944"/>
                </a:lnTo>
                <a:lnTo>
                  <a:pt x="2822" y="1938"/>
                </a:lnTo>
                <a:lnTo>
                  <a:pt x="2817" y="1933"/>
                </a:lnTo>
                <a:lnTo>
                  <a:pt x="2811" y="1926"/>
                </a:lnTo>
                <a:lnTo>
                  <a:pt x="2758" y="1926"/>
                </a:lnTo>
                <a:lnTo>
                  <a:pt x="2741" y="1907"/>
                </a:lnTo>
                <a:lnTo>
                  <a:pt x="2739" y="1908"/>
                </a:lnTo>
                <a:lnTo>
                  <a:pt x="2735" y="1908"/>
                </a:lnTo>
                <a:lnTo>
                  <a:pt x="2732" y="1910"/>
                </a:lnTo>
                <a:lnTo>
                  <a:pt x="2728" y="1912"/>
                </a:lnTo>
                <a:lnTo>
                  <a:pt x="2725" y="1914"/>
                </a:lnTo>
                <a:lnTo>
                  <a:pt x="2721" y="1915"/>
                </a:lnTo>
                <a:lnTo>
                  <a:pt x="2719" y="1915"/>
                </a:lnTo>
                <a:lnTo>
                  <a:pt x="2716" y="1917"/>
                </a:lnTo>
                <a:lnTo>
                  <a:pt x="2698" y="1898"/>
                </a:lnTo>
                <a:lnTo>
                  <a:pt x="2686" y="1898"/>
                </a:lnTo>
                <a:lnTo>
                  <a:pt x="2672" y="1898"/>
                </a:lnTo>
                <a:lnTo>
                  <a:pt x="2659" y="1898"/>
                </a:lnTo>
                <a:lnTo>
                  <a:pt x="2647" y="1894"/>
                </a:lnTo>
                <a:lnTo>
                  <a:pt x="2635" y="1891"/>
                </a:lnTo>
                <a:lnTo>
                  <a:pt x="2624" y="1887"/>
                </a:lnTo>
                <a:lnTo>
                  <a:pt x="2613" y="1880"/>
                </a:lnTo>
                <a:lnTo>
                  <a:pt x="2603" y="1870"/>
                </a:lnTo>
                <a:lnTo>
                  <a:pt x="2585" y="1875"/>
                </a:lnTo>
                <a:lnTo>
                  <a:pt x="2566" y="1878"/>
                </a:lnTo>
                <a:lnTo>
                  <a:pt x="2543" y="1880"/>
                </a:lnTo>
                <a:lnTo>
                  <a:pt x="2520" y="1880"/>
                </a:lnTo>
                <a:lnTo>
                  <a:pt x="2497" y="1880"/>
                </a:lnTo>
                <a:lnTo>
                  <a:pt x="2476" y="1880"/>
                </a:lnTo>
                <a:lnTo>
                  <a:pt x="2456" y="1884"/>
                </a:lnTo>
                <a:lnTo>
                  <a:pt x="2439" y="1889"/>
                </a:lnTo>
                <a:lnTo>
                  <a:pt x="2433" y="1889"/>
                </a:lnTo>
                <a:lnTo>
                  <a:pt x="2428" y="1885"/>
                </a:lnTo>
                <a:lnTo>
                  <a:pt x="2421" y="1884"/>
                </a:lnTo>
                <a:lnTo>
                  <a:pt x="2414" y="1880"/>
                </a:lnTo>
                <a:lnTo>
                  <a:pt x="2407" y="1877"/>
                </a:lnTo>
                <a:lnTo>
                  <a:pt x="2400" y="1873"/>
                </a:lnTo>
                <a:lnTo>
                  <a:pt x="2393" y="1871"/>
                </a:lnTo>
                <a:lnTo>
                  <a:pt x="2386" y="1870"/>
                </a:lnTo>
                <a:lnTo>
                  <a:pt x="2368" y="1889"/>
                </a:lnTo>
                <a:lnTo>
                  <a:pt x="2318" y="1889"/>
                </a:lnTo>
                <a:lnTo>
                  <a:pt x="2265" y="1887"/>
                </a:lnTo>
                <a:lnTo>
                  <a:pt x="2213" y="1887"/>
                </a:lnTo>
                <a:lnTo>
                  <a:pt x="2160" y="1887"/>
                </a:lnTo>
                <a:lnTo>
                  <a:pt x="2133" y="1889"/>
                </a:lnTo>
                <a:lnTo>
                  <a:pt x="2107" y="1892"/>
                </a:lnTo>
                <a:lnTo>
                  <a:pt x="2082" y="1896"/>
                </a:lnTo>
                <a:lnTo>
                  <a:pt x="2055" y="1901"/>
                </a:lnTo>
                <a:lnTo>
                  <a:pt x="2031" y="1907"/>
                </a:lnTo>
                <a:lnTo>
                  <a:pt x="2006" y="1915"/>
                </a:lnTo>
                <a:lnTo>
                  <a:pt x="1981" y="1924"/>
                </a:lnTo>
                <a:lnTo>
                  <a:pt x="1958" y="1935"/>
                </a:lnTo>
                <a:lnTo>
                  <a:pt x="1956" y="1926"/>
                </a:lnTo>
                <a:lnTo>
                  <a:pt x="1953" y="1921"/>
                </a:lnTo>
                <a:lnTo>
                  <a:pt x="1951" y="1919"/>
                </a:lnTo>
                <a:lnTo>
                  <a:pt x="1949" y="1917"/>
                </a:lnTo>
                <a:lnTo>
                  <a:pt x="1946" y="1915"/>
                </a:lnTo>
                <a:lnTo>
                  <a:pt x="1942" y="1912"/>
                </a:lnTo>
                <a:lnTo>
                  <a:pt x="1939" y="1907"/>
                </a:lnTo>
                <a:lnTo>
                  <a:pt x="1932" y="1898"/>
                </a:lnTo>
                <a:lnTo>
                  <a:pt x="1921" y="1898"/>
                </a:lnTo>
                <a:lnTo>
                  <a:pt x="1911" y="1898"/>
                </a:lnTo>
                <a:lnTo>
                  <a:pt x="1898" y="1900"/>
                </a:lnTo>
                <a:lnTo>
                  <a:pt x="1886" y="1900"/>
                </a:lnTo>
                <a:lnTo>
                  <a:pt x="1873" y="1901"/>
                </a:lnTo>
                <a:lnTo>
                  <a:pt x="1863" y="1901"/>
                </a:lnTo>
                <a:lnTo>
                  <a:pt x="1854" y="1905"/>
                </a:lnTo>
                <a:lnTo>
                  <a:pt x="1845" y="1907"/>
                </a:lnTo>
                <a:lnTo>
                  <a:pt x="1845" y="1903"/>
                </a:lnTo>
                <a:lnTo>
                  <a:pt x="1843" y="1901"/>
                </a:lnTo>
                <a:lnTo>
                  <a:pt x="1843" y="1898"/>
                </a:lnTo>
                <a:lnTo>
                  <a:pt x="1842" y="1894"/>
                </a:lnTo>
                <a:lnTo>
                  <a:pt x="1840" y="1891"/>
                </a:lnTo>
                <a:lnTo>
                  <a:pt x="1838" y="1887"/>
                </a:lnTo>
                <a:lnTo>
                  <a:pt x="1836" y="1884"/>
                </a:lnTo>
                <a:lnTo>
                  <a:pt x="1836" y="1880"/>
                </a:lnTo>
                <a:lnTo>
                  <a:pt x="1785" y="1880"/>
                </a:lnTo>
                <a:lnTo>
                  <a:pt x="1767" y="1898"/>
                </a:lnTo>
                <a:lnTo>
                  <a:pt x="1741" y="1900"/>
                </a:lnTo>
                <a:lnTo>
                  <a:pt x="1713" y="1900"/>
                </a:lnTo>
                <a:lnTo>
                  <a:pt x="1684" y="1903"/>
                </a:lnTo>
                <a:lnTo>
                  <a:pt x="1654" y="1907"/>
                </a:lnTo>
                <a:lnTo>
                  <a:pt x="1626" y="1912"/>
                </a:lnTo>
                <a:lnTo>
                  <a:pt x="1600" y="1917"/>
                </a:lnTo>
                <a:lnTo>
                  <a:pt x="1573" y="1926"/>
                </a:lnTo>
                <a:lnTo>
                  <a:pt x="1548" y="1935"/>
                </a:lnTo>
                <a:lnTo>
                  <a:pt x="1540" y="1931"/>
                </a:lnTo>
                <a:lnTo>
                  <a:pt x="1527" y="1926"/>
                </a:lnTo>
                <a:lnTo>
                  <a:pt x="1515" y="1924"/>
                </a:lnTo>
                <a:lnTo>
                  <a:pt x="1503" y="1923"/>
                </a:lnTo>
                <a:lnTo>
                  <a:pt x="1476" y="1921"/>
                </a:lnTo>
                <a:lnTo>
                  <a:pt x="1448" y="1921"/>
                </a:lnTo>
                <a:lnTo>
                  <a:pt x="1420" y="1921"/>
                </a:lnTo>
                <a:lnTo>
                  <a:pt x="1391" y="1924"/>
                </a:lnTo>
                <a:lnTo>
                  <a:pt x="1365" y="1926"/>
                </a:lnTo>
                <a:lnTo>
                  <a:pt x="1340" y="1926"/>
                </a:lnTo>
                <a:lnTo>
                  <a:pt x="1322" y="1945"/>
                </a:lnTo>
                <a:lnTo>
                  <a:pt x="1308" y="1938"/>
                </a:lnTo>
                <a:lnTo>
                  <a:pt x="1294" y="1935"/>
                </a:lnTo>
                <a:lnTo>
                  <a:pt x="1280" y="1935"/>
                </a:lnTo>
                <a:lnTo>
                  <a:pt x="1266" y="1935"/>
                </a:lnTo>
                <a:lnTo>
                  <a:pt x="1252" y="1937"/>
                </a:lnTo>
                <a:lnTo>
                  <a:pt x="1238" y="1940"/>
                </a:lnTo>
                <a:lnTo>
                  <a:pt x="1225" y="1944"/>
                </a:lnTo>
                <a:lnTo>
                  <a:pt x="1211" y="1949"/>
                </a:lnTo>
                <a:lnTo>
                  <a:pt x="1185" y="1960"/>
                </a:lnTo>
                <a:lnTo>
                  <a:pt x="1158" y="1970"/>
                </a:lnTo>
                <a:lnTo>
                  <a:pt x="1144" y="1976"/>
                </a:lnTo>
                <a:lnTo>
                  <a:pt x="1132" y="1979"/>
                </a:lnTo>
                <a:lnTo>
                  <a:pt x="1118" y="1981"/>
                </a:lnTo>
                <a:lnTo>
                  <a:pt x="1105" y="1983"/>
                </a:lnTo>
                <a:lnTo>
                  <a:pt x="1088" y="1997"/>
                </a:lnTo>
                <a:lnTo>
                  <a:pt x="1070" y="2009"/>
                </a:lnTo>
                <a:lnTo>
                  <a:pt x="1050" y="2020"/>
                </a:lnTo>
                <a:lnTo>
                  <a:pt x="1031" y="2029"/>
                </a:lnTo>
                <a:lnTo>
                  <a:pt x="1012" y="2037"/>
                </a:lnTo>
                <a:lnTo>
                  <a:pt x="992" y="2046"/>
                </a:lnTo>
                <a:lnTo>
                  <a:pt x="974" y="2059"/>
                </a:lnTo>
                <a:lnTo>
                  <a:pt x="957" y="2075"/>
                </a:lnTo>
                <a:lnTo>
                  <a:pt x="941" y="2067"/>
                </a:lnTo>
                <a:lnTo>
                  <a:pt x="921" y="2060"/>
                </a:lnTo>
                <a:lnTo>
                  <a:pt x="902" y="2055"/>
                </a:lnTo>
                <a:lnTo>
                  <a:pt x="883" y="2050"/>
                </a:lnTo>
                <a:lnTo>
                  <a:pt x="861" y="2044"/>
                </a:lnTo>
                <a:lnTo>
                  <a:pt x="840" y="2041"/>
                </a:lnTo>
                <a:lnTo>
                  <a:pt x="821" y="2039"/>
                </a:lnTo>
                <a:lnTo>
                  <a:pt x="801" y="2037"/>
                </a:lnTo>
                <a:lnTo>
                  <a:pt x="784" y="2018"/>
                </a:lnTo>
                <a:lnTo>
                  <a:pt x="784" y="2016"/>
                </a:lnTo>
                <a:lnTo>
                  <a:pt x="784" y="2013"/>
                </a:lnTo>
                <a:lnTo>
                  <a:pt x="786" y="2009"/>
                </a:lnTo>
                <a:lnTo>
                  <a:pt x="787" y="2006"/>
                </a:lnTo>
                <a:lnTo>
                  <a:pt x="789" y="2002"/>
                </a:lnTo>
                <a:lnTo>
                  <a:pt x="791" y="1999"/>
                </a:lnTo>
                <a:lnTo>
                  <a:pt x="791" y="1995"/>
                </a:lnTo>
                <a:lnTo>
                  <a:pt x="791" y="1991"/>
                </a:lnTo>
                <a:lnTo>
                  <a:pt x="786" y="1984"/>
                </a:lnTo>
                <a:lnTo>
                  <a:pt x="778" y="1976"/>
                </a:lnTo>
                <a:lnTo>
                  <a:pt x="771" y="1968"/>
                </a:lnTo>
                <a:lnTo>
                  <a:pt x="764" y="1961"/>
                </a:lnTo>
                <a:lnTo>
                  <a:pt x="757" y="1954"/>
                </a:lnTo>
                <a:lnTo>
                  <a:pt x="748" y="1949"/>
                </a:lnTo>
                <a:lnTo>
                  <a:pt x="740" y="1945"/>
                </a:lnTo>
                <a:lnTo>
                  <a:pt x="731" y="1945"/>
                </a:lnTo>
                <a:lnTo>
                  <a:pt x="729" y="1937"/>
                </a:lnTo>
                <a:lnTo>
                  <a:pt x="727" y="1930"/>
                </a:lnTo>
                <a:lnTo>
                  <a:pt x="722" y="1921"/>
                </a:lnTo>
                <a:lnTo>
                  <a:pt x="717" y="1914"/>
                </a:lnTo>
                <a:lnTo>
                  <a:pt x="711" y="1907"/>
                </a:lnTo>
                <a:lnTo>
                  <a:pt x="704" y="1900"/>
                </a:lnTo>
                <a:lnTo>
                  <a:pt x="699" y="1894"/>
                </a:lnTo>
                <a:lnTo>
                  <a:pt x="695" y="1889"/>
                </a:lnTo>
                <a:lnTo>
                  <a:pt x="699" y="1885"/>
                </a:lnTo>
                <a:lnTo>
                  <a:pt x="703" y="1880"/>
                </a:lnTo>
                <a:lnTo>
                  <a:pt x="706" y="1875"/>
                </a:lnTo>
                <a:lnTo>
                  <a:pt x="710" y="1870"/>
                </a:lnTo>
                <a:lnTo>
                  <a:pt x="713" y="1864"/>
                </a:lnTo>
                <a:lnTo>
                  <a:pt x="715" y="1861"/>
                </a:lnTo>
                <a:lnTo>
                  <a:pt x="718" y="1855"/>
                </a:lnTo>
                <a:lnTo>
                  <a:pt x="722" y="1852"/>
                </a:lnTo>
                <a:lnTo>
                  <a:pt x="725" y="1852"/>
                </a:lnTo>
                <a:lnTo>
                  <a:pt x="729" y="1854"/>
                </a:lnTo>
                <a:lnTo>
                  <a:pt x="733" y="1854"/>
                </a:lnTo>
                <a:lnTo>
                  <a:pt x="734" y="1855"/>
                </a:lnTo>
                <a:lnTo>
                  <a:pt x="738" y="1857"/>
                </a:lnTo>
                <a:lnTo>
                  <a:pt x="741" y="1859"/>
                </a:lnTo>
                <a:lnTo>
                  <a:pt x="745" y="1861"/>
                </a:lnTo>
                <a:lnTo>
                  <a:pt x="748" y="1861"/>
                </a:lnTo>
                <a:lnTo>
                  <a:pt x="731" y="1841"/>
                </a:lnTo>
                <a:lnTo>
                  <a:pt x="713" y="1841"/>
                </a:lnTo>
                <a:lnTo>
                  <a:pt x="710" y="1845"/>
                </a:lnTo>
                <a:lnTo>
                  <a:pt x="703" y="1850"/>
                </a:lnTo>
                <a:lnTo>
                  <a:pt x="695" y="1857"/>
                </a:lnTo>
                <a:lnTo>
                  <a:pt x="687" y="1866"/>
                </a:lnTo>
                <a:lnTo>
                  <a:pt x="680" y="1877"/>
                </a:lnTo>
                <a:lnTo>
                  <a:pt x="672" y="1885"/>
                </a:lnTo>
                <a:lnTo>
                  <a:pt x="665" y="1894"/>
                </a:lnTo>
                <a:lnTo>
                  <a:pt x="662" y="1898"/>
                </a:lnTo>
                <a:lnTo>
                  <a:pt x="667" y="1905"/>
                </a:lnTo>
                <a:lnTo>
                  <a:pt x="671" y="1912"/>
                </a:lnTo>
                <a:lnTo>
                  <a:pt x="674" y="1919"/>
                </a:lnTo>
                <a:lnTo>
                  <a:pt x="678" y="1926"/>
                </a:lnTo>
                <a:lnTo>
                  <a:pt x="681" y="1933"/>
                </a:lnTo>
                <a:lnTo>
                  <a:pt x="685" y="1940"/>
                </a:lnTo>
                <a:lnTo>
                  <a:pt x="690" y="1947"/>
                </a:lnTo>
                <a:lnTo>
                  <a:pt x="695" y="1954"/>
                </a:lnTo>
                <a:lnTo>
                  <a:pt x="685" y="1963"/>
                </a:lnTo>
                <a:lnTo>
                  <a:pt x="674" y="1970"/>
                </a:lnTo>
                <a:lnTo>
                  <a:pt x="660" y="1976"/>
                </a:lnTo>
                <a:lnTo>
                  <a:pt x="646" y="1979"/>
                </a:lnTo>
                <a:lnTo>
                  <a:pt x="632" y="1981"/>
                </a:lnTo>
                <a:lnTo>
                  <a:pt x="618" y="1981"/>
                </a:lnTo>
                <a:lnTo>
                  <a:pt x="605" y="1983"/>
                </a:lnTo>
                <a:lnTo>
                  <a:pt x="591" y="1983"/>
                </a:lnTo>
                <a:lnTo>
                  <a:pt x="574" y="1963"/>
                </a:lnTo>
                <a:lnTo>
                  <a:pt x="567" y="1963"/>
                </a:lnTo>
                <a:lnTo>
                  <a:pt x="558" y="1965"/>
                </a:lnTo>
                <a:lnTo>
                  <a:pt x="547" y="1967"/>
                </a:lnTo>
                <a:lnTo>
                  <a:pt x="535" y="1968"/>
                </a:lnTo>
                <a:lnTo>
                  <a:pt x="524" y="1972"/>
                </a:lnTo>
                <a:lnTo>
                  <a:pt x="514" y="1976"/>
                </a:lnTo>
                <a:lnTo>
                  <a:pt x="503" y="1979"/>
                </a:lnTo>
                <a:lnTo>
                  <a:pt x="496" y="1983"/>
                </a:lnTo>
                <a:lnTo>
                  <a:pt x="478" y="1963"/>
                </a:lnTo>
                <a:lnTo>
                  <a:pt x="475" y="1963"/>
                </a:lnTo>
                <a:lnTo>
                  <a:pt x="469" y="1965"/>
                </a:lnTo>
                <a:lnTo>
                  <a:pt x="466" y="1967"/>
                </a:lnTo>
                <a:lnTo>
                  <a:pt x="461" y="1968"/>
                </a:lnTo>
                <a:lnTo>
                  <a:pt x="455" y="1970"/>
                </a:lnTo>
                <a:lnTo>
                  <a:pt x="452" y="1970"/>
                </a:lnTo>
                <a:lnTo>
                  <a:pt x="446" y="1972"/>
                </a:lnTo>
                <a:lnTo>
                  <a:pt x="443" y="1972"/>
                </a:lnTo>
                <a:lnTo>
                  <a:pt x="439" y="1968"/>
                </a:lnTo>
                <a:lnTo>
                  <a:pt x="436" y="1965"/>
                </a:lnTo>
                <a:lnTo>
                  <a:pt x="431" y="1960"/>
                </a:lnTo>
                <a:lnTo>
                  <a:pt x="425" y="1956"/>
                </a:lnTo>
                <a:lnTo>
                  <a:pt x="418" y="1953"/>
                </a:lnTo>
                <a:lnTo>
                  <a:pt x="413" y="1951"/>
                </a:lnTo>
                <a:lnTo>
                  <a:pt x="406" y="1951"/>
                </a:lnTo>
                <a:lnTo>
                  <a:pt x="401" y="1954"/>
                </a:lnTo>
                <a:lnTo>
                  <a:pt x="452" y="2011"/>
                </a:lnTo>
                <a:lnTo>
                  <a:pt x="441" y="2011"/>
                </a:lnTo>
                <a:lnTo>
                  <a:pt x="431" y="2011"/>
                </a:lnTo>
                <a:lnTo>
                  <a:pt x="420" y="2007"/>
                </a:lnTo>
                <a:lnTo>
                  <a:pt x="409" y="2002"/>
                </a:lnTo>
                <a:lnTo>
                  <a:pt x="397" y="1997"/>
                </a:lnTo>
                <a:lnTo>
                  <a:pt x="386" y="1991"/>
                </a:lnTo>
                <a:lnTo>
                  <a:pt x="376" y="1986"/>
                </a:lnTo>
                <a:lnTo>
                  <a:pt x="365" y="1983"/>
                </a:lnTo>
                <a:lnTo>
                  <a:pt x="355" y="1984"/>
                </a:lnTo>
                <a:lnTo>
                  <a:pt x="344" y="1986"/>
                </a:lnTo>
                <a:lnTo>
                  <a:pt x="333" y="1984"/>
                </a:lnTo>
                <a:lnTo>
                  <a:pt x="325" y="1983"/>
                </a:lnTo>
                <a:lnTo>
                  <a:pt x="316" y="1979"/>
                </a:lnTo>
                <a:lnTo>
                  <a:pt x="310" y="1976"/>
                </a:lnTo>
                <a:lnTo>
                  <a:pt x="305" y="1970"/>
                </a:lnTo>
                <a:lnTo>
                  <a:pt x="303" y="1963"/>
                </a:lnTo>
                <a:lnTo>
                  <a:pt x="298" y="1963"/>
                </a:lnTo>
                <a:lnTo>
                  <a:pt x="286" y="1965"/>
                </a:lnTo>
                <a:lnTo>
                  <a:pt x="272" y="1965"/>
                </a:lnTo>
                <a:lnTo>
                  <a:pt x="256" y="1967"/>
                </a:lnTo>
                <a:lnTo>
                  <a:pt x="238" y="1967"/>
                </a:lnTo>
                <a:lnTo>
                  <a:pt x="222" y="1967"/>
                </a:lnTo>
                <a:lnTo>
                  <a:pt x="208" y="1965"/>
                </a:lnTo>
                <a:lnTo>
                  <a:pt x="199" y="1963"/>
                </a:lnTo>
                <a:lnTo>
                  <a:pt x="199" y="1967"/>
                </a:lnTo>
                <a:lnTo>
                  <a:pt x="201" y="1972"/>
                </a:lnTo>
                <a:lnTo>
                  <a:pt x="203" y="1977"/>
                </a:lnTo>
                <a:lnTo>
                  <a:pt x="204" y="1981"/>
                </a:lnTo>
                <a:lnTo>
                  <a:pt x="206" y="1986"/>
                </a:lnTo>
                <a:lnTo>
                  <a:pt x="206" y="1991"/>
                </a:lnTo>
                <a:lnTo>
                  <a:pt x="208" y="1997"/>
                </a:lnTo>
                <a:lnTo>
                  <a:pt x="208" y="2000"/>
                </a:lnTo>
                <a:lnTo>
                  <a:pt x="197" y="2000"/>
                </a:lnTo>
                <a:lnTo>
                  <a:pt x="187" y="2000"/>
                </a:lnTo>
                <a:lnTo>
                  <a:pt x="176" y="1999"/>
                </a:lnTo>
                <a:lnTo>
                  <a:pt x="166" y="1999"/>
                </a:lnTo>
                <a:lnTo>
                  <a:pt x="155" y="1999"/>
                </a:lnTo>
                <a:lnTo>
                  <a:pt x="146" y="1997"/>
                </a:lnTo>
                <a:lnTo>
                  <a:pt x="137" y="1993"/>
                </a:lnTo>
                <a:lnTo>
                  <a:pt x="130" y="1991"/>
                </a:lnTo>
                <a:lnTo>
                  <a:pt x="123" y="1993"/>
                </a:lnTo>
                <a:lnTo>
                  <a:pt x="114" y="1997"/>
                </a:lnTo>
                <a:lnTo>
                  <a:pt x="107" y="1999"/>
                </a:lnTo>
                <a:lnTo>
                  <a:pt x="99" y="1999"/>
                </a:lnTo>
                <a:lnTo>
                  <a:pt x="91" y="1999"/>
                </a:lnTo>
                <a:lnTo>
                  <a:pt x="83" y="2000"/>
                </a:lnTo>
                <a:lnTo>
                  <a:pt x="76" y="2000"/>
                </a:lnTo>
                <a:lnTo>
                  <a:pt x="68" y="2000"/>
                </a:lnTo>
                <a:lnTo>
                  <a:pt x="68" y="2007"/>
                </a:lnTo>
                <a:lnTo>
                  <a:pt x="67" y="2013"/>
                </a:lnTo>
                <a:lnTo>
                  <a:pt x="65" y="2018"/>
                </a:lnTo>
                <a:lnTo>
                  <a:pt x="63" y="2021"/>
                </a:lnTo>
                <a:lnTo>
                  <a:pt x="61" y="2027"/>
                </a:lnTo>
                <a:lnTo>
                  <a:pt x="58" y="2030"/>
                </a:lnTo>
                <a:lnTo>
                  <a:pt x="54" y="2034"/>
                </a:lnTo>
                <a:lnTo>
                  <a:pt x="51" y="2037"/>
                </a:lnTo>
                <a:lnTo>
                  <a:pt x="44" y="2034"/>
                </a:lnTo>
                <a:lnTo>
                  <a:pt x="38" y="2032"/>
                </a:lnTo>
                <a:lnTo>
                  <a:pt x="31" y="2030"/>
                </a:lnTo>
                <a:lnTo>
                  <a:pt x="24" y="2030"/>
                </a:lnTo>
                <a:lnTo>
                  <a:pt x="19" y="2030"/>
                </a:lnTo>
                <a:lnTo>
                  <a:pt x="12" y="2032"/>
                </a:lnTo>
                <a:lnTo>
                  <a:pt x="5" y="2034"/>
                </a:lnTo>
                <a:lnTo>
                  <a:pt x="0" y="2037"/>
                </a:lnTo>
                <a:lnTo>
                  <a:pt x="5" y="2041"/>
                </a:lnTo>
                <a:lnTo>
                  <a:pt x="10" y="2041"/>
                </a:lnTo>
                <a:lnTo>
                  <a:pt x="15" y="2041"/>
                </a:lnTo>
                <a:lnTo>
                  <a:pt x="23" y="2041"/>
                </a:lnTo>
                <a:lnTo>
                  <a:pt x="28" y="2041"/>
                </a:lnTo>
                <a:lnTo>
                  <a:pt x="35" y="2039"/>
                </a:lnTo>
                <a:lnTo>
                  <a:pt x="42" y="2037"/>
                </a:lnTo>
                <a:lnTo>
                  <a:pt x="51" y="2037"/>
                </a:lnTo>
                <a:lnTo>
                  <a:pt x="63" y="2046"/>
                </a:lnTo>
                <a:lnTo>
                  <a:pt x="77" y="2053"/>
                </a:lnTo>
                <a:lnTo>
                  <a:pt x="91" y="2059"/>
                </a:lnTo>
                <a:lnTo>
                  <a:pt x="109" y="2062"/>
                </a:lnTo>
                <a:lnTo>
                  <a:pt x="125" y="2067"/>
                </a:lnTo>
                <a:lnTo>
                  <a:pt x="141" y="2073"/>
                </a:lnTo>
                <a:lnTo>
                  <a:pt x="155" y="2078"/>
                </a:lnTo>
                <a:lnTo>
                  <a:pt x="167" y="2087"/>
                </a:lnTo>
                <a:lnTo>
                  <a:pt x="174" y="2087"/>
                </a:lnTo>
                <a:lnTo>
                  <a:pt x="182" y="2089"/>
                </a:lnTo>
                <a:lnTo>
                  <a:pt x="189" y="2092"/>
                </a:lnTo>
                <a:lnTo>
                  <a:pt x="197" y="2097"/>
                </a:lnTo>
                <a:lnTo>
                  <a:pt x="204" y="2103"/>
                </a:lnTo>
                <a:lnTo>
                  <a:pt x="213" y="2108"/>
                </a:lnTo>
                <a:lnTo>
                  <a:pt x="220" y="2113"/>
                </a:lnTo>
                <a:lnTo>
                  <a:pt x="227" y="2113"/>
                </a:lnTo>
                <a:lnTo>
                  <a:pt x="234" y="2120"/>
                </a:lnTo>
                <a:lnTo>
                  <a:pt x="238" y="2122"/>
                </a:lnTo>
                <a:lnTo>
                  <a:pt x="243" y="2124"/>
                </a:lnTo>
                <a:lnTo>
                  <a:pt x="250" y="2126"/>
                </a:lnTo>
                <a:lnTo>
                  <a:pt x="256" y="2129"/>
                </a:lnTo>
                <a:lnTo>
                  <a:pt x="263" y="2133"/>
                </a:lnTo>
                <a:lnTo>
                  <a:pt x="268" y="2136"/>
                </a:lnTo>
                <a:lnTo>
                  <a:pt x="273" y="2138"/>
                </a:lnTo>
                <a:lnTo>
                  <a:pt x="277" y="2138"/>
                </a:lnTo>
                <a:lnTo>
                  <a:pt x="272" y="2142"/>
                </a:lnTo>
                <a:lnTo>
                  <a:pt x="266" y="2143"/>
                </a:lnTo>
                <a:lnTo>
                  <a:pt x="261" y="2145"/>
                </a:lnTo>
                <a:lnTo>
                  <a:pt x="256" y="2145"/>
                </a:lnTo>
                <a:lnTo>
                  <a:pt x="250" y="2143"/>
                </a:lnTo>
                <a:lnTo>
                  <a:pt x="245" y="2140"/>
                </a:lnTo>
                <a:lnTo>
                  <a:pt x="240" y="2136"/>
                </a:lnTo>
                <a:lnTo>
                  <a:pt x="234" y="2129"/>
                </a:lnTo>
                <a:lnTo>
                  <a:pt x="227" y="2129"/>
                </a:lnTo>
                <a:lnTo>
                  <a:pt x="224" y="2128"/>
                </a:lnTo>
                <a:lnTo>
                  <a:pt x="219" y="2126"/>
                </a:lnTo>
                <a:lnTo>
                  <a:pt x="215" y="2122"/>
                </a:lnTo>
                <a:lnTo>
                  <a:pt x="212" y="2120"/>
                </a:lnTo>
                <a:lnTo>
                  <a:pt x="208" y="2119"/>
                </a:lnTo>
                <a:lnTo>
                  <a:pt x="203" y="2117"/>
                </a:lnTo>
                <a:lnTo>
                  <a:pt x="197" y="2117"/>
                </a:lnTo>
                <a:lnTo>
                  <a:pt x="192" y="2113"/>
                </a:lnTo>
                <a:lnTo>
                  <a:pt x="187" y="2112"/>
                </a:lnTo>
                <a:lnTo>
                  <a:pt x="180" y="2112"/>
                </a:lnTo>
                <a:lnTo>
                  <a:pt x="173" y="2110"/>
                </a:lnTo>
                <a:lnTo>
                  <a:pt x="164" y="2110"/>
                </a:lnTo>
                <a:lnTo>
                  <a:pt x="157" y="2112"/>
                </a:lnTo>
                <a:lnTo>
                  <a:pt x="151" y="2112"/>
                </a:lnTo>
                <a:lnTo>
                  <a:pt x="148" y="2112"/>
                </a:lnTo>
                <a:lnTo>
                  <a:pt x="144" y="2110"/>
                </a:lnTo>
                <a:lnTo>
                  <a:pt x="141" y="2108"/>
                </a:lnTo>
                <a:lnTo>
                  <a:pt x="136" y="2106"/>
                </a:lnTo>
                <a:lnTo>
                  <a:pt x="132" y="2103"/>
                </a:lnTo>
                <a:lnTo>
                  <a:pt x="127" y="2099"/>
                </a:lnTo>
                <a:lnTo>
                  <a:pt x="121" y="2097"/>
                </a:lnTo>
                <a:lnTo>
                  <a:pt x="116" y="2096"/>
                </a:lnTo>
                <a:lnTo>
                  <a:pt x="109" y="2094"/>
                </a:lnTo>
                <a:lnTo>
                  <a:pt x="107" y="2108"/>
                </a:lnTo>
                <a:lnTo>
                  <a:pt x="143" y="2119"/>
                </a:lnTo>
                <a:lnTo>
                  <a:pt x="176" y="2129"/>
                </a:lnTo>
                <a:lnTo>
                  <a:pt x="208" y="2138"/>
                </a:lnTo>
                <a:lnTo>
                  <a:pt x="238" y="2145"/>
                </a:lnTo>
                <a:lnTo>
                  <a:pt x="266" y="2154"/>
                </a:lnTo>
                <a:lnTo>
                  <a:pt x="295" y="2161"/>
                </a:lnTo>
                <a:lnTo>
                  <a:pt x="321" y="2168"/>
                </a:lnTo>
                <a:lnTo>
                  <a:pt x="348" y="2175"/>
                </a:lnTo>
                <a:lnTo>
                  <a:pt x="2405" y="2177"/>
                </a:lnTo>
                <a:lnTo>
                  <a:pt x="2442" y="2166"/>
                </a:lnTo>
                <a:lnTo>
                  <a:pt x="2474" y="2158"/>
                </a:lnTo>
                <a:lnTo>
                  <a:pt x="2504" y="2149"/>
                </a:lnTo>
                <a:lnTo>
                  <a:pt x="2532" y="2142"/>
                </a:lnTo>
                <a:lnTo>
                  <a:pt x="2559" y="2135"/>
                </a:lnTo>
                <a:lnTo>
                  <a:pt x="2585" y="2126"/>
                </a:lnTo>
                <a:lnTo>
                  <a:pt x="2613" y="2119"/>
                </a:lnTo>
                <a:lnTo>
                  <a:pt x="2645" y="2108"/>
                </a:lnTo>
                <a:close/>
                <a:moveTo>
                  <a:pt x="1958" y="921"/>
                </a:moveTo>
                <a:lnTo>
                  <a:pt x="1956" y="936"/>
                </a:lnTo>
                <a:lnTo>
                  <a:pt x="1951" y="954"/>
                </a:lnTo>
                <a:lnTo>
                  <a:pt x="1944" y="972"/>
                </a:lnTo>
                <a:lnTo>
                  <a:pt x="1935" y="989"/>
                </a:lnTo>
                <a:lnTo>
                  <a:pt x="1923" y="1007"/>
                </a:lnTo>
                <a:lnTo>
                  <a:pt x="1911" y="1019"/>
                </a:lnTo>
                <a:lnTo>
                  <a:pt x="1903" y="1025"/>
                </a:lnTo>
                <a:lnTo>
                  <a:pt x="1896" y="1028"/>
                </a:lnTo>
                <a:lnTo>
                  <a:pt x="1888" y="1032"/>
                </a:lnTo>
                <a:lnTo>
                  <a:pt x="1880" y="1032"/>
                </a:lnTo>
                <a:lnTo>
                  <a:pt x="1879" y="1039"/>
                </a:lnTo>
                <a:lnTo>
                  <a:pt x="1877" y="1046"/>
                </a:lnTo>
                <a:lnTo>
                  <a:pt x="1873" y="1053"/>
                </a:lnTo>
                <a:lnTo>
                  <a:pt x="1870" y="1060"/>
                </a:lnTo>
                <a:lnTo>
                  <a:pt x="1859" y="1073"/>
                </a:lnTo>
                <a:lnTo>
                  <a:pt x="1847" y="1085"/>
                </a:lnTo>
                <a:lnTo>
                  <a:pt x="1835" y="1097"/>
                </a:lnTo>
                <a:lnTo>
                  <a:pt x="1820" y="1108"/>
                </a:lnTo>
                <a:lnTo>
                  <a:pt x="1810" y="1117"/>
                </a:lnTo>
                <a:lnTo>
                  <a:pt x="1801" y="1126"/>
                </a:lnTo>
                <a:lnTo>
                  <a:pt x="1801" y="1163"/>
                </a:lnTo>
                <a:lnTo>
                  <a:pt x="1819" y="1180"/>
                </a:lnTo>
                <a:lnTo>
                  <a:pt x="1819" y="1191"/>
                </a:lnTo>
                <a:lnTo>
                  <a:pt x="1817" y="1198"/>
                </a:lnTo>
                <a:lnTo>
                  <a:pt x="1817" y="1205"/>
                </a:lnTo>
                <a:lnTo>
                  <a:pt x="1815" y="1212"/>
                </a:lnTo>
                <a:lnTo>
                  <a:pt x="1815" y="1217"/>
                </a:lnTo>
                <a:lnTo>
                  <a:pt x="1815" y="1224"/>
                </a:lnTo>
                <a:lnTo>
                  <a:pt x="1817" y="1230"/>
                </a:lnTo>
                <a:lnTo>
                  <a:pt x="1819" y="1237"/>
                </a:lnTo>
                <a:lnTo>
                  <a:pt x="1815" y="1240"/>
                </a:lnTo>
                <a:lnTo>
                  <a:pt x="1813" y="1246"/>
                </a:lnTo>
                <a:lnTo>
                  <a:pt x="1812" y="1249"/>
                </a:lnTo>
                <a:lnTo>
                  <a:pt x="1810" y="1255"/>
                </a:lnTo>
                <a:lnTo>
                  <a:pt x="1808" y="1260"/>
                </a:lnTo>
                <a:lnTo>
                  <a:pt x="1806" y="1265"/>
                </a:lnTo>
                <a:lnTo>
                  <a:pt x="1805" y="1270"/>
                </a:lnTo>
                <a:lnTo>
                  <a:pt x="1801" y="1274"/>
                </a:lnTo>
                <a:lnTo>
                  <a:pt x="1792" y="1283"/>
                </a:lnTo>
                <a:lnTo>
                  <a:pt x="1776" y="1283"/>
                </a:lnTo>
                <a:lnTo>
                  <a:pt x="1767" y="1292"/>
                </a:lnTo>
                <a:lnTo>
                  <a:pt x="1764" y="1297"/>
                </a:lnTo>
                <a:lnTo>
                  <a:pt x="1762" y="1302"/>
                </a:lnTo>
                <a:lnTo>
                  <a:pt x="1762" y="1308"/>
                </a:lnTo>
                <a:lnTo>
                  <a:pt x="1760" y="1313"/>
                </a:lnTo>
                <a:lnTo>
                  <a:pt x="1759" y="1318"/>
                </a:lnTo>
                <a:lnTo>
                  <a:pt x="1755" y="1322"/>
                </a:lnTo>
                <a:lnTo>
                  <a:pt x="1748" y="1322"/>
                </a:lnTo>
                <a:lnTo>
                  <a:pt x="1741" y="1320"/>
                </a:lnTo>
                <a:lnTo>
                  <a:pt x="1741" y="1327"/>
                </a:lnTo>
                <a:lnTo>
                  <a:pt x="1741" y="1332"/>
                </a:lnTo>
                <a:lnTo>
                  <a:pt x="1743" y="1338"/>
                </a:lnTo>
                <a:lnTo>
                  <a:pt x="1744" y="1343"/>
                </a:lnTo>
                <a:lnTo>
                  <a:pt x="1746" y="1348"/>
                </a:lnTo>
                <a:lnTo>
                  <a:pt x="1748" y="1355"/>
                </a:lnTo>
                <a:lnTo>
                  <a:pt x="1748" y="1361"/>
                </a:lnTo>
                <a:lnTo>
                  <a:pt x="1750" y="1368"/>
                </a:lnTo>
                <a:lnTo>
                  <a:pt x="1746" y="1371"/>
                </a:lnTo>
                <a:lnTo>
                  <a:pt x="1743" y="1373"/>
                </a:lnTo>
                <a:lnTo>
                  <a:pt x="1739" y="1376"/>
                </a:lnTo>
                <a:lnTo>
                  <a:pt x="1734" y="1380"/>
                </a:lnTo>
                <a:lnTo>
                  <a:pt x="1730" y="1382"/>
                </a:lnTo>
                <a:lnTo>
                  <a:pt x="1725" y="1384"/>
                </a:lnTo>
                <a:lnTo>
                  <a:pt x="1720" y="1385"/>
                </a:lnTo>
                <a:lnTo>
                  <a:pt x="1714" y="1385"/>
                </a:lnTo>
                <a:lnTo>
                  <a:pt x="1714" y="1389"/>
                </a:lnTo>
                <a:lnTo>
                  <a:pt x="1713" y="1394"/>
                </a:lnTo>
                <a:lnTo>
                  <a:pt x="1713" y="1398"/>
                </a:lnTo>
                <a:lnTo>
                  <a:pt x="1711" y="1401"/>
                </a:lnTo>
                <a:lnTo>
                  <a:pt x="1711" y="1405"/>
                </a:lnTo>
                <a:lnTo>
                  <a:pt x="1711" y="1407"/>
                </a:lnTo>
                <a:lnTo>
                  <a:pt x="1713" y="1407"/>
                </a:lnTo>
                <a:lnTo>
                  <a:pt x="1714" y="1405"/>
                </a:lnTo>
                <a:lnTo>
                  <a:pt x="1714" y="1422"/>
                </a:lnTo>
                <a:lnTo>
                  <a:pt x="1707" y="1429"/>
                </a:lnTo>
                <a:lnTo>
                  <a:pt x="1697" y="1435"/>
                </a:lnTo>
                <a:lnTo>
                  <a:pt x="1688" y="1442"/>
                </a:lnTo>
                <a:lnTo>
                  <a:pt x="1677" y="1449"/>
                </a:lnTo>
                <a:lnTo>
                  <a:pt x="1669" y="1456"/>
                </a:lnTo>
                <a:lnTo>
                  <a:pt x="1660" y="1465"/>
                </a:lnTo>
                <a:lnTo>
                  <a:pt x="1658" y="1470"/>
                </a:lnTo>
                <a:lnTo>
                  <a:pt x="1656" y="1475"/>
                </a:lnTo>
                <a:lnTo>
                  <a:pt x="1654" y="1481"/>
                </a:lnTo>
                <a:lnTo>
                  <a:pt x="1653" y="1488"/>
                </a:lnTo>
                <a:lnTo>
                  <a:pt x="1635" y="1491"/>
                </a:lnTo>
                <a:lnTo>
                  <a:pt x="1617" y="1495"/>
                </a:lnTo>
                <a:lnTo>
                  <a:pt x="1600" y="1498"/>
                </a:lnTo>
                <a:lnTo>
                  <a:pt x="1584" y="1500"/>
                </a:lnTo>
                <a:lnTo>
                  <a:pt x="1568" y="1502"/>
                </a:lnTo>
                <a:lnTo>
                  <a:pt x="1550" y="1504"/>
                </a:lnTo>
                <a:lnTo>
                  <a:pt x="1533" y="1505"/>
                </a:lnTo>
                <a:lnTo>
                  <a:pt x="1513" y="1505"/>
                </a:lnTo>
                <a:lnTo>
                  <a:pt x="1504" y="1495"/>
                </a:lnTo>
                <a:lnTo>
                  <a:pt x="1497" y="1482"/>
                </a:lnTo>
                <a:lnTo>
                  <a:pt x="1490" y="1468"/>
                </a:lnTo>
                <a:lnTo>
                  <a:pt x="1483" y="1454"/>
                </a:lnTo>
                <a:lnTo>
                  <a:pt x="1478" y="1442"/>
                </a:lnTo>
                <a:lnTo>
                  <a:pt x="1471" y="1428"/>
                </a:lnTo>
                <a:lnTo>
                  <a:pt x="1462" y="1415"/>
                </a:lnTo>
                <a:lnTo>
                  <a:pt x="1453" y="1405"/>
                </a:lnTo>
                <a:lnTo>
                  <a:pt x="1453" y="1401"/>
                </a:lnTo>
                <a:lnTo>
                  <a:pt x="1455" y="1398"/>
                </a:lnTo>
                <a:lnTo>
                  <a:pt x="1455" y="1394"/>
                </a:lnTo>
                <a:lnTo>
                  <a:pt x="1457" y="1391"/>
                </a:lnTo>
                <a:lnTo>
                  <a:pt x="1458" y="1387"/>
                </a:lnTo>
                <a:lnTo>
                  <a:pt x="1460" y="1384"/>
                </a:lnTo>
                <a:lnTo>
                  <a:pt x="1462" y="1380"/>
                </a:lnTo>
                <a:lnTo>
                  <a:pt x="1462" y="1376"/>
                </a:lnTo>
                <a:lnTo>
                  <a:pt x="1458" y="1368"/>
                </a:lnTo>
                <a:lnTo>
                  <a:pt x="1457" y="1361"/>
                </a:lnTo>
                <a:lnTo>
                  <a:pt x="1455" y="1352"/>
                </a:lnTo>
                <a:lnTo>
                  <a:pt x="1453" y="1343"/>
                </a:lnTo>
                <a:lnTo>
                  <a:pt x="1453" y="1334"/>
                </a:lnTo>
                <a:lnTo>
                  <a:pt x="1453" y="1325"/>
                </a:lnTo>
                <a:lnTo>
                  <a:pt x="1453" y="1318"/>
                </a:lnTo>
                <a:lnTo>
                  <a:pt x="1453" y="1311"/>
                </a:lnTo>
                <a:lnTo>
                  <a:pt x="1448" y="1308"/>
                </a:lnTo>
                <a:lnTo>
                  <a:pt x="1442" y="1304"/>
                </a:lnTo>
                <a:lnTo>
                  <a:pt x="1439" y="1300"/>
                </a:lnTo>
                <a:lnTo>
                  <a:pt x="1437" y="1295"/>
                </a:lnTo>
                <a:lnTo>
                  <a:pt x="1434" y="1292"/>
                </a:lnTo>
                <a:lnTo>
                  <a:pt x="1432" y="1286"/>
                </a:lnTo>
                <a:lnTo>
                  <a:pt x="1430" y="1281"/>
                </a:lnTo>
                <a:lnTo>
                  <a:pt x="1427" y="1274"/>
                </a:lnTo>
                <a:lnTo>
                  <a:pt x="1428" y="1269"/>
                </a:lnTo>
                <a:lnTo>
                  <a:pt x="1430" y="1263"/>
                </a:lnTo>
                <a:lnTo>
                  <a:pt x="1434" y="1258"/>
                </a:lnTo>
                <a:lnTo>
                  <a:pt x="1437" y="1251"/>
                </a:lnTo>
                <a:lnTo>
                  <a:pt x="1441" y="1244"/>
                </a:lnTo>
                <a:lnTo>
                  <a:pt x="1446" y="1237"/>
                </a:lnTo>
                <a:lnTo>
                  <a:pt x="1450" y="1232"/>
                </a:lnTo>
                <a:lnTo>
                  <a:pt x="1453" y="1228"/>
                </a:lnTo>
                <a:lnTo>
                  <a:pt x="1453" y="1171"/>
                </a:lnTo>
                <a:lnTo>
                  <a:pt x="1427" y="1143"/>
                </a:lnTo>
                <a:lnTo>
                  <a:pt x="1427" y="1106"/>
                </a:lnTo>
                <a:lnTo>
                  <a:pt x="1420" y="1095"/>
                </a:lnTo>
                <a:lnTo>
                  <a:pt x="1412" y="1085"/>
                </a:lnTo>
                <a:lnTo>
                  <a:pt x="1411" y="1074"/>
                </a:lnTo>
                <a:lnTo>
                  <a:pt x="1409" y="1064"/>
                </a:lnTo>
                <a:lnTo>
                  <a:pt x="1407" y="1051"/>
                </a:lnTo>
                <a:lnTo>
                  <a:pt x="1409" y="1039"/>
                </a:lnTo>
                <a:lnTo>
                  <a:pt x="1409" y="1027"/>
                </a:lnTo>
                <a:lnTo>
                  <a:pt x="1409" y="1014"/>
                </a:lnTo>
                <a:lnTo>
                  <a:pt x="1398" y="1004"/>
                </a:lnTo>
                <a:lnTo>
                  <a:pt x="1386" y="997"/>
                </a:lnTo>
                <a:lnTo>
                  <a:pt x="1372" y="991"/>
                </a:lnTo>
                <a:lnTo>
                  <a:pt x="1356" y="989"/>
                </a:lnTo>
                <a:lnTo>
                  <a:pt x="1340" y="986"/>
                </a:lnTo>
                <a:lnTo>
                  <a:pt x="1326" y="986"/>
                </a:lnTo>
                <a:lnTo>
                  <a:pt x="1310" y="986"/>
                </a:lnTo>
                <a:lnTo>
                  <a:pt x="1296" y="986"/>
                </a:lnTo>
                <a:lnTo>
                  <a:pt x="1278" y="1004"/>
                </a:lnTo>
                <a:lnTo>
                  <a:pt x="1269" y="1004"/>
                </a:lnTo>
                <a:lnTo>
                  <a:pt x="1257" y="1002"/>
                </a:lnTo>
                <a:lnTo>
                  <a:pt x="1246" y="998"/>
                </a:lnTo>
                <a:lnTo>
                  <a:pt x="1236" y="995"/>
                </a:lnTo>
                <a:lnTo>
                  <a:pt x="1223" y="991"/>
                </a:lnTo>
                <a:lnTo>
                  <a:pt x="1213" y="988"/>
                </a:lnTo>
                <a:lnTo>
                  <a:pt x="1202" y="986"/>
                </a:lnTo>
                <a:lnTo>
                  <a:pt x="1192" y="986"/>
                </a:lnTo>
                <a:lnTo>
                  <a:pt x="1174" y="1004"/>
                </a:lnTo>
                <a:lnTo>
                  <a:pt x="1158" y="995"/>
                </a:lnTo>
                <a:lnTo>
                  <a:pt x="1142" y="984"/>
                </a:lnTo>
                <a:lnTo>
                  <a:pt x="1126" y="970"/>
                </a:lnTo>
                <a:lnTo>
                  <a:pt x="1110" y="956"/>
                </a:lnTo>
                <a:lnTo>
                  <a:pt x="1095" y="940"/>
                </a:lnTo>
                <a:lnTo>
                  <a:pt x="1080" y="924"/>
                </a:lnTo>
                <a:lnTo>
                  <a:pt x="1066" y="908"/>
                </a:lnTo>
                <a:lnTo>
                  <a:pt x="1052" y="894"/>
                </a:lnTo>
                <a:lnTo>
                  <a:pt x="1056" y="887"/>
                </a:lnTo>
                <a:lnTo>
                  <a:pt x="1057" y="882"/>
                </a:lnTo>
                <a:lnTo>
                  <a:pt x="1057" y="878"/>
                </a:lnTo>
                <a:lnTo>
                  <a:pt x="1059" y="875"/>
                </a:lnTo>
                <a:lnTo>
                  <a:pt x="1057" y="871"/>
                </a:lnTo>
                <a:lnTo>
                  <a:pt x="1057" y="868"/>
                </a:lnTo>
                <a:lnTo>
                  <a:pt x="1056" y="862"/>
                </a:lnTo>
                <a:lnTo>
                  <a:pt x="1052" y="857"/>
                </a:lnTo>
                <a:lnTo>
                  <a:pt x="1056" y="848"/>
                </a:lnTo>
                <a:lnTo>
                  <a:pt x="1057" y="841"/>
                </a:lnTo>
                <a:lnTo>
                  <a:pt x="1059" y="832"/>
                </a:lnTo>
                <a:lnTo>
                  <a:pt x="1059" y="823"/>
                </a:lnTo>
                <a:lnTo>
                  <a:pt x="1061" y="814"/>
                </a:lnTo>
                <a:lnTo>
                  <a:pt x="1061" y="806"/>
                </a:lnTo>
                <a:lnTo>
                  <a:pt x="1061" y="799"/>
                </a:lnTo>
                <a:lnTo>
                  <a:pt x="1061" y="792"/>
                </a:lnTo>
                <a:lnTo>
                  <a:pt x="1043" y="774"/>
                </a:lnTo>
                <a:lnTo>
                  <a:pt x="1201" y="604"/>
                </a:lnTo>
                <a:lnTo>
                  <a:pt x="1204" y="606"/>
                </a:lnTo>
                <a:lnTo>
                  <a:pt x="1211" y="606"/>
                </a:lnTo>
                <a:lnTo>
                  <a:pt x="1216" y="606"/>
                </a:lnTo>
                <a:lnTo>
                  <a:pt x="1223" y="608"/>
                </a:lnTo>
                <a:lnTo>
                  <a:pt x="1229" y="606"/>
                </a:lnTo>
                <a:lnTo>
                  <a:pt x="1231" y="604"/>
                </a:lnTo>
                <a:lnTo>
                  <a:pt x="1231" y="601"/>
                </a:lnTo>
                <a:lnTo>
                  <a:pt x="1227" y="595"/>
                </a:lnTo>
                <a:lnTo>
                  <a:pt x="1232" y="595"/>
                </a:lnTo>
                <a:lnTo>
                  <a:pt x="1243" y="595"/>
                </a:lnTo>
                <a:lnTo>
                  <a:pt x="1255" y="595"/>
                </a:lnTo>
                <a:lnTo>
                  <a:pt x="1271" y="594"/>
                </a:lnTo>
                <a:lnTo>
                  <a:pt x="1287" y="594"/>
                </a:lnTo>
                <a:lnTo>
                  <a:pt x="1301" y="592"/>
                </a:lnTo>
                <a:lnTo>
                  <a:pt x="1314" y="590"/>
                </a:lnTo>
                <a:lnTo>
                  <a:pt x="1322" y="587"/>
                </a:lnTo>
                <a:lnTo>
                  <a:pt x="1333" y="588"/>
                </a:lnTo>
                <a:lnTo>
                  <a:pt x="1344" y="590"/>
                </a:lnTo>
                <a:lnTo>
                  <a:pt x="1354" y="590"/>
                </a:lnTo>
                <a:lnTo>
                  <a:pt x="1365" y="590"/>
                </a:lnTo>
                <a:lnTo>
                  <a:pt x="1377" y="588"/>
                </a:lnTo>
                <a:lnTo>
                  <a:pt x="1388" y="588"/>
                </a:lnTo>
                <a:lnTo>
                  <a:pt x="1398" y="587"/>
                </a:lnTo>
                <a:lnTo>
                  <a:pt x="1409" y="587"/>
                </a:lnTo>
                <a:lnTo>
                  <a:pt x="1416" y="599"/>
                </a:lnTo>
                <a:lnTo>
                  <a:pt x="1425" y="610"/>
                </a:lnTo>
                <a:lnTo>
                  <a:pt x="1432" y="618"/>
                </a:lnTo>
                <a:lnTo>
                  <a:pt x="1441" y="627"/>
                </a:lnTo>
                <a:lnTo>
                  <a:pt x="1450" y="634"/>
                </a:lnTo>
                <a:lnTo>
                  <a:pt x="1460" y="643"/>
                </a:lnTo>
                <a:lnTo>
                  <a:pt x="1469" y="650"/>
                </a:lnTo>
                <a:lnTo>
                  <a:pt x="1480" y="661"/>
                </a:lnTo>
                <a:lnTo>
                  <a:pt x="1513" y="661"/>
                </a:lnTo>
                <a:lnTo>
                  <a:pt x="1515" y="657"/>
                </a:lnTo>
                <a:lnTo>
                  <a:pt x="1515" y="654"/>
                </a:lnTo>
                <a:lnTo>
                  <a:pt x="1517" y="650"/>
                </a:lnTo>
                <a:lnTo>
                  <a:pt x="1518" y="647"/>
                </a:lnTo>
                <a:lnTo>
                  <a:pt x="1520" y="643"/>
                </a:lnTo>
                <a:lnTo>
                  <a:pt x="1522" y="640"/>
                </a:lnTo>
                <a:lnTo>
                  <a:pt x="1522" y="636"/>
                </a:lnTo>
                <a:lnTo>
                  <a:pt x="1522" y="632"/>
                </a:lnTo>
                <a:lnTo>
                  <a:pt x="1538" y="634"/>
                </a:lnTo>
                <a:lnTo>
                  <a:pt x="1554" y="638"/>
                </a:lnTo>
                <a:lnTo>
                  <a:pt x="1570" y="641"/>
                </a:lnTo>
                <a:lnTo>
                  <a:pt x="1586" y="645"/>
                </a:lnTo>
                <a:lnTo>
                  <a:pt x="1601" y="650"/>
                </a:lnTo>
                <a:lnTo>
                  <a:pt x="1617" y="652"/>
                </a:lnTo>
                <a:lnTo>
                  <a:pt x="1635" y="654"/>
                </a:lnTo>
                <a:lnTo>
                  <a:pt x="1653" y="652"/>
                </a:lnTo>
                <a:lnTo>
                  <a:pt x="1658" y="652"/>
                </a:lnTo>
                <a:lnTo>
                  <a:pt x="1661" y="654"/>
                </a:lnTo>
                <a:lnTo>
                  <a:pt x="1665" y="655"/>
                </a:lnTo>
                <a:lnTo>
                  <a:pt x="1670" y="655"/>
                </a:lnTo>
                <a:lnTo>
                  <a:pt x="1674" y="657"/>
                </a:lnTo>
                <a:lnTo>
                  <a:pt x="1676" y="659"/>
                </a:lnTo>
                <a:lnTo>
                  <a:pt x="1679" y="661"/>
                </a:lnTo>
                <a:lnTo>
                  <a:pt x="1679" y="661"/>
                </a:lnTo>
                <a:lnTo>
                  <a:pt x="1688" y="670"/>
                </a:lnTo>
                <a:lnTo>
                  <a:pt x="1732" y="754"/>
                </a:lnTo>
                <a:lnTo>
                  <a:pt x="1750" y="754"/>
                </a:lnTo>
                <a:lnTo>
                  <a:pt x="1752" y="760"/>
                </a:lnTo>
                <a:lnTo>
                  <a:pt x="1753" y="767"/>
                </a:lnTo>
                <a:lnTo>
                  <a:pt x="1755" y="776"/>
                </a:lnTo>
                <a:lnTo>
                  <a:pt x="1757" y="786"/>
                </a:lnTo>
                <a:lnTo>
                  <a:pt x="1757" y="797"/>
                </a:lnTo>
                <a:lnTo>
                  <a:pt x="1757" y="806"/>
                </a:lnTo>
                <a:lnTo>
                  <a:pt x="1759" y="814"/>
                </a:lnTo>
                <a:lnTo>
                  <a:pt x="1759" y="820"/>
                </a:lnTo>
                <a:lnTo>
                  <a:pt x="1767" y="830"/>
                </a:lnTo>
                <a:lnTo>
                  <a:pt x="1782" y="846"/>
                </a:lnTo>
                <a:lnTo>
                  <a:pt x="1799" y="864"/>
                </a:lnTo>
                <a:lnTo>
                  <a:pt x="1819" y="885"/>
                </a:lnTo>
                <a:lnTo>
                  <a:pt x="1838" y="903"/>
                </a:lnTo>
                <a:lnTo>
                  <a:pt x="1856" y="919"/>
                </a:lnTo>
                <a:lnTo>
                  <a:pt x="1863" y="924"/>
                </a:lnTo>
                <a:lnTo>
                  <a:pt x="1870" y="929"/>
                </a:lnTo>
                <a:lnTo>
                  <a:pt x="1875" y="931"/>
                </a:lnTo>
                <a:lnTo>
                  <a:pt x="1880" y="929"/>
                </a:lnTo>
                <a:lnTo>
                  <a:pt x="1882" y="931"/>
                </a:lnTo>
                <a:lnTo>
                  <a:pt x="1888" y="931"/>
                </a:lnTo>
                <a:lnTo>
                  <a:pt x="1895" y="933"/>
                </a:lnTo>
                <a:lnTo>
                  <a:pt x="1903" y="935"/>
                </a:lnTo>
                <a:lnTo>
                  <a:pt x="1914" y="936"/>
                </a:lnTo>
                <a:lnTo>
                  <a:pt x="1925" y="938"/>
                </a:lnTo>
                <a:lnTo>
                  <a:pt x="1933" y="938"/>
                </a:lnTo>
                <a:lnTo>
                  <a:pt x="1941" y="938"/>
                </a:lnTo>
                <a:lnTo>
                  <a:pt x="1958" y="921"/>
                </a:lnTo>
                <a:lnTo>
                  <a:pt x="1960" y="924"/>
                </a:lnTo>
                <a:lnTo>
                  <a:pt x="1962" y="928"/>
                </a:lnTo>
                <a:lnTo>
                  <a:pt x="1963" y="929"/>
                </a:lnTo>
                <a:lnTo>
                  <a:pt x="1963" y="931"/>
                </a:lnTo>
                <a:lnTo>
                  <a:pt x="1963" y="931"/>
                </a:lnTo>
                <a:lnTo>
                  <a:pt x="1962" y="929"/>
                </a:lnTo>
                <a:lnTo>
                  <a:pt x="1960" y="926"/>
                </a:lnTo>
                <a:lnTo>
                  <a:pt x="1958" y="921"/>
                </a:lnTo>
                <a:close/>
                <a:moveTo>
                  <a:pt x="1888" y="1368"/>
                </a:moveTo>
                <a:lnTo>
                  <a:pt x="1845" y="1368"/>
                </a:lnTo>
                <a:lnTo>
                  <a:pt x="1828" y="1348"/>
                </a:lnTo>
                <a:lnTo>
                  <a:pt x="1845" y="1331"/>
                </a:lnTo>
                <a:lnTo>
                  <a:pt x="1840" y="1327"/>
                </a:lnTo>
                <a:lnTo>
                  <a:pt x="1836" y="1323"/>
                </a:lnTo>
                <a:lnTo>
                  <a:pt x="1835" y="1320"/>
                </a:lnTo>
                <a:lnTo>
                  <a:pt x="1836" y="1315"/>
                </a:lnTo>
                <a:lnTo>
                  <a:pt x="1838" y="1311"/>
                </a:lnTo>
                <a:lnTo>
                  <a:pt x="1842" y="1306"/>
                </a:lnTo>
                <a:lnTo>
                  <a:pt x="1847" y="1300"/>
                </a:lnTo>
                <a:lnTo>
                  <a:pt x="1854" y="1293"/>
                </a:lnTo>
                <a:lnTo>
                  <a:pt x="1852" y="1290"/>
                </a:lnTo>
                <a:lnTo>
                  <a:pt x="1852" y="1286"/>
                </a:lnTo>
                <a:lnTo>
                  <a:pt x="1850" y="1283"/>
                </a:lnTo>
                <a:lnTo>
                  <a:pt x="1849" y="1279"/>
                </a:lnTo>
                <a:lnTo>
                  <a:pt x="1847" y="1276"/>
                </a:lnTo>
                <a:lnTo>
                  <a:pt x="1845" y="1272"/>
                </a:lnTo>
                <a:lnTo>
                  <a:pt x="1845" y="1269"/>
                </a:lnTo>
                <a:lnTo>
                  <a:pt x="1845" y="1265"/>
                </a:lnTo>
                <a:lnTo>
                  <a:pt x="1863" y="1246"/>
                </a:lnTo>
                <a:lnTo>
                  <a:pt x="1896" y="1246"/>
                </a:lnTo>
                <a:lnTo>
                  <a:pt x="1902" y="1239"/>
                </a:lnTo>
                <a:lnTo>
                  <a:pt x="1907" y="1232"/>
                </a:lnTo>
                <a:lnTo>
                  <a:pt x="1911" y="1226"/>
                </a:lnTo>
                <a:lnTo>
                  <a:pt x="1914" y="1219"/>
                </a:lnTo>
                <a:lnTo>
                  <a:pt x="1918" y="1212"/>
                </a:lnTo>
                <a:lnTo>
                  <a:pt x="1921" y="1205"/>
                </a:lnTo>
                <a:lnTo>
                  <a:pt x="1925" y="1198"/>
                </a:lnTo>
                <a:lnTo>
                  <a:pt x="1932" y="1191"/>
                </a:lnTo>
                <a:lnTo>
                  <a:pt x="1932" y="1198"/>
                </a:lnTo>
                <a:lnTo>
                  <a:pt x="1933" y="1207"/>
                </a:lnTo>
                <a:lnTo>
                  <a:pt x="1937" y="1214"/>
                </a:lnTo>
                <a:lnTo>
                  <a:pt x="1941" y="1223"/>
                </a:lnTo>
                <a:lnTo>
                  <a:pt x="1942" y="1230"/>
                </a:lnTo>
                <a:lnTo>
                  <a:pt x="1946" y="1237"/>
                </a:lnTo>
                <a:lnTo>
                  <a:pt x="1948" y="1242"/>
                </a:lnTo>
                <a:lnTo>
                  <a:pt x="1948" y="1246"/>
                </a:lnTo>
                <a:lnTo>
                  <a:pt x="1944" y="1247"/>
                </a:lnTo>
                <a:lnTo>
                  <a:pt x="1942" y="1249"/>
                </a:lnTo>
                <a:lnTo>
                  <a:pt x="1937" y="1255"/>
                </a:lnTo>
                <a:lnTo>
                  <a:pt x="1933" y="1260"/>
                </a:lnTo>
                <a:lnTo>
                  <a:pt x="1926" y="1274"/>
                </a:lnTo>
                <a:lnTo>
                  <a:pt x="1919" y="1292"/>
                </a:lnTo>
                <a:lnTo>
                  <a:pt x="1912" y="1311"/>
                </a:lnTo>
                <a:lnTo>
                  <a:pt x="1905" y="1329"/>
                </a:lnTo>
                <a:lnTo>
                  <a:pt x="1900" y="1345"/>
                </a:lnTo>
                <a:lnTo>
                  <a:pt x="1896" y="1359"/>
                </a:lnTo>
                <a:lnTo>
                  <a:pt x="1893" y="1359"/>
                </a:lnTo>
                <a:lnTo>
                  <a:pt x="1889" y="1359"/>
                </a:lnTo>
                <a:lnTo>
                  <a:pt x="1888" y="1359"/>
                </a:lnTo>
                <a:lnTo>
                  <a:pt x="1886" y="1359"/>
                </a:lnTo>
                <a:lnTo>
                  <a:pt x="1884" y="1361"/>
                </a:lnTo>
                <a:lnTo>
                  <a:pt x="1884" y="1362"/>
                </a:lnTo>
                <a:lnTo>
                  <a:pt x="1886" y="1364"/>
                </a:lnTo>
                <a:lnTo>
                  <a:pt x="1888" y="1368"/>
                </a:lnTo>
                <a:close/>
                <a:moveTo>
                  <a:pt x="2855" y="373"/>
                </a:moveTo>
                <a:lnTo>
                  <a:pt x="2855" y="385"/>
                </a:lnTo>
                <a:lnTo>
                  <a:pt x="2857" y="394"/>
                </a:lnTo>
                <a:lnTo>
                  <a:pt x="2861" y="403"/>
                </a:lnTo>
                <a:lnTo>
                  <a:pt x="2862" y="410"/>
                </a:lnTo>
                <a:lnTo>
                  <a:pt x="2866" y="417"/>
                </a:lnTo>
                <a:lnTo>
                  <a:pt x="2869" y="424"/>
                </a:lnTo>
                <a:lnTo>
                  <a:pt x="2871" y="433"/>
                </a:lnTo>
                <a:lnTo>
                  <a:pt x="2871" y="445"/>
                </a:lnTo>
                <a:lnTo>
                  <a:pt x="2875" y="447"/>
                </a:lnTo>
                <a:lnTo>
                  <a:pt x="2878" y="447"/>
                </a:lnTo>
                <a:lnTo>
                  <a:pt x="2882" y="449"/>
                </a:lnTo>
                <a:lnTo>
                  <a:pt x="2885" y="450"/>
                </a:lnTo>
                <a:lnTo>
                  <a:pt x="2887" y="452"/>
                </a:lnTo>
                <a:lnTo>
                  <a:pt x="2891" y="454"/>
                </a:lnTo>
                <a:lnTo>
                  <a:pt x="2894" y="456"/>
                </a:lnTo>
                <a:lnTo>
                  <a:pt x="2898" y="456"/>
                </a:lnTo>
                <a:lnTo>
                  <a:pt x="2900" y="463"/>
                </a:lnTo>
                <a:lnTo>
                  <a:pt x="2901" y="470"/>
                </a:lnTo>
                <a:lnTo>
                  <a:pt x="2905" y="475"/>
                </a:lnTo>
                <a:lnTo>
                  <a:pt x="2908" y="481"/>
                </a:lnTo>
                <a:lnTo>
                  <a:pt x="2914" y="486"/>
                </a:lnTo>
                <a:lnTo>
                  <a:pt x="2919" y="489"/>
                </a:lnTo>
                <a:lnTo>
                  <a:pt x="2926" y="493"/>
                </a:lnTo>
                <a:lnTo>
                  <a:pt x="2933" y="493"/>
                </a:lnTo>
                <a:lnTo>
                  <a:pt x="2926" y="486"/>
                </a:lnTo>
                <a:lnTo>
                  <a:pt x="2921" y="479"/>
                </a:lnTo>
                <a:lnTo>
                  <a:pt x="2917" y="472"/>
                </a:lnTo>
                <a:lnTo>
                  <a:pt x="2914" y="465"/>
                </a:lnTo>
                <a:lnTo>
                  <a:pt x="2912" y="458"/>
                </a:lnTo>
                <a:lnTo>
                  <a:pt x="2912" y="450"/>
                </a:lnTo>
                <a:lnTo>
                  <a:pt x="2912" y="443"/>
                </a:lnTo>
                <a:lnTo>
                  <a:pt x="2915" y="436"/>
                </a:lnTo>
                <a:lnTo>
                  <a:pt x="2905" y="433"/>
                </a:lnTo>
                <a:lnTo>
                  <a:pt x="2896" y="427"/>
                </a:lnTo>
                <a:lnTo>
                  <a:pt x="2887" y="420"/>
                </a:lnTo>
                <a:lnTo>
                  <a:pt x="2878" y="412"/>
                </a:lnTo>
                <a:lnTo>
                  <a:pt x="2869" y="403"/>
                </a:lnTo>
                <a:lnTo>
                  <a:pt x="2864" y="392"/>
                </a:lnTo>
                <a:lnTo>
                  <a:pt x="2859" y="382"/>
                </a:lnTo>
                <a:lnTo>
                  <a:pt x="2855" y="373"/>
                </a:lnTo>
                <a:close/>
                <a:moveTo>
                  <a:pt x="2960" y="521"/>
                </a:moveTo>
                <a:lnTo>
                  <a:pt x="2963" y="519"/>
                </a:lnTo>
                <a:lnTo>
                  <a:pt x="2967" y="519"/>
                </a:lnTo>
                <a:lnTo>
                  <a:pt x="2972" y="518"/>
                </a:lnTo>
                <a:lnTo>
                  <a:pt x="2975" y="516"/>
                </a:lnTo>
                <a:lnTo>
                  <a:pt x="2981" y="514"/>
                </a:lnTo>
                <a:lnTo>
                  <a:pt x="2986" y="512"/>
                </a:lnTo>
                <a:lnTo>
                  <a:pt x="2990" y="512"/>
                </a:lnTo>
                <a:lnTo>
                  <a:pt x="2993" y="511"/>
                </a:lnTo>
                <a:lnTo>
                  <a:pt x="2990" y="511"/>
                </a:lnTo>
                <a:lnTo>
                  <a:pt x="2984" y="509"/>
                </a:lnTo>
                <a:lnTo>
                  <a:pt x="2979" y="505"/>
                </a:lnTo>
                <a:lnTo>
                  <a:pt x="2972" y="502"/>
                </a:lnTo>
                <a:lnTo>
                  <a:pt x="2965" y="496"/>
                </a:lnTo>
                <a:lnTo>
                  <a:pt x="2960" y="491"/>
                </a:lnTo>
                <a:lnTo>
                  <a:pt x="2954" y="488"/>
                </a:lnTo>
                <a:lnTo>
                  <a:pt x="2951" y="484"/>
                </a:lnTo>
                <a:lnTo>
                  <a:pt x="2933" y="502"/>
                </a:lnTo>
                <a:lnTo>
                  <a:pt x="2933" y="507"/>
                </a:lnTo>
                <a:lnTo>
                  <a:pt x="2935" y="512"/>
                </a:lnTo>
                <a:lnTo>
                  <a:pt x="2937" y="518"/>
                </a:lnTo>
                <a:lnTo>
                  <a:pt x="2938" y="525"/>
                </a:lnTo>
                <a:lnTo>
                  <a:pt x="2940" y="532"/>
                </a:lnTo>
                <a:lnTo>
                  <a:pt x="2940" y="539"/>
                </a:lnTo>
                <a:lnTo>
                  <a:pt x="2942" y="544"/>
                </a:lnTo>
                <a:lnTo>
                  <a:pt x="2942" y="548"/>
                </a:lnTo>
                <a:lnTo>
                  <a:pt x="2960" y="548"/>
                </a:lnTo>
                <a:lnTo>
                  <a:pt x="2960" y="604"/>
                </a:lnTo>
                <a:lnTo>
                  <a:pt x="2956" y="604"/>
                </a:lnTo>
                <a:lnTo>
                  <a:pt x="2951" y="606"/>
                </a:lnTo>
                <a:lnTo>
                  <a:pt x="2947" y="606"/>
                </a:lnTo>
                <a:lnTo>
                  <a:pt x="2944" y="608"/>
                </a:lnTo>
                <a:lnTo>
                  <a:pt x="2940" y="610"/>
                </a:lnTo>
                <a:lnTo>
                  <a:pt x="2937" y="611"/>
                </a:lnTo>
                <a:lnTo>
                  <a:pt x="2935" y="613"/>
                </a:lnTo>
                <a:lnTo>
                  <a:pt x="2933" y="613"/>
                </a:lnTo>
                <a:lnTo>
                  <a:pt x="2933" y="631"/>
                </a:lnTo>
                <a:lnTo>
                  <a:pt x="2930" y="632"/>
                </a:lnTo>
                <a:lnTo>
                  <a:pt x="2926" y="632"/>
                </a:lnTo>
                <a:lnTo>
                  <a:pt x="2921" y="634"/>
                </a:lnTo>
                <a:lnTo>
                  <a:pt x="2915" y="638"/>
                </a:lnTo>
                <a:lnTo>
                  <a:pt x="2912" y="640"/>
                </a:lnTo>
                <a:lnTo>
                  <a:pt x="2907" y="643"/>
                </a:lnTo>
                <a:lnTo>
                  <a:pt x="2903" y="647"/>
                </a:lnTo>
                <a:lnTo>
                  <a:pt x="2900" y="650"/>
                </a:lnTo>
                <a:lnTo>
                  <a:pt x="2926" y="678"/>
                </a:lnTo>
                <a:lnTo>
                  <a:pt x="2926" y="650"/>
                </a:lnTo>
                <a:lnTo>
                  <a:pt x="2933" y="647"/>
                </a:lnTo>
                <a:lnTo>
                  <a:pt x="2942" y="643"/>
                </a:lnTo>
                <a:lnTo>
                  <a:pt x="2952" y="640"/>
                </a:lnTo>
                <a:lnTo>
                  <a:pt x="2965" y="638"/>
                </a:lnTo>
                <a:lnTo>
                  <a:pt x="2977" y="634"/>
                </a:lnTo>
                <a:lnTo>
                  <a:pt x="2990" y="632"/>
                </a:lnTo>
                <a:lnTo>
                  <a:pt x="3000" y="632"/>
                </a:lnTo>
                <a:lnTo>
                  <a:pt x="3011" y="631"/>
                </a:lnTo>
                <a:lnTo>
                  <a:pt x="3011" y="625"/>
                </a:lnTo>
                <a:lnTo>
                  <a:pt x="3009" y="618"/>
                </a:lnTo>
                <a:lnTo>
                  <a:pt x="3005" y="611"/>
                </a:lnTo>
                <a:lnTo>
                  <a:pt x="3002" y="604"/>
                </a:lnTo>
                <a:lnTo>
                  <a:pt x="2997" y="599"/>
                </a:lnTo>
                <a:lnTo>
                  <a:pt x="2993" y="594"/>
                </a:lnTo>
                <a:lnTo>
                  <a:pt x="2988" y="588"/>
                </a:lnTo>
                <a:lnTo>
                  <a:pt x="2984" y="585"/>
                </a:lnTo>
                <a:lnTo>
                  <a:pt x="3002" y="567"/>
                </a:lnTo>
                <a:lnTo>
                  <a:pt x="2960" y="521"/>
                </a:lnTo>
                <a:close/>
                <a:moveTo>
                  <a:pt x="1278" y="325"/>
                </a:moveTo>
                <a:lnTo>
                  <a:pt x="1275" y="327"/>
                </a:lnTo>
                <a:lnTo>
                  <a:pt x="1271" y="327"/>
                </a:lnTo>
                <a:lnTo>
                  <a:pt x="1266" y="329"/>
                </a:lnTo>
                <a:lnTo>
                  <a:pt x="1261" y="330"/>
                </a:lnTo>
                <a:lnTo>
                  <a:pt x="1257" y="332"/>
                </a:lnTo>
                <a:lnTo>
                  <a:pt x="1252" y="334"/>
                </a:lnTo>
                <a:lnTo>
                  <a:pt x="1248" y="334"/>
                </a:lnTo>
                <a:lnTo>
                  <a:pt x="1245" y="334"/>
                </a:lnTo>
                <a:lnTo>
                  <a:pt x="1245" y="341"/>
                </a:lnTo>
                <a:lnTo>
                  <a:pt x="1246" y="348"/>
                </a:lnTo>
                <a:lnTo>
                  <a:pt x="1250" y="355"/>
                </a:lnTo>
                <a:lnTo>
                  <a:pt x="1254" y="362"/>
                </a:lnTo>
                <a:lnTo>
                  <a:pt x="1259" y="367"/>
                </a:lnTo>
                <a:lnTo>
                  <a:pt x="1262" y="373"/>
                </a:lnTo>
                <a:lnTo>
                  <a:pt x="1266" y="376"/>
                </a:lnTo>
                <a:lnTo>
                  <a:pt x="1269" y="380"/>
                </a:lnTo>
                <a:lnTo>
                  <a:pt x="1245" y="410"/>
                </a:lnTo>
                <a:lnTo>
                  <a:pt x="1246" y="415"/>
                </a:lnTo>
                <a:lnTo>
                  <a:pt x="1248" y="419"/>
                </a:lnTo>
                <a:lnTo>
                  <a:pt x="1248" y="420"/>
                </a:lnTo>
                <a:lnTo>
                  <a:pt x="1248" y="422"/>
                </a:lnTo>
                <a:lnTo>
                  <a:pt x="1248" y="424"/>
                </a:lnTo>
                <a:lnTo>
                  <a:pt x="1248" y="427"/>
                </a:lnTo>
                <a:lnTo>
                  <a:pt x="1250" y="431"/>
                </a:lnTo>
                <a:lnTo>
                  <a:pt x="1254" y="436"/>
                </a:lnTo>
                <a:lnTo>
                  <a:pt x="1261" y="429"/>
                </a:lnTo>
                <a:lnTo>
                  <a:pt x="1268" y="424"/>
                </a:lnTo>
                <a:lnTo>
                  <a:pt x="1278" y="419"/>
                </a:lnTo>
                <a:lnTo>
                  <a:pt x="1289" y="415"/>
                </a:lnTo>
                <a:lnTo>
                  <a:pt x="1299" y="410"/>
                </a:lnTo>
                <a:lnTo>
                  <a:pt x="1310" y="406"/>
                </a:lnTo>
                <a:lnTo>
                  <a:pt x="1321" y="403"/>
                </a:lnTo>
                <a:lnTo>
                  <a:pt x="1331" y="399"/>
                </a:lnTo>
                <a:lnTo>
                  <a:pt x="1324" y="396"/>
                </a:lnTo>
                <a:lnTo>
                  <a:pt x="1317" y="392"/>
                </a:lnTo>
                <a:lnTo>
                  <a:pt x="1310" y="389"/>
                </a:lnTo>
                <a:lnTo>
                  <a:pt x="1305" y="385"/>
                </a:lnTo>
                <a:lnTo>
                  <a:pt x="1298" y="380"/>
                </a:lnTo>
                <a:lnTo>
                  <a:pt x="1291" y="374"/>
                </a:lnTo>
                <a:lnTo>
                  <a:pt x="1285" y="369"/>
                </a:lnTo>
                <a:lnTo>
                  <a:pt x="1278" y="362"/>
                </a:lnTo>
                <a:lnTo>
                  <a:pt x="1278" y="353"/>
                </a:lnTo>
                <a:lnTo>
                  <a:pt x="1280" y="346"/>
                </a:lnTo>
                <a:lnTo>
                  <a:pt x="1280" y="341"/>
                </a:lnTo>
                <a:lnTo>
                  <a:pt x="1282" y="337"/>
                </a:lnTo>
                <a:lnTo>
                  <a:pt x="1282" y="334"/>
                </a:lnTo>
                <a:lnTo>
                  <a:pt x="1282" y="330"/>
                </a:lnTo>
                <a:lnTo>
                  <a:pt x="1280" y="329"/>
                </a:lnTo>
                <a:lnTo>
                  <a:pt x="1278" y="325"/>
                </a:lnTo>
                <a:close/>
                <a:moveTo>
                  <a:pt x="1227" y="362"/>
                </a:moveTo>
                <a:lnTo>
                  <a:pt x="1225" y="366"/>
                </a:lnTo>
                <a:lnTo>
                  <a:pt x="1225" y="371"/>
                </a:lnTo>
                <a:lnTo>
                  <a:pt x="1223" y="376"/>
                </a:lnTo>
                <a:lnTo>
                  <a:pt x="1222" y="380"/>
                </a:lnTo>
                <a:lnTo>
                  <a:pt x="1222" y="385"/>
                </a:lnTo>
                <a:lnTo>
                  <a:pt x="1220" y="390"/>
                </a:lnTo>
                <a:lnTo>
                  <a:pt x="1218" y="396"/>
                </a:lnTo>
                <a:lnTo>
                  <a:pt x="1218" y="399"/>
                </a:lnTo>
                <a:lnTo>
                  <a:pt x="1213" y="399"/>
                </a:lnTo>
                <a:lnTo>
                  <a:pt x="1206" y="401"/>
                </a:lnTo>
                <a:lnTo>
                  <a:pt x="1202" y="403"/>
                </a:lnTo>
                <a:lnTo>
                  <a:pt x="1197" y="405"/>
                </a:lnTo>
                <a:lnTo>
                  <a:pt x="1193" y="408"/>
                </a:lnTo>
                <a:lnTo>
                  <a:pt x="1190" y="412"/>
                </a:lnTo>
                <a:lnTo>
                  <a:pt x="1186" y="415"/>
                </a:lnTo>
                <a:lnTo>
                  <a:pt x="1183" y="417"/>
                </a:lnTo>
                <a:lnTo>
                  <a:pt x="1183" y="412"/>
                </a:lnTo>
                <a:lnTo>
                  <a:pt x="1185" y="406"/>
                </a:lnTo>
                <a:lnTo>
                  <a:pt x="1185" y="403"/>
                </a:lnTo>
                <a:lnTo>
                  <a:pt x="1186" y="399"/>
                </a:lnTo>
                <a:lnTo>
                  <a:pt x="1186" y="396"/>
                </a:lnTo>
                <a:lnTo>
                  <a:pt x="1186" y="392"/>
                </a:lnTo>
                <a:lnTo>
                  <a:pt x="1186" y="387"/>
                </a:lnTo>
                <a:lnTo>
                  <a:pt x="1183" y="380"/>
                </a:lnTo>
                <a:lnTo>
                  <a:pt x="1186" y="380"/>
                </a:lnTo>
                <a:lnTo>
                  <a:pt x="1192" y="378"/>
                </a:lnTo>
                <a:lnTo>
                  <a:pt x="1197" y="374"/>
                </a:lnTo>
                <a:lnTo>
                  <a:pt x="1202" y="371"/>
                </a:lnTo>
                <a:lnTo>
                  <a:pt x="1208" y="369"/>
                </a:lnTo>
                <a:lnTo>
                  <a:pt x="1213" y="366"/>
                </a:lnTo>
                <a:lnTo>
                  <a:pt x="1220" y="364"/>
                </a:lnTo>
                <a:lnTo>
                  <a:pt x="1227" y="362"/>
                </a:lnTo>
                <a:close/>
                <a:moveTo>
                  <a:pt x="2567" y="986"/>
                </a:moveTo>
                <a:lnTo>
                  <a:pt x="2576" y="989"/>
                </a:lnTo>
                <a:lnTo>
                  <a:pt x="2582" y="993"/>
                </a:lnTo>
                <a:lnTo>
                  <a:pt x="2587" y="997"/>
                </a:lnTo>
                <a:lnTo>
                  <a:pt x="2592" y="1000"/>
                </a:lnTo>
                <a:lnTo>
                  <a:pt x="2596" y="1005"/>
                </a:lnTo>
                <a:lnTo>
                  <a:pt x="2599" y="1011"/>
                </a:lnTo>
                <a:lnTo>
                  <a:pt x="2605" y="1016"/>
                </a:lnTo>
                <a:lnTo>
                  <a:pt x="2610" y="1023"/>
                </a:lnTo>
                <a:lnTo>
                  <a:pt x="2620" y="1023"/>
                </a:lnTo>
                <a:lnTo>
                  <a:pt x="2629" y="1027"/>
                </a:lnTo>
                <a:lnTo>
                  <a:pt x="2636" y="1030"/>
                </a:lnTo>
                <a:lnTo>
                  <a:pt x="2643" y="1035"/>
                </a:lnTo>
                <a:lnTo>
                  <a:pt x="2658" y="1048"/>
                </a:lnTo>
                <a:lnTo>
                  <a:pt x="2668" y="1064"/>
                </a:lnTo>
                <a:lnTo>
                  <a:pt x="2679" y="1081"/>
                </a:lnTo>
                <a:lnTo>
                  <a:pt x="2688" y="1097"/>
                </a:lnTo>
                <a:lnTo>
                  <a:pt x="2696" y="1113"/>
                </a:lnTo>
                <a:lnTo>
                  <a:pt x="2705" y="1126"/>
                </a:lnTo>
                <a:lnTo>
                  <a:pt x="2702" y="1126"/>
                </a:lnTo>
                <a:lnTo>
                  <a:pt x="2698" y="1127"/>
                </a:lnTo>
                <a:lnTo>
                  <a:pt x="2693" y="1127"/>
                </a:lnTo>
                <a:lnTo>
                  <a:pt x="2689" y="1129"/>
                </a:lnTo>
                <a:lnTo>
                  <a:pt x="2684" y="1131"/>
                </a:lnTo>
                <a:lnTo>
                  <a:pt x="2679" y="1133"/>
                </a:lnTo>
                <a:lnTo>
                  <a:pt x="2675" y="1134"/>
                </a:lnTo>
                <a:lnTo>
                  <a:pt x="2670" y="1134"/>
                </a:lnTo>
                <a:lnTo>
                  <a:pt x="2658" y="1120"/>
                </a:lnTo>
                <a:lnTo>
                  <a:pt x="2643" y="1103"/>
                </a:lnTo>
                <a:lnTo>
                  <a:pt x="2629" y="1083"/>
                </a:lnTo>
                <a:lnTo>
                  <a:pt x="2615" y="1064"/>
                </a:lnTo>
                <a:lnTo>
                  <a:pt x="2603" y="1044"/>
                </a:lnTo>
                <a:lnTo>
                  <a:pt x="2589" y="1023"/>
                </a:lnTo>
                <a:lnTo>
                  <a:pt x="2578" y="1004"/>
                </a:lnTo>
                <a:lnTo>
                  <a:pt x="2567" y="986"/>
                </a:lnTo>
                <a:close/>
                <a:moveTo>
                  <a:pt x="2698" y="1143"/>
                </a:moveTo>
                <a:lnTo>
                  <a:pt x="2714" y="1140"/>
                </a:lnTo>
                <a:lnTo>
                  <a:pt x="2730" y="1138"/>
                </a:lnTo>
                <a:lnTo>
                  <a:pt x="2744" y="1138"/>
                </a:lnTo>
                <a:lnTo>
                  <a:pt x="2758" y="1141"/>
                </a:lnTo>
                <a:lnTo>
                  <a:pt x="2774" y="1145"/>
                </a:lnTo>
                <a:lnTo>
                  <a:pt x="2788" y="1148"/>
                </a:lnTo>
                <a:lnTo>
                  <a:pt x="2804" y="1152"/>
                </a:lnTo>
                <a:lnTo>
                  <a:pt x="2820" y="1152"/>
                </a:lnTo>
                <a:lnTo>
                  <a:pt x="2808" y="1156"/>
                </a:lnTo>
                <a:lnTo>
                  <a:pt x="2794" y="1156"/>
                </a:lnTo>
                <a:lnTo>
                  <a:pt x="2778" y="1156"/>
                </a:lnTo>
                <a:lnTo>
                  <a:pt x="2762" y="1156"/>
                </a:lnTo>
                <a:lnTo>
                  <a:pt x="2744" y="1152"/>
                </a:lnTo>
                <a:lnTo>
                  <a:pt x="2728" y="1150"/>
                </a:lnTo>
                <a:lnTo>
                  <a:pt x="2712" y="1147"/>
                </a:lnTo>
                <a:lnTo>
                  <a:pt x="2698" y="1143"/>
                </a:lnTo>
                <a:close/>
                <a:moveTo>
                  <a:pt x="2855" y="1097"/>
                </a:moveTo>
                <a:lnTo>
                  <a:pt x="2850" y="1097"/>
                </a:lnTo>
                <a:lnTo>
                  <a:pt x="2847" y="1099"/>
                </a:lnTo>
                <a:lnTo>
                  <a:pt x="2841" y="1101"/>
                </a:lnTo>
                <a:lnTo>
                  <a:pt x="2838" y="1103"/>
                </a:lnTo>
                <a:lnTo>
                  <a:pt x="2832" y="1103"/>
                </a:lnTo>
                <a:lnTo>
                  <a:pt x="2827" y="1104"/>
                </a:lnTo>
                <a:lnTo>
                  <a:pt x="2824" y="1106"/>
                </a:lnTo>
                <a:lnTo>
                  <a:pt x="2820" y="1106"/>
                </a:lnTo>
                <a:lnTo>
                  <a:pt x="2813" y="1103"/>
                </a:lnTo>
                <a:lnTo>
                  <a:pt x="2806" y="1099"/>
                </a:lnTo>
                <a:lnTo>
                  <a:pt x="2797" y="1097"/>
                </a:lnTo>
                <a:lnTo>
                  <a:pt x="2790" y="1095"/>
                </a:lnTo>
                <a:lnTo>
                  <a:pt x="2781" y="1094"/>
                </a:lnTo>
                <a:lnTo>
                  <a:pt x="2774" y="1094"/>
                </a:lnTo>
                <a:lnTo>
                  <a:pt x="2765" y="1095"/>
                </a:lnTo>
                <a:lnTo>
                  <a:pt x="2758" y="1097"/>
                </a:lnTo>
                <a:lnTo>
                  <a:pt x="2756" y="1092"/>
                </a:lnTo>
                <a:lnTo>
                  <a:pt x="2755" y="1087"/>
                </a:lnTo>
                <a:lnTo>
                  <a:pt x="2753" y="1083"/>
                </a:lnTo>
                <a:lnTo>
                  <a:pt x="2753" y="1080"/>
                </a:lnTo>
                <a:lnTo>
                  <a:pt x="2753" y="1076"/>
                </a:lnTo>
                <a:lnTo>
                  <a:pt x="2755" y="1073"/>
                </a:lnTo>
                <a:lnTo>
                  <a:pt x="2756" y="1067"/>
                </a:lnTo>
                <a:lnTo>
                  <a:pt x="2758" y="1060"/>
                </a:lnTo>
                <a:lnTo>
                  <a:pt x="2741" y="1042"/>
                </a:lnTo>
                <a:lnTo>
                  <a:pt x="2749" y="1039"/>
                </a:lnTo>
                <a:lnTo>
                  <a:pt x="2758" y="1034"/>
                </a:lnTo>
                <a:lnTo>
                  <a:pt x="2767" y="1030"/>
                </a:lnTo>
                <a:lnTo>
                  <a:pt x="2776" y="1025"/>
                </a:lnTo>
                <a:lnTo>
                  <a:pt x="2786" y="1021"/>
                </a:lnTo>
                <a:lnTo>
                  <a:pt x="2795" y="1018"/>
                </a:lnTo>
                <a:lnTo>
                  <a:pt x="2804" y="1014"/>
                </a:lnTo>
                <a:lnTo>
                  <a:pt x="2811" y="1014"/>
                </a:lnTo>
                <a:lnTo>
                  <a:pt x="2811" y="1011"/>
                </a:lnTo>
                <a:lnTo>
                  <a:pt x="2811" y="1007"/>
                </a:lnTo>
                <a:lnTo>
                  <a:pt x="2813" y="1004"/>
                </a:lnTo>
                <a:lnTo>
                  <a:pt x="2813" y="1002"/>
                </a:lnTo>
                <a:lnTo>
                  <a:pt x="2815" y="998"/>
                </a:lnTo>
                <a:lnTo>
                  <a:pt x="2818" y="997"/>
                </a:lnTo>
                <a:lnTo>
                  <a:pt x="2824" y="997"/>
                </a:lnTo>
                <a:lnTo>
                  <a:pt x="2829" y="995"/>
                </a:lnTo>
                <a:lnTo>
                  <a:pt x="2832" y="988"/>
                </a:lnTo>
                <a:lnTo>
                  <a:pt x="2839" y="979"/>
                </a:lnTo>
                <a:lnTo>
                  <a:pt x="2847" y="968"/>
                </a:lnTo>
                <a:lnTo>
                  <a:pt x="2854" y="958"/>
                </a:lnTo>
                <a:lnTo>
                  <a:pt x="2861" y="947"/>
                </a:lnTo>
                <a:lnTo>
                  <a:pt x="2866" y="938"/>
                </a:lnTo>
                <a:lnTo>
                  <a:pt x="2869" y="929"/>
                </a:lnTo>
                <a:lnTo>
                  <a:pt x="2871" y="921"/>
                </a:lnTo>
                <a:lnTo>
                  <a:pt x="2871" y="926"/>
                </a:lnTo>
                <a:lnTo>
                  <a:pt x="2869" y="933"/>
                </a:lnTo>
                <a:lnTo>
                  <a:pt x="2866" y="940"/>
                </a:lnTo>
                <a:lnTo>
                  <a:pt x="2862" y="949"/>
                </a:lnTo>
                <a:lnTo>
                  <a:pt x="2861" y="958"/>
                </a:lnTo>
                <a:lnTo>
                  <a:pt x="2857" y="965"/>
                </a:lnTo>
                <a:lnTo>
                  <a:pt x="2855" y="972"/>
                </a:lnTo>
                <a:lnTo>
                  <a:pt x="2855" y="977"/>
                </a:lnTo>
                <a:lnTo>
                  <a:pt x="2871" y="977"/>
                </a:lnTo>
                <a:lnTo>
                  <a:pt x="2873" y="981"/>
                </a:lnTo>
                <a:lnTo>
                  <a:pt x="2873" y="986"/>
                </a:lnTo>
                <a:lnTo>
                  <a:pt x="2869" y="993"/>
                </a:lnTo>
                <a:lnTo>
                  <a:pt x="2866" y="998"/>
                </a:lnTo>
                <a:lnTo>
                  <a:pt x="2862" y="1005"/>
                </a:lnTo>
                <a:lnTo>
                  <a:pt x="2859" y="1009"/>
                </a:lnTo>
                <a:lnTo>
                  <a:pt x="2855" y="1012"/>
                </a:lnTo>
                <a:lnTo>
                  <a:pt x="2855" y="1014"/>
                </a:lnTo>
                <a:lnTo>
                  <a:pt x="2880" y="1042"/>
                </a:lnTo>
                <a:lnTo>
                  <a:pt x="2855" y="1071"/>
                </a:lnTo>
                <a:lnTo>
                  <a:pt x="2855" y="1076"/>
                </a:lnTo>
                <a:lnTo>
                  <a:pt x="2855" y="1081"/>
                </a:lnTo>
                <a:lnTo>
                  <a:pt x="2857" y="1085"/>
                </a:lnTo>
                <a:lnTo>
                  <a:pt x="2857" y="1087"/>
                </a:lnTo>
                <a:lnTo>
                  <a:pt x="2859" y="1090"/>
                </a:lnTo>
                <a:lnTo>
                  <a:pt x="2857" y="1092"/>
                </a:lnTo>
                <a:lnTo>
                  <a:pt x="2857" y="1094"/>
                </a:lnTo>
                <a:lnTo>
                  <a:pt x="2855" y="1097"/>
                </a:lnTo>
                <a:close/>
                <a:moveTo>
                  <a:pt x="2864" y="781"/>
                </a:moveTo>
                <a:lnTo>
                  <a:pt x="2864" y="784"/>
                </a:lnTo>
                <a:lnTo>
                  <a:pt x="2864" y="790"/>
                </a:lnTo>
                <a:lnTo>
                  <a:pt x="2866" y="795"/>
                </a:lnTo>
                <a:lnTo>
                  <a:pt x="2868" y="800"/>
                </a:lnTo>
                <a:lnTo>
                  <a:pt x="2869" y="806"/>
                </a:lnTo>
                <a:lnTo>
                  <a:pt x="2871" y="809"/>
                </a:lnTo>
                <a:lnTo>
                  <a:pt x="2871" y="814"/>
                </a:lnTo>
                <a:lnTo>
                  <a:pt x="2873" y="818"/>
                </a:lnTo>
                <a:lnTo>
                  <a:pt x="2855" y="837"/>
                </a:lnTo>
                <a:lnTo>
                  <a:pt x="2855" y="855"/>
                </a:lnTo>
                <a:lnTo>
                  <a:pt x="2855" y="859"/>
                </a:lnTo>
                <a:lnTo>
                  <a:pt x="2859" y="864"/>
                </a:lnTo>
                <a:lnTo>
                  <a:pt x="2862" y="868"/>
                </a:lnTo>
                <a:lnTo>
                  <a:pt x="2868" y="873"/>
                </a:lnTo>
                <a:lnTo>
                  <a:pt x="2880" y="882"/>
                </a:lnTo>
                <a:lnTo>
                  <a:pt x="2894" y="890"/>
                </a:lnTo>
                <a:lnTo>
                  <a:pt x="2910" y="899"/>
                </a:lnTo>
                <a:lnTo>
                  <a:pt x="2924" y="905"/>
                </a:lnTo>
                <a:lnTo>
                  <a:pt x="2935" y="910"/>
                </a:lnTo>
                <a:lnTo>
                  <a:pt x="2942" y="912"/>
                </a:lnTo>
                <a:lnTo>
                  <a:pt x="2938" y="905"/>
                </a:lnTo>
                <a:lnTo>
                  <a:pt x="2931" y="890"/>
                </a:lnTo>
                <a:lnTo>
                  <a:pt x="2921" y="873"/>
                </a:lnTo>
                <a:lnTo>
                  <a:pt x="2908" y="853"/>
                </a:lnTo>
                <a:lnTo>
                  <a:pt x="2896" y="832"/>
                </a:lnTo>
                <a:lnTo>
                  <a:pt x="2882" y="813"/>
                </a:lnTo>
                <a:lnTo>
                  <a:pt x="2871" y="795"/>
                </a:lnTo>
                <a:lnTo>
                  <a:pt x="2864" y="781"/>
                </a:lnTo>
                <a:close/>
                <a:moveTo>
                  <a:pt x="2915" y="1060"/>
                </a:moveTo>
                <a:lnTo>
                  <a:pt x="2912" y="1062"/>
                </a:lnTo>
                <a:lnTo>
                  <a:pt x="2908" y="1065"/>
                </a:lnTo>
                <a:lnTo>
                  <a:pt x="2903" y="1069"/>
                </a:lnTo>
                <a:lnTo>
                  <a:pt x="2898" y="1074"/>
                </a:lnTo>
                <a:lnTo>
                  <a:pt x="2894" y="1080"/>
                </a:lnTo>
                <a:lnTo>
                  <a:pt x="2889" y="1083"/>
                </a:lnTo>
                <a:lnTo>
                  <a:pt x="2885" y="1087"/>
                </a:lnTo>
                <a:lnTo>
                  <a:pt x="2882" y="1088"/>
                </a:lnTo>
                <a:lnTo>
                  <a:pt x="2882" y="1095"/>
                </a:lnTo>
                <a:lnTo>
                  <a:pt x="2882" y="1104"/>
                </a:lnTo>
                <a:lnTo>
                  <a:pt x="2884" y="1115"/>
                </a:lnTo>
                <a:lnTo>
                  <a:pt x="2885" y="1124"/>
                </a:lnTo>
                <a:lnTo>
                  <a:pt x="2887" y="1134"/>
                </a:lnTo>
                <a:lnTo>
                  <a:pt x="2889" y="1141"/>
                </a:lnTo>
                <a:lnTo>
                  <a:pt x="2889" y="1148"/>
                </a:lnTo>
                <a:lnTo>
                  <a:pt x="2891" y="1154"/>
                </a:lnTo>
                <a:lnTo>
                  <a:pt x="2891" y="1150"/>
                </a:lnTo>
                <a:lnTo>
                  <a:pt x="2892" y="1145"/>
                </a:lnTo>
                <a:lnTo>
                  <a:pt x="2896" y="1140"/>
                </a:lnTo>
                <a:lnTo>
                  <a:pt x="2900" y="1136"/>
                </a:lnTo>
                <a:lnTo>
                  <a:pt x="2901" y="1131"/>
                </a:lnTo>
                <a:lnTo>
                  <a:pt x="2905" y="1127"/>
                </a:lnTo>
                <a:lnTo>
                  <a:pt x="2907" y="1126"/>
                </a:lnTo>
                <a:lnTo>
                  <a:pt x="2908" y="1126"/>
                </a:lnTo>
                <a:lnTo>
                  <a:pt x="2910" y="1126"/>
                </a:lnTo>
                <a:lnTo>
                  <a:pt x="2914" y="1126"/>
                </a:lnTo>
                <a:lnTo>
                  <a:pt x="2917" y="1124"/>
                </a:lnTo>
                <a:lnTo>
                  <a:pt x="2921" y="1124"/>
                </a:lnTo>
                <a:lnTo>
                  <a:pt x="2922" y="1122"/>
                </a:lnTo>
                <a:lnTo>
                  <a:pt x="2926" y="1120"/>
                </a:lnTo>
                <a:lnTo>
                  <a:pt x="2930" y="1118"/>
                </a:lnTo>
                <a:lnTo>
                  <a:pt x="2933" y="1115"/>
                </a:lnTo>
                <a:lnTo>
                  <a:pt x="2915" y="1097"/>
                </a:lnTo>
                <a:lnTo>
                  <a:pt x="2915" y="1090"/>
                </a:lnTo>
                <a:lnTo>
                  <a:pt x="2917" y="1083"/>
                </a:lnTo>
                <a:lnTo>
                  <a:pt x="2921" y="1078"/>
                </a:lnTo>
                <a:lnTo>
                  <a:pt x="2922" y="1073"/>
                </a:lnTo>
                <a:lnTo>
                  <a:pt x="2922" y="1067"/>
                </a:lnTo>
                <a:lnTo>
                  <a:pt x="2922" y="1064"/>
                </a:lnTo>
                <a:lnTo>
                  <a:pt x="2921" y="1062"/>
                </a:lnTo>
                <a:lnTo>
                  <a:pt x="2915" y="1060"/>
                </a:lnTo>
                <a:close/>
                <a:moveTo>
                  <a:pt x="3081" y="1097"/>
                </a:moveTo>
                <a:lnTo>
                  <a:pt x="3071" y="1101"/>
                </a:lnTo>
                <a:lnTo>
                  <a:pt x="3066" y="1101"/>
                </a:lnTo>
                <a:lnTo>
                  <a:pt x="3062" y="1101"/>
                </a:lnTo>
                <a:lnTo>
                  <a:pt x="3062" y="1099"/>
                </a:lnTo>
                <a:lnTo>
                  <a:pt x="3064" y="1097"/>
                </a:lnTo>
                <a:lnTo>
                  <a:pt x="3066" y="1095"/>
                </a:lnTo>
                <a:lnTo>
                  <a:pt x="3069" y="1092"/>
                </a:lnTo>
                <a:lnTo>
                  <a:pt x="3073" y="1088"/>
                </a:lnTo>
                <a:lnTo>
                  <a:pt x="3069" y="1085"/>
                </a:lnTo>
                <a:lnTo>
                  <a:pt x="3067" y="1081"/>
                </a:lnTo>
                <a:lnTo>
                  <a:pt x="3064" y="1078"/>
                </a:lnTo>
                <a:lnTo>
                  <a:pt x="3058" y="1076"/>
                </a:lnTo>
                <a:lnTo>
                  <a:pt x="3055" y="1074"/>
                </a:lnTo>
                <a:lnTo>
                  <a:pt x="3050" y="1073"/>
                </a:lnTo>
                <a:lnTo>
                  <a:pt x="3044" y="1071"/>
                </a:lnTo>
                <a:lnTo>
                  <a:pt x="3039" y="1071"/>
                </a:lnTo>
                <a:lnTo>
                  <a:pt x="3057" y="1051"/>
                </a:lnTo>
                <a:lnTo>
                  <a:pt x="3060" y="1051"/>
                </a:lnTo>
                <a:lnTo>
                  <a:pt x="3062" y="1053"/>
                </a:lnTo>
                <a:lnTo>
                  <a:pt x="3066" y="1055"/>
                </a:lnTo>
                <a:lnTo>
                  <a:pt x="3069" y="1057"/>
                </a:lnTo>
                <a:lnTo>
                  <a:pt x="3073" y="1058"/>
                </a:lnTo>
                <a:lnTo>
                  <a:pt x="3076" y="1058"/>
                </a:lnTo>
                <a:lnTo>
                  <a:pt x="3078" y="1060"/>
                </a:lnTo>
                <a:lnTo>
                  <a:pt x="3081" y="1060"/>
                </a:lnTo>
                <a:lnTo>
                  <a:pt x="3081" y="1064"/>
                </a:lnTo>
                <a:lnTo>
                  <a:pt x="3083" y="1067"/>
                </a:lnTo>
                <a:lnTo>
                  <a:pt x="3085" y="1071"/>
                </a:lnTo>
                <a:lnTo>
                  <a:pt x="3085" y="1074"/>
                </a:lnTo>
                <a:lnTo>
                  <a:pt x="3087" y="1078"/>
                </a:lnTo>
                <a:lnTo>
                  <a:pt x="3088" y="1081"/>
                </a:lnTo>
                <a:lnTo>
                  <a:pt x="3090" y="1085"/>
                </a:lnTo>
                <a:lnTo>
                  <a:pt x="3090" y="1088"/>
                </a:lnTo>
                <a:lnTo>
                  <a:pt x="3096" y="1088"/>
                </a:lnTo>
                <a:lnTo>
                  <a:pt x="3101" y="1087"/>
                </a:lnTo>
                <a:lnTo>
                  <a:pt x="3106" y="1085"/>
                </a:lnTo>
                <a:lnTo>
                  <a:pt x="3111" y="1083"/>
                </a:lnTo>
                <a:lnTo>
                  <a:pt x="3115" y="1080"/>
                </a:lnTo>
                <a:lnTo>
                  <a:pt x="3119" y="1076"/>
                </a:lnTo>
                <a:lnTo>
                  <a:pt x="3122" y="1074"/>
                </a:lnTo>
                <a:lnTo>
                  <a:pt x="3126" y="1071"/>
                </a:lnTo>
                <a:lnTo>
                  <a:pt x="3136" y="1071"/>
                </a:lnTo>
                <a:lnTo>
                  <a:pt x="3150" y="1074"/>
                </a:lnTo>
                <a:lnTo>
                  <a:pt x="3166" y="1078"/>
                </a:lnTo>
                <a:lnTo>
                  <a:pt x="3182" y="1083"/>
                </a:lnTo>
                <a:lnTo>
                  <a:pt x="3198" y="1092"/>
                </a:lnTo>
                <a:lnTo>
                  <a:pt x="3209" y="1101"/>
                </a:lnTo>
                <a:lnTo>
                  <a:pt x="3214" y="1106"/>
                </a:lnTo>
                <a:lnTo>
                  <a:pt x="3217" y="1111"/>
                </a:lnTo>
                <a:lnTo>
                  <a:pt x="3219" y="1118"/>
                </a:lnTo>
                <a:lnTo>
                  <a:pt x="3221" y="1126"/>
                </a:lnTo>
                <a:lnTo>
                  <a:pt x="3233" y="1129"/>
                </a:lnTo>
                <a:lnTo>
                  <a:pt x="3246" y="1134"/>
                </a:lnTo>
                <a:lnTo>
                  <a:pt x="3258" y="1143"/>
                </a:lnTo>
                <a:lnTo>
                  <a:pt x="3269" y="1152"/>
                </a:lnTo>
                <a:lnTo>
                  <a:pt x="3277" y="1164"/>
                </a:lnTo>
                <a:lnTo>
                  <a:pt x="3285" y="1177"/>
                </a:lnTo>
                <a:lnTo>
                  <a:pt x="3288" y="1191"/>
                </a:lnTo>
                <a:lnTo>
                  <a:pt x="3290" y="1209"/>
                </a:lnTo>
                <a:lnTo>
                  <a:pt x="3281" y="1203"/>
                </a:lnTo>
                <a:lnTo>
                  <a:pt x="3270" y="1198"/>
                </a:lnTo>
                <a:lnTo>
                  <a:pt x="3262" y="1191"/>
                </a:lnTo>
                <a:lnTo>
                  <a:pt x="3253" y="1184"/>
                </a:lnTo>
                <a:lnTo>
                  <a:pt x="3244" y="1177"/>
                </a:lnTo>
                <a:lnTo>
                  <a:pt x="3235" y="1168"/>
                </a:lnTo>
                <a:lnTo>
                  <a:pt x="3228" y="1159"/>
                </a:lnTo>
                <a:lnTo>
                  <a:pt x="3221" y="1152"/>
                </a:lnTo>
                <a:lnTo>
                  <a:pt x="3217" y="1154"/>
                </a:lnTo>
                <a:lnTo>
                  <a:pt x="3212" y="1156"/>
                </a:lnTo>
                <a:lnTo>
                  <a:pt x="3209" y="1159"/>
                </a:lnTo>
                <a:lnTo>
                  <a:pt x="3205" y="1163"/>
                </a:lnTo>
                <a:lnTo>
                  <a:pt x="3202" y="1166"/>
                </a:lnTo>
                <a:lnTo>
                  <a:pt x="3198" y="1168"/>
                </a:lnTo>
                <a:lnTo>
                  <a:pt x="3196" y="1170"/>
                </a:lnTo>
                <a:lnTo>
                  <a:pt x="3194" y="1171"/>
                </a:lnTo>
                <a:lnTo>
                  <a:pt x="3189" y="1171"/>
                </a:lnTo>
                <a:lnTo>
                  <a:pt x="3184" y="1170"/>
                </a:lnTo>
                <a:lnTo>
                  <a:pt x="3179" y="1168"/>
                </a:lnTo>
                <a:lnTo>
                  <a:pt x="3173" y="1166"/>
                </a:lnTo>
                <a:lnTo>
                  <a:pt x="3168" y="1164"/>
                </a:lnTo>
                <a:lnTo>
                  <a:pt x="3163" y="1163"/>
                </a:lnTo>
                <a:lnTo>
                  <a:pt x="3157" y="1163"/>
                </a:lnTo>
                <a:lnTo>
                  <a:pt x="3150" y="1163"/>
                </a:lnTo>
                <a:lnTo>
                  <a:pt x="3150" y="1159"/>
                </a:lnTo>
                <a:lnTo>
                  <a:pt x="3149" y="1156"/>
                </a:lnTo>
                <a:lnTo>
                  <a:pt x="3147" y="1152"/>
                </a:lnTo>
                <a:lnTo>
                  <a:pt x="3145" y="1148"/>
                </a:lnTo>
                <a:lnTo>
                  <a:pt x="3143" y="1147"/>
                </a:lnTo>
                <a:lnTo>
                  <a:pt x="3140" y="1145"/>
                </a:lnTo>
                <a:lnTo>
                  <a:pt x="3136" y="1145"/>
                </a:lnTo>
                <a:lnTo>
                  <a:pt x="3134" y="1143"/>
                </a:lnTo>
                <a:lnTo>
                  <a:pt x="3134" y="1140"/>
                </a:lnTo>
                <a:lnTo>
                  <a:pt x="3134" y="1136"/>
                </a:lnTo>
                <a:lnTo>
                  <a:pt x="3133" y="1133"/>
                </a:lnTo>
                <a:lnTo>
                  <a:pt x="3133" y="1129"/>
                </a:lnTo>
                <a:lnTo>
                  <a:pt x="3133" y="1126"/>
                </a:lnTo>
                <a:lnTo>
                  <a:pt x="3131" y="1122"/>
                </a:lnTo>
                <a:lnTo>
                  <a:pt x="3127" y="1118"/>
                </a:lnTo>
                <a:lnTo>
                  <a:pt x="3126" y="1115"/>
                </a:lnTo>
                <a:lnTo>
                  <a:pt x="3090" y="1115"/>
                </a:lnTo>
                <a:lnTo>
                  <a:pt x="3090" y="1106"/>
                </a:lnTo>
                <a:lnTo>
                  <a:pt x="3088" y="1101"/>
                </a:lnTo>
                <a:lnTo>
                  <a:pt x="3087" y="1097"/>
                </a:lnTo>
                <a:lnTo>
                  <a:pt x="3085" y="1095"/>
                </a:lnTo>
                <a:lnTo>
                  <a:pt x="3085" y="1095"/>
                </a:lnTo>
                <a:lnTo>
                  <a:pt x="3083" y="1097"/>
                </a:lnTo>
                <a:lnTo>
                  <a:pt x="3081" y="1097"/>
                </a:lnTo>
                <a:lnTo>
                  <a:pt x="3081" y="1097"/>
                </a:lnTo>
                <a:close/>
                <a:moveTo>
                  <a:pt x="3186" y="1191"/>
                </a:moveTo>
                <a:lnTo>
                  <a:pt x="3182" y="1200"/>
                </a:lnTo>
                <a:lnTo>
                  <a:pt x="3179" y="1207"/>
                </a:lnTo>
                <a:lnTo>
                  <a:pt x="3175" y="1212"/>
                </a:lnTo>
                <a:lnTo>
                  <a:pt x="3170" y="1217"/>
                </a:lnTo>
                <a:lnTo>
                  <a:pt x="3168" y="1221"/>
                </a:lnTo>
                <a:lnTo>
                  <a:pt x="3166" y="1224"/>
                </a:lnTo>
                <a:lnTo>
                  <a:pt x="3166" y="1230"/>
                </a:lnTo>
                <a:lnTo>
                  <a:pt x="3168" y="1237"/>
                </a:lnTo>
                <a:lnTo>
                  <a:pt x="3164" y="1240"/>
                </a:lnTo>
                <a:lnTo>
                  <a:pt x="3161" y="1244"/>
                </a:lnTo>
                <a:lnTo>
                  <a:pt x="3156" y="1249"/>
                </a:lnTo>
                <a:lnTo>
                  <a:pt x="3152" y="1256"/>
                </a:lnTo>
                <a:lnTo>
                  <a:pt x="3149" y="1262"/>
                </a:lnTo>
                <a:lnTo>
                  <a:pt x="3145" y="1269"/>
                </a:lnTo>
                <a:lnTo>
                  <a:pt x="3143" y="1276"/>
                </a:lnTo>
                <a:lnTo>
                  <a:pt x="3141" y="1283"/>
                </a:lnTo>
                <a:lnTo>
                  <a:pt x="3108" y="1283"/>
                </a:lnTo>
                <a:lnTo>
                  <a:pt x="3103" y="1279"/>
                </a:lnTo>
                <a:lnTo>
                  <a:pt x="3097" y="1274"/>
                </a:lnTo>
                <a:lnTo>
                  <a:pt x="3092" y="1269"/>
                </a:lnTo>
                <a:lnTo>
                  <a:pt x="3085" y="1263"/>
                </a:lnTo>
                <a:lnTo>
                  <a:pt x="3080" y="1258"/>
                </a:lnTo>
                <a:lnTo>
                  <a:pt x="3073" y="1255"/>
                </a:lnTo>
                <a:lnTo>
                  <a:pt x="3067" y="1249"/>
                </a:lnTo>
                <a:lnTo>
                  <a:pt x="3064" y="1246"/>
                </a:lnTo>
                <a:lnTo>
                  <a:pt x="3081" y="1246"/>
                </a:lnTo>
                <a:lnTo>
                  <a:pt x="3080" y="1239"/>
                </a:lnTo>
                <a:lnTo>
                  <a:pt x="3080" y="1233"/>
                </a:lnTo>
                <a:lnTo>
                  <a:pt x="3081" y="1228"/>
                </a:lnTo>
                <a:lnTo>
                  <a:pt x="3083" y="1223"/>
                </a:lnTo>
                <a:lnTo>
                  <a:pt x="3087" y="1219"/>
                </a:lnTo>
                <a:lnTo>
                  <a:pt x="3090" y="1216"/>
                </a:lnTo>
                <a:lnTo>
                  <a:pt x="3096" y="1212"/>
                </a:lnTo>
                <a:lnTo>
                  <a:pt x="3099" y="1209"/>
                </a:lnTo>
                <a:lnTo>
                  <a:pt x="3094" y="1207"/>
                </a:lnTo>
                <a:lnTo>
                  <a:pt x="3090" y="1205"/>
                </a:lnTo>
                <a:lnTo>
                  <a:pt x="3083" y="1202"/>
                </a:lnTo>
                <a:lnTo>
                  <a:pt x="3076" y="1198"/>
                </a:lnTo>
                <a:lnTo>
                  <a:pt x="3071" y="1194"/>
                </a:lnTo>
                <a:lnTo>
                  <a:pt x="3064" y="1189"/>
                </a:lnTo>
                <a:lnTo>
                  <a:pt x="3058" y="1184"/>
                </a:lnTo>
                <a:lnTo>
                  <a:pt x="3055" y="1180"/>
                </a:lnTo>
                <a:lnTo>
                  <a:pt x="3050" y="1186"/>
                </a:lnTo>
                <a:lnTo>
                  <a:pt x="3043" y="1194"/>
                </a:lnTo>
                <a:lnTo>
                  <a:pt x="3037" y="1205"/>
                </a:lnTo>
                <a:lnTo>
                  <a:pt x="3032" y="1216"/>
                </a:lnTo>
                <a:lnTo>
                  <a:pt x="3027" y="1228"/>
                </a:lnTo>
                <a:lnTo>
                  <a:pt x="3020" y="1237"/>
                </a:lnTo>
                <a:lnTo>
                  <a:pt x="3016" y="1240"/>
                </a:lnTo>
                <a:lnTo>
                  <a:pt x="3013" y="1242"/>
                </a:lnTo>
                <a:lnTo>
                  <a:pt x="3007" y="1244"/>
                </a:lnTo>
                <a:lnTo>
                  <a:pt x="3004" y="1246"/>
                </a:lnTo>
                <a:lnTo>
                  <a:pt x="2986" y="1246"/>
                </a:lnTo>
                <a:lnTo>
                  <a:pt x="2968" y="1228"/>
                </a:lnTo>
                <a:lnTo>
                  <a:pt x="2951" y="1228"/>
                </a:lnTo>
                <a:lnTo>
                  <a:pt x="2947" y="1230"/>
                </a:lnTo>
                <a:lnTo>
                  <a:pt x="2942" y="1235"/>
                </a:lnTo>
                <a:lnTo>
                  <a:pt x="2935" y="1242"/>
                </a:lnTo>
                <a:lnTo>
                  <a:pt x="2930" y="1251"/>
                </a:lnTo>
                <a:lnTo>
                  <a:pt x="2922" y="1258"/>
                </a:lnTo>
                <a:lnTo>
                  <a:pt x="2917" y="1267"/>
                </a:lnTo>
                <a:lnTo>
                  <a:pt x="2912" y="1272"/>
                </a:lnTo>
                <a:lnTo>
                  <a:pt x="2908" y="1274"/>
                </a:lnTo>
                <a:lnTo>
                  <a:pt x="2900" y="1263"/>
                </a:lnTo>
                <a:lnTo>
                  <a:pt x="2894" y="1265"/>
                </a:lnTo>
                <a:lnTo>
                  <a:pt x="2889" y="1270"/>
                </a:lnTo>
                <a:lnTo>
                  <a:pt x="2884" y="1276"/>
                </a:lnTo>
                <a:lnTo>
                  <a:pt x="2878" y="1283"/>
                </a:lnTo>
                <a:lnTo>
                  <a:pt x="2873" y="1290"/>
                </a:lnTo>
                <a:lnTo>
                  <a:pt x="2868" y="1295"/>
                </a:lnTo>
                <a:lnTo>
                  <a:pt x="2864" y="1299"/>
                </a:lnTo>
                <a:lnTo>
                  <a:pt x="2864" y="1300"/>
                </a:lnTo>
                <a:lnTo>
                  <a:pt x="2861" y="1300"/>
                </a:lnTo>
                <a:lnTo>
                  <a:pt x="2857" y="1300"/>
                </a:lnTo>
                <a:lnTo>
                  <a:pt x="2854" y="1299"/>
                </a:lnTo>
                <a:lnTo>
                  <a:pt x="2850" y="1297"/>
                </a:lnTo>
                <a:lnTo>
                  <a:pt x="2847" y="1295"/>
                </a:lnTo>
                <a:lnTo>
                  <a:pt x="2845" y="1293"/>
                </a:lnTo>
                <a:lnTo>
                  <a:pt x="2841" y="1293"/>
                </a:lnTo>
                <a:lnTo>
                  <a:pt x="2838" y="1292"/>
                </a:lnTo>
                <a:lnTo>
                  <a:pt x="2785" y="1339"/>
                </a:lnTo>
                <a:lnTo>
                  <a:pt x="2781" y="1338"/>
                </a:lnTo>
                <a:lnTo>
                  <a:pt x="2778" y="1338"/>
                </a:lnTo>
                <a:lnTo>
                  <a:pt x="2772" y="1336"/>
                </a:lnTo>
                <a:lnTo>
                  <a:pt x="2767" y="1334"/>
                </a:lnTo>
                <a:lnTo>
                  <a:pt x="2764" y="1332"/>
                </a:lnTo>
                <a:lnTo>
                  <a:pt x="2758" y="1331"/>
                </a:lnTo>
                <a:lnTo>
                  <a:pt x="2755" y="1331"/>
                </a:lnTo>
                <a:lnTo>
                  <a:pt x="2749" y="1329"/>
                </a:lnTo>
                <a:lnTo>
                  <a:pt x="2748" y="1332"/>
                </a:lnTo>
                <a:lnTo>
                  <a:pt x="2744" y="1334"/>
                </a:lnTo>
                <a:lnTo>
                  <a:pt x="2741" y="1336"/>
                </a:lnTo>
                <a:lnTo>
                  <a:pt x="2737" y="1338"/>
                </a:lnTo>
                <a:lnTo>
                  <a:pt x="2734" y="1338"/>
                </a:lnTo>
                <a:lnTo>
                  <a:pt x="2730" y="1339"/>
                </a:lnTo>
                <a:lnTo>
                  <a:pt x="2728" y="1339"/>
                </a:lnTo>
                <a:lnTo>
                  <a:pt x="2725" y="1339"/>
                </a:lnTo>
                <a:lnTo>
                  <a:pt x="2725" y="1346"/>
                </a:lnTo>
                <a:lnTo>
                  <a:pt x="2726" y="1353"/>
                </a:lnTo>
                <a:lnTo>
                  <a:pt x="2726" y="1359"/>
                </a:lnTo>
                <a:lnTo>
                  <a:pt x="2728" y="1366"/>
                </a:lnTo>
                <a:lnTo>
                  <a:pt x="2730" y="1371"/>
                </a:lnTo>
                <a:lnTo>
                  <a:pt x="2732" y="1376"/>
                </a:lnTo>
                <a:lnTo>
                  <a:pt x="2732" y="1382"/>
                </a:lnTo>
                <a:lnTo>
                  <a:pt x="2732" y="1385"/>
                </a:lnTo>
                <a:lnTo>
                  <a:pt x="2716" y="1405"/>
                </a:lnTo>
                <a:lnTo>
                  <a:pt x="2716" y="1410"/>
                </a:lnTo>
                <a:lnTo>
                  <a:pt x="2718" y="1417"/>
                </a:lnTo>
                <a:lnTo>
                  <a:pt x="2718" y="1424"/>
                </a:lnTo>
                <a:lnTo>
                  <a:pt x="2719" y="1431"/>
                </a:lnTo>
                <a:lnTo>
                  <a:pt x="2721" y="1437"/>
                </a:lnTo>
                <a:lnTo>
                  <a:pt x="2723" y="1442"/>
                </a:lnTo>
                <a:lnTo>
                  <a:pt x="2725" y="1447"/>
                </a:lnTo>
                <a:lnTo>
                  <a:pt x="2725" y="1451"/>
                </a:lnTo>
                <a:lnTo>
                  <a:pt x="2721" y="1458"/>
                </a:lnTo>
                <a:lnTo>
                  <a:pt x="2718" y="1467"/>
                </a:lnTo>
                <a:lnTo>
                  <a:pt x="2716" y="1474"/>
                </a:lnTo>
                <a:lnTo>
                  <a:pt x="2712" y="1482"/>
                </a:lnTo>
                <a:lnTo>
                  <a:pt x="2711" y="1491"/>
                </a:lnTo>
                <a:lnTo>
                  <a:pt x="2709" y="1500"/>
                </a:lnTo>
                <a:lnTo>
                  <a:pt x="2707" y="1509"/>
                </a:lnTo>
                <a:lnTo>
                  <a:pt x="2707" y="1516"/>
                </a:lnTo>
                <a:lnTo>
                  <a:pt x="2728" y="1514"/>
                </a:lnTo>
                <a:lnTo>
                  <a:pt x="2755" y="1513"/>
                </a:lnTo>
                <a:lnTo>
                  <a:pt x="2781" y="1507"/>
                </a:lnTo>
                <a:lnTo>
                  <a:pt x="2809" y="1502"/>
                </a:lnTo>
                <a:lnTo>
                  <a:pt x="2836" y="1493"/>
                </a:lnTo>
                <a:lnTo>
                  <a:pt x="2861" y="1484"/>
                </a:lnTo>
                <a:lnTo>
                  <a:pt x="2873" y="1479"/>
                </a:lnTo>
                <a:lnTo>
                  <a:pt x="2882" y="1472"/>
                </a:lnTo>
                <a:lnTo>
                  <a:pt x="2891" y="1467"/>
                </a:lnTo>
                <a:lnTo>
                  <a:pt x="2900" y="1460"/>
                </a:lnTo>
                <a:lnTo>
                  <a:pt x="2933" y="1460"/>
                </a:lnTo>
                <a:lnTo>
                  <a:pt x="2951" y="1477"/>
                </a:lnTo>
                <a:lnTo>
                  <a:pt x="2947" y="1481"/>
                </a:lnTo>
                <a:lnTo>
                  <a:pt x="2944" y="1484"/>
                </a:lnTo>
                <a:lnTo>
                  <a:pt x="2942" y="1490"/>
                </a:lnTo>
                <a:lnTo>
                  <a:pt x="2938" y="1493"/>
                </a:lnTo>
                <a:lnTo>
                  <a:pt x="2937" y="1498"/>
                </a:lnTo>
                <a:lnTo>
                  <a:pt x="2935" y="1504"/>
                </a:lnTo>
                <a:lnTo>
                  <a:pt x="2933" y="1509"/>
                </a:lnTo>
                <a:lnTo>
                  <a:pt x="2933" y="1516"/>
                </a:lnTo>
                <a:lnTo>
                  <a:pt x="2942" y="1511"/>
                </a:lnTo>
                <a:lnTo>
                  <a:pt x="2952" y="1504"/>
                </a:lnTo>
                <a:lnTo>
                  <a:pt x="2967" y="1497"/>
                </a:lnTo>
                <a:lnTo>
                  <a:pt x="2981" y="1490"/>
                </a:lnTo>
                <a:lnTo>
                  <a:pt x="2997" y="1484"/>
                </a:lnTo>
                <a:lnTo>
                  <a:pt x="3009" y="1479"/>
                </a:lnTo>
                <a:lnTo>
                  <a:pt x="3021" y="1477"/>
                </a:lnTo>
                <a:lnTo>
                  <a:pt x="3028" y="1477"/>
                </a:lnTo>
                <a:lnTo>
                  <a:pt x="3023" y="1482"/>
                </a:lnTo>
                <a:lnTo>
                  <a:pt x="3016" y="1488"/>
                </a:lnTo>
                <a:lnTo>
                  <a:pt x="3007" y="1493"/>
                </a:lnTo>
                <a:lnTo>
                  <a:pt x="3000" y="1500"/>
                </a:lnTo>
                <a:lnTo>
                  <a:pt x="2993" y="1505"/>
                </a:lnTo>
                <a:lnTo>
                  <a:pt x="2991" y="1511"/>
                </a:lnTo>
                <a:lnTo>
                  <a:pt x="2991" y="1513"/>
                </a:lnTo>
                <a:lnTo>
                  <a:pt x="2993" y="1514"/>
                </a:lnTo>
                <a:lnTo>
                  <a:pt x="2998" y="1516"/>
                </a:lnTo>
                <a:lnTo>
                  <a:pt x="3004" y="1516"/>
                </a:lnTo>
                <a:lnTo>
                  <a:pt x="2997" y="1516"/>
                </a:lnTo>
                <a:lnTo>
                  <a:pt x="2993" y="1520"/>
                </a:lnTo>
                <a:lnTo>
                  <a:pt x="2990" y="1525"/>
                </a:lnTo>
                <a:lnTo>
                  <a:pt x="2990" y="1532"/>
                </a:lnTo>
                <a:lnTo>
                  <a:pt x="2988" y="1539"/>
                </a:lnTo>
                <a:lnTo>
                  <a:pt x="2990" y="1546"/>
                </a:lnTo>
                <a:lnTo>
                  <a:pt x="2991" y="1555"/>
                </a:lnTo>
                <a:lnTo>
                  <a:pt x="2995" y="1562"/>
                </a:lnTo>
                <a:lnTo>
                  <a:pt x="3055" y="1534"/>
                </a:lnTo>
                <a:lnTo>
                  <a:pt x="3081" y="1562"/>
                </a:lnTo>
                <a:lnTo>
                  <a:pt x="3254" y="1385"/>
                </a:lnTo>
                <a:lnTo>
                  <a:pt x="3254" y="1375"/>
                </a:lnTo>
                <a:lnTo>
                  <a:pt x="3253" y="1366"/>
                </a:lnTo>
                <a:lnTo>
                  <a:pt x="3251" y="1359"/>
                </a:lnTo>
                <a:lnTo>
                  <a:pt x="3247" y="1352"/>
                </a:lnTo>
                <a:lnTo>
                  <a:pt x="3244" y="1346"/>
                </a:lnTo>
                <a:lnTo>
                  <a:pt x="3240" y="1343"/>
                </a:lnTo>
                <a:lnTo>
                  <a:pt x="3235" y="1339"/>
                </a:lnTo>
                <a:lnTo>
                  <a:pt x="3228" y="1339"/>
                </a:lnTo>
                <a:lnTo>
                  <a:pt x="3228" y="1300"/>
                </a:lnTo>
                <a:lnTo>
                  <a:pt x="3226" y="1300"/>
                </a:lnTo>
                <a:lnTo>
                  <a:pt x="3223" y="1300"/>
                </a:lnTo>
                <a:lnTo>
                  <a:pt x="3219" y="1299"/>
                </a:lnTo>
                <a:lnTo>
                  <a:pt x="3216" y="1297"/>
                </a:lnTo>
                <a:lnTo>
                  <a:pt x="3212" y="1295"/>
                </a:lnTo>
                <a:lnTo>
                  <a:pt x="3209" y="1293"/>
                </a:lnTo>
                <a:lnTo>
                  <a:pt x="3205" y="1293"/>
                </a:lnTo>
                <a:lnTo>
                  <a:pt x="3202" y="1292"/>
                </a:lnTo>
                <a:lnTo>
                  <a:pt x="3203" y="1288"/>
                </a:lnTo>
                <a:lnTo>
                  <a:pt x="3203" y="1285"/>
                </a:lnTo>
                <a:lnTo>
                  <a:pt x="3205" y="1281"/>
                </a:lnTo>
                <a:lnTo>
                  <a:pt x="3207" y="1278"/>
                </a:lnTo>
                <a:lnTo>
                  <a:pt x="3209" y="1274"/>
                </a:lnTo>
                <a:lnTo>
                  <a:pt x="3210" y="1270"/>
                </a:lnTo>
                <a:lnTo>
                  <a:pt x="3210" y="1267"/>
                </a:lnTo>
                <a:lnTo>
                  <a:pt x="3210" y="1263"/>
                </a:lnTo>
                <a:lnTo>
                  <a:pt x="3210" y="1246"/>
                </a:lnTo>
                <a:lnTo>
                  <a:pt x="3209" y="1246"/>
                </a:lnTo>
                <a:lnTo>
                  <a:pt x="3205" y="1244"/>
                </a:lnTo>
                <a:lnTo>
                  <a:pt x="3202" y="1242"/>
                </a:lnTo>
                <a:lnTo>
                  <a:pt x="3198" y="1240"/>
                </a:lnTo>
                <a:lnTo>
                  <a:pt x="3194" y="1239"/>
                </a:lnTo>
                <a:lnTo>
                  <a:pt x="3193" y="1239"/>
                </a:lnTo>
                <a:lnTo>
                  <a:pt x="3189" y="1237"/>
                </a:lnTo>
                <a:lnTo>
                  <a:pt x="3186" y="1237"/>
                </a:lnTo>
                <a:lnTo>
                  <a:pt x="3186" y="1230"/>
                </a:lnTo>
                <a:lnTo>
                  <a:pt x="3187" y="1224"/>
                </a:lnTo>
                <a:lnTo>
                  <a:pt x="3187" y="1219"/>
                </a:lnTo>
                <a:lnTo>
                  <a:pt x="3189" y="1214"/>
                </a:lnTo>
                <a:lnTo>
                  <a:pt x="3189" y="1209"/>
                </a:lnTo>
                <a:lnTo>
                  <a:pt x="3189" y="1203"/>
                </a:lnTo>
                <a:lnTo>
                  <a:pt x="3187" y="1196"/>
                </a:lnTo>
                <a:lnTo>
                  <a:pt x="3186" y="1191"/>
                </a:lnTo>
                <a:close/>
                <a:moveTo>
                  <a:pt x="3203" y="1636"/>
                </a:moveTo>
                <a:lnTo>
                  <a:pt x="3246" y="1636"/>
                </a:lnTo>
                <a:lnTo>
                  <a:pt x="3263" y="1619"/>
                </a:lnTo>
                <a:lnTo>
                  <a:pt x="3279" y="1617"/>
                </a:lnTo>
                <a:lnTo>
                  <a:pt x="3293" y="1613"/>
                </a:lnTo>
                <a:lnTo>
                  <a:pt x="3306" y="1608"/>
                </a:lnTo>
                <a:lnTo>
                  <a:pt x="3318" y="1601"/>
                </a:lnTo>
                <a:lnTo>
                  <a:pt x="3329" y="1592"/>
                </a:lnTo>
                <a:lnTo>
                  <a:pt x="3339" y="1583"/>
                </a:lnTo>
                <a:lnTo>
                  <a:pt x="3350" y="1573"/>
                </a:lnTo>
                <a:lnTo>
                  <a:pt x="3359" y="1562"/>
                </a:lnTo>
                <a:lnTo>
                  <a:pt x="3341" y="1544"/>
                </a:lnTo>
                <a:lnTo>
                  <a:pt x="3307" y="1581"/>
                </a:lnTo>
                <a:lnTo>
                  <a:pt x="3272" y="1581"/>
                </a:lnTo>
                <a:lnTo>
                  <a:pt x="3265" y="1589"/>
                </a:lnTo>
                <a:lnTo>
                  <a:pt x="3256" y="1596"/>
                </a:lnTo>
                <a:lnTo>
                  <a:pt x="3247" y="1603"/>
                </a:lnTo>
                <a:lnTo>
                  <a:pt x="3237" y="1610"/>
                </a:lnTo>
                <a:lnTo>
                  <a:pt x="3228" y="1617"/>
                </a:lnTo>
                <a:lnTo>
                  <a:pt x="3219" y="1624"/>
                </a:lnTo>
                <a:lnTo>
                  <a:pt x="3210" y="1629"/>
                </a:lnTo>
                <a:lnTo>
                  <a:pt x="3203" y="1636"/>
                </a:lnTo>
                <a:close/>
                <a:moveTo>
                  <a:pt x="3376" y="1581"/>
                </a:moveTo>
                <a:lnTo>
                  <a:pt x="3383" y="1576"/>
                </a:lnTo>
                <a:lnTo>
                  <a:pt x="3390" y="1571"/>
                </a:lnTo>
                <a:lnTo>
                  <a:pt x="3399" y="1564"/>
                </a:lnTo>
                <a:lnTo>
                  <a:pt x="3406" y="1558"/>
                </a:lnTo>
                <a:lnTo>
                  <a:pt x="3413" y="1551"/>
                </a:lnTo>
                <a:lnTo>
                  <a:pt x="3421" y="1544"/>
                </a:lnTo>
                <a:lnTo>
                  <a:pt x="3426" y="1539"/>
                </a:lnTo>
                <a:lnTo>
                  <a:pt x="3429" y="1534"/>
                </a:lnTo>
                <a:lnTo>
                  <a:pt x="3433" y="1536"/>
                </a:lnTo>
                <a:lnTo>
                  <a:pt x="3436" y="1536"/>
                </a:lnTo>
                <a:lnTo>
                  <a:pt x="3440" y="1537"/>
                </a:lnTo>
                <a:lnTo>
                  <a:pt x="3442" y="1539"/>
                </a:lnTo>
                <a:lnTo>
                  <a:pt x="3445" y="1541"/>
                </a:lnTo>
                <a:lnTo>
                  <a:pt x="3449" y="1543"/>
                </a:lnTo>
                <a:lnTo>
                  <a:pt x="3452" y="1544"/>
                </a:lnTo>
                <a:lnTo>
                  <a:pt x="3456" y="1544"/>
                </a:lnTo>
                <a:lnTo>
                  <a:pt x="3459" y="1541"/>
                </a:lnTo>
                <a:lnTo>
                  <a:pt x="3463" y="1539"/>
                </a:lnTo>
                <a:lnTo>
                  <a:pt x="3465" y="1537"/>
                </a:lnTo>
                <a:lnTo>
                  <a:pt x="3468" y="1536"/>
                </a:lnTo>
                <a:lnTo>
                  <a:pt x="3472" y="1536"/>
                </a:lnTo>
                <a:lnTo>
                  <a:pt x="3475" y="1536"/>
                </a:lnTo>
                <a:lnTo>
                  <a:pt x="3479" y="1534"/>
                </a:lnTo>
                <a:lnTo>
                  <a:pt x="3482" y="1534"/>
                </a:lnTo>
                <a:lnTo>
                  <a:pt x="3472" y="1525"/>
                </a:lnTo>
                <a:lnTo>
                  <a:pt x="3465" y="1518"/>
                </a:lnTo>
                <a:lnTo>
                  <a:pt x="3456" y="1513"/>
                </a:lnTo>
                <a:lnTo>
                  <a:pt x="3449" y="1507"/>
                </a:lnTo>
                <a:lnTo>
                  <a:pt x="3443" y="1502"/>
                </a:lnTo>
                <a:lnTo>
                  <a:pt x="3438" y="1495"/>
                </a:lnTo>
                <a:lnTo>
                  <a:pt x="3433" y="1488"/>
                </a:lnTo>
                <a:lnTo>
                  <a:pt x="3429" y="1479"/>
                </a:lnTo>
                <a:lnTo>
                  <a:pt x="3428" y="1490"/>
                </a:lnTo>
                <a:lnTo>
                  <a:pt x="3424" y="1498"/>
                </a:lnTo>
                <a:lnTo>
                  <a:pt x="3417" y="1505"/>
                </a:lnTo>
                <a:lnTo>
                  <a:pt x="3410" y="1514"/>
                </a:lnTo>
                <a:lnTo>
                  <a:pt x="3401" y="1520"/>
                </a:lnTo>
                <a:lnTo>
                  <a:pt x="3392" y="1525"/>
                </a:lnTo>
                <a:lnTo>
                  <a:pt x="3385" y="1530"/>
                </a:lnTo>
                <a:lnTo>
                  <a:pt x="3376" y="1534"/>
                </a:lnTo>
                <a:lnTo>
                  <a:pt x="3376" y="1581"/>
                </a:lnTo>
                <a:close/>
                <a:moveTo>
                  <a:pt x="851" y="297"/>
                </a:moveTo>
                <a:lnTo>
                  <a:pt x="847" y="297"/>
                </a:lnTo>
                <a:lnTo>
                  <a:pt x="842" y="295"/>
                </a:lnTo>
                <a:lnTo>
                  <a:pt x="837" y="291"/>
                </a:lnTo>
                <a:lnTo>
                  <a:pt x="830" y="288"/>
                </a:lnTo>
                <a:lnTo>
                  <a:pt x="824" y="284"/>
                </a:lnTo>
                <a:lnTo>
                  <a:pt x="817" y="283"/>
                </a:lnTo>
                <a:lnTo>
                  <a:pt x="812" y="281"/>
                </a:lnTo>
                <a:lnTo>
                  <a:pt x="808" y="279"/>
                </a:lnTo>
                <a:lnTo>
                  <a:pt x="808" y="272"/>
                </a:lnTo>
                <a:lnTo>
                  <a:pt x="807" y="267"/>
                </a:lnTo>
                <a:lnTo>
                  <a:pt x="805" y="261"/>
                </a:lnTo>
                <a:lnTo>
                  <a:pt x="805" y="256"/>
                </a:lnTo>
                <a:lnTo>
                  <a:pt x="803" y="251"/>
                </a:lnTo>
                <a:lnTo>
                  <a:pt x="801" y="245"/>
                </a:lnTo>
                <a:lnTo>
                  <a:pt x="800" y="240"/>
                </a:lnTo>
                <a:lnTo>
                  <a:pt x="800" y="233"/>
                </a:lnTo>
                <a:lnTo>
                  <a:pt x="803" y="228"/>
                </a:lnTo>
                <a:lnTo>
                  <a:pt x="808" y="222"/>
                </a:lnTo>
                <a:lnTo>
                  <a:pt x="812" y="217"/>
                </a:lnTo>
                <a:lnTo>
                  <a:pt x="817" y="210"/>
                </a:lnTo>
                <a:lnTo>
                  <a:pt x="823" y="203"/>
                </a:lnTo>
                <a:lnTo>
                  <a:pt x="826" y="196"/>
                </a:lnTo>
                <a:lnTo>
                  <a:pt x="831" y="191"/>
                </a:lnTo>
                <a:lnTo>
                  <a:pt x="835" y="185"/>
                </a:lnTo>
                <a:lnTo>
                  <a:pt x="817" y="168"/>
                </a:lnTo>
                <a:lnTo>
                  <a:pt x="817" y="164"/>
                </a:lnTo>
                <a:lnTo>
                  <a:pt x="819" y="161"/>
                </a:lnTo>
                <a:lnTo>
                  <a:pt x="821" y="157"/>
                </a:lnTo>
                <a:lnTo>
                  <a:pt x="823" y="154"/>
                </a:lnTo>
                <a:lnTo>
                  <a:pt x="823" y="150"/>
                </a:lnTo>
                <a:lnTo>
                  <a:pt x="824" y="147"/>
                </a:lnTo>
                <a:lnTo>
                  <a:pt x="826" y="143"/>
                </a:lnTo>
                <a:lnTo>
                  <a:pt x="826" y="139"/>
                </a:lnTo>
                <a:lnTo>
                  <a:pt x="782" y="93"/>
                </a:lnTo>
                <a:lnTo>
                  <a:pt x="777" y="93"/>
                </a:lnTo>
                <a:lnTo>
                  <a:pt x="770" y="92"/>
                </a:lnTo>
                <a:lnTo>
                  <a:pt x="763" y="90"/>
                </a:lnTo>
                <a:lnTo>
                  <a:pt x="757" y="88"/>
                </a:lnTo>
                <a:lnTo>
                  <a:pt x="752" y="86"/>
                </a:lnTo>
                <a:lnTo>
                  <a:pt x="747" y="85"/>
                </a:lnTo>
                <a:lnTo>
                  <a:pt x="741" y="85"/>
                </a:lnTo>
                <a:lnTo>
                  <a:pt x="738" y="83"/>
                </a:lnTo>
                <a:lnTo>
                  <a:pt x="748" y="74"/>
                </a:lnTo>
                <a:lnTo>
                  <a:pt x="761" y="65"/>
                </a:lnTo>
                <a:lnTo>
                  <a:pt x="773" y="58"/>
                </a:lnTo>
                <a:lnTo>
                  <a:pt x="787" y="51"/>
                </a:lnTo>
                <a:lnTo>
                  <a:pt x="800" y="44"/>
                </a:lnTo>
                <a:lnTo>
                  <a:pt x="812" y="37"/>
                </a:lnTo>
                <a:lnTo>
                  <a:pt x="824" y="28"/>
                </a:lnTo>
                <a:lnTo>
                  <a:pt x="835" y="17"/>
                </a:lnTo>
                <a:lnTo>
                  <a:pt x="838" y="19"/>
                </a:lnTo>
                <a:lnTo>
                  <a:pt x="840" y="19"/>
                </a:lnTo>
                <a:lnTo>
                  <a:pt x="844" y="21"/>
                </a:lnTo>
                <a:lnTo>
                  <a:pt x="847" y="23"/>
                </a:lnTo>
                <a:lnTo>
                  <a:pt x="851" y="25"/>
                </a:lnTo>
                <a:lnTo>
                  <a:pt x="854" y="26"/>
                </a:lnTo>
                <a:lnTo>
                  <a:pt x="856" y="28"/>
                </a:lnTo>
                <a:lnTo>
                  <a:pt x="860" y="28"/>
                </a:lnTo>
                <a:lnTo>
                  <a:pt x="886" y="0"/>
                </a:lnTo>
                <a:lnTo>
                  <a:pt x="904" y="17"/>
                </a:lnTo>
                <a:lnTo>
                  <a:pt x="909" y="17"/>
                </a:lnTo>
                <a:lnTo>
                  <a:pt x="916" y="17"/>
                </a:lnTo>
                <a:lnTo>
                  <a:pt x="923" y="16"/>
                </a:lnTo>
                <a:lnTo>
                  <a:pt x="929" y="14"/>
                </a:lnTo>
                <a:lnTo>
                  <a:pt x="934" y="12"/>
                </a:lnTo>
                <a:lnTo>
                  <a:pt x="939" y="10"/>
                </a:lnTo>
                <a:lnTo>
                  <a:pt x="943" y="9"/>
                </a:lnTo>
                <a:lnTo>
                  <a:pt x="946" y="9"/>
                </a:lnTo>
                <a:lnTo>
                  <a:pt x="946" y="37"/>
                </a:lnTo>
                <a:lnTo>
                  <a:pt x="957" y="37"/>
                </a:lnTo>
                <a:lnTo>
                  <a:pt x="964" y="37"/>
                </a:lnTo>
                <a:lnTo>
                  <a:pt x="969" y="37"/>
                </a:lnTo>
                <a:lnTo>
                  <a:pt x="974" y="35"/>
                </a:lnTo>
                <a:lnTo>
                  <a:pt x="978" y="33"/>
                </a:lnTo>
                <a:lnTo>
                  <a:pt x="980" y="30"/>
                </a:lnTo>
                <a:lnTo>
                  <a:pt x="982" y="25"/>
                </a:lnTo>
                <a:lnTo>
                  <a:pt x="982" y="17"/>
                </a:lnTo>
                <a:lnTo>
                  <a:pt x="985" y="19"/>
                </a:lnTo>
                <a:lnTo>
                  <a:pt x="989" y="19"/>
                </a:lnTo>
                <a:lnTo>
                  <a:pt x="992" y="21"/>
                </a:lnTo>
                <a:lnTo>
                  <a:pt x="994" y="23"/>
                </a:lnTo>
                <a:lnTo>
                  <a:pt x="997" y="25"/>
                </a:lnTo>
                <a:lnTo>
                  <a:pt x="1001" y="26"/>
                </a:lnTo>
                <a:lnTo>
                  <a:pt x="1005" y="28"/>
                </a:lnTo>
                <a:lnTo>
                  <a:pt x="1008" y="28"/>
                </a:lnTo>
                <a:lnTo>
                  <a:pt x="1015" y="21"/>
                </a:lnTo>
                <a:lnTo>
                  <a:pt x="1024" y="16"/>
                </a:lnTo>
                <a:lnTo>
                  <a:pt x="1033" y="10"/>
                </a:lnTo>
                <a:lnTo>
                  <a:pt x="1043" y="9"/>
                </a:lnTo>
                <a:lnTo>
                  <a:pt x="1052" y="7"/>
                </a:lnTo>
                <a:lnTo>
                  <a:pt x="1063" y="5"/>
                </a:lnTo>
                <a:lnTo>
                  <a:pt x="1070" y="7"/>
                </a:lnTo>
                <a:lnTo>
                  <a:pt x="1079" y="9"/>
                </a:lnTo>
                <a:lnTo>
                  <a:pt x="1086" y="7"/>
                </a:lnTo>
                <a:lnTo>
                  <a:pt x="1095" y="3"/>
                </a:lnTo>
                <a:lnTo>
                  <a:pt x="1105" y="2"/>
                </a:lnTo>
                <a:lnTo>
                  <a:pt x="1118" y="2"/>
                </a:lnTo>
                <a:lnTo>
                  <a:pt x="1128" y="2"/>
                </a:lnTo>
                <a:lnTo>
                  <a:pt x="1139" y="0"/>
                </a:lnTo>
                <a:lnTo>
                  <a:pt x="1148" y="0"/>
                </a:lnTo>
                <a:lnTo>
                  <a:pt x="1156" y="0"/>
                </a:lnTo>
                <a:lnTo>
                  <a:pt x="1174" y="17"/>
                </a:lnTo>
                <a:lnTo>
                  <a:pt x="1121" y="17"/>
                </a:lnTo>
                <a:lnTo>
                  <a:pt x="1121" y="37"/>
                </a:lnTo>
                <a:lnTo>
                  <a:pt x="1126" y="39"/>
                </a:lnTo>
                <a:lnTo>
                  <a:pt x="1137" y="40"/>
                </a:lnTo>
                <a:lnTo>
                  <a:pt x="1148" y="39"/>
                </a:lnTo>
                <a:lnTo>
                  <a:pt x="1162" y="37"/>
                </a:lnTo>
                <a:lnTo>
                  <a:pt x="1176" y="33"/>
                </a:lnTo>
                <a:lnTo>
                  <a:pt x="1188" y="30"/>
                </a:lnTo>
                <a:lnTo>
                  <a:pt x="1201" y="28"/>
                </a:lnTo>
                <a:lnTo>
                  <a:pt x="1208" y="28"/>
                </a:lnTo>
                <a:lnTo>
                  <a:pt x="1197" y="33"/>
                </a:lnTo>
                <a:lnTo>
                  <a:pt x="1186" y="40"/>
                </a:lnTo>
                <a:lnTo>
                  <a:pt x="1176" y="51"/>
                </a:lnTo>
                <a:lnTo>
                  <a:pt x="1165" y="63"/>
                </a:lnTo>
                <a:lnTo>
                  <a:pt x="1158" y="78"/>
                </a:lnTo>
                <a:lnTo>
                  <a:pt x="1153" y="92"/>
                </a:lnTo>
                <a:lnTo>
                  <a:pt x="1153" y="99"/>
                </a:lnTo>
                <a:lnTo>
                  <a:pt x="1153" y="106"/>
                </a:lnTo>
                <a:lnTo>
                  <a:pt x="1153" y="113"/>
                </a:lnTo>
                <a:lnTo>
                  <a:pt x="1156" y="120"/>
                </a:lnTo>
                <a:lnTo>
                  <a:pt x="1139" y="139"/>
                </a:lnTo>
                <a:lnTo>
                  <a:pt x="1135" y="139"/>
                </a:lnTo>
                <a:lnTo>
                  <a:pt x="1132" y="138"/>
                </a:lnTo>
                <a:lnTo>
                  <a:pt x="1128" y="136"/>
                </a:lnTo>
                <a:lnTo>
                  <a:pt x="1126" y="134"/>
                </a:lnTo>
                <a:lnTo>
                  <a:pt x="1123" y="132"/>
                </a:lnTo>
                <a:lnTo>
                  <a:pt x="1119" y="131"/>
                </a:lnTo>
                <a:lnTo>
                  <a:pt x="1116" y="131"/>
                </a:lnTo>
                <a:lnTo>
                  <a:pt x="1112" y="131"/>
                </a:lnTo>
                <a:lnTo>
                  <a:pt x="1112" y="168"/>
                </a:lnTo>
                <a:lnTo>
                  <a:pt x="1103" y="168"/>
                </a:lnTo>
                <a:lnTo>
                  <a:pt x="1096" y="166"/>
                </a:lnTo>
                <a:lnTo>
                  <a:pt x="1089" y="166"/>
                </a:lnTo>
                <a:lnTo>
                  <a:pt x="1084" y="164"/>
                </a:lnTo>
                <a:lnTo>
                  <a:pt x="1077" y="164"/>
                </a:lnTo>
                <a:lnTo>
                  <a:pt x="1072" y="164"/>
                </a:lnTo>
                <a:lnTo>
                  <a:pt x="1066" y="164"/>
                </a:lnTo>
                <a:lnTo>
                  <a:pt x="1061" y="168"/>
                </a:lnTo>
                <a:lnTo>
                  <a:pt x="1061" y="171"/>
                </a:lnTo>
                <a:lnTo>
                  <a:pt x="1063" y="175"/>
                </a:lnTo>
                <a:lnTo>
                  <a:pt x="1066" y="177"/>
                </a:lnTo>
                <a:lnTo>
                  <a:pt x="1070" y="180"/>
                </a:lnTo>
                <a:lnTo>
                  <a:pt x="1075" y="182"/>
                </a:lnTo>
                <a:lnTo>
                  <a:pt x="1079" y="184"/>
                </a:lnTo>
                <a:lnTo>
                  <a:pt x="1082" y="185"/>
                </a:lnTo>
                <a:lnTo>
                  <a:pt x="1088" y="185"/>
                </a:lnTo>
                <a:lnTo>
                  <a:pt x="1079" y="192"/>
                </a:lnTo>
                <a:lnTo>
                  <a:pt x="1056" y="205"/>
                </a:lnTo>
                <a:lnTo>
                  <a:pt x="1024" y="219"/>
                </a:lnTo>
                <a:lnTo>
                  <a:pt x="987" y="237"/>
                </a:lnTo>
                <a:lnTo>
                  <a:pt x="950" y="253"/>
                </a:lnTo>
                <a:lnTo>
                  <a:pt x="914" y="267"/>
                </a:lnTo>
                <a:lnTo>
                  <a:pt x="884" y="276"/>
                </a:lnTo>
                <a:lnTo>
                  <a:pt x="869" y="279"/>
                </a:lnTo>
                <a:lnTo>
                  <a:pt x="869" y="283"/>
                </a:lnTo>
                <a:lnTo>
                  <a:pt x="867" y="286"/>
                </a:lnTo>
                <a:lnTo>
                  <a:pt x="865" y="290"/>
                </a:lnTo>
                <a:lnTo>
                  <a:pt x="863" y="291"/>
                </a:lnTo>
                <a:lnTo>
                  <a:pt x="861" y="293"/>
                </a:lnTo>
                <a:lnTo>
                  <a:pt x="858" y="295"/>
                </a:lnTo>
                <a:lnTo>
                  <a:pt x="854" y="297"/>
                </a:lnTo>
                <a:lnTo>
                  <a:pt x="851" y="297"/>
                </a:lnTo>
                <a:close/>
                <a:moveTo>
                  <a:pt x="1165" y="242"/>
                </a:moveTo>
                <a:lnTo>
                  <a:pt x="1155" y="238"/>
                </a:lnTo>
                <a:lnTo>
                  <a:pt x="1144" y="237"/>
                </a:lnTo>
                <a:lnTo>
                  <a:pt x="1132" y="235"/>
                </a:lnTo>
                <a:lnTo>
                  <a:pt x="1118" y="235"/>
                </a:lnTo>
                <a:lnTo>
                  <a:pt x="1105" y="235"/>
                </a:lnTo>
                <a:lnTo>
                  <a:pt x="1093" y="237"/>
                </a:lnTo>
                <a:lnTo>
                  <a:pt x="1080" y="238"/>
                </a:lnTo>
                <a:lnTo>
                  <a:pt x="1070" y="242"/>
                </a:lnTo>
                <a:lnTo>
                  <a:pt x="1088" y="260"/>
                </a:lnTo>
                <a:lnTo>
                  <a:pt x="1098" y="260"/>
                </a:lnTo>
                <a:lnTo>
                  <a:pt x="1109" y="260"/>
                </a:lnTo>
                <a:lnTo>
                  <a:pt x="1119" y="258"/>
                </a:lnTo>
                <a:lnTo>
                  <a:pt x="1130" y="258"/>
                </a:lnTo>
                <a:lnTo>
                  <a:pt x="1140" y="256"/>
                </a:lnTo>
                <a:lnTo>
                  <a:pt x="1149" y="253"/>
                </a:lnTo>
                <a:lnTo>
                  <a:pt x="1158" y="247"/>
                </a:lnTo>
                <a:lnTo>
                  <a:pt x="1165" y="242"/>
                </a:lnTo>
                <a:close/>
                <a:moveTo>
                  <a:pt x="1983" y="475"/>
                </a:moveTo>
                <a:lnTo>
                  <a:pt x="1976" y="479"/>
                </a:lnTo>
                <a:lnTo>
                  <a:pt x="1969" y="481"/>
                </a:lnTo>
                <a:lnTo>
                  <a:pt x="1963" y="484"/>
                </a:lnTo>
                <a:lnTo>
                  <a:pt x="1962" y="488"/>
                </a:lnTo>
                <a:lnTo>
                  <a:pt x="1960" y="493"/>
                </a:lnTo>
                <a:lnTo>
                  <a:pt x="1958" y="500"/>
                </a:lnTo>
                <a:lnTo>
                  <a:pt x="1958" y="509"/>
                </a:lnTo>
                <a:lnTo>
                  <a:pt x="1958" y="521"/>
                </a:lnTo>
                <a:lnTo>
                  <a:pt x="1969" y="519"/>
                </a:lnTo>
                <a:lnTo>
                  <a:pt x="1976" y="518"/>
                </a:lnTo>
                <a:lnTo>
                  <a:pt x="1981" y="512"/>
                </a:lnTo>
                <a:lnTo>
                  <a:pt x="1983" y="505"/>
                </a:lnTo>
                <a:lnTo>
                  <a:pt x="1985" y="498"/>
                </a:lnTo>
                <a:lnTo>
                  <a:pt x="1985" y="491"/>
                </a:lnTo>
                <a:lnTo>
                  <a:pt x="1983" y="482"/>
                </a:lnTo>
                <a:lnTo>
                  <a:pt x="1983" y="475"/>
                </a:lnTo>
                <a:close/>
                <a:moveTo>
                  <a:pt x="1879" y="495"/>
                </a:moveTo>
                <a:lnTo>
                  <a:pt x="1882" y="493"/>
                </a:lnTo>
                <a:lnTo>
                  <a:pt x="1886" y="493"/>
                </a:lnTo>
                <a:lnTo>
                  <a:pt x="1888" y="491"/>
                </a:lnTo>
                <a:lnTo>
                  <a:pt x="1891" y="488"/>
                </a:lnTo>
                <a:lnTo>
                  <a:pt x="1893" y="486"/>
                </a:lnTo>
                <a:lnTo>
                  <a:pt x="1895" y="482"/>
                </a:lnTo>
                <a:lnTo>
                  <a:pt x="1896" y="479"/>
                </a:lnTo>
                <a:lnTo>
                  <a:pt x="1896" y="475"/>
                </a:lnTo>
                <a:lnTo>
                  <a:pt x="1886" y="475"/>
                </a:lnTo>
                <a:lnTo>
                  <a:pt x="1875" y="475"/>
                </a:lnTo>
                <a:lnTo>
                  <a:pt x="1863" y="477"/>
                </a:lnTo>
                <a:lnTo>
                  <a:pt x="1852" y="481"/>
                </a:lnTo>
                <a:lnTo>
                  <a:pt x="1842" y="484"/>
                </a:lnTo>
                <a:lnTo>
                  <a:pt x="1835" y="491"/>
                </a:lnTo>
                <a:lnTo>
                  <a:pt x="1831" y="495"/>
                </a:lnTo>
                <a:lnTo>
                  <a:pt x="1829" y="500"/>
                </a:lnTo>
                <a:lnTo>
                  <a:pt x="1828" y="505"/>
                </a:lnTo>
                <a:lnTo>
                  <a:pt x="1828" y="512"/>
                </a:lnTo>
                <a:lnTo>
                  <a:pt x="1833" y="512"/>
                </a:lnTo>
                <a:lnTo>
                  <a:pt x="1840" y="516"/>
                </a:lnTo>
                <a:lnTo>
                  <a:pt x="1847" y="518"/>
                </a:lnTo>
                <a:lnTo>
                  <a:pt x="1852" y="523"/>
                </a:lnTo>
                <a:lnTo>
                  <a:pt x="1858" y="526"/>
                </a:lnTo>
                <a:lnTo>
                  <a:pt x="1863" y="532"/>
                </a:lnTo>
                <a:lnTo>
                  <a:pt x="1866" y="537"/>
                </a:lnTo>
                <a:lnTo>
                  <a:pt x="1870" y="541"/>
                </a:lnTo>
                <a:lnTo>
                  <a:pt x="1870" y="595"/>
                </a:lnTo>
                <a:lnTo>
                  <a:pt x="1877" y="597"/>
                </a:lnTo>
                <a:lnTo>
                  <a:pt x="1884" y="599"/>
                </a:lnTo>
                <a:lnTo>
                  <a:pt x="1889" y="602"/>
                </a:lnTo>
                <a:lnTo>
                  <a:pt x="1895" y="606"/>
                </a:lnTo>
                <a:lnTo>
                  <a:pt x="1900" y="611"/>
                </a:lnTo>
                <a:lnTo>
                  <a:pt x="1905" y="615"/>
                </a:lnTo>
                <a:lnTo>
                  <a:pt x="1911" y="620"/>
                </a:lnTo>
                <a:lnTo>
                  <a:pt x="1914" y="624"/>
                </a:lnTo>
                <a:lnTo>
                  <a:pt x="1941" y="595"/>
                </a:lnTo>
                <a:lnTo>
                  <a:pt x="1923" y="578"/>
                </a:lnTo>
                <a:lnTo>
                  <a:pt x="1923" y="574"/>
                </a:lnTo>
                <a:lnTo>
                  <a:pt x="1925" y="571"/>
                </a:lnTo>
                <a:lnTo>
                  <a:pt x="1925" y="567"/>
                </a:lnTo>
                <a:lnTo>
                  <a:pt x="1926" y="564"/>
                </a:lnTo>
                <a:lnTo>
                  <a:pt x="1928" y="560"/>
                </a:lnTo>
                <a:lnTo>
                  <a:pt x="1930" y="556"/>
                </a:lnTo>
                <a:lnTo>
                  <a:pt x="1932" y="553"/>
                </a:lnTo>
                <a:lnTo>
                  <a:pt x="1932" y="549"/>
                </a:lnTo>
                <a:lnTo>
                  <a:pt x="1926" y="546"/>
                </a:lnTo>
                <a:lnTo>
                  <a:pt x="1921" y="541"/>
                </a:lnTo>
                <a:lnTo>
                  <a:pt x="1916" y="535"/>
                </a:lnTo>
                <a:lnTo>
                  <a:pt x="1909" y="530"/>
                </a:lnTo>
                <a:lnTo>
                  <a:pt x="1903" y="526"/>
                </a:lnTo>
                <a:lnTo>
                  <a:pt x="1896" y="521"/>
                </a:lnTo>
                <a:lnTo>
                  <a:pt x="1891" y="516"/>
                </a:lnTo>
                <a:lnTo>
                  <a:pt x="1888" y="512"/>
                </a:lnTo>
                <a:lnTo>
                  <a:pt x="1888" y="509"/>
                </a:lnTo>
                <a:lnTo>
                  <a:pt x="1889" y="505"/>
                </a:lnTo>
                <a:lnTo>
                  <a:pt x="1889" y="502"/>
                </a:lnTo>
                <a:lnTo>
                  <a:pt x="1889" y="500"/>
                </a:lnTo>
                <a:lnTo>
                  <a:pt x="1889" y="496"/>
                </a:lnTo>
                <a:lnTo>
                  <a:pt x="1888" y="495"/>
                </a:lnTo>
                <a:lnTo>
                  <a:pt x="1884" y="495"/>
                </a:lnTo>
                <a:lnTo>
                  <a:pt x="1879" y="495"/>
                </a:lnTo>
                <a:close/>
                <a:moveTo>
                  <a:pt x="1997" y="723"/>
                </a:moveTo>
                <a:lnTo>
                  <a:pt x="1997" y="726"/>
                </a:lnTo>
                <a:lnTo>
                  <a:pt x="1997" y="728"/>
                </a:lnTo>
                <a:lnTo>
                  <a:pt x="1999" y="730"/>
                </a:lnTo>
                <a:lnTo>
                  <a:pt x="2001" y="731"/>
                </a:lnTo>
                <a:lnTo>
                  <a:pt x="2002" y="731"/>
                </a:lnTo>
                <a:lnTo>
                  <a:pt x="2004" y="733"/>
                </a:lnTo>
                <a:lnTo>
                  <a:pt x="2004" y="735"/>
                </a:lnTo>
                <a:lnTo>
                  <a:pt x="2006" y="739"/>
                </a:lnTo>
                <a:lnTo>
                  <a:pt x="2008" y="739"/>
                </a:lnTo>
                <a:lnTo>
                  <a:pt x="2011" y="740"/>
                </a:lnTo>
                <a:lnTo>
                  <a:pt x="2013" y="740"/>
                </a:lnTo>
                <a:lnTo>
                  <a:pt x="2016" y="742"/>
                </a:lnTo>
                <a:lnTo>
                  <a:pt x="2018" y="742"/>
                </a:lnTo>
                <a:lnTo>
                  <a:pt x="2022" y="744"/>
                </a:lnTo>
                <a:lnTo>
                  <a:pt x="2024" y="744"/>
                </a:lnTo>
                <a:lnTo>
                  <a:pt x="2027" y="744"/>
                </a:lnTo>
                <a:lnTo>
                  <a:pt x="2061" y="744"/>
                </a:lnTo>
                <a:lnTo>
                  <a:pt x="2052" y="753"/>
                </a:lnTo>
                <a:lnTo>
                  <a:pt x="2045" y="760"/>
                </a:lnTo>
                <a:lnTo>
                  <a:pt x="2038" y="769"/>
                </a:lnTo>
                <a:lnTo>
                  <a:pt x="2031" y="779"/>
                </a:lnTo>
                <a:lnTo>
                  <a:pt x="2025" y="788"/>
                </a:lnTo>
                <a:lnTo>
                  <a:pt x="2018" y="799"/>
                </a:lnTo>
                <a:lnTo>
                  <a:pt x="2009" y="809"/>
                </a:lnTo>
                <a:lnTo>
                  <a:pt x="2001" y="820"/>
                </a:lnTo>
                <a:lnTo>
                  <a:pt x="1965" y="820"/>
                </a:lnTo>
                <a:lnTo>
                  <a:pt x="1965" y="823"/>
                </a:lnTo>
                <a:lnTo>
                  <a:pt x="1965" y="827"/>
                </a:lnTo>
                <a:lnTo>
                  <a:pt x="1963" y="830"/>
                </a:lnTo>
                <a:lnTo>
                  <a:pt x="1962" y="834"/>
                </a:lnTo>
                <a:lnTo>
                  <a:pt x="1960" y="837"/>
                </a:lnTo>
                <a:lnTo>
                  <a:pt x="1958" y="841"/>
                </a:lnTo>
                <a:lnTo>
                  <a:pt x="1958" y="843"/>
                </a:lnTo>
                <a:lnTo>
                  <a:pt x="1958" y="846"/>
                </a:lnTo>
                <a:lnTo>
                  <a:pt x="1948" y="848"/>
                </a:lnTo>
                <a:lnTo>
                  <a:pt x="1937" y="852"/>
                </a:lnTo>
                <a:lnTo>
                  <a:pt x="1925" y="857"/>
                </a:lnTo>
                <a:lnTo>
                  <a:pt x="1914" y="862"/>
                </a:lnTo>
                <a:lnTo>
                  <a:pt x="1902" y="869"/>
                </a:lnTo>
                <a:lnTo>
                  <a:pt x="1891" y="875"/>
                </a:lnTo>
                <a:lnTo>
                  <a:pt x="1880" y="880"/>
                </a:lnTo>
                <a:lnTo>
                  <a:pt x="1870" y="885"/>
                </a:lnTo>
                <a:lnTo>
                  <a:pt x="1866" y="880"/>
                </a:lnTo>
                <a:lnTo>
                  <a:pt x="1861" y="876"/>
                </a:lnTo>
                <a:lnTo>
                  <a:pt x="1854" y="871"/>
                </a:lnTo>
                <a:lnTo>
                  <a:pt x="1849" y="868"/>
                </a:lnTo>
                <a:lnTo>
                  <a:pt x="1842" y="862"/>
                </a:lnTo>
                <a:lnTo>
                  <a:pt x="1836" y="859"/>
                </a:lnTo>
                <a:lnTo>
                  <a:pt x="1831" y="857"/>
                </a:lnTo>
                <a:lnTo>
                  <a:pt x="1828" y="857"/>
                </a:lnTo>
                <a:lnTo>
                  <a:pt x="1828" y="820"/>
                </a:lnTo>
                <a:lnTo>
                  <a:pt x="1824" y="816"/>
                </a:lnTo>
                <a:lnTo>
                  <a:pt x="1819" y="811"/>
                </a:lnTo>
                <a:lnTo>
                  <a:pt x="1815" y="806"/>
                </a:lnTo>
                <a:lnTo>
                  <a:pt x="1810" y="799"/>
                </a:lnTo>
                <a:lnTo>
                  <a:pt x="1806" y="793"/>
                </a:lnTo>
                <a:lnTo>
                  <a:pt x="1803" y="786"/>
                </a:lnTo>
                <a:lnTo>
                  <a:pt x="1801" y="779"/>
                </a:lnTo>
                <a:lnTo>
                  <a:pt x="1801" y="774"/>
                </a:lnTo>
                <a:lnTo>
                  <a:pt x="1796" y="774"/>
                </a:lnTo>
                <a:lnTo>
                  <a:pt x="1792" y="774"/>
                </a:lnTo>
                <a:lnTo>
                  <a:pt x="1789" y="772"/>
                </a:lnTo>
                <a:lnTo>
                  <a:pt x="1785" y="770"/>
                </a:lnTo>
                <a:lnTo>
                  <a:pt x="1780" y="765"/>
                </a:lnTo>
                <a:lnTo>
                  <a:pt x="1775" y="756"/>
                </a:lnTo>
                <a:lnTo>
                  <a:pt x="1769" y="747"/>
                </a:lnTo>
                <a:lnTo>
                  <a:pt x="1764" y="739"/>
                </a:lnTo>
                <a:lnTo>
                  <a:pt x="1757" y="731"/>
                </a:lnTo>
                <a:lnTo>
                  <a:pt x="1748" y="726"/>
                </a:lnTo>
                <a:lnTo>
                  <a:pt x="1716" y="726"/>
                </a:lnTo>
                <a:lnTo>
                  <a:pt x="1709" y="712"/>
                </a:lnTo>
                <a:lnTo>
                  <a:pt x="1702" y="700"/>
                </a:lnTo>
                <a:lnTo>
                  <a:pt x="1697" y="689"/>
                </a:lnTo>
                <a:lnTo>
                  <a:pt x="1692" y="678"/>
                </a:lnTo>
                <a:lnTo>
                  <a:pt x="1686" y="670"/>
                </a:lnTo>
                <a:lnTo>
                  <a:pt x="1681" y="663"/>
                </a:lnTo>
                <a:lnTo>
                  <a:pt x="1672" y="657"/>
                </a:lnTo>
                <a:lnTo>
                  <a:pt x="1663" y="654"/>
                </a:lnTo>
                <a:lnTo>
                  <a:pt x="1669" y="654"/>
                </a:lnTo>
                <a:lnTo>
                  <a:pt x="1674" y="650"/>
                </a:lnTo>
                <a:lnTo>
                  <a:pt x="1679" y="647"/>
                </a:lnTo>
                <a:lnTo>
                  <a:pt x="1683" y="643"/>
                </a:lnTo>
                <a:lnTo>
                  <a:pt x="1686" y="638"/>
                </a:lnTo>
                <a:lnTo>
                  <a:pt x="1690" y="632"/>
                </a:lnTo>
                <a:lnTo>
                  <a:pt x="1693" y="627"/>
                </a:lnTo>
                <a:lnTo>
                  <a:pt x="1697" y="624"/>
                </a:lnTo>
                <a:lnTo>
                  <a:pt x="1695" y="620"/>
                </a:lnTo>
                <a:lnTo>
                  <a:pt x="1695" y="617"/>
                </a:lnTo>
                <a:lnTo>
                  <a:pt x="1693" y="613"/>
                </a:lnTo>
                <a:lnTo>
                  <a:pt x="1692" y="610"/>
                </a:lnTo>
                <a:lnTo>
                  <a:pt x="1690" y="606"/>
                </a:lnTo>
                <a:lnTo>
                  <a:pt x="1688" y="602"/>
                </a:lnTo>
                <a:lnTo>
                  <a:pt x="1688" y="599"/>
                </a:lnTo>
                <a:lnTo>
                  <a:pt x="1688" y="595"/>
                </a:lnTo>
                <a:lnTo>
                  <a:pt x="1714" y="567"/>
                </a:lnTo>
                <a:lnTo>
                  <a:pt x="1707" y="567"/>
                </a:lnTo>
                <a:lnTo>
                  <a:pt x="1700" y="567"/>
                </a:lnTo>
                <a:lnTo>
                  <a:pt x="1695" y="565"/>
                </a:lnTo>
                <a:lnTo>
                  <a:pt x="1688" y="564"/>
                </a:lnTo>
                <a:lnTo>
                  <a:pt x="1683" y="562"/>
                </a:lnTo>
                <a:lnTo>
                  <a:pt x="1677" y="560"/>
                </a:lnTo>
                <a:lnTo>
                  <a:pt x="1674" y="560"/>
                </a:lnTo>
                <a:lnTo>
                  <a:pt x="1670" y="560"/>
                </a:lnTo>
                <a:lnTo>
                  <a:pt x="1653" y="560"/>
                </a:lnTo>
                <a:lnTo>
                  <a:pt x="1626" y="587"/>
                </a:lnTo>
                <a:lnTo>
                  <a:pt x="1624" y="585"/>
                </a:lnTo>
                <a:lnTo>
                  <a:pt x="1621" y="583"/>
                </a:lnTo>
                <a:lnTo>
                  <a:pt x="1616" y="578"/>
                </a:lnTo>
                <a:lnTo>
                  <a:pt x="1609" y="572"/>
                </a:lnTo>
                <a:lnTo>
                  <a:pt x="1603" y="565"/>
                </a:lnTo>
                <a:lnTo>
                  <a:pt x="1598" y="560"/>
                </a:lnTo>
                <a:lnTo>
                  <a:pt x="1593" y="553"/>
                </a:lnTo>
                <a:lnTo>
                  <a:pt x="1591" y="549"/>
                </a:lnTo>
                <a:lnTo>
                  <a:pt x="1591" y="532"/>
                </a:lnTo>
                <a:lnTo>
                  <a:pt x="1617" y="519"/>
                </a:lnTo>
                <a:lnTo>
                  <a:pt x="1639" y="511"/>
                </a:lnTo>
                <a:lnTo>
                  <a:pt x="1660" y="505"/>
                </a:lnTo>
                <a:lnTo>
                  <a:pt x="1677" y="503"/>
                </a:lnTo>
                <a:lnTo>
                  <a:pt x="1693" y="502"/>
                </a:lnTo>
                <a:lnTo>
                  <a:pt x="1707" y="502"/>
                </a:lnTo>
                <a:lnTo>
                  <a:pt x="1720" y="502"/>
                </a:lnTo>
                <a:lnTo>
                  <a:pt x="1732" y="502"/>
                </a:lnTo>
                <a:lnTo>
                  <a:pt x="1729" y="505"/>
                </a:lnTo>
                <a:lnTo>
                  <a:pt x="1730" y="509"/>
                </a:lnTo>
                <a:lnTo>
                  <a:pt x="1732" y="512"/>
                </a:lnTo>
                <a:lnTo>
                  <a:pt x="1737" y="516"/>
                </a:lnTo>
                <a:lnTo>
                  <a:pt x="1743" y="521"/>
                </a:lnTo>
                <a:lnTo>
                  <a:pt x="1748" y="525"/>
                </a:lnTo>
                <a:lnTo>
                  <a:pt x="1753" y="528"/>
                </a:lnTo>
                <a:lnTo>
                  <a:pt x="1757" y="532"/>
                </a:lnTo>
                <a:lnTo>
                  <a:pt x="1757" y="528"/>
                </a:lnTo>
                <a:lnTo>
                  <a:pt x="1759" y="525"/>
                </a:lnTo>
                <a:lnTo>
                  <a:pt x="1760" y="521"/>
                </a:lnTo>
                <a:lnTo>
                  <a:pt x="1762" y="516"/>
                </a:lnTo>
                <a:lnTo>
                  <a:pt x="1764" y="512"/>
                </a:lnTo>
                <a:lnTo>
                  <a:pt x="1764" y="509"/>
                </a:lnTo>
                <a:lnTo>
                  <a:pt x="1766" y="505"/>
                </a:lnTo>
                <a:lnTo>
                  <a:pt x="1766" y="502"/>
                </a:lnTo>
                <a:lnTo>
                  <a:pt x="1759" y="498"/>
                </a:lnTo>
                <a:lnTo>
                  <a:pt x="1748" y="489"/>
                </a:lnTo>
                <a:lnTo>
                  <a:pt x="1736" y="479"/>
                </a:lnTo>
                <a:lnTo>
                  <a:pt x="1723" y="466"/>
                </a:lnTo>
                <a:lnTo>
                  <a:pt x="1711" y="454"/>
                </a:lnTo>
                <a:lnTo>
                  <a:pt x="1700" y="449"/>
                </a:lnTo>
                <a:lnTo>
                  <a:pt x="1697" y="447"/>
                </a:lnTo>
                <a:lnTo>
                  <a:pt x="1693" y="447"/>
                </a:lnTo>
                <a:lnTo>
                  <a:pt x="1690" y="450"/>
                </a:lnTo>
                <a:lnTo>
                  <a:pt x="1688" y="456"/>
                </a:lnTo>
                <a:lnTo>
                  <a:pt x="1697" y="466"/>
                </a:lnTo>
                <a:lnTo>
                  <a:pt x="1693" y="468"/>
                </a:lnTo>
                <a:lnTo>
                  <a:pt x="1692" y="470"/>
                </a:lnTo>
                <a:lnTo>
                  <a:pt x="1688" y="472"/>
                </a:lnTo>
                <a:lnTo>
                  <a:pt x="1684" y="472"/>
                </a:lnTo>
                <a:lnTo>
                  <a:pt x="1676" y="472"/>
                </a:lnTo>
                <a:lnTo>
                  <a:pt x="1665" y="468"/>
                </a:lnTo>
                <a:lnTo>
                  <a:pt x="1656" y="465"/>
                </a:lnTo>
                <a:lnTo>
                  <a:pt x="1647" y="461"/>
                </a:lnTo>
                <a:lnTo>
                  <a:pt x="1640" y="458"/>
                </a:lnTo>
                <a:lnTo>
                  <a:pt x="1635" y="456"/>
                </a:lnTo>
                <a:lnTo>
                  <a:pt x="1635" y="463"/>
                </a:lnTo>
                <a:lnTo>
                  <a:pt x="1633" y="468"/>
                </a:lnTo>
                <a:lnTo>
                  <a:pt x="1631" y="472"/>
                </a:lnTo>
                <a:lnTo>
                  <a:pt x="1628" y="473"/>
                </a:lnTo>
                <a:lnTo>
                  <a:pt x="1624" y="477"/>
                </a:lnTo>
                <a:lnTo>
                  <a:pt x="1621" y="479"/>
                </a:lnTo>
                <a:lnTo>
                  <a:pt x="1616" y="481"/>
                </a:lnTo>
                <a:lnTo>
                  <a:pt x="1609" y="484"/>
                </a:lnTo>
                <a:lnTo>
                  <a:pt x="1609" y="489"/>
                </a:lnTo>
                <a:lnTo>
                  <a:pt x="1609" y="493"/>
                </a:lnTo>
                <a:lnTo>
                  <a:pt x="1610" y="496"/>
                </a:lnTo>
                <a:lnTo>
                  <a:pt x="1610" y="498"/>
                </a:lnTo>
                <a:lnTo>
                  <a:pt x="1612" y="500"/>
                </a:lnTo>
                <a:lnTo>
                  <a:pt x="1612" y="502"/>
                </a:lnTo>
                <a:lnTo>
                  <a:pt x="1612" y="505"/>
                </a:lnTo>
                <a:lnTo>
                  <a:pt x="1612" y="511"/>
                </a:lnTo>
                <a:lnTo>
                  <a:pt x="1614" y="512"/>
                </a:lnTo>
                <a:lnTo>
                  <a:pt x="1614" y="514"/>
                </a:lnTo>
                <a:lnTo>
                  <a:pt x="1614" y="516"/>
                </a:lnTo>
                <a:lnTo>
                  <a:pt x="1610" y="518"/>
                </a:lnTo>
                <a:lnTo>
                  <a:pt x="1607" y="519"/>
                </a:lnTo>
                <a:lnTo>
                  <a:pt x="1603" y="519"/>
                </a:lnTo>
                <a:lnTo>
                  <a:pt x="1600" y="519"/>
                </a:lnTo>
                <a:lnTo>
                  <a:pt x="1596" y="516"/>
                </a:lnTo>
                <a:lnTo>
                  <a:pt x="1591" y="519"/>
                </a:lnTo>
                <a:lnTo>
                  <a:pt x="1589" y="521"/>
                </a:lnTo>
                <a:lnTo>
                  <a:pt x="1587" y="523"/>
                </a:lnTo>
                <a:lnTo>
                  <a:pt x="1587" y="523"/>
                </a:lnTo>
                <a:lnTo>
                  <a:pt x="1587" y="523"/>
                </a:lnTo>
                <a:lnTo>
                  <a:pt x="1586" y="521"/>
                </a:lnTo>
                <a:lnTo>
                  <a:pt x="1582" y="521"/>
                </a:lnTo>
                <a:lnTo>
                  <a:pt x="1573" y="521"/>
                </a:lnTo>
                <a:lnTo>
                  <a:pt x="1557" y="541"/>
                </a:lnTo>
                <a:lnTo>
                  <a:pt x="1557" y="544"/>
                </a:lnTo>
                <a:lnTo>
                  <a:pt x="1559" y="549"/>
                </a:lnTo>
                <a:lnTo>
                  <a:pt x="1559" y="553"/>
                </a:lnTo>
                <a:lnTo>
                  <a:pt x="1561" y="560"/>
                </a:lnTo>
                <a:lnTo>
                  <a:pt x="1563" y="565"/>
                </a:lnTo>
                <a:lnTo>
                  <a:pt x="1564" y="572"/>
                </a:lnTo>
                <a:lnTo>
                  <a:pt x="1564" y="579"/>
                </a:lnTo>
                <a:lnTo>
                  <a:pt x="1564" y="587"/>
                </a:lnTo>
                <a:lnTo>
                  <a:pt x="1559" y="585"/>
                </a:lnTo>
                <a:lnTo>
                  <a:pt x="1554" y="581"/>
                </a:lnTo>
                <a:lnTo>
                  <a:pt x="1548" y="574"/>
                </a:lnTo>
                <a:lnTo>
                  <a:pt x="1543" y="567"/>
                </a:lnTo>
                <a:lnTo>
                  <a:pt x="1536" y="558"/>
                </a:lnTo>
                <a:lnTo>
                  <a:pt x="1531" y="551"/>
                </a:lnTo>
                <a:lnTo>
                  <a:pt x="1522" y="544"/>
                </a:lnTo>
                <a:lnTo>
                  <a:pt x="1513" y="541"/>
                </a:lnTo>
                <a:lnTo>
                  <a:pt x="1513" y="535"/>
                </a:lnTo>
                <a:lnTo>
                  <a:pt x="1513" y="530"/>
                </a:lnTo>
                <a:lnTo>
                  <a:pt x="1511" y="525"/>
                </a:lnTo>
                <a:lnTo>
                  <a:pt x="1506" y="518"/>
                </a:lnTo>
                <a:lnTo>
                  <a:pt x="1497" y="507"/>
                </a:lnTo>
                <a:lnTo>
                  <a:pt x="1483" y="498"/>
                </a:lnTo>
                <a:lnTo>
                  <a:pt x="1469" y="491"/>
                </a:lnTo>
                <a:lnTo>
                  <a:pt x="1455" y="486"/>
                </a:lnTo>
                <a:lnTo>
                  <a:pt x="1450" y="484"/>
                </a:lnTo>
                <a:lnTo>
                  <a:pt x="1444" y="482"/>
                </a:lnTo>
                <a:lnTo>
                  <a:pt x="1439" y="484"/>
                </a:lnTo>
                <a:lnTo>
                  <a:pt x="1435" y="484"/>
                </a:lnTo>
                <a:lnTo>
                  <a:pt x="1439" y="488"/>
                </a:lnTo>
                <a:lnTo>
                  <a:pt x="1442" y="493"/>
                </a:lnTo>
                <a:lnTo>
                  <a:pt x="1446" y="496"/>
                </a:lnTo>
                <a:lnTo>
                  <a:pt x="1450" y="500"/>
                </a:lnTo>
                <a:lnTo>
                  <a:pt x="1453" y="503"/>
                </a:lnTo>
                <a:lnTo>
                  <a:pt x="1458" y="505"/>
                </a:lnTo>
                <a:lnTo>
                  <a:pt x="1464" y="505"/>
                </a:lnTo>
                <a:lnTo>
                  <a:pt x="1469" y="502"/>
                </a:lnTo>
                <a:lnTo>
                  <a:pt x="1471" y="509"/>
                </a:lnTo>
                <a:lnTo>
                  <a:pt x="1471" y="516"/>
                </a:lnTo>
                <a:lnTo>
                  <a:pt x="1473" y="521"/>
                </a:lnTo>
                <a:lnTo>
                  <a:pt x="1474" y="525"/>
                </a:lnTo>
                <a:lnTo>
                  <a:pt x="1478" y="530"/>
                </a:lnTo>
                <a:lnTo>
                  <a:pt x="1481" y="534"/>
                </a:lnTo>
                <a:lnTo>
                  <a:pt x="1485" y="537"/>
                </a:lnTo>
                <a:lnTo>
                  <a:pt x="1487" y="541"/>
                </a:lnTo>
                <a:lnTo>
                  <a:pt x="1487" y="544"/>
                </a:lnTo>
                <a:lnTo>
                  <a:pt x="1487" y="548"/>
                </a:lnTo>
                <a:lnTo>
                  <a:pt x="1485" y="551"/>
                </a:lnTo>
                <a:lnTo>
                  <a:pt x="1483" y="555"/>
                </a:lnTo>
                <a:lnTo>
                  <a:pt x="1481" y="558"/>
                </a:lnTo>
                <a:lnTo>
                  <a:pt x="1480" y="562"/>
                </a:lnTo>
                <a:lnTo>
                  <a:pt x="1480" y="565"/>
                </a:lnTo>
                <a:lnTo>
                  <a:pt x="1478" y="567"/>
                </a:lnTo>
                <a:lnTo>
                  <a:pt x="1478" y="565"/>
                </a:lnTo>
                <a:lnTo>
                  <a:pt x="1478" y="562"/>
                </a:lnTo>
                <a:lnTo>
                  <a:pt x="1476" y="558"/>
                </a:lnTo>
                <a:lnTo>
                  <a:pt x="1474" y="555"/>
                </a:lnTo>
                <a:lnTo>
                  <a:pt x="1473" y="551"/>
                </a:lnTo>
                <a:lnTo>
                  <a:pt x="1471" y="548"/>
                </a:lnTo>
                <a:lnTo>
                  <a:pt x="1471" y="544"/>
                </a:lnTo>
                <a:lnTo>
                  <a:pt x="1469" y="541"/>
                </a:lnTo>
                <a:lnTo>
                  <a:pt x="1464" y="539"/>
                </a:lnTo>
                <a:lnTo>
                  <a:pt x="1457" y="537"/>
                </a:lnTo>
                <a:lnTo>
                  <a:pt x="1451" y="534"/>
                </a:lnTo>
                <a:lnTo>
                  <a:pt x="1446" y="528"/>
                </a:lnTo>
                <a:lnTo>
                  <a:pt x="1441" y="523"/>
                </a:lnTo>
                <a:lnTo>
                  <a:pt x="1437" y="516"/>
                </a:lnTo>
                <a:lnTo>
                  <a:pt x="1435" y="509"/>
                </a:lnTo>
                <a:lnTo>
                  <a:pt x="1435" y="502"/>
                </a:lnTo>
                <a:lnTo>
                  <a:pt x="1428" y="502"/>
                </a:lnTo>
                <a:lnTo>
                  <a:pt x="1423" y="502"/>
                </a:lnTo>
                <a:lnTo>
                  <a:pt x="1418" y="500"/>
                </a:lnTo>
                <a:lnTo>
                  <a:pt x="1414" y="496"/>
                </a:lnTo>
                <a:lnTo>
                  <a:pt x="1411" y="495"/>
                </a:lnTo>
                <a:lnTo>
                  <a:pt x="1407" y="491"/>
                </a:lnTo>
                <a:lnTo>
                  <a:pt x="1404" y="488"/>
                </a:lnTo>
                <a:lnTo>
                  <a:pt x="1400" y="484"/>
                </a:lnTo>
                <a:lnTo>
                  <a:pt x="1397" y="486"/>
                </a:lnTo>
                <a:lnTo>
                  <a:pt x="1393" y="486"/>
                </a:lnTo>
                <a:lnTo>
                  <a:pt x="1390" y="488"/>
                </a:lnTo>
                <a:lnTo>
                  <a:pt x="1388" y="489"/>
                </a:lnTo>
                <a:lnTo>
                  <a:pt x="1384" y="491"/>
                </a:lnTo>
                <a:lnTo>
                  <a:pt x="1381" y="493"/>
                </a:lnTo>
                <a:lnTo>
                  <a:pt x="1377" y="493"/>
                </a:lnTo>
                <a:lnTo>
                  <a:pt x="1375" y="495"/>
                </a:lnTo>
                <a:lnTo>
                  <a:pt x="1367" y="484"/>
                </a:lnTo>
                <a:lnTo>
                  <a:pt x="1356" y="486"/>
                </a:lnTo>
                <a:lnTo>
                  <a:pt x="1347" y="491"/>
                </a:lnTo>
                <a:lnTo>
                  <a:pt x="1337" y="500"/>
                </a:lnTo>
                <a:lnTo>
                  <a:pt x="1326" y="507"/>
                </a:lnTo>
                <a:lnTo>
                  <a:pt x="1317" y="516"/>
                </a:lnTo>
                <a:lnTo>
                  <a:pt x="1307" y="523"/>
                </a:lnTo>
                <a:lnTo>
                  <a:pt x="1298" y="528"/>
                </a:lnTo>
                <a:lnTo>
                  <a:pt x="1287" y="532"/>
                </a:lnTo>
                <a:lnTo>
                  <a:pt x="1287" y="567"/>
                </a:lnTo>
                <a:lnTo>
                  <a:pt x="1275" y="569"/>
                </a:lnTo>
                <a:lnTo>
                  <a:pt x="1261" y="569"/>
                </a:lnTo>
                <a:lnTo>
                  <a:pt x="1245" y="571"/>
                </a:lnTo>
                <a:lnTo>
                  <a:pt x="1231" y="572"/>
                </a:lnTo>
                <a:lnTo>
                  <a:pt x="1216" y="574"/>
                </a:lnTo>
                <a:lnTo>
                  <a:pt x="1202" y="576"/>
                </a:lnTo>
                <a:lnTo>
                  <a:pt x="1188" y="578"/>
                </a:lnTo>
                <a:lnTo>
                  <a:pt x="1174" y="578"/>
                </a:lnTo>
                <a:lnTo>
                  <a:pt x="1174" y="572"/>
                </a:lnTo>
                <a:lnTo>
                  <a:pt x="1174" y="567"/>
                </a:lnTo>
                <a:lnTo>
                  <a:pt x="1174" y="562"/>
                </a:lnTo>
                <a:lnTo>
                  <a:pt x="1176" y="556"/>
                </a:lnTo>
                <a:lnTo>
                  <a:pt x="1176" y="551"/>
                </a:lnTo>
                <a:lnTo>
                  <a:pt x="1178" y="548"/>
                </a:lnTo>
                <a:lnTo>
                  <a:pt x="1179" y="548"/>
                </a:lnTo>
                <a:lnTo>
                  <a:pt x="1183" y="549"/>
                </a:lnTo>
                <a:lnTo>
                  <a:pt x="1179" y="542"/>
                </a:lnTo>
                <a:lnTo>
                  <a:pt x="1178" y="539"/>
                </a:lnTo>
                <a:lnTo>
                  <a:pt x="1178" y="534"/>
                </a:lnTo>
                <a:lnTo>
                  <a:pt x="1176" y="530"/>
                </a:lnTo>
                <a:lnTo>
                  <a:pt x="1178" y="526"/>
                </a:lnTo>
                <a:lnTo>
                  <a:pt x="1178" y="523"/>
                </a:lnTo>
                <a:lnTo>
                  <a:pt x="1179" y="518"/>
                </a:lnTo>
                <a:lnTo>
                  <a:pt x="1183" y="512"/>
                </a:lnTo>
                <a:lnTo>
                  <a:pt x="1183" y="509"/>
                </a:lnTo>
                <a:lnTo>
                  <a:pt x="1181" y="505"/>
                </a:lnTo>
                <a:lnTo>
                  <a:pt x="1179" y="502"/>
                </a:lnTo>
                <a:lnTo>
                  <a:pt x="1179" y="498"/>
                </a:lnTo>
                <a:lnTo>
                  <a:pt x="1178" y="495"/>
                </a:lnTo>
                <a:lnTo>
                  <a:pt x="1176" y="491"/>
                </a:lnTo>
                <a:lnTo>
                  <a:pt x="1174" y="488"/>
                </a:lnTo>
                <a:lnTo>
                  <a:pt x="1174" y="484"/>
                </a:lnTo>
                <a:lnTo>
                  <a:pt x="1185" y="486"/>
                </a:lnTo>
                <a:lnTo>
                  <a:pt x="1197" y="488"/>
                </a:lnTo>
                <a:lnTo>
                  <a:pt x="1209" y="489"/>
                </a:lnTo>
                <a:lnTo>
                  <a:pt x="1222" y="493"/>
                </a:lnTo>
                <a:lnTo>
                  <a:pt x="1236" y="495"/>
                </a:lnTo>
                <a:lnTo>
                  <a:pt x="1248" y="496"/>
                </a:lnTo>
                <a:lnTo>
                  <a:pt x="1259" y="496"/>
                </a:lnTo>
                <a:lnTo>
                  <a:pt x="1269" y="495"/>
                </a:lnTo>
                <a:lnTo>
                  <a:pt x="1268" y="488"/>
                </a:lnTo>
                <a:lnTo>
                  <a:pt x="1266" y="481"/>
                </a:lnTo>
                <a:lnTo>
                  <a:pt x="1266" y="475"/>
                </a:lnTo>
                <a:lnTo>
                  <a:pt x="1266" y="470"/>
                </a:lnTo>
                <a:lnTo>
                  <a:pt x="1268" y="463"/>
                </a:lnTo>
                <a:lnTo>
                  <a:pt x="1269" y="456"/>
                </a:lnTo>
                <a:lnTo>
                  <a:pt x="1269" y="447"/>
                </a:lnTo>
                <a:lnTo>
                  <a:pt x="1269" y="438"/>
                </a:lnTo>
                <a:lnTo>
                  <a:pt x="1266" y="438"/>
                </a:lnTo>
                <a:lnTo>
                  <a:pt x="1264" y="436"/>
                </a:lnTo>
                <a:lnTo>
                  <a:pt x="1261" y="435"/>
                </a:lnTo>
                <a:lnTo>
                  <a:pt x="1257" y="433"/>
                </a:lnTo>
                <a:lnTo>
                  <a:pt x="1254" y="431"/>
                </a:lnTo>
                <a:lnTo>
                  <a:pt x="1250" y="431"/>
                </a:lnTo>
                <a:lnTo>
                  <a:pt x="1248" y="429"/>
                </a:lnTo>
                <a:lnTo>
                  <a:pt x="1245" y="429"/>
                </a:lnTo>
                <a:lnTo>
                  <a:pt x="1252" y="427"/>
                </a:lnTo>
                <a:lnTo>
                  <a:pt x="1259" y="427"/>
                </a:lnTo>
                <a:lnTo>
                  <a:pt x="1266" y="426"/>
                </a:lnTo>
                <a:lnTo>
                  <a:pt x="1275" y="424"/>
                </a:lnTo>
                <a:lnTo>
                  <a:pt x="1282" y="422"/>
                </a:lnTo>
                <a:lnTo>
                  <a:pt x="1291" y="420"/>
                </a:lnTo>
                <a:lnTo>
                  <a:pt x="1298" y="420"/>
                </a:lnTo>
                <a:lnTo>
                  <a:pt x="1305" y="419"/>
                </a:lnTo>
                <a:lnTo>
                  <a:pt x="1349" y="373"/>
                </a:lnTo>
                <a:lnTo>
                  <a:pt x="1352" y="373"/>
                </a:lnTo>
                <a:lnTo>
                  <a:pt x="1356" y="373"/>
                </a:lnTo>
                <a:lnTo>
                  <a:pt x="1361" y="373"/>
                </a:lnTo>
                <a:lnTo>
                  <a:pt x="1367" y="371"/>
                </a:lnTo>
                <a:lnTo>
                  <a:pt x="1374" y="371"/>
                </a:lnTo>
                <a:lnTo>
                  <a:pt x="1379" y="369"/>
                </a:lnTo>
                <a:lnTo>
                  <a:pt x="1384" y="367"/>
                </a:lnTo>
                <a:lnTo>
                  <a:pt x="1391" y="364"/>
                </a:lnTo>
                <a:lnTo>
                  <a:pt x="1386" y="357"/>
                </a:lnTo>
                <a:lnTo>
                  <a:pt x="1382" y="351"/>
                </a:lnTo>
                <a:lnTo>
                  <a:pt x="1381" y="346"/>
                </a:lnTo>
                <a:lnTo>
                  <a:pt x="1381" y="341"/>
                </a:lnTo>
                <a:lnTo>
                  <a:pt x="1382" y="337"/>
                </a:lnTo>
                <a:lnTo>
                  <a:pt x="1386" y="334"/>
                </a:lnTo>
                <a:lnTo>
                  <a:pt x="1391" y="330"/>
                </a:lnTo>
                <a:lnTo>
                  <a:pt x="1400" y="327"/>
                </a:lnTo>
                <a:lnTo>
                  <a:pt x="1400" y="332"/>
                </a:lnTo>
                <a:lnTo>
                  <a:pt x="1402" y="339"/>
                </a:lnTo>
                <a:lnTo>
                  <a:pt x="1404" y="344"/>
                </a:lnTo>
                <a:lnTo>
                  <a:pt x="1405" y="348"/>
                </a:lnTo>
                <a:lnTo>
                  <a:pt x="1407" y="353"/>
                </a:lnTo>
                <a:lnTo>
                  <a:pt x="1411" y="357"/>
                </a:lnTo>
                <a:lnTo>
                  <a:pt x="1414" y="360"/>
                </a:lnTo>
                <a:lnTo>
                  <a:pt x="1418" y="364"/>
                </a:lnTo>
                <a:lnTo>
                  <a:pt x="1423" y="360"/>
                </a:lnTo>
                <a:lnTo>
                  <a:pt x="1427" y="359"/>
                </a:lnTo>
                <a:lnTo>
                  <a:pt x="1428" y="359"/>
                </a:lnTo>
                <a:lnTo>
                  <a:pt x="1430" y="359"/>
                </a:lnTo>
                <a:lnTo>
                  <a:pt x="1432" y="359"/>
                </a:lnTo>
                <a:lnTo>
                  <a:pt x="1435" y="359"/>
                </a:lnTo>
                <a:lnTo>
                  <a:pt x="1439" y="357"/>
                </a:lnTo>
                <a:lnTo>
                  <a:pt x="1444" y="353"/>
                </a:lnTo>
                <a:lnTo>
                  <a:pt x="1444" y="355"/>
                </a:lnTo>
                <a:lnTo>
                  <a:pt x="1446" y="357"/>
                </a:lnTo>
                <a:lnTo>
                  <a:pt x="1450" y="360"/>
                </a:lnTo>
                <a:lnTo>
                  <a:pt x="1453" y="364"/>
                </a:lnTo>
                <a:lnTo>
                  <a:pt x="1458" y="367"/>
                </a:lnTo>
                <a:lnTo>
                  <a:pt x="1462" y="369"/>
                </a:lnTo>
                <a:lnTo>
                  <a:pt x="1465" y="373"/>
                </a:lnTo>
                <a:lnTo>
                  <a:pt x="1469" y="373"/>
                </a:lnTo>
                <a:lnTo>
                  <a:pt x="1480" y="367"/>
                </a:lnTo>
                <a:lnTo>
                  <a:pt x="1490" y="362"/>
                </a:lnTo>
                <a:lnTo>
                  <a:pt x="1501" y="353"/>
                </a:lnTo>
                <a:lnTo>
                  <a:pt x="1513" y="344"/>
                </a:lnTo>
                <a:lnTo>
                  <a:pt x="1524" y="336"/>
                </a:lnTo>
                <a:lnTo>
                  <a:pt x="1536" y="329"/>
                </a:lnTo>
                <a:lnTo>
                  <a:pt x="1547" y="321"/>
                </a:lnTo>
                <a:lnTo>
                  <a:pt x="1557" y="318"/>
                </a:lnTo>
                <a:lnTo>
                  <a:pt x="1556" y="311"/>
                </a:lnTo>
                <a:lnTo>
                  <a:pt x="1556" y="304"/>
                </a:lnTo>
                <a:lnTo>
                  <a:pt x="1559" y="300"/>
                </a:lnTo>
                <a:lnTo>
                  <a:pt x="1564" y="295"/>
                </a:lnTo>
                <a:lnTo>
                  <a:pt x="1571" y="291"/>
                </a:lnTo>
                <a:lnTo>
                  <a:pt x="1577" y="286"/>
                </a:lnTo>
                <a:lnTo>
                  <a:pt x="1586" y="284"/>
                </a:lnTo>
                <a:lnTo>
                  <a:pt x="1591" y="281"/>
                </a:lnTo>
                <a:lnTo>
                  <a:pt x="1582" y="281"/>
                </a:lnTo>
                <a:lnTo>
                  <a:pt x="1571" y="281"/>
                </a:lnTo>
                <a:lnTo>
                  <a:pt x="1559" y="279"/>
                </a:lnTo>
                <a:lnTo>
                  <a:pt x="1548" y="279"/>
                </a:lnTo>
                <a:lnTo>
                  <a:pt x="1538" y="277"/>
                </a:lnTo>
                <a:lnTo>
                  <a:pt x="1529" y="276"/>
                </a:lnTo>
                <a:lnTo>
                  <a:pt x="1520" y="274"/>
                </a:lnTo>
                <a:lnTo>
                  <a:pt x="1513" y="270"/>
                </a:lnTo>
                <a:lnTo>
                  <a:pt x="1548" y="233"/>
                </a:lnTo>
                <a:lnTo>
                  <a:pt x="1545" y="233"/>
                </a:lnTo>
                <a:lnTo>
                  <a:pt x="1541" y="231"/>
                </a:lnTo>
                <a:lnTo>
                  <a:pt x="1538" y="230"/>
                </a:lnTo>
                <a:lnTo>
                  <a:pt x="1534" y="228"/>
                </a:lnTo>
                <a:lnTo>
                  <a:pt x="1533" y="226"/>
                </a:lnTo>
                <a:lnTo>
                  <a:pt x="1529" y="224"/>
                </a:lnTo>
                <a:lnTo>
                  <a:pt x="1526" y="224"/>
                </a:lnTo>
                <a:lnTo>
                  <a:pt x="1522" y="224"/>
                </a:lnTo>
                <a:lnTo>
                  <a:pt x="1469" y="281"/>
                </a:lnTo>
                <a:lnTo>
                  <a:pt x="1469" y="284"/>
                </a:lnTo>
                <a:lnTo>
                  <a:pt x="1469" y="288"/>
                </a:lnTo>
                <a:lnTo>
                  <a:pt x="1469" y="293"/>
                </a:lnTo>
                <a:lnTo>
                  <a:pt x="1469" y="298"/>
                </a:lnTo>
                <a:lnTo>
                  <a:pt x="1467" y="304"/>
                </a:lnTo>
                <a:lnTo>
                  <a:pt x="1465" y="309"/>
                </a:lnTo>
                <a:lnTo>
                  <a:pt x="1464" y="313"/>
                </a:lnTo>
                <a:lnTo>
                  <a:pt x="1460" y="318"/>
                </a:lnTo>
                <a:lnTo>
                  <a:pt x="1462" y="316"/>
                </a:lnTo>
                <a:lnTo>
                  <a:pt x="1464" y="316"/>
                </a:lnTo>
                <a:lnTo>
                  <a:pt x="1464" y="316"/>
                </a:lnTo>
                <a:lnTo>
                  <a:pt x="1462" y="320"/>
                </a:lnTo>
                <a:lnTo>
                  <a:pt x="1460" y="325"/>
                </a:lnTo>
                <a:lnTo>
                  <a:pt x="1457" y="332"/>
                </a:lnTo>
                <a:lnTo>
                  <a:pt x="1451" y="339"/>
                </a:lnTo>
                <a:lnTo>
                  <a:pt x="1444" y="346"/>
                </a:lnTo>
                <a:lnTo>
                  <a:pt x="1435" y="351"/>
                </a:lnTo>
                <a:lnTo>
                  <a:pt x="1427" y="353"/>
                </a:lnTo>
                <a:lnTo>
                  <a:pt x="1428" y="344"/>
                </a:lnTo>
                <a:lnTo>
                  <a:pt x="1430" y="337"/>
                </a:lnTo>
                <a:lnTo>
                  <a:pt x="1428" y="332"/>
                </a:lnTo>
                <a:lnTo>
                  <a:pt x="1427" y="327"/>
                </a:lnTo>
                <a:lnTo>
                  <a:pt x="1425" y="323"/>
                </a:lnTo>
                <a:lnTo>
                  <a:pt x="1420" y="320"/>
                </a:lnTo>
                <a:lnTo>
                  <a:pt x="1414" y="314"/>
                </a:lnTo>
                <a:lnTo>
                  <a:pt x="1409" y="307"/>
                </a:lnTo>
                <a:lnTo>
                  <a:pt x="1409" y="302"/>
                </a:lnTo>
                <a:lnTo>
                  <a:pt x="1411" y="297"/>
                </a:lnTo>
                <a:lnTo>
                  <a:pt x="1411" y="293"/>
                </a:lnTo>
                <a:lnTo>
                  <a:pt x="1412" y="290"/>
                </a:lnTo>
                <a:lnTo>
                  <a:pt x="1412" y="284"/>
                </a:lnTo>
                <a:lnTo>
                  <a:pt x="1412" y="281"/>
                </a:lnTo>
                <a:lnTo>
                  <a:pt x="1411" y="276"/>
                </a:lnTo>
                <a:lnTo>
                  <a:pt x="1409" y="270"/>
                </a:lnTo>
                <a:lnTo>
                  <a:pt x="1405" y="277"/>
                </a:lnTo>
                <a:lnTo>
                  <a:pt x="1402" y="284"/>
                </a:lnTo>
                <a:lnTo>
                  <a:pt x="1398" y="290"/>
                </a:lnTo>
                <a:lnTo>
                  <a:pt x="1393" y="297"/>
                </a:lnTo>
                <a:lnTo>
                  <a:pt x="1388" y="300"/>
                </a:lnTo>
                <a:lnTo>
                  <a:pt x="1382" y="304"/>
                </a:lnTo>
                <a:lnTo>
                  <a:pt x="1375" y="307"/>
                </a:lnTo>
                <a:lnTo>
                  <a:pt x="1367" y="307"/>
                </a:lnTo>
                <a:lnTo>
                  <a:pt x="1365" y="304"/>
                </a:lnTo>
                <a:lnTo>
                  <a:pt x="1363" y="298"/>
                </a:lnTo>
                <a:lnTo>
                  <a:pt x="1361" y="295"/>
                </a:lnTo>
                <a:lnTo>
                  <a:pt x="1358" y="290"/>
                </a:lnTo>
                <a:lnTo>
                  <a:pt x="1354" y="284"/>
                </a:lnTo>
                <a:lnTo>
                  <a:pt x="1351" y="279"/>
                </a:lnTo>
                <a:lnTo>
                  <a:pt x="1349" y="274"/>
                </a:lnTo>
                <a:lnTo>
                  <a:pt x="1349" y="270"/>
                </a:lnTo>
                <a:lnTo>
                  <a:pt x="1354" y="261"/>
                </a:lnTo>
                <a:lnTo>
                  <a:pt x="1361" y="256"/>
                </a:lnTo>
                <a:lnTo>
                  <a:pt x="1368" y="251"/>
                </a:lnTo>
                <a:lnTo>
                  <a:pt x="1374" y="249"/>
                </a:lnTo>
                <a:lnTo>
                  <a:pt x="1381" y="247"/>
                </a:lnTo>
                <a:lnTo>
                  <a:pt x="1388" y="247"/>
                </a:lnTo>
                <a:lnTo>
                  <a:pt x="1393" y="245"/>
                </a:lnTo>
                <a:lnTo>
                  <a:pt x="1400" y="242"/>
                </a:lnTo>
                <a:lnTo>
                  <a:pt x="1409" y="233"/>
                </a:lnTo>
                <a:lnTo>
                  <a:pt x="1416" y="221"/>
                </a:lnTo>
                <a:lnTo>
                  <a:pt x="1425" y="208"/>
                </a:lnTo>
                <a:lnTo>
                  <a:pt x="1434" y="198"/>
                </a:lnTo>
                <a:lnTo>
                  <a:pt x="1444" y="187"/>
                </a:lnTo>
                <a:lnTo>
                  <a:pt x="1455" y="178"/>
                </a:lnTo>
                <a:lnTo>
                  <a:pt x="1465" y="169"/>
                </a:lnTo>
                <a:lnTo>
                  <a:pt x="1478" y="159"/>
                </a:lnTo>
                <a:lnTo>
                  <a:pt x="1487" y="150"/>
                </a:lnTo>
                <a:lnTo>
                  <a:pt x="1573" y="150"/>
                </a:lnTo>
                <a:lnTo>
                  <a:pt x="1591" y="168"/>
                </a:lnTo>
                <a:lnTo>
                  <a:pt x="1626" y="168"/>
                </a:lnTo>
                <a:lnTo>
                  <a:pt x="1633" y="175"/>
                </a:lnTo>
                <a:lnTo>
                  <a:pt x="1640" y="180"/>
                </a:lnTo>
                <a:lnTo>
                  <a:pt x="1646" y="185"/>
                </a:lnTo>
                <a:lnTo>
                  <a:pt x="1653" y="187"/>
                </a:lnTo>
                <a:lnTo>
                  <a:pt x="1660" y="191"/>
                </a:lnTo>
                <a:lnTo>
                  <a:pt x="1665" y="191"/>
                </a:lnTo>
                <a:lnTo>
                  <a:pt x="1672" y="189"/>
                </a:lnTo>
                <a:lnTo>
                  <a:pt x="1679" y="187"/>
                </a:lnTo>
                <a:lnTo>
                  <a:pt x="1697" y="205"/>
                </a:lnTo>
                <a:lnTo>
                  <a:pt x="1679" y="224"/>
                </a:lnTo>
                <a:lnTo>
                  <a:pt x="1644" y="224"/>
                </a:lnTo>
                <a:lnTo>
                  <a:pt x="1626" y="205"/>
                </a:lnTo>
                <a:lnTo>
                  <a:pt x="1617" y="215"/>
                </a:lnTo>
                <a:lnTo>
                  <a:pt x="1653" y="253"/>
                </a:lnTo>
                <a:lnTo>
                  <a:pt x="1670" y="253"/>
                </a:lnTo>
                <a:lnTo>
                  <a:pt x="1674" y="251"/>
                </a:lnTo>
                <a:lnTo>
                  <a:pt x="1681" y="245"/>
                </a:lnTo>
                <a:lnTo>
                  <a:pt x="1688" y="240"/>
                </a:lnTo>
                <a:lnTo>
                  <a:pt x="1695" y="233"/>
                </a:lnTo>
                <a:lnTo>
                  <a:pt x="1702" y="226"/>
                </a:lnTo>
                <a:lnTo>
                  <a:pt x="1707" y="221"/>
                </a:lnTo>
                <a:lnTo>
                  <a:pt x="1713" y="217"/>
                </a:lnTo>
                <a:lnTo>
                  <a:pt x="1714" y="215"/>
                </a:lnTo>
                <a:lnTo>
                  <a:pt x="1732" y="215"/>
                </a:lnTo>
                <a:lnTo>
                  <a:pt x="1757" y="187"/>
                </a:lnTo>
                <a:lnTo>
                  <a:pt x="1775" y="205"/>
                </a:lnTo>
                <a:lnTo>
                  <a:pt x="1801" y="177"/>
                </a:lnTo>
                <a:lnTo>
                  <a:pt x="1819" y="196"/>
                </a:lnTo>
                <a:lnTo>
                  <a:pt x="1824" y="192"/>
                </a:lnTo>
                <a:lnTo>
                  <a:pt x="1831" y="191"/>
                </a:lnTo>
                <a:lnTo>
                  <a:pt x="1838" y="189"/>
                </a:lnTo>
                <a:lnTo>
                  <a:pt x="1843" y="187"/>
                </a:lnTo>
                <a:lnTo>
                  <a:pt x="1850" y="185"/>
                </a:lnTo>
                <a:lnTo>
                  <a:pt x="1858" y="184"/>
                </a:lnTo>
                <a:lnTo>
                  <a:pt x="1863" y="180"/>
                </a:lnTo>
                <a:lnTo>
                  <a:pt x="1870" y="177"/>
                </a:lnTo>
                <a:lnTo>
                  <a:pt x="1845" y="150"/>
                </a:lnTo>
                <a:lnTo>
                  <a:pt x="1854" y="154"/>
                </a:lnTo>
                <a:lnTo>
                  <a:pt x="1865" y="157"/>
                </a:lnTo>
                <a:lnTo>
                  <a:pt x="1873" y="161"/>
                </a:lnTo>
                <a:lnTo>
                  <a:pt x="1884" y="162"/>
                </a:lnTo>
                <a:lnTo>
                  <a:pt x="1895" y="166"/>
                </a:lnTo>
                <a:lnTo>
                  <a:pt x="1907" y="168"/>
                </a:lnTo>
                <a:lnTo>
                  <a:pt x="1919" y="168"/>
                </a:lnTo>
                <a:lnTo>
                  <a:pt x="1932" y="168"/>
                </a:lnTo>
                <a:lnTo>
                  <a:pt x="1932" y="164"/>
                </a:lnTo>
                <a:lnTo>
                  <a:pt x="1933" y="161"/>
                </a:lnTo>
                <a:lnTo>
                  <a:pt x="1933" y="157"/>
                </a:lnTo>
                <a:lnTo>
                  <a:pt x="1935" y="154"/>
                </a:lnTo>
                <a:lnTo>
                  <a:pt x="1937" y="150"/>
                </a:lnTo>
                <a:lnTo>
                  <a:pt x="1939" y="147"/>
                </a:lnTo>
                <a:lnTo>
                  <a:pt x="1941" y="143"/>
                </a:lnTo>
                <a:lnTo>
                  <a:pt x="1941" y="139"/>
                </a:lnTo>
                <a:lnTo>
                  <a:pt x="1983" y="187"/>
                </a:lnTo>
                <a:lnTo>
                  <a:pt x="1983" y="191"/>
                </a:lnTo>
                <a:lnTo>
                  <a:pt x="1983" y="194"/>
                </a:lnTo>
                <a:lnTo>
                  <a:pt x="1981" y="198"/>
                </a:lnTo>
                <a:lnTo>
                  <a:pt x="1979" y="201"/>
                </a:lnTo>
                <a:lnTo>
                  <a:pt x="1978" y="205"/>
                </a:lnTo>
                <a:lnTo>
                  <a:pt x="1976" y="208"/>
                </a:lnTo>
                <a:lnTo>
                  <a:pt x="1976" y="212"/>
                </a:lnTo>
                <a:lnTo>
                  <a:pt x="1974" y="215"/>
                </a:lnTo>
                <a:lnTo>
                  <a:pt x="2009" y="215"/>
                </a:lnTo>
                <a:lnTo>
                  <a:pt x="2009" y="177"/>
                </a:lnTo>
                <a:lnTo>
                  <a:pt x="2016" y="184"/>
                </a:lnTo>
                <a:lnTo>
                  <a:pt x="2024" y="189"/>
                </a:lnTo>
                <a:lnTo>
                  <a:pt x="2032" y="192"/>
                </a:lnTo>
                <a:lnTo>
                  <a:pt x="2039" y="194"/>
                </a:lnTo>
                <a:lnTo>
                  <a:pt x="2048" y="198"/>
                </a:lnTo>
                <a:lnTo>
                  <a:pt x="2057" y="200"/>
                </a:lnTo>
                <a:lnTo>
                  <a:pt x="2064" y="203"/>
                </a:lnTo>
                <a:lnTo>
                  <a:pt x="2071" y="205"/>
                </a:lnTo>
                <a:lnTo>
                  <a:pt x="2071" y="201"/>
                </a:lnTo>
                <a:lnTo>
                  <a:pt x="2069" y="198"/>
                </a:lnTo>
                <a:lnTo>
                  <a:pt x="2068" y="194"/>
                </a:lnTo>
                <a:lnTo>
                  <a:pt x="2066" y="191"/>
                </a:lnTo>
                <a:lnTo>
                  <a:pt x="2064" y="187"/>
                </a:lnTo>
                <a:lnTo>
                  <a:pt x="2062" y="184"/>
                </a:lnTo>
                <a:lnTo>
                  <a:pt x="2062" y="180"/>
                </a:lnTo>
                <a:lnTo>
                  <a:pt x="2061" y="177"/>
                </a:lnTo>
                <a:lnTo>
                  <a:pt x="2045" y="177"/>
                </a:lnTo>
                <a:lnTo>
                  <a:pt x="2036" y="187"/>
                </a:lnTo>
                <a:lnTo>
                  <a:pt x="2018" y="187"/>
                </a:lnTo>
                <a:lnTo>
                  <a:pt x="1992" y="159"/>
                </a:lnTo>
                <a:lnTo>
                  <a:pt x="2002" y="157"/>
                </a:lnTo>
                <a:lnTo>
                  <a:pt x="2011" y="155"/>
                </a:lnTo>
                <a:lnTo>
                  <a:pt x="2022" y="155"/>
                </a:lnTo>
                <a:lnTo>
                  <a:pt x="2031" y="154"/>
                </a:lnTo>
                <a:lnTo>
                  <a:pt x="2041" y="154"/>
                </a:lnTo>
                <a:lnTo>
                  <a:pt x="2052" y="154"/>
                </a:lnTo>
                <a:lnTo>
                  <a:pt x="2061" y="152"/>
                </a:lnTo>
                <a:lnTo>
                  <a:pt x="2071" y="150"/>
                </a:lnTo>
                <a:lnTo>
                  <a:pt x="2068" y="150"/>
                </a:lnTo>
                <a:lnTo>
                  <a:pt x="2064" y="148"/>
                </a:lnTo>
                <a:lnTo>
                  <a:pt x="2061" y="147"/>
                </a:lnTo>
                <a:lnTo>
                  <a:pt x="2057" y="145"/>
                </a:lnTo>
                <a:lnTo>
                  <a:pt x="2054" y="143"/>
                </a:lnTo>
                <a:lnTo>
                  <a:pt x="2052" y="141"/>
                </a:lnTo>
                <a:lnTo>
                  <a:pt x="2048" y="141"/>
                </a:lnTo>
                <a:lnTo>
                  <a:pt x="2045" y="139"/>
                </a:lnTo>
                <a:lnTo>
                  <a:pt x="2048" y="136"/>
                </a:lnTo>
                <a:lnTo>
                  <a:pt x="2052" y="131"/>
                </a:lnTo>
                <a:lnTo>
                  <a:pt x="2057" y="124"/>
                </a:lnTo>
                <a:lnTo>
                  <a:pt x="2061" y="116"/>
                </a:lnTo>
                <a:lnTo>
                  <a:pt x="2064" y="109"/>
                </a:lnTo>
                <a:lnTo>
                  <a:pt x="2068" y="104"/>
                </a:lnTo>
                <a:lnTo>
                  <a:pt x="2069" y="99"/>
                </a:lnTo>
                <a:lnTo>
                  <a:pt x="2071" y="93"/>
                </a:lnTo>
                <a:lnTo>
                  <a:pt x="2078" y="93"/>
                </a:lnTo>
                <a:lnTo>
                  <a:pt x="2085" y="93"/>
                </a:lnTo>
                <a:lnTo>
                  <a:pt x="2092" y="95"/>
                </a:lnTo>
                <a:lnTo>
                  <a:pt x="2101" y="95"/>
                </a:lnTo>
                <a:lnTo>
                  <a:pt x="2108" y="97"/>
                </a:lnTo>
                <a:lnTo>
                  <a:pt x="2117" y="97"/>
                </a:lnTo>
                <a:lnTo>
                  <a:pt x="2124" y="101"/>
                </a:lnTo>
                <a:lnTo>
                  <a:pt x="2131" y="104"/>
                </a:lnTo>
                <a:lnTo>
                  <a:pt x="2135" y="102"/>
                </a:lnTo>
                <a:lnTo>
                  <a:pt x="2138" y="102"/>
                </a:lnTo>
                <a:lnTo>
                  <a:pt x="2142" y="101"/>
                </a:lnTo>
                <a:lnTo>
                  <a:pt x="2144" y="99"/>
                </a:lnTo>
                <a:lnTo>
                  <a:pt x="2147" y="97"/>
                </a:lnTo>
                <a:lnTo>
                  <a:pt x="2151" y="95"/>
                </a:lnTo>
                <a:lnTo>
                  <a:pt x="2154" y="93"/>
                </a:lnTo>
                <a:lnTo>
                  <a:pt x="2158" y="93"/>
                </a:lnTo>
                <a:lnTo>
                  <a:pt x="2158" y="90"/>
                </a:lnTo>
                <a:lnTo>
                  <a:pt x="2158" y="86"/>
                </a:lnTo>
                <a:lnTo>
                  <a:pt x="2158" y="83"/>
                </a:lnTo>
                <a:lnTo>
                  <a:pt x="2160" y="79"/>
                </a:lnTo>
                <a:lnTo>
                  <a:pt x="2160" y="76"/>
                </a:lnTo>
                <a:lnTo>
                  <a:pt x="2161" y="72"/>
                </a:lnTo>
                <a:lnTo>
                  <a:pt x="2163" y="69"/>
                </a:lnTo>
                <a:lnTo>
                  <a:pt x="2167" y="65"/>
                </a:lnTo>
                <a:lnTo>
                  <a:pt x="2211" y="93"/>
                </a:lnTo>
                <a:lnTo>
                  <a:pt x="2202" y="85"/>
                </a:lnTo>
                <a:lnTo>
                  <a:pt x="2220" y="85"/>
                </a:lnTo>
                <a:lnTo>
                  <a:pt x="2202" y="85"/>
                </a:lnTo>
                <a:lnTo>
                  <a:pt x="2209" y="85"/>
                </a:lnTo>
                <a:lnTo>
                  <a:pt x="2218" y="85"/>
                </a:lnTo>
                <a:lnTo>
                  <a:pt x="2228" y="85"/>
                </a:lnTo>
                <a:lnTo>
                  <a:pt x="2241" y="83"/>
                </a:lnTo>
                <a:lnTo>
                  <a:pt x="2251" y="83"/>
                </a:lnTo>
                <a:lnTo>
                  <a:pt x="2262" y="81"/>
                </a:lnTo>
                <a:lnTo>
                  <a:pt x="2273" y="78"/>
                </a:lnTo>
                <a:lnTo>
                  <a:pt x="2280" y="76"/>
                </a:lnTo>
                <a:lnTo>
                  <a:pt x="2280" y="79"/>
                </a:lnTo>
                <a:lnTo>
                  <a:pt x="2278" y="83"/>
                </a:lnTo>
                <a:lnTo>
                  <a:pt x="2276" y="86"/>
                </a:lnTo>
                <a:lnTo>
                  <a:pt x="2276" y="90"/>
                </a:lnTo>
                <a:lnTo>
                  <a:pt x="2274" y="93"/>
                </a:lnTo>
                <a:lnTo>
                  <a:pt x="2273" y="97"/>
                </a:lnTo>
                <a:lnTo>
                  <a:pt x="2271" y="101"/>
                </a:lnTo>
                <a:lnTo>
                  <a:pt x="2271" y="104"/>
                </a:lnTo>
                <a:lnTo>
                  <a:pt x="2288" y="122"/>
                </a:lnTo>
                <a:lnTo>
                  <a:pt x="2281" y="125"/>
                </a:lnTo>
                <a:lnTo>
                  <a:pt x="2274" y="131"/>
                </a:lnTo>
                <a:lnTo>
                  <a:pt x="2265" y="136"/>
                </a:lnTo>
                <a:lnTo>
                  <a:pt x="2258" y="141"/>
                </a:lnTo>
                <a:lnTo>
                  <a:pt x="2250" y="148"/>
                </a:lnTo>
                <a:lnTo>
                  <a:pt x="2243" y="155"/>
                </a:lnTo>
                <a:lnTo>
                  <a:pt x="2234" y="162"/>
                </a:lnTo>
                <a:lnTo>
                  <a:pt x="2228" y="168"/>
                </a:lnTo>
                <a:lnTo>
                  <a:pt x="2235" y="161"/>
                </a:lnTo>
                <a:lnTo>
                  <a:pt x="2246" y="154"/>
                </a:lnTo>
                <a:lnTo>
                  <a:pt x="2257" y="150"/>
                </a:lnTo>
                <a:lnTo>
                  <a:pt x="2269" y="147"/>
                </a:lnTo>
                <a:lnTo>
                  <a:pt x="2281" y="143"/>
                </a:lnTo>
                <a:lnTo>
                  <a:pt x="2294" y="141"/>
                </a:lnTo>
                <a:lnTo>
                  <a:pt x="2308" y="141"/>
                </a:lnTo>
                <a:lnTo>
                  <a:pt x="2320" y="141"/>
                </a:lnTo>
                <a:lnTo>
                  <a:pt x="2348" y="143"/>
                </a:lnTo>
                <a:lnTo>
                  <a:pt x="2377" y="147"/>
                </a:lnTo>
                <a:lnTo>
                  <a:pt x="2403" y="148"/>
                </a:lnTo>
                <a:lnTo>
                  <a:pt x="2428" y="150"/>
                </a:lnTo>
                <a:lnTo>
                  <a:pt x="2454" y="177"/>
                </a:lnTo>
                <a:lnTo>
                  <a:pt x="2470" y="171"/>
                </a:lnTo>
                <a:lnTo>
                  <a:pt x="2486" y="168"/>
                </a:lnTo>
                <a:lnTo>
                  <a:pt x="2506" y="168"/>
                </a:lnTo>
                <a:lnTo>
                  <a:pt x="2527" y="169"/>
                </a:lnTo>
                <a:lnTo>
                  <a:pt x="2569" y="175"/>
                </a:lnTo>
                <a:lnTo>
                  <a:pt x="2615" y="185"/>
                </a:lnTo>
                <a:lnTo>
                  <a:pt x="2663" y="198"/>
                </a:lnTo>
                <a:lnTo>
                  <a:pt x="2707" y="208"/>
                </a:lnTo>
                <a:lnTo>
                  <a:pt x="2728" y="212"/>
                </a:lnTo>
                <a:lnTo>
                  <a:pt x="2749" y="214"/>
                </a:lnTo>
                <a:lnTo>
                  <a:pt x="2767" y="215"/>
                </a:lnTo>
                <a:lnTo>
                  <a:pt x="2785" y="215"/>
                </a:lnTo>
                <a:lnTo>
                  <a:pt x="2792" y="215"/>
                </a:lnTo>
                <a:lnTo>
                  <a:pt x="2797" y="214"/>
                </a:lnTo>
                <a:lnTo>
                  <a:pt x="2804" y="212"/>
                </a:lnTo>
                <a:lnTo>
                  <a:pt x="2811" y="212"/>
                </a:lnTo>
                <a:lnTo>
                  <a:pt x="2817" y="210"/>
                </a:lnTo>
                <a:lnTo>
                  <a:pt x="2824" y="210"/>
                </a:lnTo>
                <a:lnTo>
                  <a:pt x="2831" y="212"/>
                </a:lnTo>
                <a:lnTo>
                  <a:pt x="2838" y="215"/>
                </a:lnTo>
                <a:lnTo>
                  <a:pt x="2839" y="215"/>
                </a:lnTo>
                <a:lnTo>
                  <a:pt x="2843" y="214"/>
                </a:lnTo>
                <a:lnTo>
                  <a:pt x="2847" y="212"/>
                </a:lnTo>
                <a:lnTo>
                  <a:pt x="2850" y="210"/>
                </a:lnTo>
                <a:lnTo>
                  <a:pt x="2854" y="208"/>
                </a:lnTo>
                <a:lnTo>
                  <a:pt x="2857" y="207"/>
                </a:lnTo>
                <a:lnTo>
                  <a:pt x="2859" y="207"/>
                </a:lnTo>
                <a:lnTo>
                  <a:pt x="2862" y="205"/>
                </a:lnTo>
                <a:lnTo>
                  <a:pt x="2880" y="224"/>
                </a:lnTo>
                <a:lnTo>
                  <a:pt x="2889" y="222"/>
                </a:lnTo>
                <a:lnTo>
                  <a:pt x="2898" y="222"/>
                </a:lnTo>
                <a:lnTo>
                  <a:pt x="2903" y="221"/>
                </a:lnTo>
                <a:lnTo>
                  <a:pt x="2910" y="221"/>
                </a:lnTo>
                <a:lnTo>
                  <a:pt x="2915" y="219"/>
                </a:lnTo>
                <a:lnTo>
                  <a:pt x="2921" y="221"/>
                </a:lnTo>
                <a:lnTo>
                  <a:pt x="2926" y="221"/>
                </a:lnTo>
                <a:lnTo>
                  <a:pt x="2933" y="224"/>
                </a:lnTo>
                <a:lnTo>
                  <a:pt x="2951" y="205"/>
                </a:lnTo>
                <a:lnTo>
                  <a:pt x="2933" y="205"/>
                </a:lnTo>
                <a:lnTo>
                  <a:pt x="2945" y="207"/>
                </a:lnTo>
                <a:lnTo>
                  <a:pt x="2960" y="208"/>
                </a:lnTo>
                <a:lnTo>
                  <a:pt x="2972" y="212"/>
                </a:lnTo>
                <a:lnTo>
                  <a:pt x="2984" y="214"/>
                </a:lnTo>
                <a:lnTo>
                  <a:pt x="2998" y="217"/>
                </a:lnTo>
                <a:lnTo>
                  <a:pt x="3011" y="221"/>
                </a:lnTo>
                <a:lnTo>
                  <a:pt x="3025" y="222"/>
                </a:lnTo>
                <a:lnTo>
                  <a:pt x="3037" y="224"/>
                </a:lnTo>
                <a:lnTo>
                  <a:pt x="3055" y="242"/>
                </a:lnTo>
                <a:lnTo>
                  <a:pt x="3062" y="242"/>
                </a:lnTo>
                <a:lnTo>
                  <a:pt x="3069" y="242"/>
                </a:lnTo>
                <a:lnTo>
                  <a:pt x="3076" y="244"/>
                </a:lnTo>
                <a:lnTo>
                  <a:pt x="3085" y="244"/>
                </a:lnTo>
                <a:lnTo>
                  <a:pt x="3094" y="245"/>
                </a:lnTo>
                <a:lnTo>
                  <a:pt x="3101" y="247"/>
                </a:lnTo>
                <a:lnTo>
                  <a:pt x="3108" y="249"/>
                </a:lnTo>
                <a:lnTo>
                  <a:pt x="3115" y="253"/>
                </a:lnTo>
                <a:lnTo>
                  <a:pt x="3113" y="258"/>
                </a:lnTo>
                <a:lnTo>
                  <a:pt x="3111" y="261"/>
                </a:lnTo>
                <a:lnTo>
                  <a:pt x="3111" y="263"/>
                </a:lnTo>
                <a:lnTo>
                  <a:pt x="3111" y="265"/>
                </a:lnTo>
                <a:lnTo>
                  <a:pt x="3111" y="268"/>
                </a:lnTo>
                <a:lnTo>
                  <a:pt x="3110" y="270"/>
                </a:lnTo>
                <a:lnTo>
                  <a:pt x="3110" y="274"/>
                </a:lnTo>
                <a:lnTo>
                  <a:pt x="3106" y="281"/>
                </a:lnTo>
                <a:lnTo>
                  <a:pt x="3088" y="261"/>
                </a:lnTo>
                <a:lnTo>
                  <a:pt x="3037" y="261"/>
                </a:lnTo>
                <a:lnTo>
                  <a:pt x="3037" y="258"/>
                </a:lnTo>
                <a:lnTo>
                  <a:pt x="3036" y="253"/>
                </a:lnTo>
                <a:lnTo>
                  <a:pt x="3032" y="249"/>
                </a:lnTo>
                <a:lnTo>
                  <a:pt x="3028" y="244"/>
                </a:lnTo>
                <a:lnTo>
                  <a:pt x="3025" y="240"/>
                </a:lnTo>
                <a:lnTo>
                  <a:pt x="3023" y="237"/>
                </a:lnTo>
                <a:lnTo>
                  <a:pt x="3021" y="233"/>
                </a:lnTo>
                <a:lnTo>
                  <a:pt x="3020" y="233"/>
                </a:lnTo>
                <a:lnTo>
                  <a:pt x="3020" y="237"/>
                </a:lnTo>
                <a:lnTo>
                  <a:pt x="3020" y="240"/>
                </a:lnTo>
                <a:lnTo>
                  <a:pt x="3020" y="245"/>
                </a:lnTo>
                <a:lnTo>
                  <a:pt x="3021" y="249"/>
                </a:lnTo>
                <a:lnTo>
                  <a:pt x="3028" y="260"/>
                </a:lnTo>
                <a:lnTo>
                  <a:pt x="3037" y="268"/>
                </a:lnTo>
                <a:lnTo>
                  <a:pt x="3048" y="276"/>
                </a:lnTo>
                <a:lnTo>
                  <a:pt x="3058" y="283"/>
                </a:lnTo>
                <a:lnTo>
                  <a:pt x="3071" y="288"/>
                </a:lnTo>
                <a:lnTo>
                  <a:pt x="3081" y="290"/>
                </a:lnTo>
                <a:lnTo>
                  <a:pt x="3080" y="293"/>
                </a:lnTo>
                <a:lnTo>
                  <a:pt x="3078" y="297"/>
                </a:lnTo>
                <a:lnTo>
                  <a:pt x="3076" y="302"/>
                </a:lnTo>
                <a:lnTo>
                  <a:pt x="3073" y="307"/>
                </a:lnTo>
                <a:lnTo>
                  <a:pt x="3069" y="311"/>
                </a:lnTo>
                <a:lnTo>
                  <a:pt x="3066" y="314"/>
                </a:lnTo>
                <a:lnTo>
                  <a:pt x="3064" y="316"/>
                </a:lnTo>
                <a:lnTo>
                  <a:pt x="3064" y="318"/>
                </a:lnTo>
                <a:lnTo>
                  <a:pt x="3060" y="318"/>
                </a:lnTo>
                <a:lnTo>
                  <a:pt x="3057" y="318"/>
                </a:lnTo>
                <a:lnTo>
                  <a:pt x="3053" y="320"/>
                </a:lnTo>
                <a:lnTo>
                  <a:pt x="3050" y="321"/>
                </a:lnTo>
                <a:lnTo>
                  <a:pt x="3046" y="323"/>
                </a:lnTo>
                <a:lnTo>
                  <a:pt x="3044" y="325"/>
                </a:lnTo>
                <a:lnTo>
                  <a:pt x="3041" y="327"/>
                </a:lnTo>
                <a:lnTo>
                  <a:pt x="3037" y="327"/>
                </a:lnTo>
                <a:lnTo>
                  <a:pt x="3032" y="327"/>
                </a:lnTo>
                <a:lnTo>
                  <a:pt x="3025" y="325"/>
                </a:lnTo>
                <a:lnTo>
                  <a:pt x="3021" y="323"/>
                </a:lnTo>
                <a:lnTo>
                  <a:pt x="3016" y="323"/>
                </a:lnTo>
                <a:lnTo>
                  <a:pt x="3011" y="323"/>
                </a:lnTo>
                <a:lnTo>
                  <a:pt x="3005" y="323"/>
                </a:lnTo>
                <a:lnTo>
                  <a:pt x="3000" y="323"/>
                </a:lnTo>
                <a:lnTo>
                  <a:pt x="2993" y="327"/>
                </a:lnTo>
                <a:lnTo>
                  <a:pt x="2995" y="336"/>
                </a:lnTo>
                <a:lnTo>
                  <a:pt x="2998" y="344"/>
                </a:lnTo>
                <a:lnTo>
                  <a:pt x="3002" y="351"/>
                </a:lnTo>
                <a:lnTo>
                  <a:pt x="3009" y="357"/>
                </a:lnTo>
                <a:lnTo>
                  <a:pt x="3016" y="362"/>
                </a:lnTo>
                <a:lnTo>
                  <a:pt x="3023" y="366"/>
                </a:lnTo>
                <a:lnTo>
                  <a:pt x="3030" y="369"/>
                </a:lnTo>
                <a:lnTo>
                  <a:pt x="3037" y="373"/>
                </a:lnTo>
                <a:lnTo>
                  <a:pt x="3037" y="380"/>
                </a:lnTo>
                <a:lnTo>
                  <a:pt x="3039" y="389"/>
                </a:lnTo>
                <a:lnTo>
                  <a:pt x="3041" y="396"/>
                </a:lnTo>
                <a:lnTo>
                  <a:pt x="3041" y="405"/>
                </a:lnTo>
                <a:lnTo>
                  <a:pt x="3043" y="413"/>
                </a:lnTo>
                <a:lnTo>
                  <a:pt x="3044" y="422"/>
                </a:lnTo>
                <a:lnTo>
                  <a:pt x="3046" y="431"/>
                </a:lnTo>
                <a:lnTo>
                  <a:pt x="3046" y="438"/>
                </a:lnTo>
                <a:lnTo>
                  <a:pt x="3036" y="427"/>
                </a:lnTo>
                <a:lnTo>
                  <a:pt x="3023" y="420"/>
                </a:lnTo>
                <a:lnTo>
                  <a:pt x="3011" y="412"/>
                </a:lnTo>
                <a:lnTo>
                  <a:pt x="2998" y="405"/>
                </a:lnTo>
                <a:lnTo>
                  <a:pt x="2984" y="397"/>
                </a:lnTo>
                <a:lnTo>
                  <a:pt x="2972" y="390"/>
                </a:lnTo>
                <a:lnTo>
                  <a:pt x="2961" y="383"/>
                </a:lnTo>
                <a:lnTo>
                  <a:pt x="2951" y="373"/>
                </a:lnTo>
                <a:lnTo>
                  <a:pt x="2951" y="369"/>
                </a:lnTo>
                <a:lnTo>
                  <a:pt x="2951" y="366"/>
                </a:lnTo>
                <a:lnTo>
                  <a:pt x="2952" y="362"/>
                </a:lnTo>
                <a:lnTo>
                  <a:pt x="2954" y="359"/>
                </a:lnTo>
                <a:lnTo>
                  <a:pt x="2956" y="355"/>
                </a:lnTo>
                <a:lnTo>
                  <a:pt x="2958" y="351"/>
                </a:lnTo>
                <a:lnTo>
                  <a:pt x="2958" y="348"/>
                </a:lnTo>
                <a:lnTo>
                  <a:pt x="2960" y="344"/>
                </a:lnTo>
                <a:lnTo>
                  <a:pt x="2958" y="341"/>
                </a:lnTo>
                <a:lnTo>
                  <a:pt x="2956" y="334"/>
                </a:lnTo>
                <a:lnTo>
                  <a:pt x="2952" y="329"/>
                </a:lnTo>
                <a:lnTo>
                  <a:pt x="2951" y="320"/>
                </a:lnTo>
                <a:lnTo>
                  <a:pt x="2947" y="313"/>
                </a:lnTo>
                <a:lnTo>
                  <a:pt x="2944" y="304"/>
                </a:lnTo>
                <a:lnTo>
                  <a:pt x="2942" y="297"/>
                </a:lnTo>
                <a:lnTo>
                  <a:pt x="2942" y="290"/>
                </a:lnTo>
                <a:lnTo>
                  <a:pt x="2935" y="291"/>
                </a:lnTo>
                <a:lnTo>
                  <a:pt x="2931" y="293"/>
                </a:lnTo>
                <a:lnTo>
                  <a:pt x="2928" y="293"/>
                </a:lnTo>
                <a:lnTo>
                  <a:pt x="2924" y="293"/>
                </a:lnTo>
                <a:lnTo>
                  <a:pt x="2921" y="291"/>
                </a:lnTo>
                <a:lnTo>
                  <a:pt x="2917" y="290"/>
                </a:lnTo>
                <a:lnTo>
                  <a:pt x="2912" y="290"/>
                </a:lnTo>
                <a:lnTo>
                  <a:pt x="2907" y="290"/>
                </a:lnTo>
                <a:lnTo>
                  <a:pt x="2903" y="297"/>
                </a:lnTo>
                <a:lnTo>
                  <a:pt x="2898" y="304"/>
                </a:lnTo>
                <a:lnTo>
                  <a:pt x="2894" y="313"/>
                </a:lnTo>
                <a:lnTo>
                  <a:pt x="2887" y="321"/>
                </a:lnTo>
                <a:lnTo>
                  <a:pt x="2882" y="330"/>
                </a:lnTo>
                <a:lnTo>
                  <a:pt x="2877" y="339"/>
                </a:lnTo>
                <a:lnTo>
                  <a:pt x="2869" y="346"/>
                </a:lnTo>
                <a:lnTo>
                  <a:pt x="2862" y="353"/>
                </a:lnTo>
                <a:lnTo>
                  <a:pt x="2854" y="353"/>
                </a:lnTo>
                <a:lnTo>
                  <a:pt x="2847" y="351"/>
                </a:lnTo>
                <a:lnTo>
                  <a:pt x="2841" y="350"/>
                </a:lnTo>
                <a:lnTo>
                  <a:pt x="2836" y="346"/>
                </a:lnTo>
                <a:lnTo>
                  <a:pt x="2832" y="343"/>
                </a:lnTo>
                <a:lnTo>
                  <a:pt x="2831" y="339"/>
                </a:lnTo>
                <a:lnTo>
                  <a:pt x="2829" y="332"/>
                </a:lnTo>
                <a:lnTo>
                  <a:pt x="2829" y="327"/>
                </a:lnTo>
                <a:lnTo>
                  <a:pt x="2811" y="344"/>
                </a:lnTo>
                <a:lnTo>
                  <a:pt x="2794" y="327"/>
                </a:lnTo>
                <a:lnTo>
                  <a:pt x="2790" y="330"/>
                </a:lnTo>
                <a:lnTo>
                  <a:pt x="2785" y="336"/>
                </a:lnTo>
                <a:lnTo>
                  <a:pt x="2778" y="343"/>
                </a:lnTo>
                <a:lnTo>
                  <a:pt x="2772" y="350"/>
                </a:lnTo>
                <a:lnTo>
                  <a:pt x="2767" y="359"/>
                </a:lnTo>
                <a:lnTo>
                  <a:pt x="2762" y="367"/>
                </a:lnTo>
                <a:lnTo>
                  <a:pt x="2760" y="374"/>
                </a:lnTo>
                <a:lnTo>
                  <a:pt x="2758" y="382"/>
                </a:lnTo>
                <a:lnTo>
                  <a:pt x="2762" y="382"/>
                </a:lnTo>
                <a:lnTo>
                  <a:pt x="2767" y="385"/>
                </a:lnTo>
                <a:lnTo>
                  <a:pt x="2771" y="387"/>
                </a:lnTo>
                <a:lnTo>
                  <a:pt x="2776" y="390"/>
                </a:lnTo>
                <a:lnTo>
                  <a:pt x="2781" y="394"/>
                </a:lnTo>
                <a:lnTo>
                  <a:pt x="2785" y="397"/>
                </a:lnTo>
                <a:lnTo>
                  <a:pt x="2790" y="399"/>
                </a:lnTo>
                <a:lnTo>
                  <a:pt x="2794" y="401"/>
                </a:lnTo>
                <a:lnTo>
                  <a:pt x="2802" y="390"/>
                </a:lnTo>
                <a:lnTo>
                  <a:pt x="2809" y="392"/>
                </a:lnTo>
                <a:lnTo>
                  <a:pt x="2817" y="396"/>
                </a:lnTo>
                <a:lnTo>
                  <a:pt x="2824" y="401"/>
                </a:lnTo>
                <a:lnTo>
                  <a:pt x="2831" y="406"/>
                </a:lnTo>
                <a:lnTo>
                  <a:pt x="2838" y="413"/>
                </a:lnTo>
                <a:lnTo>
                  <a:pt x="2845" y="419"/>
                </a:lnTo>
                <a:lnTo>
                  <a:pt x="2850" y="424"/>
                </a:lnTo>
                <a:lnTo>
                  <a:pt x="2855" y="429"/>
                </a:lnTo>
                <a:lnTo>
                  <a:pt x="2855" y="466"/>
                </a:lnTo>
                <a:lnTo>
                  <a:pt x="2857" y="470"/>
                </a:lnTo>
                <a:lnTo>
                  <a:pt x="2862" y="473"/>
                </a:lnTo>
                <a:lnTo>
                  <a:pt x="2866" y="477"/>
                </a:lnTo>
                <a:lnTo>
                  <a:pt x="2871" y="481"/>
                </a:lnTo>
                <a:lnTo>
                  <a:pt x="2877" y="484"/>
                </a:lnTo>
                <a:lnTo>
                  <a:pt x="2882" y="488"/>
                </a:lnTo>
                <a:lnTo>
                  <a:pt x="2885" y="491"/>
                </a:lnTo>
                <a:lnTo>
                  <a:pt x="2889" y="495"/>
                </a:lnTo>
                <a:lnTo>
                  <a:pt x="2889" y="498"/>
                </a:lnTo>
                <a:lnTo>
                  <a:pt x="2887" y="503"/>
                </a:lnTo>
                <a:lnTo>
                  <a:pt x="2884" y="511"/>
                </a:lnTo>
                <a:lnTo>
                  <a:pt x="2880" y="518"/>
                </a:lnTo>
                <a:lnTo>
                  <a:pt x="2877" y="523"/>
                </a:lnTo>
                <a:lnTo>
                  <a:pt x="2875" y="530"/>
                </a:lnTo>
                <a:lnTo>
                  <a:pt x="2873" y="535"/>
                </a:lnTo>
                <a:lnTo>
                  <a:pt x="2871" y="541"/>
                </a:lnTo>
                <a:lnTo>
                  <a:pt x="2868" y="541"/>
                </a:lnTo>
                <a:lnTo>
                  <a:pt x="2864" y="539"/>
                </a:lnTo>
                <a:lnTo>
                  <a:pt x="2859" y="539"/>
                </a:lnTo>
                <a:lnTo>
                  <a:pt x="2855" y="537"/>
                </a:lnTo>
                <a:lnTo>
                  <a:pt x="2852" y="539"/>
                </a:lnTo>
                <a:lnTo>
                  <a:pt x="2848" y="541"/>
                </a:lnTo>
                <a:lnTo>
                  <a:pt x="2847" y="544"/>
                </a:lnTo>
                <a:lnTo>
                  <a:pt x="2847" y="549"/>
                </a:lnTo>
                <a:lnTo>
                  <a:pt x="2847" y="567"/>
                </a:lnTo>
                <a:lnTo>
                  <a:pt x="2848" y="579"/>
                </a:lnTo>
                <a:lnTo>
                  <a:pt x="2852" y="590"/>
                </a:lnTo>
                <a:lnTo>
                  <a:pt x="2859" y="602"/>
                </a:lnTo>
                <a:lnTo>
                  <a:pt x="2868" y="615"/>
                </a:lnTo>
                <a:lnTo>
                  <a:pt x="2875" y="627"/>
                </a:lnTo>
                <a:lnTo>
                  <a:pt x="2882" y="638"/>
                </a:lnTo>
                <a:lnTo>
                  <a:pt x="2887" y="650"/>
                </a:lnTo>
                <a:lnTo>
                  <a:pt x="2889" y="661"/>
                </a:lnTo>
                <a:lnTo>
                  <a:pt x="2880" y="661"/>
                </a:lnTo>
                <a:lnTo>
                  <a:pt x="2875" y="659"/>
                </a:lnTo>
                <a:lnTo>
                  <a:pt x="2871" y="657"/>
                </a:lnTo>
                <a:lnTo>
                  <a:pt x="2869" y="654"/>
                </a:lnTo>
                <a:lnTo>
                  <a:pt x="2868" y="650"/>
                </a:lnTo>
                <a:lnTo>
                  <a:pt x="2866" y="645"/>
                </a:lnTo>
                <a:lnTo>
                  <a:pt x="2866" y="640"/>
                </a:lnTo>
                <a:lnTo>
                  <a:pt x="2862" y="632"/>
                </a:lnTo>
                <a:lnTo>
                  <a:pt x="2855" y="624"/>
                </a:lnTo>
                <a:lnTo>
                  <a:pt x="2845" y="620"/>
                </a:lnTo>
                <a:lnTo>
                  <a:pt x="2836" y="613"/>
                </a:lnTo>
                <a:lnTo>
                  <a:pt x="2829" y="606"/>
                </a:lnTo>
                <a:lnTo>
                  <a:pt x="2820" y="599"/>
                </a:lnTo>
                <a:lnTo>
                  <a:pt x="2813" y="592"/>
                </a:lnTo>
                <a:lnTo>
                  <a:pt x="2808" y="583"/>
                </a:lnTo>
                <a:lnTo>
                  <a:pt x="2801" y="576"/>
                </a:lnTo>
                <a:lnTo>
                  <a:pt x="2794" y="567"/>
                </a:lnTo>
                <a:lnTo>
                  <a:pt x="2786" y="571"/>
                </a:lnTo>
                <a:lnTo>
                  <a:pt x="2779" y="574"/>
                </a:lnTo>
                <a:lnTo>
                  <a:pt x="2771" y="579"/>
                </a:lnTo>
                <a:lnTo>
                  <a:pt x="2762" y="583"/>
                </a:lnTo>
                <a:lnTo>
                  <a:pt x="2755" y="588"/>
                </a:lnTo>
                <a:lnTo>
                  <a:pt x="2746" y="594"/>
                </a:lnTo>
                <a:lnTo>
                  <a:pt x="2739" y="599"/>
                </a:lnTo>
                <a:lnTo>
                  <a:pt x="2732" y="606"/>
                </a:lnTo>
                <a:lnTo>
                  <a:pt x="2739" y="606"/>
                </a:lnTo>
                <a:lnTo>
                  <a:pt x="2744" y="608"/>
                </a:lnTo>
                <a:lnTo>
                  <a:pt x="2751" y="608"/>
                </a:lnTo>
                <a:lnTo>
                  <a:pt x="2756" y="610"/>
                </a:lnTo>
                <a:lnTo>
                  <a:pt x="2764" y="611"/>
                </a:lnTo>
                <a:lnTo>
                  <a:pt x="2767" y="613"/>
                </a:lnTo>
                <a:lnTo>
                  <a:pt x="2772" y="613"/>
                </a:lnTo>
                <a:lnTo>
                  <a:pt x="2776" y="615"/>
                </a:lnTo>
                <a:lnTo>
                  <a:pt x="2776" y="620"/>
                </a:lnTo>
                <a:lnTo>
                  <a:pt x="2776" y="625"/>
                </a:lnTo>
                <a:lnTo>
                  <a:pt x="2778" y="631"/>
                </a:lnTo>
                <a:lnTo>
                  <a:pt x="2781" y="636"/>
                </a:lnTo>
                <a:lnTo>
                  <a:pt x="2788" y="647"/>
                </a:lnTo>
                <a:lnTo>
                  <a:pt x="2799" y="657"/>
                </a:lnTo>
                <a:lnTo>
                  <a:pt x="2809" y="670"/>
                </a:lnTo>
                <a:lnTo>
                  <a:pt x="2818" y="682"/>
                </a:lnTo>
                <a:lnTo>
                  <a:pt x="2822" y="687"/>
                </a:lnTo>
                <a:lnTo>
                  <a:pt x="2825" y="694"/>
                </a:lnTo>
                <a:lnTo>
                  <a:pt x="2827" y="700"/>
                </a:lnTo>
                <a:lnTo>
                  <a:pt x="2829" y="707"/>
                </a:lnTo>
                <a:lnTo>
                  <a:pt x="2832" y="708"/>
                </a:lnTo>
                <a:lnTo>
                  <a:pt x="2836" y="710"/>
                </a:lnTo>
                <a:lnTo>
                  <a:pt x="2839" y="712"/>
                </a:lnTo>
                <a:lnTo>
                  <a:pt x="2845" y="716"/>
                </a:lnTo>
                <a:lnTo>
                  <a:pt x="2848" y="719"/>
                </a:lnTo>
                <a:lnTo>
                  <a:pt x="2852" y="723"/>
                </a:lnTo>
                <a:lnTo>
                  <a:pt x="2854" y="724"/>
                </a:lnTo>
                <a:lnTo>
                  <a:pt x="2855" y="726"/>
                </a:lnTo>
                <a:lnTo>
                  <a:pt x="2854" y="730"/>
                </a:lnTo>
                <a:lnTo>
                  <a:pt x="2854" y="735"/>
                </a:lnTo>
                <a:lnTo>
                  <a:pt x="2852" y="740"/>
                </a:lnTo>
                <a:lnTo>
                  <a:pt x="2850" y="746"/>
                </a:lnTo>
                <a:lnTo>
                  <a:pt x="2848" y="753"/>
                </a:lnTo>
                <a:lnTo>
                  <a:pt x="2847" y="760"/>
                </a:lnTo>
                <a:lnTo>
                  <a:pt x="2847" y="767"/>
                </a:lnTo>
                <a:lnTo>
                  <a:pt x="2847" y="774"/>
                </a:lnTo>
                <a:lnTo>
                  <a:pt x="2829" y="792"/>
                </a:lnTo>
                <a:lnTo>
                  <a:pt x="2794" y="792"/>
                </a:lnTo>
                <a:lnTo>
                  <a:pt x="2788" y="797"/>
                </a:lnTo>
                <a:lnTo>
                  <a:pt x="2783" y="800"/>
                </a:lnTo>
                <a:lnTo>
                  <a:pt x="2779" y="802"/>
                </a:lnTo>
                <a:lnTo>
                  <a:pt x="2776" y="802"/>
                </a:lnTo>
                <a:lnTo>
                  <a:pt x="2772" y="802"/>
                </a:lnTo>
                <a:lnTo>
                  <a:pt x="2769" y="802"/>
                </a:lnTo>
                <a:lnTo>
                  <a:pt x="2764" y="800"/>
                </a:lnTo>
                <a:lnTo>
                  <a:pt x="2758" y="800"/>
                </a:lnTo>
                <a:lnTo>
                  <a:pt x="2776" y="781"/>
                </a:lnTo>
                <a:lnTo>
                  <a:pt x="2771" y="784"/>
                </a:lnTo>
                <a:lnTo>
                  <a:pt x="2767" y="786"/>
                </a:lnTo>
                <a:lnTo>
                  <a:pt x="2764" y="786"/>
                </a:lnTo>
                <a:lnTo>
                  <a:pt x="2762" y="788"/>
                </a:lnTo>
                <a:lnTo>
                  <a:pt x="2762" y="788"/>
                </a:lnTo>
                <a:lnTo>
                  <a:pt x="2758" y="792"/>
                </a:lnTo>
                <a:lnTo>
                  <a:pt x="2755" y="795"/>
                </a:lnTo>
                <a:lnTo>
                  <a:pt x="2749" y="800"/>
                </a:lnTo>
                <a:lnTo>
                  <a:pt x="2742" y="797"/>
                </a:lnTo>
                <a:lnTo>
                  <a:pt x="2737" y="795"/>
                </a:lnTo>
                <a:lnTo>
                  <a:pt x="2730" y="793"/>
                </a:lnTo>
                <a:lnTo>
                  <a:pt x="2723" y="793"/>
                </a:lnTo>
                <a:lnTo>
                  <a:pt x="2718" y="793"/>
                </a:lnTo>
                <a:lnTo>
                  <a:pt x="2711" y="795"/>
                </a:lnTo>
                <a:lnTo>
                  <a:pt x="2703" y="797"/>
                </a:lnTo>
                <a:lnTo>
                  <a:pt x="2698" y="800"/>
                </a:lnTo>
                <a:lnTo>
                  <a:pt x="2700" y="807"/>
                </a:lnTo>
                <a:lnTo>
                  <a:pt x="2702" y="816"/>
                </a:lnTo>
                <a:lnTo>
                  <a:pt x="2707" y="823"/>
                </a:lnTo>
                <a:lnTo>
                  <a:pt x="2712" y="832"/>
                </a:lnTo>
                <a:lnTo>
                  <a:pt x="2718" y="839"/>
                </a:lnTo>
                <a:lnTo>
                  <a:pt x="2723" y="846"/>
                </a:lnTo>
                <a:lnTo>
                  <a:pt x="2728" y="852"/>
                </a:lnTo>
                <a:lnTo>
                  <a:pt x="2732" y="857"/>
                </a:lnTo>
                <a:lnTo>
                  <a:pt x="2732" y="860"/>
                </a:lnTo>
                <a:lnTo>
                  <a:pt x="2730" y="864"/>
                </a:lnTo>
                <a:lnTo>
                  <a:pt x="2730" y="868"/>
                </a:lnTo>
                <a:lnTo>
                  <a:pt x="2728" y="871"/>
                </a:lnTo>
                <a:lnTo>
                  <a:pt x="2726" y="875"/>
                </a:lnTo>
                <a:lnTo>
                  <a:pt x="2725" y="878"/>
                </a:lnTo>
                <a:lnTo>
                  <a:pt x="2725" y="882"/>
                </a:lnTo>
                <a:lnTo>
                  <a:pt x="2723" y="885"/>
                </a:lnTo>
                <a:lnTo>
                  <a:pt x="2726" y="889"/>
                </a:lnTo>
                <a:lnTo>
                  <a:pt x="2732" y="892"/>
                </a:lnTo>
                <a:lnTo>
                  <a:pt x="2735" y="898"/>
                </a:lnTo>
                <a:lnTo>
                  <a:pt x="2739" y="905"/>
                </a:lnTo>
                <a:lnTo>
                  <a:pt x="2744" y="910"/>
                </a:lnTo>
                <a:lnTo>
                  <a:pt x="2746" y="917"/>
                </a:lnTo>
                <a:lnTo>
                  <a:pt x="2749" y="924"/>
                </a:lnTo>
                <a:lnTo>
                  <a:pt x="2749" y="931"/>
                </a:lnTo>
                <a:lnTo>
                  <a:pt x="2744" y="931"/>
                </a:lnTo>
                <a:lnTo>
                  <a:pt x="2739" y="933"/>
                </a:lnTo>
                <a:lnTo>
                  <a:pt x="2735" y="935"/>
                </a:lnTo>
                <a:lnTo>
                  <a:pt x="2734" y="938"/>
                </a:lnTo>
                <a:lnTo>
                  <a:pt x="2730" y="942"/>
                </a:lnTo>
                <a:lnTo>
                  <a:pt x="2728" y="947"/>
                </a:lnTo>
                <a:lnTo>
                  <a:pt x="2726" y="952"/>
                </a:lnTo>
                <a:lnTo>
                  <a:pt x="2723" y="958"/>
                </a:lnTo>
                <a:lnTo>
                  <a:pt x="2718" y="956"/>
                </a:lnTo>
                <a:lnTo>
                  <a:pt x="2707" y="949"/>
                </a:lnTo>
                <a:lnTo>
                  <a:pt x="2691" y="940"/>
                </a:lnTo>
                <a:lnTo>
                  <a:pt x="2675" y="929"/>
                </a:lnTo>
                <a:lnTo>
                  <a:pt x="2659" y="919"/>
                </a:lnTo>
                <a:lnTo>
                  <a:pt x="2645" y="908"/>
                </a:lnTo>
                <a:lnTo>
                  <a:pt x="2635" y="899"/>
                </a:lnTo>
                <a:lnTo>
                  <a:pt x="2628" y="894"/>
                </a:lnTo>
                <a:lnTo>
                  <a:pt x="2624" y="903"/>
                </a:lnTo>
                <a:lnTo>
                  <a:pt x="2624" y="913"/>
                </a:lnTo>
                <a:lnTo>
                  <a:pt x="2624" y="924"/>
                </a:lnTo>
                <a:lnTo>
                  <a:pt x="2628" y="933"/>
                </a:lnTo>
                <a:lnTo>
                  <a:pt x="2638" y="951"/>
                </a:lnTo>
                <a:lnTo>
                  <a:pt x="2654" y="968"/>
                </a:lnTo>
                <a:lnTo>
                  <a:pt x="2668" y="986"/>
                </a:lnTo>
                <a:lnTo>
                  <a:pt x="2684" y="1004"/>
                </a:lnTo>
                <a:lnTo>
                  <a:pt x="2689" y="1012"/>
                </a:lnTo>
                <a:lnTo>
                  <a:pt x="2695" y="1023"/>
                </a:lnTo>
                <a:lnTo>
                  <a:pt x="2696" y="1032"/>
                </a:lnTo>
                <a:lnTo>
                  <a:pt x="2698" y="1042"/>
                </a:lnTo>
                <a:lnTo>
                  <a:pt x="2688" y="1041"/>
                </a:lnTo>
                <a:lnTo>
                  <a:pt x="2677" y="1039"/>
                </a:lnTo>
                <a:lnTo>
                  <a:pt x="2666" y="1034"/>
                </a:lnTo>
                <a:lnTo>
                  <a:pt x="2658" y="1027"/>
                </a:lnTo>
                <a:lnTo>
                  <a:pt x="2647" y="1018"/>
                </a:lnTo>
                <a:lnTo>
                  <a:pt x="2636" y="1007"/>
                </a:lnTo>
                <a:lnTo>
                  <a:pt x="2628" y="997"/>
                </a:lnTo>
                <a:lnTo>
                  <a:pt x="2619" y="986"/>
                </a:lnTo>
                <a:lnTo>
                  <a:pt x="2612" y="974"/>
                </a:lnTo>
                <a:lnTo>
                  <a:pt x="2605" y="961"/>
                </a:lnTo>
                <a:lnTo>
                  <a:pt x="2599" y="949"/>
                </a:lnTo>
                <a:lnTo>
                  <a:pt x="2594" y="936"/>
                </a:lnTo>
                <a:lnTo>
                  <a:pt x="2592" y="924"/>
                </a:lnTo>
                <a:lnTo>
                  <a:pt x="2590" y="913"/>
                </a:lnTo>
                <a:lnTo>
                  <a:pt x="2590" y="903"/>
                </a:lnTo>
                <a:lnTo>
                  <a:pt x="2592" y="894"/>
                </a:lnTo>
                <a:lnTo>
                  <a:pt x="2589" y="892"/>
                </a:lnTo>
                <a:lnTo>
                  <a:pt x="2587" y="892"/>
                </a:lnTo>
                <a:lnTo>
                  <a:pt x="2583" y="890"/>
                </a:lnTo>
                <a:lnTo>
                  <a:pt x="2580" y="889"/>
                </a:lnTo>
                <a:lnTo>
                  <a:pt x="2576" y="887"/>
                </a:lnTo>
                <a:lnTo>
                  <a:pt x="2573" y="885"/>
                </a:lnTo>
                <a:lnTo>
                  <a:pt x="2571" y="885"/>
                </a:lnTo>
                <a:lnTo>
                  <a:pt x="2567" y="885"/>
                </a:lnTo>
                <a:lnTo>
                  <a:pt x="2560" y="875"/>
                </a:lnTo>
                <a:lnTo>
                  <a:pt x="2550" y="859"/>
                </a:lnTo>
                <a:lnTo>
                  <a:pt x="2536" y="839"/>
                </a:lnTo>
                <a:lnTo>
                  <a:pt x="2522" y="818"/>
                </a:lnTo>
                <a:lnTo>
                  <a:pt x="2507" y="799"/>
                </a:lnTo>
                <a:lnTo>
                  <a:pt x="2495" y="784"/>
                </a:lnTo>
                <a:lnTo>
                  <a:pt x="2490" y="774"/>
                </a:lnTo>
                <a:lnTo>
                  <a:pt x="2488" y="774"/>
                </a:lnTo>
                <a:lnTo>
                  <a:pt x="2484" y="772"/>
                </a:lnTo>
                <a:lnTo>
                  <a:pt x="2483" y="772"/>
                </a:lnTo>
                <a:lnTo>
                  <a:pt x="2479" y="770"/>
                </a:lnTo>
                <a:lnTo>
                  <a:pt x="2476" y="769"/>
                </a:lnTo>
                <a:lnTo>
                  <a:pt x="2472" y="767"/>
                </a:lnTo>
                <a:lnTo>
                  <a:pt x="2469" y="765"/>
                </a:lnTo>
                <a:lnTo>
                  <a:pt x="2465" y="763"/>
                </a:lnTo>
                <a:lnTo>
                  <a:pt x="2462" y="763"/>
                </a:lnTo>
                <a:lnTo>
                  <a:pt x="2458" y="767"/>
                </a:lnTo>
                <a:lnTo>
                  <a:pt x="2454" y="769"/>
                </a:lnTo>
                <a:lnTo>
                  <a:pt x="2449" y="770"/>
                </a:lnTo>
                <a:lnTo>
                  <a:pt x="2446" y="772"/>
                </a:lnTo>
                <a:lnTo>
                  <a:pt x="2440" y="774"/>
                </a:lnTo>
                <a:lnTo>
                  <a:pt x="2435" y="776"/>
                </a:lnTo>
                <a:lnTo>
                  <a:pt x="2432" y="779"/>
                </a:lnTo>
                <a:lnTo>
                  <a:pt x="2428" y="781"/>
                </a:lnTo>
                <a:lnTo>
                  <a:pt x="2419" y="792"/>
                </a:lnTo>
                <a:lnTo>
                  <a:pt x="2419" y="809"/>
                </a:lnTo>
                <a:lnTo>
                  <a:pt x="2410" y="820"/>
                </a:lnTo>
                <a:lnTo>
                  <a:pt x="2393" y="820"/>
                </a:lnTo>
                <a:lnTo>
                  <a:pt x="2384" y="829"/>
                </a:lnTo>
                <a:lnTo>
                  <a:pt x="2380" y="836"/>
                </a:lnTo>
                <a:lnTo>
                  <a:pt x="2377" y="841"/>
                </a:lnTo>
                <a:lnTo>
                  <a:pt x="2373" y="846"/>
                </a:lnTo>
                <a:lnTo>
                  <a:pt x="2370" y="852"/>
                </a:lnTo>
                <a:lnTo>
                  <a:pt x="2366" y="857"/>
                </a:lnTo>
                <a:lnTo>
                  <a:pt x="2361" y="862"/>
                </a:lnTo>
                <a:lnTo>
                  <a:pt x="2356" y="869"/>
                </a:lnTo>
                <a:lnTo>
                  <a:pt x="2348" y="875"/>
                </a:lnTo>
                <a:lnTo>
                  <a:pt x="2352" y="882"/>
                </a:lnTo>
                <a:lnTo>
                  <a:pt x="2354" y="889"/>
                </a:lnTo>
                <a:lnTo>
                  <a:pt x="2356" y="896"/>
                </a:lnTo>
                <a:lnTo>
                  <a:pt x="2357" y="901"/>
                </a:lnTo>
                <a:lnTo>
                  <a:pt x="2357" y="908"/>
                </a:lnTo>
                <a:lnTo>
                  <a:pt x="2357" y="913"/>
                </a:lnTo>
                <a:lnTo>
                  <a:pt x="2357" y="917"/>
                </a:lnTo>
                <a:lnTo>
                  <a:pt x="2357" y="922"/>
                </a:lnTo>
                <a:lnTo>
                  <a:pt x="2333" y="951"/>
                </a:lnTo>
                <a:lnTo>
                  <a:pt x="2315" y="951"/>
                </a:lnTo>
                <a:lnTo>
                  <a:pt x="2311" y="949"/>
                </a:lnTo>
                <a:lnTo>
                  <a:pt x="2306" y="944"/>
                </a:lnTo>
                <a:lnTo>
                  <a:pt x="2303" y="938"/>
                </a:lnTo>
                <a:lnTo>
                  <a:pt x="2297" y="929"/>
                </a:lnTo>
                <a:lnTo>
                  <a:pt x="2294" y="922"/>
                </a:lnTo>
                <a:lnTo>
                  <a:pt x="2292" y="913"/>
                </a:lnTo>
                <a:lnTo>
                  <a:pt x="2288" y="908"/>
                </a:lnTo>
                <a:lnTo>
                  <a:pt x="2288" y="903"/>
                </a:lnTo>
                <a:lnTo>
                  <a:pt x="2285" y="903"/>
                </a:lnTo>
                <a:lnTo>
                  <a:pt x="2281" y="901"/>
                </a:lnTo>
                <a:lnTo>
                  <a:pt x="2278" y="899"/>
                </a:lnTo>
                <a:lnTo>
                  <a:pt x="2276" y="898"/>
                </a:lnTo>
                <a:lnTo>
                  <a:pt x="2273" y="896"/>
                </a:lnTo>
                <a:lnTo>
                  <a:pt x="2269" y="894"/>
                </a:lnTo>
                <a:lnTo>
                  <a:pt x="2265" y="894"/>
                </a:lnTo>
                <a:lnTo>
                  <a:pt x="2262" y="894"/>
                </a:lnTo>
                <a:lnTo>
                  <a:pt x="2262" y="887"/>
                </a:lnTo>
                <a:lnTo>
                  <a:pt x="2260" y="882"/>
                </a:lnTo>
                <a:lnTo>
                  <a:pt x="2260" y="876"/>
                </a:lnTo>
                <a:lnTo>
                  <a:pt x="2258" y="871"/>
                </a:lnTo>
                <a:lnTo>
                  <a:pt x="2258" y="866"/>
                </a:lnTo>
                <a:lnTo>
                  <a:pt x="2258" y="859"/>
                </a:lnTo>
                <a:lnTo>
                  <a:pt x="2260" y="853"/>
                </a:lnTo>
                <a:lnTo>
                  <a:pt x="2262" y="846"/>
                </a:lnTo>
                <a:lnTo>
                  <a:pt x="2257" y="839"/>
                </a:lnTo>
                <a:lnTo>
                  <a:pt x="2250" y="829"/>
                </a:lnTo>
                <a:lnTo>
                  <a:pt x="2246" y="816"/>
                </a:lnTo>
                <a:lnTo>
                  <a:pt x="2243" y="804"/>
                </a:lnTo>
                <a:lnTo>
                  <a:pt x="2239" y="792"/>
                </a:lnTo>
                <a:lnTo>
                  <a:pt x="2237" y="777"/>
                </a:lnTo>
                <a:lnTo>
                  <a:pt x="2235" y="765"/>
                </a:lnTo>
                <a:lnTo>
                  <a:pt x="2235" y="754"/>
                </a:lnTo>
                <a:lnTo>
                  <a:pt x="2235" y="758"/>
                </a:lnTo>
                <a:lnTo>
                  <a:pt x="2234" y="761"/>
                </a:lnTo>
                <a:lnTo>
                  <a:pt x="2234" y="765"/>
                </a:lnTo>
                <a:lnTo>
                  <a:pt x="2232" y="769"/>
                </a:lnTo>
                <a:lnTo>
                  <a:pt x="2230" y="772"/>
                </a:lnTo>
                <a:lnTo>
                  <a:pt x="2228" y="776"/>
                </a:lnTo>
                <a:lnTo>
                  <a:pt x="2228" y="779"/>
                </a:lnTo>
                <a:lnTo>
                  <a:pt x="2228" y="781"/>
                </a:lnTo>
                <a:lnTo>
                  <a:pt x="2221" y="781"/>
                </a:lnTo>
                <a:lnTo>
                  <a:pt x="2216" y="781"/>
                </a:lnTo>
                <a:lnTo>
                  <a:pt x="2211" y="779"/>
                </a:lnTo>
                <a:lnTo>
                  <a:pt x="2207" y="776"/>
                </a:lnTo>
                <a:lnTo>
                  <a:pt x="2202" y="774"/>
                </a:lnTo>
                <a:lnTo>
                  <a:pt x="2198" y="770"/>
                </a:lnTo>
                <a:lnTo>
                  <a:pt x="2195" y="767"/>
                </a:lnTo>
                <a:lnTo>
                  <a:pt x="2193" y="763"/>
                </a:lnTo>
                <a:lnTo>
                  <a:pt x="2158" y="763"/>
                </a:lnTo>
                <a:lnTo>
                  <a:pt x="2158" y="760"/>
                </a:lnTo>
                <a:lnTo>
                  <a:pt x="2160" y="756"/>
                </a:lnTo>
                <a:lnTo>
                  <a:pt x="2161" y="753"/>
                </a:lnTo>
                <a:lnTo>
                  <a:pt x="2161" y="749"/>
                </a:lnTo>
                <a:lnTo>
                  <a:pt x="2163" y="746"/>
                </a:lnTo>
                <a:lnTo>
                  <a:pt x="2165" y="742"/>
                </a:lnTo>
                <a:lnTo>
                  <a:pt x="2167" y="739"/>
                </a:lnTo>
                <a:lnTo>
                  <a:pt x="2167" y="735"/>
                </a:lnTo>
                <a:lnTo>
                  <a:pt x="2161" y="737"/>
                </a:lnTo>
                <a:lnTo>
                  <a:pt x="2156" y="737"/>
                </a:lnTo>
                <a:lnTo>
                  <a:pt x="2152" y="737"/>
                </a:lnTo>
                <a:lnTo>
                  <a:pt x="2151" y="733"/>
                </a:lnTo>
                <a:lnTo>
                  <a:pt x="2149" y="730"/>
                </a:lnTo>
                <a:lnTo>
                  <a:pt x="2149" y="724"/>
                </a:lnTo>
                <a:lnTo>
                  <a:pt x="2149" y="721"/>
                </a:lnTo>
                <a:lnTo>
                  <a:pt x="2149" y="717"/>
                </a:lnTo>
                <a:lnTo>
                  <a:pt x="2114" y="754"/>
                </a:lnTo>
                <a:lnTo>
                  <a:pt x="2110" y="753"/>
                </a:lnTo>
                <a:lnTo>
                  <a:pt x="2105" y="751"/>
                </a:lnTo>
                <a:lnTo>
                  <a:pt x="2099" y="747"/>
                </a:lnTo>
                <a:lnTo>
                  <a:pt x="2092" y="744"/>
                </a:lnTo>
                <a:lnTo>
                  <a:pt x="2085" y="739"/>
                </a:lnTo>
                <a:lnTo>
                  <a:pt x="2080" y="735"/>
                </a:lnTo>
                <a:lnTo>
                  <a:pt x="2075" y="730"/>
                </a:lnTo>
                <a:lnTo>
                  <a:pt x="2071" y="726"/>
                </a:lnTo>
                <a:lnTo>
                  <a:pt x="2064" y="728"/>
                </a:lnTo>
                <a:lnTo>
                  <a:pt x="2057" y="728"/>
                </a:lnTo>
                <a:lnTo>
                  <a:pt x="2048" y="726"/>
                </a:lnTo>
                <a:lnTo>
                  <a:pt x="2041" y="724"/>
                </a:lnTo>
                <a:lnTo>
                  <a:pt x="2034" y="719"/>
                </a:lnTo>
                <a:lnTo>
                  <a:pt x="2027" y="716"/>
                </a:lnTo>
                <a:lnTo>
                  <a:pt x="2022" y="710"/>
                </a:lnTo>
                <a:lnTo>
                  <a:pt x="2018" y="707"/>
                </a:lnTo>
                <a:lnTo>
                  <a:pt x="2011" y="714"/>
                </a:lnTo>
                <a:lnTo>
                  <a:pt x="2002" y="717"/>
                </a:lnTo>
                <a:lnTo>
                  <a:pt x="1994" y="721"/>
                </a:lnTo>
                <a:lnTo>
                  <a:pt x="1983" y="723"/>
                </a:lnTo>
                <a:lnTo>
                  <a:pt x="1974" y="723"/>
                </a:lnTo>
                <a:lnTo>
                  <a:pt x="1963" y="723"/>
                </a:lnTo>
                <a:lnTo>
                  <a:pt x="1955" y="721"/>
                </a:lnTo>
                <a:lnTo>
                  <a:pt x="1948" y="717"/>
                </a:lnTo>
                <a:lnTo>
                  <a:pt x="1941" y="707"/>
                </a:lnTo>
                <a:lnTo>
                  <a:pt x="1937" y="700"/>
                </a:lnTo>
                <a:lnTo>
                  <a:pt x="1933" y="691"/>
                </a:lnTo>
                <a:lnTo>
                  <a:pt x="1928" y="682"/>
                </a:lnTo>
                <a:lnTo>
                  <a:pt x="1923" y="675"/>
                </a:lnTo>
                <a:lnTo>
                  <a:pt x="1918" y="670"/>
                </a:lnTo>
                <a:lnTo>
                  <a:pt x="1909" y="666"/>
                </a:lnTo>
                <a:lnTo>
                  <a:pt x="1905" y="666"/>
                </a:lnTo>
                <a:lnTo>
                  <a:pt x="1900" y="666"/>
                </a:lnTo>
                <a:lnTo>
                  <a:pt x="1895" y="668"/>
                </a:lnTo>
                <a:lnTo>
                  <a:pt x="1888" y="671"/>
                </a:lnTo>
                <a:lnTo>
                  <a:pt x="1898" y="680"/>
                </a:lnTo>
                <a:lnTo>
                  <a:pt x="1907" y="691"/>
                </a:lnTo>
                <a:lnTo>
                  <a:pt x="1916" y="700"/>
                </a:lnTo>
                <a:lnTo>
                  <a:pt x="1926" y="708"/>
                </a:lnTo>
                <a:lnTo>
                  <a:pt x="1935" y="719"/>
                </a:lnTo>
                <a:lnTo>
                  <a:pt x="1942" y="730"/>
                </a:lnTo>
                <a:lnTo>
                  <a:pt x="1951" y="740"/>
                </a:lnTo>
                <a:lnTo>
                  <a:pt x="1958" y="754"/>
                </a:lnTo>
                <a:lnTo>
                  <a:pt x="1963" y="753"/>
                </a:lnTo>
                <a:lnTo>
                  <a:pt x="1969" y="751"/>
                </a:lnTo>
                <a:lnTo>
                  <a:pt x="1974" y="749"/>
                </a:lnTo>
                <a:lnTo>
                  <a:pt x="1978" y="746"/>
                </a:lnTo>
                <a:lnTo>
                  <a:pt x="1983" y="744"/>
                </a:lnTo>
                <a:lnTo>
                  <a:pt x="1986" y="740"/>
                </a:lnTo>
                <a:lnTo>
                  <a:pt x="1990" y="739"/>
                </a:lnTo>
                <a:lnTo>
                  <a:pt x="1994" y="739"/>
                </a:lnTo>
                <a:lnTo>
                  <a:pt x="1997" y="723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3400" y="2001960"/>
            <a:ext cx="2013120" cy="2763720"/>
          </a:xfrm>
          <a:custGeom>
            <a:avLst/>
            <a:gdLst/>
            <a:ahLst/>
            <a:rect l="l" t="t" r="r" b="b"/>
            <a:pathLst>
              <a:path w="1426" h="1741">
                <a:moveTo>
                  <a:pt x="1078" y="1741"/>
                </a:moveTo>
                <a:lnTo>
                  <a:pt x="1069" y="1735"/>
                </a:lnTo>
                <a:lnTo>
                  <a:pt x="1058" y="1730"/>
                </a:lnTo>
                <a:lnTo>
                  <a:pt x="1046" y="1723"/>
                </a:lnTo>
                <a:lnTo>
                  <a:pt x="1034" y="1714"/>
                </a:lnTo>
                <a:lnTo>
                  <a:pt x="1021" y="1705"/>
                </a:lnTo>
                <a:lnTo>
                  <a:pt x="1012" y="1696"/>
                </a:lnTo>
                <a:lnTo>
                  <a:pt x="1011" y="1691"/>
                </a:lnTo>
                <a:lnTo>
                  <a:pt x="1009" y="1686"/>
                </a:lnTo>
                <a:lnTo>
                  <a:pt x="1007" y="1680"/>
                </a:lnTo>
                <a:lnTo>
                  <a:pt x="1009" y="1675"/>
                </a:lnTo>
                <a:lnTo>
                  <a:pt x="1005" y="1675"/>
                </a:lnTo>
                <a:lnTo>
                  <a:pt x="1000" y="1672"/>
                </a:lnTo>
                <a:lnTo>
                  <a:pt x="997" y="1670"/>
                </a:lnTo>
                <a:lnTo>
                  <a:pt x="991" y="1666"/>
                </a:lnTo>
                <a:lnTo>
                  <a:pt x="986" y="1663"/>
                </a:lnTo>
                <a:lnTo>
                  <a:pt x="981" y="1659"/>
                </a:lnTo>
                <a:lnTo>
                  <a:pt x="977" y="1657"/>
                </a:lnTo>
                <a:lnTo>
                  <a:pt x="974" y="1656"/>
                </a:lnTo>
                <a:lnTo>
                  <a:pt x="974" y="1620"/>
                </a:lnTo>
                <a:lnTo>
                  <a:pt x="963" y="1606"/>
                </a:lnTo>
                <a:lnTo>
                  <a:pt x="956" y="1594"/>
                </a:lnTo>
                <a:lnTo>
                  <a:pt x="949" y="1578"/>
                </a:lnTo>
                <a:lnTo>
                  <a:pt x="944" y="1564"/>
                </a:lnTo>
                <a:lnTo>
                  <a:pt x="938" y="1532"/>
                </a:lnTo>
                <a:lnTo>
                  <a:pt x="935" y="1498"/>
                </a:lnTo>
                <a:lnTo>
                  <a:pt x="931" y="1465"/>
                </a:lnTo>
                <a:lnTo>
                  <a:pt x="924" y="1433"/>
                </a:lnTo>
                <a:lnTo>
                  <a:pt x="921" y="1419"/>
                </a:lnTo>
                <a:lnTo>
                  <a:pt x="914" y="1403"/>
                </a:lnTo>
                <a:lnTo>
                  <a:pt x="906" y="1391"/>
                </a:lnTo>
                <a:lnTo>
                  <a:pt x="896" y="1378"/>
                </a:lnTo>
                <a:lnTo>
                  <a:pt x="896" y="1368"/>
                </a:lnTo>
                <a:lnTo>
                  <a:pt x="898" y="1357"/>
                </a:lnTo>
                <a:lnTo>
                  <a:pt x="901" y="1346"/>
                </a:lnTo>
                <a:lnTo>
                  <a:pt x="905" y="1336"/>
                </a:lnTo>
                <a:lnTo>
                  <a:pt x="906" y="1325"/>
                </a:lnTo>
                <a:lnTo>
                  <a:pt x="910" y="1315"/>
                </a:lnTo>
                <a:lnTo>
                  <a:pt x="912" y="1304"/>
                </a:lnTo>
                <a:lnTo>
                  <a:pt x="912" y="1293"/>
                </a:lnTo>
                <a:lnTo>
                  <a:pt x="898" y="1292"/>
                </a:lnTo>
                <a:lnTo>
                  <a:pt x="882" y="1286"/>
                </a:lnTo>
                <a:lnTo>
                  <a:pt x="862" y="1278"/>
                </a:lnTo>
                <a:lnTo>
                  <a:pt x="845" y="1267"/>
                </a:lnTo>
                <a:lnTo>
                  <a:pt x="825" y="1255"/>
                </a:lnTo>
                <a:lnTo>
                  <a:pt x="809" y="1242"/>
                </a:lnTo>
                <a:lnTo>
                  <a:pt x="793" y="1230"/>
                </a:lnTo>
                <a:lnTo>
                  <a:pt x="783" y="1219"/>
                </a:lnTo>
                <a:lnTo>
                  <a:pt x="783" y="1182"/>
                </a:lnTo>
                <a:lnTo>
                  <a:pt x="776" y="1182"/>
                </a:lnTo>
                <a:lnTo>
                  <a:pt x="770" y="1180"/>
                </a:lnTo>
                <a:lnTo>
                  <a:pt x="765" y="1179"/>
                </a:lnTo>
                <a:lnTo>
                  <a:pt x="760" y="1177"/>
                </a:lnTo>
                <a:lnTo>
                  <a:pt x="755" y="1175"/>
                </a:lnTo>
                <a:lnTo>
                  <a:pt x="749" y="1175"/>
                </a:lnTo>
                <a:lnTo>
                  <a:pt x="744" y="1173"/>
                </a:lnTo>
                <a:lnTo>
                  <a:pt x="739" y="1173"/>
                </a:lnTo>
                <a:lnTo>
                  <a:pt x="735" y="1170"/>
                </a:lnTo>
                <a:lnTo>
                  <a:pt x="732" y="1164"/>
                </a:lnTo>
                <a:lnTo>
                  <a:pt x="728" y="1159"/>
                </a:lnTo>
                <a:lnTo>
                  <a:pt x="725" y="1154"/>
                </a:lnTo>
                <a:lnTo>
                  <a:pt x="719" y="1148"/>
                </a:lnTo>
                <a:lnTo>
                  <a:pt x="716" y="1143"/>
                </a:lnTo>
                <a:lnTo>
                  <a:pt x="710" y="1140"/>
                </a:lnTo>
                <a:lnTo>
                  <a:pt x="703" y="1136"/>
                </a:lnTo>
                <a:lnTo>
                  <a:pt x="705" y="1131"/>
                </a:lnTo>
                <a:lnTo>
                  <a:pt x="707" y="1126"/>
                </a:lnTo>
                <a:lnTo>
                  <a:pt x="710" y="1120"/>
                </a:lnTo>
                <a:lnTo>
                  <a:pt x="714" y="1113"/>
                </a:lnTo>
                <a:lnTo>
                  <a:pt x="717" y="1106"/>
                </a:lnTo>
                <a:lnTo>
                  <a:pt x="723" y="1099"/>
                </a:lnTo>
                <a:lnTo>
                  <a:pt x="726" y="1094"/>
                </a:lnTo>
                <a:lnTo>
                  <a:pt x="730" y="1088"/>
                </a:lnTo>
                <a:lnTo>
                  <a:pt x="730" y="1085"/>
                </a:lnTo>
                <a:lnTo>
                  <a:pt x="728" y="1083"/>
                </a:lnTo>
                <a:lnTo>
                  <a:pt x="726" y="1080"/>
                </a:lnTo>
                <a:lnTo>
                  <a:pt x="725" y="1076"/>
                </a:lnTo>
                <a:lnTo>
                  <a:pt x="725" y="1073"/>
                </a:lnTo>
                <a:lnTo>
                  <a:pt x="723" y="1069"/>
                </a:lnTo>
                <a:lnTo>
                  <a:pt x="721" y="1065"/>
                </a:lnTo>
                <a:lnTo>
                  <a:pt x="721" y="1062"/>
                </a:lnTo>
                <a:lnTo>
                  <a:pt x="728" y="1053"/>
                </a:lnTo>
                <a:lnTo>
                  <a:pt x="733" y="1044"/>
                </a:lnTo>
                <a:lnTo>
                  <a:pt x="740" y="1034"/>
                </a:lnTo>
                <a:lnTo>
                  <a:pt x="748" y="1025"/>
                </a:lnTo>
                <a:lnTo>
                  <a:pt x="753" y="1014"/>
                </a:lnTo>
                <a:lnTo>
                  <a:pt x="760" y="1004"/>
                </a:lnTo>
                <a:lnTo>
                  <a:pt x="767" y="995"/>
                </a:lnTo>
                <a:lnTo>
                  <a:pt x="772" y="986"/>
                </a:lnTo>
                <a:lnTo>
                  <a:pt x="756" y="968"/>
                </a:lnTo>
                <a:lnTo>
                  <a:pt x="756" y="951"/>
                </a:lnTo>
                <a:lnTo>
                  <a:pt x="783" y="922"/>
                </a:lnTo>
                <a:lnTo>
                  <a:pt x="790" y="924"/>
                </a:lnTo>
                <a:lnTo>
                  <a:pt x="799" y="926"/>
                </a:lnTo>
                <a:lnTo>
                  <a:pt x="808" y="924"/>
                </a:lnTo>
                <a:lnTo>
                  <a:pt x="816" y="922"/>
                </a:lnTo>
                <a:lnTo>
                  <a:pt x="827" y="919"/>
                </a:lnTo>
                <a:lnTo>
                  <a:pt x="836" y="915"/>
                </a:lnTo>
                <a:lnTo>
                  <a:pt x="845" y="910"/>
                </a:lnTo>
                <a:lnTo>
                  <a:pt x="852" y="903"/>
                </a:lnTo>
                <a:lnTo>
                  <a:pt x="859" y="906"/>
                </a:lnTo>
                <a:lnTo>
                  <a:pt x="864" y="910"/>
                </a:lnTo>
                <a:lnTo>
                  <a:pt x="871" y="912"/>
                </a:lnTo>
                <a:lnTo>
                  <a:pt x="878" y="913"/>
                </a:lnTo>
                <a:lnTo>
                  <a:pt x="883" y="915"/>
                </a:lnTo>
                <a:lnTo>
                  <a:pt x="891" y="917"/>
                </a:lnTo>
                <a:lnTo>
                  <a:pt x="898" y="919"/>
                </a:lnTo>
                <a:lnTo>
                  <a:pt x="903" y="922"/>
                </a:lnTo>
                <a:lnTo>
                  <a:pt x="906" y="921"/>
                </a:lnTo>
                <a:lnTo>
                  <a:pt x="910" y="921"/>
                </a:lnTo>
                <a:lnTo>
                  <a:pt x="914" y="919"/>
                </a:lnTo>
                <a:lnTo>
                  <a:pt x="917" y="917"/>
                </a:lnTo>
                <a:lnTo>
                  <a:pt x="921" y="915"/>
                </a:lnTo>
                <a:lnTo>
                  <a:pt x="924" y="913"/>
                </a:lnTo>
                <a:lnTo>
                  <a:pt x="928" y="913"/>
                </a:lnTo>
                <a:lnTo>
                  <a:pt x="929" y="913"/>
                </a:lnTo>
                <a:lnTo>
                  <a:pt x="938" y="931"/>
                </a:lnTo>
                <a:lnTo>
                  <a:pt x="942" y="931"/>
                </a:lnTo>
                <a:lnTo>
                  <a:pt x="945" y="929"/>
                </a:lnTo>
                <a:lnTo>
                  <a:pt x="949" y="928"/>
                </a:lnTo>
                <a:lnTo>
                  <a:pt x="952" y="926"/>
                </a:lnTo>
                <a:lnTo>
                  <a:pt x="954" y="924"/>
                </a:lnTo>
                <a:lnTo>
                  <a:pt x="958" y="922"/>
                </a:lnTo>
                <a:lnTo>
                  <a:pt x="961" y="922"/>
                </a:lnTo>
                <a:lnTo>
                  <a:pt x="965" y="922"/>
                </a:lnTo>
                <a:lnTo>
                  <a:pt x="972" y="926"/>
                </a:lnTo>
                <a:lnTo>
                  <a:pt x="981" y="929"/>
                </a:lnTo>
                <a:lnTo>
                  <a:pt x="989" y="933"/>
                </a:lnTo>
                <a:lnTo>
                  <a:pt x="998" y="936"/>
                </a:lnTo>
                <a:lnTo>
                  <a:pt x="1007" y="940"/>
                </a:lnTo>
                <a:lnTo>
                  <a:pt x="1014" y="944"/>
                </a:lnTo>
                <a:lnTo>
                  <a:pt x="1021" y="947"/>
                </a:lnTo>
                <a:lnTo>
                  <a:pt x="1025" y="951"/>
                </a:lnTo>
                <a:lnTo>
                  <a:pt x="1034" y="959"/>
                </a:lnTo>
                <a:lnTo>
                  <a:pt x="1034" y="977"/>
                </a:lnTo>
                <a:lnTo>
                  <a:pt x="1042" y="986"/>
                </a:lnTo>
                <a:lnTo>
                  <a:pt x="1048" y="989"/>
                </a:lnTo>
                <a:lnTo>
                  <a:pt x="1055" y="993"/>
                </a:lnTo>
                <a:lnTo>
                  <a:pt x="1062" y="995"/>
                </a:lnTo>
                <a:lnTo>
                  <a:pt x="1071" y="995"/>
                </a:lnTo>
                <a:lnTo>
                  <a:pt x="1080" y="997"/>
                </a:lnTo>
                <a:lnTo>
                  <a:pt x="1088" y="997"/>
                </a:lnTo>
                <a:lnTo>
                  <a:pt x="1095" y="997"/>
                </a:lnTo>
                <a:lnTo>
                  <a:pt x="1104" y="997"/>
                </a:lnTo>
                <a:lnTo>
                  <a:pt x="1110" y="1004"/>
                </a:lnTo>
                <a:lnTo>
                  <a:pt x="1115" y="1011"/>
                </a:lnTo>
                <a:lnTo>
                  <a:pt x="1120" y="1018"/>
                </a:lnTo>
                <a:lnTo>
                  <a:pt x="1124" y="1025"/>
                </a:lnTo>
                <a:lnTo>
                  <a:pt x="1127" y="1032"/>
                </a:lnTo>
                <a:lnTo>
                  <a:pt x="1131" y="1039"/>
                </a:lnTo>
                <a:lnTo>
                  <a:pt x="1134" y="1046"/>
                </a:lnTo>
                <a:lnTo>
                  <a:pt x="1138" y="1051"/>
                </a:lnTo>
                <a:lnTo>
                  <a:pt x="1122" y="1071"/>
                </a:lnTo>
                <a:lnTo>
                  <a:pt x="1138" y="1088"/>
                </a:lnTo>
                <a:lnTo>
                  <a:pt x="1141" y="1085"/>
                </a:lnTo>
                <a:lnTo>
                  <a:pt x="1148" y="1081"/>
                </a:lnTo>
                <a:lnTo>
                  <a:pt x="1154" y="1076"/>
                </a:lnTo>
                <a:lnTo>
                  <a:pt x="1161" y="1073"/>
                </a:lnTo>
                <a:lnTo>
                  <a:pt x="1168" y="1067"/>
                </a:lnTo>
                <a:lnTo>
                  <a:pt x="1177" y="1064"/>
                </a:lnTo>
                <a:lnTo>
                  <a:pt x="1184" y="1062"/>
                </a:lnTo>
                <a:lnTo>
                  <a:pt x="1191" y="1062"/>
                </a:lnTo>
                <a:lnTo>
                  <a:pt x="1200" y="1071"/>
                </a:lnTo>
                <a:lnTo>
                  <a:pt x="1210" y="1080"/>
                </a:lnTo>
                <a:lnTo>
                  <a:pt x="1221" y="1088"/>
                </a:lnTo>
                <a:lnTo>
                  <a:pt x="1231" y="1095"/>
                </a:lnTo>
                <a:lnTo>
                  <a:pt x="1244" y="1101"/>
                </a:lnTo>
                <a:lnTo>
                  <a:pt x="1256" y="1104"/>
                </a:lnTo>
                <a:lnTo>
                  <a:pt x="1270" y="1106"/>
                </a:lnTo>
                <a:lnTo>
                  <a:pt x="1286" y="1108"/>
                </a:lnTo>
                <a:lnTo>
                  <a:pt x="1293" y="1115"/>
                </a:lnTo>
                <a:lnTo>
                  <a:pt x="1302" y="1120"/>
                </a:lnTo>
                <a:lnTo>
                  <a:pt x="1313" y="1126"/>
                </a:lnTo>
                <a:lnTo>
                  <a:pt x="1321" y="1129"/>
                </a:lnTo>
                <a:lnTo>
                  <a:pt x="1332" y="1131"/>
                </a:lnTo>
                <a:lnTo>
                  <a:pt x="1344" y="1134"/>
                </a:lnTo>
                <a:lnTo>
                  <a:pt x="1355" y="1134"/>
                </a:lnTo>
                <a:lnTo>
                  <a:pt x="1364" y="1136"/>
                </a:lnTo>
                <a:lnTo>
                  <a:pt x="1364" y="1156"/>
                </a:lnTo>
                <a:lnTo>
                  <a:pt x="1364" y="1175"/>
                </a:lnTo>
                <a:lnTo>
                  <a:pt x="1362" y="1191"/>
                </a:lnTo>
                <a:lnTo>
                  <a:pt x="1359" y="1207"/>
                </a:lnTo>
                <a:lnTo>
                  <a:pt x="1352" y="1221"/>
                </a:lnTo>
                <a:lnTo>
                  <a:pt x="1343" y="1233"/>
                </a:lnTo>
                <a:lnTo>
                  <a:pt x="1330" y="1246"/>
                </a:lnTo>
                <a:lnTo>
                  <a:pt x="1313" y="1256"/>
                </a:lnTo>
                <a:lnTo>
                  <a:pt x="1316" y="1267"/>
                </a:lnTo>
                <a:lnTo>
                  <a:pt x="1318" y="1278"/>
                </a:lnTo>
                <a:lnTo>
                  <a:pt x="1320" y="1288"/>
                </a:lnTo>
                <a:lnTo>
                  <a:pt x="1318" y="1299"/>
                </a:lnTo>
                <a:lnTo>
                  <a:pt x="1316" y="1309"/>
                </a:lnTo>
                <a:lnTo>
                  <a:pt x="1313" y="1320"/>
                </a:lnTo>
                <a:lnTo>
                  <a:pt x="1309" y="1329"/>
                </a:lnTo>
                <a:lnTo>
                  <a:pt x="1302" y="1338"/>
                </a:lnTo>
                <a:lnTo>
                  <a:pt x="1297" y="1346"/>
                </a:lnTo>
                <a:lnTo>
                  <a:pt x="1290" y="1353"/>
                </a:lnTo>
                <a:lnTo>
                  <a:pt x="1281" y="1361"/>
                </a:lnTo>
                <a:lnTo>
                  <a:pt x="1272" y="1366"/>
                </a:lnTo>
                <a:lnTo>
                  <a:pt x="1263" y="1371"/>
                </a:lnTo>
                <a:lnTo>
                  <a:pt x="1254" y="1375"/>
                </a:lnTo>
                <a:lnTo>
                  <a:pt x="1244" y="1376"/>
                </a:lnTo>
                <a:lnTo>
                  <a:pt x="1235" y="1378"/>
                </a:lnTo>
                <a:lnTo>
                  <a:pt x="1235" y="1385"/>
                </a:lnTo>
                <a:lnTo>
                  <a:pt x="1235" y="1391"/>
                </a:lnTo>
                <a:lnTo>
                  <a:pt x="1237" y="1398"/>
                </a:lnTo>
                <a:lnTo>
                  <a:pt x="1238" y="1405"/>
                </a:lnTo>
                <a:lnTo>
                  <a:pt x="1240" y="1410"/>
                </a:lnTo>
                <a:lnTo>
                  <a:pt x="1242" y="1415"/>
                </a:lnTo>
                <a:lnTo>
                  <a:pt x="1242" y="1421"/>
                </a:lnTo>
                <a:lnTo>
                  <a:pt x="1242" y="1424"/>
                </a:lnTo>
                <a:lnTo>
                  <a:pt x="1242" y="1428"/>
                </a:lnTo>
                <a:lnTo>
                  <a:pt x="1242" y="1433"/>
                </a:lnTo>
                <a:lnTo>
                  <a:pt x="1240" y="1438"/>
                </a:lnTo>
                <a:lnTo>
                  <a:pt x="1238" y="1444"/>
                </a:lnTo>
                <a:lnTo>
                  <a:pt x="1237" y="1451"/>
                </a:lnTo>
                <a:lnTo>
                  <a:pt x="1235" y="1458"/>
                </a:lnTo>
                <a:lnTo>
                  <a:pt x="1235" y="1463"/>
                </a:lnTo>
                <a:lnTo>
                  <a:pt x="1235" y="1470"/>
                </a:lnTo>
                <a:lnTo>
                  <a:pt x="1217" y="1490"/>
                </a:lnTo>
                <a:lnTo>
                  <a:pt x="1208" y="1479"/>
                </a:lnTo>
                <a:lnTo>
                  <a:pt x="1203" y="1481"/>
                </a:lnTo>
                <a:lnTo>
                  <a:pt x="1200" y="1486"/>
                </a:lnTo>
                <a:lnTo>
                  <a:pt x="1193" y="1491"/>
                </a:lnTo>
                <a:lnTo>
                  <a:pt x="1187" y="1498"/>
                </a:lnTo>
                <a:lnTo>
                  <a:pt x="1182" y="1505"/>
                </a:lnTo>
                <a:lnTo>
                  <a:pt x="1177" y="1511"/>
                </a:lnTo>
                <a:lnTo>
                  <a:pt x="1175" y="1516"/>
                </a:lnTo>
                <a:lnTo>
                  <a:pt x="1173" y="1518"/>
                </a:lnTo>
                <a:lnTo>
                  <a:pt x="1166" y="1518"/>
                </a:lnTo>
                <a:lnTo>
                  <a:pt x="1161" y="1518"/>
                </a:lnTo>
                <a:lnTo>
                  <a:pt x="1154" y="1520"/>
                </a:lnTo>
                <a:lnTo>
                  <a:pt x="1148" y="1521"/>
                </a:lnTo>
                <a:lnTo>
                  <a:pt x="1143" y="1523"/>
                </a:lnTo>
                <a:lnTo>
                  <a:pt x="1138" y="1525"/>
                </a:lnTo>
                <a:lnTo>
                  <a:pt x="1133" y="1525"/>
                </a:lnTo>
                <a:lnTo>
                  <a:pt x="1129" y="1527"/>
                </a:lnTo>
                <a:lnTo>
                  <a:pt x="1129" y="1530"/>
                </a:lnTo>
                <a:lnTo>
                  <a:pt x="1131" y="1534"/>
                </a:lnTo>
                <a:lnTo>
                  <a:pt x="1133" y="1537"/>
                </a:lnTo>
                <a:lnTo>
                  <a:pt x="1134" y="1541"/>
                </a:lnTo>
                <a:lnTo>
                  <a:pt x="1136" y="1544"/>
                </a:lnTo>
                <a:lnTo>
                  <a:pt x="1136" y="1548"/>
                </a:lnTo>
                <a:lnTo>
                  <a:pt x="1138" y="1551"/>
                </a:lnTo>
                <a:lnTo>
                  <a:pt x="1138" y="1555"/>
                </a:lnTo>
                <a:lnTo>
                  <a:pt x="1131" y="1555"/>
                </a:lnTo>
                <a:lnTo>
                  <a:pt x="1124" y="1557"/>
                </a:lnTo>
                <a:lnTo>
                  <a:pt x="1117" y="1558"/>
                </a:lnTo>
                <a:lnTo>
                  <a:pt x="1108" y="1560"/>
                </a:lnTo>
                <a:lnTo>
                  <a:pt x="1099" y="1562"/>
                </a:lnTo>
                <a:lnTo>
                  <a:pt x="1092" y="1566"/>
                </a:lnTo>
                <a:lnTo>
                  <a:pt x="1085" y="1569"/>
                </a:lnTo>
                <a:lnTo>
                  <a:pt x="1078" y="1573"/>
                </a:lnTo>
                <a:lnTo>
                  <a:pt x="1081" y="1573"/>
                </a:lnTo>
                <a:lnTo>
                  <a:pt x="1085" y="1574"/>
                </a:lnTo>
                <a:lnTo>
                  <a:pt x="1087" y="1574"/>
                </a:lnTo>
                <a:lnTo>
                  <a:pt x="1090" y="1576"/>
                </a:lnTo>
                <a:lnTo>
                  <a:pt x="1094" y="1578"/>
                </a:lnTo>
                <a:lnTo>
                  <a:pt x="1097" y="1580"/>
                </a:lnTo>
                <a:lnTo>
                  <a:pt x="1101" y="1581"/>
                </a:lnTo>
                <a:lnTo>
                  <a:pt x="1104" y="1581"/>
                </a:lnTo>
                <a:lnTo>
                  <a:pt x="1087" y="1601"/>
                </a:lnTo>
                <a:lnTo>
                  <a:pt x="1088" y="1608"/>
                </a:lnTo>
                <a:lnTo>
                  <a:pt x="1090" y="1615"/>
                </a:lnTo>
                <a:lnTo>
                  <a:pt x="1090" y="1622"/>
                </a:lnTo>
                <a:lnTo>
                  <a:pt x="1088" y="1629"/>
                </a:lnTo>
                <a:lnTo>
                  <a:pt x="1088" y="1638"/>
                </a:lnTo>
                <a:lnTo>
                  <a:pt x="1087" y="1647"/>
                </a:lnTo>
                <a:lnTo>
                  <a:pt x="1087" y="1656"/>
                </a:lnTo>
                <a:lnTo>
                  <a:pt x="1087" y="1666"/>
                </a:lnTo>
                <a:lnTo>
                  <a:pt x="1104" y="1684"/>
                </a:lnTo>
                <a:lnTo>
                  <a:pt x="1104" y="1703"/>
                </a:lnTo>
                <a:lnTo>
                  <a:pt x="1087" y="1721"/>
                </a:lnTo>
                <a:lnTo>
                  <a:pt x="1087" y="1728"/>
                </a:lnTo>
                <a:lnTo>
                  <a:pt x="1087" y="1732"/>
                </a:lnTo>
                <a:lnTo>
                  <a:pt x="1088" y="1735"/>
                </a:lnTo>
                <a:lnTo>
                  <a:pt x="1088" y="1737"/>
                </a:lnTo>
                <a:lnTo>
                  <a:pt x="1088" y="1739"/>
                </a:lnTo>
                <a:lnTo>
                  <a:pt x="1087" y="1739"/>
                </a:lnTo>
                <a:lnTo>
                  <a:pt x="1083" y="1741"/>
                </a:lnTo>
                <a:lnTo>
                  <a:pt x="1078" y="1741"/>
                </a:lnTo>
                <a:close/>
                <a:moveTo>
                  <a:pt x="783" y="922"/>
                </a:moveTo>
                <a:lnTo>
                  <a:pt x="756" y="951"/>
                </a:lnTo>
                <a:lnTo>
                  <a:pt x="748" y="942"/>
                </a:lnTo>
                <a:lnTo>
                  <a:pt x="737" y="933"/>
                </a:lnTo>
                <a:lnTo>
                  <a:pt x="726" y="926"/>
                </a:lnTo>
                <a:lnTo>
                  <a:pt x="714" y="919"/>
                </a:lnTo>
                <a:lnTo>
                  <a:pt x="687" y="905"/>
                </a:lnTo>
                <a:lnTo>
                  <a:pt x="659" y="892"/>
                </a:lnTo>
                <a:lnTo>
                  <a:pt x="631" y="880"/>
                </a:lnTo>
                <a:lnTo>
                  <a:pt x="603" y="868"/>
                </a:lnTo>
                <a:lnTo>
                  <a:pt x="578" y="857"/>
                </a:lnTo>
                <a:lnTo>
                  <a:pt x="557" y="846"/>
                </a:lnTo>
                <a:lnTo>
                  <a:pt x="550" y="850"/>
                </a:lnTo>
                <a:lnTo>
                  <a:pt x="541" y="852"/>
                </a:lnTo>
                <a:lnTo>
                  <a:pt x="534" y="853"/>
                </a:lnTo>
                <a:lnTo>
                  <a:pt x="525" y="855"/>
                </a:lnTo>
                <a:lnTo>
                  <a:pt x="518" y="855"/>
                </a:lnTo>
                <a:lnTo>
                  <a:pt x="509" y="857"/>
                </a:lnTo>
                <a:lnTo>
                  <a:pt x="502" y="857"/>
                </a:lnTo>
                <a:lnTo>
                  <a:pt x="495" y="857"/>
                </a:lnTo>
                <a:lnTo>
                  <a:pt x="442" y="800"/>
                </a:lnTo>
                <a:lnTo>
                  <a:pt x="442" y="744"/>
                </a:lnTo>
                <a:lnTo>
                  <a:pt x="435" y="733"/>
                </a:lnTo>
                <a:lnTo>
                  <a:pt x="428" y="723"/>
                </a:lnTo>
                <a:lnTo>
                  <a:pt x="423" y="710"/>
                </a:lnTo>
                <a:lnTo>
                  <a:pt x="417" y="698"/>
                </a:lnTo>
                <a:lnTo>
                  <a:pt x="414" y="684"/>
                </a:lnTo>
                <a:lnTo>
                  <a:pt x="410" y="670"/>
                </a:lnTo>
                <a:lnTo>
                  <a:pt x="405" y="657"/>
                </a:lnTo>
                <a:lnTo>
                  <a:pt x="400" y="643"/>
                </a:lnTo>
                <a:lnTo>
                  <a:pt x="396" y="648"/>
                </a:lnTo>
                <a:lnTo>
                  <a:pt x="394" y="654"/>
                </a:lnTo>
                <a:lnTo>
                  <a:pt x="393" y="657"/>
                </a:lnTo>
                <a:lnTo>
                  <a:pt x="393" y="661"/>
                </a:lnTo>
                <a:lnTo>
                  <a:pt x="393" y="664"/>
                </a:lnTo>
                <a:lnTo>
                  <a:pt x="394" y="668"/>
                </a:lnTo>
                <a:lnTo>
                  <a:pt x="396" y="673"/>
                </a:lnTo>
                <a:lnTo>
                  <a:pt x="400" y="680"/>
                </a:lnTo>
                <a:lnTo>
                  <a:pt x="382" y="698"/>
                </a:lnTo>
                <a:lnTo>
                  <a:pt x="382" y="707"/>
                </a:lnTo>
                <a:lnTo>
                  <a:pt x="382" y="716"/>
                </a:lnTo>
                <a:lnTo>
                  <a:pt x="382" y="726"/>
                </a:lnTo>
                <a:lnTo>
                  <a:pt x="384" y="737"/>
                </a:lnTo>
                <a:lnTo>
                  <a:pt x="385" y="746"/>
                </a:lnTo>
                <a:lnTo>
                  <a:pt x="389" y="753"/>
                </a:lnTo>
                <a:lnTo>
                  <a:pt x="391" y="754"/>
                </a:lnTo>
                <a:lnTo>
                  <a:pt x="394" y="754"/>
                </a:lnTo>
                <a:lnTo>
                  <a:pt x="396" y="754"/>
                </a:lnTo>
                <a:lnTo>
                  <a:pt x="400" y="754"/>
                </a:lnTo>
                <a:lnTo>
                  <a:pt x="396" y="754"/>
                </a:lnTo>
                <a:lnTo>
                  <a:pt x="393" y="756"/>
                </a:lnTo>
                <a:lnTo>
                  <a:pt x="389" y="758"/>
                </a:lnTo>
                <a:lnTo>
                  <a:pt x="385" y="758"/>
                </a:lnTo>
                <a:lnTo>
                  <a:pt x="384" y="760"/>
                </a:lnTo>
                <a:lnTo>
                  <a:pt x="380" y="761"/>
                </a:lnTo>
                <a:lnTo>
                  <a:pt x="377" y="763"/>
                </a:lnTo>
                <a:lnTo>
                  <a:pt x="373" y="763"/>
                </a:lnTo>
                <a:lnTo>
                  <a:pt x="375" y="758"/>
                </a:lnTo>
                <a:lnTo>
                  <a:pt x="373" y="753"/>
                </a:lnTo>
                <a:lnTo>
                  <a:pt x="371" y="749"/>
                </a:lnTo>
                <a:lnTo>
                  <a:pt x="368" y="744"/>
                </a:lnTo>
                <a:lnTo>
                  <a:pt x="363" y="740"/>
                </a:lnTo>
                <a:lnTo>
                  <a:pt x="359" y="737"/>
                </a:lnTo>
                <a:lnTo>
                  <a:pt x="357" y="731"/>
                </a:lnTo>
                <a:lnTo>
                  <a:pt x="355" y="726"/>
                </a:lnTo>
                <a:lnTo>
                  <a:pt x="355" y="707"/>
                </a:lnTo>
                <a:lnTo>
                  <a:pt x="373" y="689"/>
                </a:lnTo>
                <a:lnTo>
                  <a:pt x="355" y="671"/>
                </a:lnTo>
                <a:lnTo>
                  <a:pt x="355" y="668"/>
                </a:lnTo>
                <a:lnTo>
                  <a:pt x="357" y="663"/>
                </a:lnTo>
                <a:lnTo>
                  <a:pt x="357" y="659"/>
                </a:lnTo>
                <a:lnTo>
                  <a:pt x="359" y="657"/>
                </a:lnTo>
                <a:lnTo>
                  <a:pt x="361" y="654"/>
                </a:lnTo>
                <a:lnTo>
                  <a:pt x="363" y="650"/>
                </a:lnTo>
                <a:lnTo>
                  <a:pt x="364" y="647"/>
                </a:lnTo>
                <a:lnTo>
                  <a:pt x="364" y="643"/>
                </a:lnTo>
                <a:lnTo>
                  <a:pt x="361" y="638"/>
                </a:lnTo>
                <a:lnTo>
                  <a:pt x="355" y="634"/>
                </a:lnTo>
                <a:lnTo>
                  <a:pt x="348" y="629"/>
                </a:lnTo>
                <a:lnTo>
                  <a:pt x="343" y="625"/>
                </a:lnTo>
                <a:lnTo>
                  <a:pt x="336" y="620"/>
                </a:lnTo>
                <a:lnTo>
                  <a:pt x="331" y="617"/>
                </a:lnTo>
                <a:lnTo>
                  <a:pt x="325" y="615"/>
                </a:lnTo>
                <a:lnTo>
                  <a:pt x="320" y="615"/>
                </a:lnTo>
                <a:lnTo>
                  <a:pt x="338" y="578"/>
                </a:lnTo>
                <a:lnTo>
                  <a:pt x="338" y="574"/>
                </a:lnTo>
                <a:lnTo>
                  <a:pt x="338" y="571"/>
                </a:lnTo>
                <a:lnTo>
                  <a:pt x="336" y="567"/>
                </a:lnTo>
                <a:lnTo>
                  <a:pt x="334" y="564"/>
                </a:lnTo>
                <a:lnTo>
                  <a:pt x="332" y="560"/>
                </a:lnTo>
                <a:lnTo>
                  <a:pt x="331" y="556"/>
                </a:lnTo>
                <a:lnTo>
                  <a:pt x="331" y="553"/>
                </a:lnTo>
                <a:lnTo>
                  <a:pt x="329" y="549"/>
                </a:lnTo>
                <a:lnTo>
                  <a:pt x="341" y="542"/>
                </a:lnTo>
                <a:lnTo>
                  <a:pt x="354" y="534"/>
                </a:lnTo>
                <a:lnTo>
                  <a:pt x="363" y="523"/>
                </a:lnTo>
                <a:lnTo>
                  <a:pt x="371" y="514"/>
                </a:lnTo>
                <a:lnTo>
                  <a:pt x="387" y="491"/>
                </a:lnTo>
                <a:lnTo>
                  <a:pt x="401" y="468"/>
                </a:lnTo>
                <a:lnTo>
                  <a:pt x="414" y="443"/>
                </a:lnTo>
                <a:lnTo>
                  <a:pt x="428" y="419"/>
                </a:lnTo>
                <a:lnTo>
                  <a:pt x="442" y="396"/>
                </a:lnTo>
                <a:lnTo>
                  <a:pt x="460" y="373"/>
                </a:lnTo>
                <a:lnTo>
                  <a:pt x="461" y="366"/>
                </a:lnTo>
                <a:lnTo>
                  <a:pt x="461" y="357"/>
                </a:lnTo>
                <a:lnTo>
                  <a:pt x="463" y="350"/>
                </a:lnTo>
                <a:lnTo>
                  <a:pt x="465" y="341"/>
                </a:lnTo>
                <a:lnTo>
                  <a:pt x="467" y="332"/>
                </a:lnTo>
                <a:lnTo>
                  <a:pt x="467" y="323"/>
                </a:lnTo>
                <a:lnTo>
                  <a:pt x="468" y="314"/>
                </a:lnTo>
                <a:lnTo>
                  <a:pt x="468" y="307"/>
                </a:lnTo>
                <a:lnTo>
                  <a:pt x="461" y="307"/>
                </a:lnTo>
                <a:lnTo>
                  <a:pt x="454" y="309"/>
                </a:lnTo>
                <a:lnTo>
                  <a:pt x="447" y="311"/>
                </a:lnTo>
                <a:lnTo>
                  <a:pt x="438" y="313"/>
                </a:lnTo>
                <a:lnTo>
                  <a:pt x="430" y="314"/>
                </a:lnTo>
                <a:lnTo>
                  <a:pt x="423" y="316"/>
                </a:lnTo>
                <a:lnTo>
                  <a:pt x="415" y="316"/>
                </a:lnTo>
                <a:lnTo>
                  <a:pt x="408" y="318"/>
                </a:lnTo>
                <a:lnTo>
                  <a:pt x="408" y="314"/>
                </a:lnTo>
                <a:lnTo>
                  <a:pt x="407" y="311"/>
                </a:lnTo>
                <a:lnTo>
                  <a:pt x="405" y="307"/>
                </a:lnTo>
                <a:lnTo>
                  <a:pt x="403" y="304"/>
                </a:lnTo>
                <a:lnTo>
                  <a:pt x="401" y="300"/>
                </a:lnTo>
                <a:lnTo>
                  <a:pt x="401" y="297"/>
                </a:lnTo>
                <a:lnTo>
                  <a:pt x="400" y="293"/>
                </a:lnTo>
                <a:lnTo>
                  <a:pt x="400" y="290"/>
                </a:lnTo>
                <a:lnTo>
                  <a:pt x="396" y="288"/>
                </a:lnTo>
                <a:lnTo>
                  <a:pt x="393" y="288"/>
                </a:lnTo>
                <a:lnTo>
                  <a:pt x="389" y="286"/>
                </a:lnTo>
                <a:lnTo>
                  <a:pt x="385" y="284"/>
                </a:lnTo>
                <a:lnTo>
                  <a:pt x="384" y="283"/>
                </a:lnTo>
                <a:lnTo>
                  <a:pt x="380" y="281"/>
                </a:lnTo>
                <a:lnTo>
                  <a:pt x="377" y="281"/>
                </a:lnTo>
                <a:lnTo>
                  <a:pt x="373" y="281"/>
                </a:lnTo>
                <a:lnTo>
                  <a:pt x="355" y="281"/>
                </a:lnTo>
                <a:lnTo>
                  <a:pt x="348" y="283"/>
                </a:lnTo>
                <a:lnTo>
                  <a:pt x="343" y="286"/>
                </a:lnTo>
                <a:lnTo>
                  <a:pt x="338" y="290"/>
                </a:lnTo>
                <a:lnTo>
                  <a:pt x="332" y="293"/>
                </a:lnTo>
                <a:lnTo>
                  <a:pt x="329" y="297"/>
                </a:lnTo>
                <a:lnTo>
                  <a:pt x="327" y="300"/>
                </a:lnTo>
                <a:lnTo>
                  <a:pt x="327" y="304"/>
                </a:lnTo>
                <a:lnTo>
                  <a:pt x="329" y="307"/>
                </a:lnTo>
                <a:lnTo>
                  <a:pt x="311" y="290"/>
                </a:lnTo>
                <a:lnTo>
                  <a:pt x="304" y="295"/>
                </a:lnTo>
                <a:lnTo>
                  <a:pt x="295" y="302"/>
                </a:lnTo>
                <a:lnTo>
                  <a:pt x="287" y="306"/>
                </a:lnTo>
                <a:lnTo>
                  <a:pt x="276" y="311"/>
                </a:lnTo>
                <a:lnTo>
                  <a:pt x="265" y="313"/>
                </a:lnTo>
                <a:lnTo>
                  <a:pt x="255" y="316"/>
                </a:lnTo>
                <a:lnTo>
                  <a:pt x="244" y="316"/>
                </a:lnTo>
                <a:lnTo>
                  <a:pt x="234" y="318"/>
                </a:lnTo>
                <a:lnTo>
                  <a:pt x="232" y="323"/>
                </a:lnTo>
                <a:lnTo>
                  <a:pt x="228" y="329"/>
                </a:lnTo>
                <a:lnTo>
                  <a:pt x="221" y="334"/>
                </a:lnTo>
                <a:lnTo>
                  <a:pt x="212" y="337"/>
                </a:lnTo>
                <a:lnTo>
                  <a:pt x="204" y="341"/>
                </a:lnTo>
                <a:lnTo>
                  <a:pt x="193" y="343"/>
                </a:lnTo>
                <a:lnTo>
                  <a:pt x="182" y="344"/>
                </a:lnTo>
                <a:lnTo>
                  <a:pt x="174" y="344"/>
                </a:lnTo>
                <a:lnTo>
                  <a:pt x="156" y="364"/>
                </a:lnTo>
                <a:lnTo>
                  <a:pt x="154" y="360"/>
                </a:lnTo>
                <a:lnTo>
                  <a:pt x="154" y="357"/>
                </a:lnTo>
                <a:lnTo>
                  <a:pt x="152" y="353"/>
                </a:lnTo>
                <a:lnTo>
                  <a:pt x="151" y="350"/>
                </a:lnTo>
                <a:lnTo>
                  <a:pt x="149" y="346"/>
                </a:lnTo>
                <a:lnTo>
                  <a:pt x="147" y="343"/>
                </a:lnTo>
                <a:lnTo>
                  <a:pt x="147" y="339"/>
                </a:lnTo>
                <a:lnTo>
                  <a:pt x="147" y="336"/>
                </a:lnTo>
                <a:lnTo>
                  <a:pt x="182" y="336"/>
                </a:lnTo>
                <a:lnTo>
                  <a:pt x="216" y="298"/>
                </a:lnTo>
                <a:lnTo>
                  <a:pt x="212" y="298"/>
                </a:lnTo>
                <a:lnTo>
                  <a:pt x="211" y="300"/>
                </a:lnTo>
                <a:lnTo>
                  <a:pt x="207" y="302"/>
                </a:lnTo>
                <a:lnTo>
                  <a:pt x="204" y="304"/>
                </a:lnTo>
                <a:lnTo>
                  <a:pt x="200" y="306"/>
                </a:lnTo>
                <a:lnTo>
                  <a:pt x="196" y="306"/>
                </a:lnTo>
                <a:lnTo>
                  <a:pt x="193" y="307"/>
                </a:lnTo>
                <a:lnTo>
                  <a:pt x="191" y="307"/>
                </a:lnTo>
                <a:lnTo>
                  <a:pt x="188" y="307"/>
                </a:lnTo>
                <a:lnTo>
                  <a:pt x="184" y="306"/>
                </a:lnTo>
                <a:lnTo>
                  <a:pt x="181" y="306"/>
                </a:lnTo>
                <a:lnTo>
                  <a:pt x="177" y="304"/>
                </a:lnTo>
                <a:lnTo>
                  <a:pt x="174" y="302"/>
                </a:lnTo>
                <a:lnTo>
                  <a:pt x="170" y="300"/>
                </a:lnTo>
                <a:lnTo>
                  <a:pt x="168" y="298"/>
                </a:lnTo>
                <a:lnTo>
                  <a:pt x="165" y="298"/>
                </a:lnTo>
                <a:lnTo>
                  <a:pt x="174" y="288"/>
                </a:lnTo>
                <a:lnTo>
                  <a:pt x="184" y="281"/>
                </a:lnTo>
                <a:lnTo>
                  <a:pt x="195" y="274"/>
                </a:lnTo>
                <a:lnTo>
                  <a:pt x="205" y="268"/>
                </a:lnTo>
                <a:lnTo>
                  <a:pt x="216" y="265"/>
                </a:lnTo>
                <a:lnTo>
                  <a:pt x="227" y="263"/>
                </a:lnTo>
                <a:lnTo>
                  <a:pt x="239" y="261"/>
                </a:lnTo>
                <a:lnTo>
                  <a:pt x="251" y="261"/>
                </a:lnTo>
                <a:lnTo>
                  <a:pt x="253" y="258"/>
                </a:lnTo>
                <a:lnTo>
                  <a:pt x="257" y="254"/>
                </a:lnTo>
                <a:lnTo>
                  <a:pt x="258" y="251"/>
                </a:lnTo>
                <a:lnTo>
                  <a:pt x="258" y="247"/>
                </a:lnTo>
                <a:lnTo>
                  <a:pt x="260" y="244"/>
                </a:lnTo>
                <a:lnTo>
                  <a:pt x="260" y="240"/>
                </a:lnTo>
                <a:lnTo>
                  <a:pt x="260" y="237"/>
                </a:lnTo>
                <a:lnTo>
                  <a:pt x="260" y="233"/>
                </a:lnTo>
                <a:lnTo>
                  <a:pt x="264" y="231"/>
                </a:lnTo>
                <a:lnTo>
                  <a:pt x="267" y="230"/>
                </a:lnTo>
                <a:lnTo>
                  <a:pt x="272" y="228"/>
                </a:lnTo>
                <a:lnTo>
                  <a:pt x="278" y="224"/>
                </a:lnTo>
                <a:lnTo>
                  <a:pt x="283" y="221"/>
                </a:lnTo>
                <a:lnTo>
                  <a:pt x="287" y="217"/>
                </a:lnTo>
                <a:lnTo>
                  <a:pt x="292" y="215"/>
                </a:lnTo>
                <a:lnTo>
                  <a:pt x="295" y="215"/>
                </a:lnTo>
                <a:lnTo>
                  <a:pt x="299" y="215"/>
                </a:lnTo>
                <a:lnTo>
                  <a:pt x="301" y="215"/>
                </a:lnTo>
                <a:lnTo>
                  <a:pt x="304" y="217"/>
                </a:lnTo>
                <a:lnTo>
                  <a:pt x="308" y="219"/>
                </a:lnTo>
                <a:lnTo>
                  <a:pt x="311" y="221"/>
                </a:lnTo>
                <a:lnTo>
                  <a:pt x="315" y="222"/>
                </a:lnTo>
                <a:lnTo>
                  <a:pt x="317" y="222"/>
                </a:lnTo>
                <a:lnTo>
                  <a:pt x="320" y="224"/>
                </a:lnTo>
                <a:lnTo>
                  <a:pt x="324" y="221"/>
                </a:lnTo>
                <a:lnTo>
                  <a:pt x="329" y="215"/>
                </a:lnTo>
                <a:lnTo>
                  <a:pt x="332" y="210"/>
                </a:lnTo>
                <a:lnTo>
                  <a:pt x="338" y="205"/>
                </a:lnTo>
                <a:lnTo>
                  <a:pt x="341" y="198"/>
                </a:lnTo>
                <a:lnTo>
                  <a:pt x="345" y="191"/>
                </a:lnTo>
                <a:lnTo>
                  <a:pt x="347" y="184"/>
                </a:lnTo>
                <a:lnTo>
                  <a:pt x="347" y="177"/>
                </a:lnTo>
                <a:lnTo>
                  <a:pt x="364" y="196"/>
                </a:lnTo>
                <a:lnTo>
                  <a:pt x="368" y="196"/>
                </a:lnTo>
                <a:lnTo>
                  <a:pt x="373" y="192"/>
                </a:lnTo>
                <a:lnTo>
                  <a:pt x="380" y="191"/>
                </a:lnTo>
                <a:lnTo>
                  <a:pt x="385" y="187"/>
                </a:lnTo>
                <a:lnTo>
                  <a:pt x="393" y="184"/>
                </a:lnTo>
                <a:lnTo>
                  <a:pt x="400" y="180"/>
                </a:lnTo>
                <a:lnTo>
                  <a:pt x="405" y="178"/>
                </a:lnTo>
                <a:lnTo>
                  <a:pt x="408" y="177"/>
                </a:lnTo>
                <a:lnTo>
                  <a:pt x="424" y="196"/>
                </a:lnTo>
                <a:lnTo>
                  <a:pt x="431" y="194"/>
                </a:lnTo>
                <a:lnTo>
                  <a:pt x="435" y="192"/>
                </a:lnTo>
                <a:lnTo>
                  <a:pt x="437" y="191"/>
                </a:lnTo>
                <a:lnTo>
                  <a:pt x="438" y="191"/>
                </a:lnTo>
                <a:lnTo>
                  <a:pt x="440" y="191"/>
                </a:lnTo>
                <a:lnTo>
                  <a:pt x="442" y="191"/>
                </a:lnTo>
                <a:lnTo>
                  <a:pt x="446" y="189"/>
                </a:lnTo>
                <a:lnTo>
                  <a:pt x="451" y="187"/>
                </a:lnTo>
                <a:lnTo>
                  <a:pt x="456" y="187"/>
                </a:lnTo>
                <a:lnTo>
                  <a:pt x="460" y="189"/>
                </a:lnTo>
                <a:lnTo>
                  <a:pt x="463" y="192"/>
                </a:lnTo>
                <a:lnTo>
                  <a:pt x="468" y="196"/>
                </a:lnTo>
                <a:lnTo>
                  <a:pt x="472" y="200"/>
                </a:lnTo>
                <a:lnTo>
                  <a:pt x="476" y="203"/>
                </a:lnTo>
                <a:lnTo>
                  <a:pt x="477" y="205"/>
                </a:lnTo>
                <a:lnTo>
                  <a:pt x="477" y="205"/>
                </a:lnTo>
                <a:lnTo>
                  <a:pt x="486" y="201"/>
                </a:lnTo>
                <a:lnTo>
                  <a:pt x="495" y="198"/>
                </a:lnTo>
                <a:lnTo>
                  <a:pt x="506" y="192"/>
                </a:lnTo>
                <a:lnTo>
                  <a:pt x="518" y="187"/>
                </a:lnTo>
                <a:lnTo>
                  <a:pt x="530" y="184"/>
                </a:lnTo>
                <a:lnTo>
                  <a:pt x="543" y="180"/>
                </a:lnTo>
                <a:lnTo>
                  <a:pt x="555" y="178"/>
                </a:lnTo>
                <a:lnTo>
                  <a:pt x="566" y="177"/>
                </a:lnTo>
                <a:lnTo>
                  <a:pt x="592" y="205"/>
                </a:lnTo>
                <a:lnTo>
                  <a:pt x="596" y="207"/>
                </a:lnTo>
                <a:lnTo>
                  <a:pt x="604" y="207"/>
                </a:lnTo>
                <a:lnTo>
                  <a:pt x="613" y="208"/>
                </a:lnTo>
                <a:lnTo>
                  <a:pt x="622" y="208"/>
                </a:lnTo>
                <a:lnTo>
                  <a:pt x="631" y="207"/>
                </a:lnTo>
                <a:lnTo>
                  <a:pt x="636" y="205"/>
                </a:lnTo>
                <a:lnTo>
                  <a:pt x="638" y="205"/>
                </a:lnTo>
                <a:lnTo>
                  <a:pt x="638" y="201"/>
                </a:lnTo>
                <a:lnTo>
                  <a:pt x="636" y="200"/>
                </a:lnTo>
                <a:lnTo>
                  <a:pt x="634" y="196"/>
                </a:lnTo>
                <a:lnTo>
                  <a:pt x="638" y="196"/>
                </a:lnTo>
                <a:lnTo>
                  <a:pt x="642" y="196"/>
                </a:lnTo>
                <a:lnTo>
                  <a:pt x="645" y="196"/>
                </a:lnTo>
                <a:lnTo>
                  <a:pt x="647" y="194"/>
                </a:lnTo>
                <a:lnTo>
                  <a:pt x="650" y="194"/>
                </a:lnTo>
                <a:lnTo>
                  <a:pt x="654" y="192"/>
                </a:lnTo>
                <a:lnTo>
                  <a:pt x="657" y="189"/>
                </a:lnTo>
                <a:lnTo>
                  <a:pt x="661" y="187"/>
                </a:lnTo>
                <a:lnTo>
                  <a:pt x="712" y="187"/>
                </a:lnTo>
                <a:lnTo>
                  <a:pt x="730" y="205"/>
                </a:lnTo>
                <a:lnTo>
                  <a:pt x="765" y="205"/>
                </a:lnTo>
                <a:lnTo>
                  <a:pt x="756" y="212"/>
                </a:lnTo>
                <a:lnTo>
                  <a:pt x="748" y="221"/>
                </a:lnTo>
                <a:lnTo>
                  <a:pt x="737" y="228"/>
                </a:lnTo>
                <a:lnTo>
                  <a:pt x="725" y="235"/>
                </a:lnTo>
                <a:lnTo>
                  <a:pt x="710" y="242"/>
                </a:lnTo>
                <a:lnTo>
                  <a:pt x="696" y="247"/>
                </a:lnTo>
                <a:lnTo>
                  <a:pt x="682" y="251"/>
                </a:lnTo>
                <a:lnTo>
                  <a:pt x="670" y="253"/>
                </a:lnTo>
                <a:lnTo>
                  <a:pt x="673" y="253"/>
                </a:lnTo>
                <a:lnTo>
                  <a:pt x="677" y="253"/>
                </a:lnTo>
                <a:lnTo>
                  <a:pt x="682" y="254"/>
                </a:lnTo>
                <a:lnTo>
                  <a:pt x="687" y="256"/>
                </a:lnTo>
                <a:lnTo>
                  <a:pt x="693" y="258"/>
                </a:lnTo>
                <a:lnTo>
                  <a:pt x="700" y="260"/>
                </a:lnTo>
                <a:lnTo>
                  <a:pt x="705" y="261"/>
                </a:lnTo>
                <a:lnTo>
                  <a:pt x="712" y="261"/>
                </a:lnTo>
                <a:lnTo>
                  <a:pt x="719" y="254"/>
                </a:lnTo>
                <a:lnTo>
                  <a:pt x="728" y="247"/>
                </a:lnTo>
                <a:lnTo>
                  <a:pt x="737" y="240"/>
                </a:lnTo>
                <a:lnTo>
                  <a:pt x="748" y="233"/>
                </a:lnTo>
                <a:lnTo>
                  <a:pt x="756" y="226"/>
                </a:lnTo>
                <a:lnTo>
                  <a:pt x="767" y="219"/>
                </a:lnTo>
                <a:lnTo>
                  <a:pt x="776" y="212"/>
                </a:lnTo>
                <a:lnTo>
                  <a:pt x="783" y="205"/>
                </a:lnTo>
                <a:lnTo>
                  <a:pt x="800" y="224"/>
                </a:lnTo>
                <a:lnTo>
                  <a:pt x="806" y="222"/>
                </a:lnTo>
                <a:lnTo>
                  <a:pt x="813" y="222"/>
                </a:lnTo>
                <a:lnTo>
                  <a:pt x="822" y="222"/>
                </a:lnTo>
                <a:lnTo>
                  <a:pt x="831" y="221"/>
                </a:lnTo>
                <a:lnTo>
                  <a:pt x="839" y="222"/>
                </a:lnTo>
                <a:lnTo>
                  <a:pt x="845" y="224"/>
                </a:lnTo>
                <a:lnTo>
                  <a:pt x="846" y="226"/>
                </a:lnTo>
                <a:lnTo>
                  <a:pt x="846" y="228"/>
                </a:lnTo>
                <a:lnTo>
                  <a:pt x="846" y="230"/>
                </a:lnTo>
                <a:lnTo>
                  <a:pt x="843" y="233"/>
                </a:lnTo>
                <a:lnTo>
                  <a:pt x="861" y="215"/>
                </a:lnTo>
                <a:lnTo>
                  <a:pt x="871" y="215"/>
                </a:lnTo>
                <a:lnTo>
                  <a:pt x="880" y="215"/>
                </a:lnTo>
                <a:lnTo>
                  <a:pt x="891" y="217"/>
                </a:lnTo>
                <a:lnTo>
                  <a:pt x="899" y="219"/>
                </a:lnTo>
                <a:lnTo>
                  <a:pt x="908" y="219"/>
                </a:lnTo>
                <a:lnTo>
                  <a:pt x="915" y="219"/>
                </a:lnTo>
                <a:lnTo>
                  <a:pt x="924" y="217"/>
                </a:lnTo>
                <a:lnTo>
                  <a:pt x="931" y="215"/>
                </a:lnTo>
                <a:lnTo>
                  <a:pt x="926" y="221"/>
                </a:lnTo>
                <a:lnTo>
                  <a:pt x="926" y="224"/>
                </a:lnTo>
                <a:lnTo>
                  <a:pt x="929" y="226"/>
                </a:lnTo>
                <a:lnTo>
                  <a:pt x="933" y="226"/>
                </a:lnTo>
                <a:lnTo>
                  <a:pt x="940" y="226"/>
                </a:lnTo>
                <a:lnTo>
                  <a:pt x="947" y="224"/>
                </a:lnTo>
                <a:lnTo>
                  <a:pt x="952" y="224"/>
                </a:lnTo>
                <a:lnTo>
                  <a:pt x="956" y="224"/>
                </a:lnTo>
                <a:lnTo>
                  <a:pt x="974" y="242"/>
                </a:lnTo>
                <a:lnTo>
                  <a:pt x="977" y="242"/>
                </a:lnTo>
                <a:lnTo>
                  <a:pt x="981" y="240"/>
                </a:lnTo>
                <a:lnTo>
                  <a:pt x="984" y="240"/>
                </a:lnTo>
                <a:lnTo>
                  <a:pt x="986" y="238"/>
                </a:lnTo>
                <a:lnTo>
                  <a:pt x="989" y="237"/>
                </a:lnTo>
                <a:lnTo>
                  <a:pt x="993" y="235"/>
                </a:lnTo>
                <a:lnTo>
                  <a:pt x="997" y="233"/>
                </a:lnTo>
                <a:lnTo>
                  <a:pt x="1000" y="233"/>
                </a:lnTo>
                <a:lnTo>
                  <a:pt x="998" y="228"/>
                </a:lnTo>
                <a:lnTo>
                  <a:pt x="998" y="222"/>
                </a:lnTo>
                <a:lnTo>
                  <a:pt x="1000" y="219"/>
                </a:lnTo>
                <a:lnTo>
                  <a:pt x="1002" y="215"/>
                </a:lnTo>
                <a:lnTo>
                  <a:pt x="1005" y="214"/>
                </a:lnTo>
                <a:lnTo>
                  <a:pt x="1011" y="212"/>
                </a:lnTo>
                <a:lnTo>
                  <a:pt x="1014" y="208"/>
                </a:lnTo>
                <a:lnTo>
                  <a:pt x="1018" y="205"/>
                </a:lnTo>
                <a:lnTo>
                  <a:pt x="1016" y="196"/>
                </a:lnTo>
                <a:lnTo>
                  <a:pt x="1014" y="187"/>
                </a:lnTo>
                <a:lnTo>
                  <a:pt x="1009" y="180"/>
                </a:lnTo>
                <a:lnTo>
                  <a:pt x="1005" y="173"/>
                </a:lnTo>
                <a:lnTo>
                  <a:pt x="1002" y="166"/>
                </a:lnTo>
                <a:lnTo>
                  <a:pt x="998" y="159"/>
                </a:lnTo>
                <a:lnTo>
                  <a:pt x="998" y="150"/>
                </a:lnTo>
                <a:lnTo>
                  <a:pt x="1000" y="139"/>
                </a:lnTo>
                <a:lnTo>
                  <a:pt x="1007" y="148"/>
                </a:lnTo>
                <a:lnTo>
                  <a:pt x="1014" y="155"/>
                </a:lnTo>
                <a:lnTo>
                  <a:pt x="1021" y="164"/>
                </a:lnTo>
                <a:lnTo>
                  <a:pt x="1030" y="175"/>
                </a:lnTo>
                <a:lnTo>
                  <a:pt x="1037" y="184"/>
                </a:lnTo>
                <a:lnTo>
                  <a:pt x="1042" y="194"/>
                </a:lnTo>
                <a:lnTo>
                  <a:pt x="1048" y="205"/>
                </a:lnTo>
                <a:lnTo>
                  <a:pt x="1051" y="215"/>
                </a:lnTo>
                <a:lnTo>
                  <a:pt x="1058" y="214"/>
                </a:lnTo>
                <a:lnTo>
                  <a:pt x="1067" y="212"/>
                </a:lnTo>
                <a:lnTo>
                  <a:pt x="1074" y="208"/>
                </a:lnTo>
                <a:lnTo>
                  <a:pt x="1081" y="205"/>
                </a:lnTo>
                <a:lnTo>
                  <a:pt x="1088" y="201"/>
                </a:lnTo>
                <a:lnTo>
                  <a:pt x="1095" y="200"/>
                </a:lnTo>
                <a:lnTo>
                  <a:pt x="1101" y="198"/>
                </a:lnTo>
                <a:lnTo>
                  <a:pt x="1104" y="196"/>
                </a:lnTo>
                <a:lnTo>
                  <a:pt x="1122" y="215"/>
                </a:lnTo>
                <a:lnTo>
                  <a:pt x="1095" y="242"/>
                </a:lnTo>
                <a:lnTo>
                  <a:pt x="1087" y="240"/>
                </a:lnTo>
                <a:lnTo>
                  <a:pt x="1076" y="238"/>
                </a:lnTo>
                <a:lnTo>
                  <a:pt x="1067" y="238"/>
                </a:lnTo>
                <a:lnTo>
                  <a:pt x="1057" y="240"/>
                </a:lnTo>
                <a:lnTo>
                  <a:pt x="1048" y="242"/>
                </a:lnTo>
                <a:lnTo>
                  <a:pt x="1037" y="245"/>
                </a:lnTo>
                <a:lnTo>
                  <a:pt x="1028" y="249"/>
                </a:lnTo>
                <a:lnTo>
                  <a:pt x="1018" y="253"/>
                </a:lnTo>
                <a:lnTo>
                  <a:pt x="1012" y="249"/>
                </a:lnTo>
                <a:lnTo>
                  <a:pt x="1007" y="247"/>
                </a:lnTo>
                <a:lnTo>
                  <a:pt x="1004" y="245"/>
                </a:lnTo>
                <a:lnTo>
                  <a:pt x="1000" y="245"/>
                </a:lnTo>
                <a:lnTo>
                  <a:pt x="997" y="245"/>
                </a:lnTo>
                <a:lnTo>
                  <a:pt x="993" y="247"/>
                </a:lnTo>
                <a:lnTo>
                  <a:pt x="988" y="249"/>
                </a:lnTo>
                <a:lnTo>
                  <a:pt x="982" y="253"/>
                </a:lnTo>
                <a:lnTo>
                  <a:pt x="986" y="253"/>
                </a:lnTo>
                <a:lnTo>
                  <a:pt x="991" y="253"/>
                </a:lnTo>
                <a:lnTo>
                  <a:pt x="995" y="254"/>
                </a:lnTo>
                <a:lnTo>
                  <a:pt x="1002" y="256"/>
                </a:lnTo>
                <a:lnTo>
                  <a:pt x="1007" y="258"/>
                </a:lnTo>
                <a:lnTo>
                  <a:pt x="1014" y="260"/>
                </a:lnTo>
                <a:lnTo>
                  <a:pt x="1019" y="261"/>
                </a:lnTo>
                <a:lnTo>
                  <a:pt x="1027" y="261"/>
                </a:lnTo>
                <a:lnTo>
                  <a:pt x="1019" y="261"/>
                </a:lnTo>
                <a:lnTo>
                  <a:pt x="1012" y="263"/>
                </a:lnTo>
                <a:lnTo>
                  <a:pt x="1004" y="265"/>
                </a:lnTo>
                <a:lnTo>
                  <a:pt x="995" y="265"/>
                </a:lnTo>
                <a:lnTo>
                  <a:pt x="986" y="267"/>
                </a:lnTo>
                <a:lnTo>
                  <a:pt x="975" y="268"/>
                </a:lnTo>
                <a:lnTo>
                  <a:pt x="967" y="270"/>
                </a:lnTo>
                <a:lnTo>
                  <a:pt x="956" y="270"/>
                </a:lnTo>
                <a:lnTo>
                  <a:pt x="954" y="274"/>
                </a:lnTo>
                <a:lnTo>
                  <a:pt x="951" y="279"/>
                </a:lnTo>
                <a:lnTo>
                  <a:pt x="949" y="284"/>
                </a:lnTo>
                <a:lnTo>
                  <a:pt x="947" y="290"/>
                </a:lnTo>
                <a:lnTo>
                  <a:pt x="945" y="295"/>
                </a:lnTo>
                <a:lnTo>
                  <a:pt x="944" y="298"/>
                </a:lnTo>
                <a:lnTo>
                  <a:pt x="942" y="304"/>
                </a:lnTo>
                <a:lnTo>
                  <a:pt x="938" y="307"/>
                </a:lnTo>
                <a:lnTo>
                  <a:pt x="931" y="318"/>
                </a:lnTo>
                <a:lnTo>
                  <a:pt x="928" y="320"/>
                </a:lnTo>
                <a:lnTo>
                  <a:pt x="922" y="323"/>
                </a:lnTo>
                <a:lnTo>
                  <a:pt x="917" y="325"/>
                </a:lnTo>
                <a:lnTo>
                  <a:pt x="914" y="327"/>
                </a:lnTo>
                <a:lnTo>
                  <a:pt x="908" y="329"/>
                </a:lnTo>
                <a:lnTo>
                  <a:pt x="903" y="330"/>
                </a:lnTo>
                <a:lnTo>
                  <a:pt x="899" y="332"/>
                </a:lnTo>
                <a:lnTo>
                  <a:pt x="896" y="336"/>
                </a:lnTo>
                <a:lnTo>
                  <a:pt x="901" y="344"/>
                </a:lnTo>
                <a:lnTo>
                  <a:pt x="910" y="357"/>
                </a:lnTo>
                <a:lnTo>
                  <a:pt x="922" y="371"/>
                </a:lnTo>
                <a:lnTo>
                  <a:pt x="936" y="387"/>
                </a:lnTo>
                <a:lnTo>
                  <a:pt x="951" y="403"/>
                </a:lnTo>
                <a:lnTo>
                  <a:pt x="963" y="417"/>
                </a:lnTo>
                <a:lnTo>
                  <a:pt x="974" y="429"/>
                </a:lnTo>
                <a:lnTo>
                  <a:pt x="982" y="438"/>
                </a:lnTo>
                <a:lnTo>
                  <a:pt x="988" y="427"/>
                </a:lnTo>
                <a:lnTo>
                  <a:pt x="995" y="417"/>
                </a:lnTo>
                <a:lnTo>
                  <a:pt x="1005" y="405"/>
                </a:lnTo>
                <a:lnTo>
                  <a:pt x="1014" y="396"/>
                </a:lnTo>
                <a:lnTo>
                  <a:pt x="1023" y="387"/>
                </a:lnTo>
                <a:lnTo>
                  <a:pt x="1028" y="380"/>
                </a:lnTo>
                <a:lnTo>
                  <a:pt x="1030" y="376"/>
                </a:lnTo>
                <a:lnTo>
                  <a:pt x="1030" y="374"/>
                </a:lnTo>
                <a:lnTo>
                  <a:pt x="1028" y="373"/>
                </a:lnTo>
                <a:lnTo>
                  <a:pt x="1027" y="373"/>
                </a:lnTo>
                <a:lnTo>
                  <a:pt x="1030" y="373"/>
                </a:lnTo>
                <a:lnTo>
                  <a:pt x="1034" y="369"/>
                </a:lnTo>
                <a:lnTo>
                  <a:pt x="1039" y="367"/>
                </a:lnTo>
                <a:lnTo>
                  <a:pt x="1042" y="364"/>
                </a:lnTo>
                <a:lnTo>
                  <a:pt x="1046" y="360"/>
                </a:lnTo>
                <a:lnTo>
                  <a:pt x="1050" y="357"/>
                </a:lnTo>
                <a:lnTo>
                  <a:pt x="1051" y="355"/>
                </a:lnTo>
                <a:lnTo>
                  <a:pt x="1051" y="353"/>
                </a:lnTo>
                <a:lnTo>
                  <a:pt x="1053" y="348"/>
                </a:lnTo>
                <a:lnTo>
                  <a:pt x="1053" y="341"/>
                </a:lnTo>
                <a:lnTo>
                  <a:pt x="1055" y="337"/>
                </a:lnTo>
                <a:lnTo>
                  <a:pt x="1058" y="332"/>
                </a:lnTo>
                <a:lnTo>
                  <a:pt x="1060" y="329"/>
                </a:lnTo>
                <a:lnTo>
                  <a:pt x="1064" y="325"/>
                </a:lnTo>
                <a:lnTo>
                  <a:pt x="1067" y="321"/>
                </a:lnTo>
                <a:lnTo>
                  <a:pt x="1069" y="318"/>
                </a:lnTo>
                <a:lnTo>
                  <a:pt x="1104" y="318"/>
                </a:lnTo>
                <a:lnTo>
                  <a:pt x="1104" y="314"/>
                </a:lnTo>
                <a:lnTo>
                  <a:pt x="1102" y="311"/>
                </a:lnTo>
                <a:lnTo>
                  <a:pt x="1101" y="307"/>
                </a:lnTo>
                <a:lnTo>
                  <a:pt x="1101" y="304"/>
                </a:lnTo>
                <a:lnTo>
                  <a:pt x="1099" y="300"/>
                </a:lnTo>
                <a:lnTo>
                  <a:pt x="1097" y="297"/>
                </a:lnTo>
                <a:lnTo>
                  <a:pt x="1095" y="293"/>
                </a:lnTo>
                <a:lnTo>
                  <a:pt x="1095" y="290"/>
                </a:lnTo>
                <a:lnTo>
                  <a:pt x="1108" y="290"/>
                </a:lnTo>
                <a:lnTo>
                  <a:pt x="1118" y="293"/>
                </a:lnTo>
                <a:lnTo>
                  <a:pt x="1129" y="298"/>
                </a:lnTo>
                <a:lnTo>
                  <a:pt x="1136" y="306"/>
                </a:lnTo>
                <a:lnTo>
                  <a:pt x="1143" y="313"/>
                </a:lnTo>
                <a:lnTo>
                  <a:pt x="1148" y="320"/>
                </a:lnTo>
                <a:lnTo>
                  <a:pt x="1154" y="329"/>
                </a:lnTo>
                <a:lnTo>
                  <a:pt x="1157" y="336"/>
                </a:lnTo>
                <a:lnTo>
                  <a:pt x="1164" y="332"/>
                </a:lnTo>
                <a:lnTo>
                  <a:pt x="1173" y="330"/>
                </a:lnTo>
                <a:lnTo>
                  <a:pt x="1182" y="329"/>
                </a:lnTo>
                <a:lnTo>
                  <a:pt x="1191" y="329"/>
                </a:lnTo>
                <a:lnTo>
                  <a:pt x="1201" y="329"/>
                </a:lnTo>
                <a:lnTo>
                  <a:pt x="1210" y="330"/>
                </a:lnTo>
                <a:lnTo>
                  <a:pt x="1219" y="332"/>
                </a:lnTo>
                <a:lnTo>
                  <a:pt x="1226" y="336"/>
                </a:lnTo>
                <a:lnTo>
                  <a:pt x="1226" y="339"/>
                </a:lnTo>
                <a:lnTo>
                  <a:pt x="1224" y="343"/>
                </a:lnTo>
                <a:lnTo>
                  <a:pt x="1224" y="346"/>
                </a:lnTo>
                <a:lnTo>
                  <a:pt x="1223" y="350"/>
                </a:lnTo>
                <a:lnTo>
                  <a:pt x="1221" y="353"/>
                </a:lnTo>
                <a:lnTo>
                  <a:pt x="1219" y="357"/>
                </a:lnTo>
                <a:lnTo>
                  <a:pt x="1217" y="360"/>
                </a:lnTo>
                <a:lnTo>
                  <a:pt x="1217" y="364"/>
                </a:lnTo>
                <a:lnTo>
                  <a:pt x="1235" y="382"/>
                </a:lnTo>
                <a:lnTo>
                  <a:pt x="1235" y="385"/>
                </a:lnTo>
                <a:lnTo>
                  <a:pt x="1233" y="389"/>
                </a:lnTo>
                <a:lnTo>
                  <a:pt x="1233" y="392"/>
                </a:lnTo>
                <a:lnTo>
                  <a:pt x="1231" y="396"/>
                </a:lnTo>
                <a:lnTo>
                  <a:pt x="1230" y="399"/>
                </a:lnTo>
                <a:lnTo>
                  <a:pt x="1228" y="403"/>
                </a:lnTo>
                <a:lnTo>
                  <a:pt x="1226" y="406"/>
                </a:lnTo>
                <a:lnTo>
                  <a:pt x="1226" y="410"/>
                </a:lnTo>
                <a:lnTo>
                  <a:pt x="1230" y="410"/>
                </a:lnTo>
                <a:lnTo>
                  <a:pt x="1235" y="408"/>
                </a:lnTo>
                <a:lnTo>
                  <a:pt x="1240" y="406"/>
                </a:lnTo>
                <a:lnTo>
                  <a:pt x="1246" y="405"/>
                </a:lnTo>
                <a:lnTo>
                  <a:pt x="1251" y="403"/>
                </a:lnTo>
                <a:lnTo>
                  <a:pt x="1258" y="403"/>
                </a:lnTo>
                <a:lnTo>
                  <a:pt x="1263" y="401"/>
                </a:lnTo>
                <a:lnTo>
                  <a:pt x="1270" y="401"/>
                </a:lnTo>
                <a:lnTo>
                  <a:pt x="1263" y="406"/>
                </a:lnTo>
                <a:lnTo>
                  <a:pt x="1256" y="413"/>
                </a:lnTo>
                <a:lnTo>
                  <a:pt x="1247" y="419"/>
                </a:lnTo>
                <a:lnTo>
                  <a:pt x="1240" y="424"/>
                </a:lnTo>
                <a:lnTo>
                  <a:pt x="1231" y="429"/>
                </a:lnTo>
                <a:lnTo>
                  <a:pt x="1223" y="435"/>
                </a:lnTo>
                <a:lnTo>
                  <a:pt x="1216" y="440"/>
                </a:lnTo>
                <a:lnTo>
                  <a:pt x="1208" y="447"/>
                </a:lnTo>
                <a:lnTo>
                  <a:pt x="1189" y="447"/>
                </a:lnTo>
                <a:lnTo>
                  <a:pt x="1171" y="447"/>
                </a:lnTo>
                <a:lnTo>
                  <a:pt x="1154" y="449"/>
                </a:lnTo>
                <a:lnTo>
                  <a:pt x="1134" y="452"/>
                </a:lnTo>
                <a:lnTo>
                  <a:pt x="1117" y="456"/>
                </a:lnTo>
                <a:lnTo>
                  <a:pt x="1099" y="463"/>
                </a:lnTo>
                <a:lnTo>
                  <a:pt x="1080" y="472"/>
                </a:lnTo>
                <a:lnTo>
                  <a:pt x="1060" y="484"/>
                </a:lnTo>
                <a:lnTo>
                  <a:pt x="1071" y="484"/>
                </a:lnTo>
                <a:lnTo>
                  <a:pt x="1081" y="481"/>
                </a:lnTo>
                <a:lnTo>
                  <a:pt x="1090" y="475"/>
                </a:lnTo>
                <a:lnTo>
                  <a:pt x="1101" y="472"/>
                </a:lnTo>
                <a:lnTo>
                  <a:pt x="1110" y="468"/>
                </a:lnTo>
                <a:lnTo>
                  <a:pt x="1120" y="465"/>
                </a:lnTo>
                <a:lnTo>
                  <a:pt x="1129" y="465"/>
                </a:lnTo>
                <a:lnTo>
                  <a:pt x="1140" y="466"/>
                </a:lnTo>
                <a:lnTo>
                  <a:pt x="1122" y="484"/>
                </a:lnTo>
                <a:lnTo>
                  <a:pt x="1125" y="488"/>
                </a:lnTo>
                <a:lnTo>
                  <a:pt x="1129" y="491"/>
                </a:lnTo>
                <a:lnTo>
                  <a:pt x="1133" y="495"/>
                </a:lnTo>
                <a:lnTo>
                  <a:pt x="1136" y="496"/>
                </a:lnTo>
                <a:lnTo>
                  <a:pt x="1141" y="500"/>
                </a:lnTo>
                <a:lnTo>
                  <a:pt x="1145" y="502"/>
                </a:lnTo>
                <a:lnTo>
                  <a:pt x="1152" y="502"/>
                </a:lnTo>
                <a:lnTo>
                  <a:pt x="1157" y="502"/>
                </a:lnTo>
                <a:lnTo>
                  <a:pt x="1152" y="503"/>
                </a:lnTo>
                <a:lnTo>
                  <a:pt x="1145" y="503"/>
                </a:lnTo>
                <a:lnTo>
                  <a:pt x="1141" y="505"/>
                </a:lnTo>
                <a:lnTo>
                  <a:pt x="1136" y="509"/>
                </a:lnTo>
                <a:lnTo>
                  <a:pt x="1133" y="511"/>
                </a:lnTo>
                <a:lnTo>
                  <a:pt x="1129" y="514"/>
                </a:lnTo>
                <a:lnTo>
                  <a:pt x="1125" y="518"/>
                </a:lnTo>
                <a:lnTo>
                  <a:pt x="1122" y="521"/>
                </a:lnTo>
                <a:lnTo>
                  <a:pt x="1118" y="521"/>
                </a:lnTo>
                <a:lnTo>
                  <a:pt x="1115" y="519"/>
                </a:lnTo>
                <a:lnTo>
                  <a:pt x="1111" y="518"/>
                </a:lnTo>
                <a:lnTo>
                  <a:pt x="1110" y="516"/>
                </a:lnTo>
                <a:lnTo>
                  <a:pt x="1106" y="516"/>
                </a:lnTo>
                <a:lnTo>
                  <a:pt x="1102" y="514"/>
                </a:lnTo>
                <a:lnTo>
                  <a:pt x="1099" y="512"/>
                </a:lnTo>
                <a:lnTo>
                  <a:pt x="1095" y="512"/>
                </a:lnTo>
                <a:lnTo>
                  <a:pt x="1078" y="518"/>
                </a:lnTo>
                <a:lnTo>
                  <a:pt x="1058" y="525"/>
                </a:lnTo>
                <a:lnTo>
                  <a:pt x="1039" y="535"/>
                </a:lnTo>
                <a:lnTo>
                  <a:pt x="1018" y="546"/>
                </a:lnTo>
                <a:lnTo>
                  <a:pt x="998" y="556"/>
                </a:lnTo>
                <a:lnTo>
                  <a:pt x="979" y="569"/>
                </a:lnTo>
                <a:lnTo>
                  <a:pt x="963" y="578"/>
                </a:lnTo>
                <a:lnTo>
                  <a:pt x="947" y="587"/>
                </a:lnTo>
                <a:lnTo>
                  <a:pt x="938" y="595"/>
                </a:lnTo>
                <a:lnTo>
                  <a:pt x="936" y="601"/>
                </a:lnTo>
                <a:lnTo>
                  <a:pt x="933" y="606"/>
                </a:lnTo>
                <a:lnTo>
                  <a:pt x="929" y="613"/>
                </a:lnTo>
                <a:lnTo>
                  <a:pt x="926" y="620"/>
                </a:lnTo>
                <a:lnTo>
                  <a:pt x="922" y="625"/>
                </a:lnTo>
                <a:lnTo>
                  <a:pt x="919" y="632"/>
                </a:lnTo>
                <a:lnTo>
                  <a:pt x="917" y="638"/>
                </a:lnTo>
                <a:lnTo>
                  <a:pt x="914" y="643"/>
                </a:lnTo>
                <a:lnTo>
                  <a:pt x="878" y="643"/>
                </a:lnTo>
                <a:lnTo>
                  <a:pt x="871" y="648"/>
                </a:lnTo>
                <a:lnTo>
                  <a:pt x="866" y="654"/>
                </a:lnTo>
                <a:lnTo>
                  <a:pt x="859" y="657"/>
                </a:lnTo>
                <a:lnTo>
                  <a:pt x="852" y="661"/>
                </a:lnTo>
                <a:lnTo>
                  <a:pt x="846" y="664"/>
                </a:lnTo>
                <a:lnTo>
                  <a:pt x="839" y="668"/>
                </a:lnTo>
                <a:lnTo>
                  <a:pt x="832" y="673"/>
                </a:lnTo>
                <a:lnTo>
                  <a:pt x="825" y="680"/>
                </a:lnTo>
                <a:lnTo>
                  <a:pt x="825" y="661"/>
                </a:lnTo>
                <a:lnTo>
                  <a:pt x="825" y="664"/>
                </a:lnTo>
                <a:lnTo>
                  <a:pt x="825" y="670"/>
                </a:lnTo>
                <a:lnTo>
                  <a:pt x="823" y="675"/>
                </a:lnTo>
                <a:lnTo>
                  <a:pt x="822" y="680"/>
                </a:lnTo>
                <a:lnTo>
                  <a:pt x="820" y="687"/>
                </a:lnTo>
                <a:lnTo>
                  <a:pt x="818" y="694"/>
                </a:lnTo>
                <a:lnTo>
                  <a:pt x="818" y="700"/>
                </a:lnTo>
                <a:lnTo>
                  <a:pt x="818" y="707"/>
                </a:lnTo>
                <a:lnTo>
                  <a:pt x="834" y="726"/>
                </a:lnTo>
                <a:lnTo>
                  <a:pt x="800" y="763"/>
                </a:lnTo>
                <a:lnTo>
                  <a:pt x="800" y="760"/>
                </a:lnTo>
                <a:lnTo>
                  <a:pt x="799" y="754"/>
                </a:lnTo>
                <a:lnTo>
                  <a:pt x="797" y="749"/>
                </a:lnTo>
                <a:lnTo>
                  <a:pt x="795" y="744"/>
                </a:lnTo>
                <a:lnTo>
                  <a:pt x="793" y="737"/>
                </a:lnTo>
                <a:lnTo>
                  <a:pt x="793" y="731"/>
                </a:lnTo>
                <a:lnTo>
                  <a:pt x="792" y="724"/>
                </a:lnTo>
                <a:lnTo>
                  <a:pt x="792" y="717"/>
                </a:lnTo>
                <a:lnTo>
                  <a:pt x="788" y="714"/>
                </a:lnTo>
                <a:lnTo>
                  <a:pt x="785" y="710"/>
                </a:lnTo>
                <a:lnTo>
                  <a:pt x="781" y="705"/>
                </a:lnTo>
                <a:lnTo>
                  <a:pt x="779" y="701"/>
                </a:lnTo>
                <a:lnTo>
                  <a:pt x="778" y="696"/>
                </a:lnTo>
                <a:lnTo>
                  <a:pt x="776" y="693"/>
                </a:lnTo>
                <a:lnTo>
                  <a:pt x="774" y="685"/>
                </a:lnTo>
                <a:lnTo>
                  <a:pt x="774" y="680"/>
                </a:lnTo>
                <a:lnTo>
                  <a:pt x="770" y="680"/>
                </a:lnTo>
                <a:lnTo>
                  <a:pt x="767" y="680"/>
                </a:lnTo>
                <a:lnTo>
                  <a:pt x="763" y="682"/>
                </a:lnTo>
                <a:lnTo>
                  <a:pt x="760" y="684"/>
                </a:lnTo>
                <a:lnTo>
                  <a:pt x="758" y="685"/>
                </a:lnTo>
                <a:lnTo>
                  <a:pt x="755" y="687"/>
                </a:lnTo>
                <a:lnTo>
                  <a:pt x="751" y="689"/>
                </a:lnTo>
                <a:lnTo>
                  <a:pt x="748" y="689"/>
                </a:lnTo>
                <a:lnTo>
                  <a:pt x="730" y="671"/>
                </a:lnTo>
                <a:lnTo>
                  <a:pt x="712" y="689"/>
                </a:lnTo>
                <a:lnTo>
                  <a:pt x="705" y="689"/>
                </a:lnTo>
                <a:lnTo>
                  <a:pt x="700" y="687"/>
                </a:lnTo>
                <a:lnTo>
                  <a:pt x="693" y="685"/>
                </a:lnTo>
                <a:lnTo>
                  <a:pt x="687" y="684"/>
                </a:lnTo>
                <a:lnTo>
                  <a:pt x="682" y="682"/>
                </a:lnTo>
                <a:lnTo>
                  <a:pt x="677" y="680"/>
                </a:lnTo>
                <a:lnTo>
                  <a:pt x="673" y="680"/>
                </a:lnTo>
                <a:lnTo>
                  <a:pt x="670" y="680"/>
                </a:lnTo>
                <a:lnTo>
                  <a:pt x="666" y="680"/>
                </a:lnTo>
                <a:lnTo>
                  <a:pt x="661" y="680"/>
                </a:lnTo>
                <a:lnTo>
                  <a:pt x="656" y="682"/>
                </a:lnTo>
                <a:lnTo>
                  <a:pt x="650" y="684"/>
                </a:lnTo>
                <a:lnTo>
                  <a:pt x="645" y="685"/>
                </a:lnTo>
                <a:lnTo>
                  <a:pt x="638" y="687"/>
                </a:lnTo>
                <a:lnTo>
                  <a:pt x="633" y="689"/>
                </a:lnTo>
                <a:lnTo>
                  <a:pt x="626" y="689"/>
                </a:lnTo>
                <a:lnTo>
                  <a:pt x="620" y="694"/>
                </a:lnTo>
                <a:lnTo>
                  <a:pt x="615" y="698"/>
                </a:lnTo>
                <a:lnTo>
                  <a:pt x="612" y="700"/>
                </a:lnTo>
                <a:lnTo>
                  <a:pt x="608" y="700"/>
                </a:lnTo>
                <a:lnTo>
                  <a:pt x="604" y="700"/>
                </a:lnTo>
                <a:lnTo>
                  <a:pt x="601" y="700"/>
                </a:lnTo>
                <a:lnTo>
                  <a:pt x="597" y="698"/>
                </a:lnTo>
                <a:lnTo>
                  <a:pt x="592" y="698"/>
                </a:lnTo>
                <a:lnTo>
                  <a:pt x="590" y="701"/>
                </a:lnTo>
                <a:lnTo>
                  <a:pt x="590" y="707"/>
                </a:lnTo>
                <a:lnTo>
                  <a:pt x="589" y="712"/>
                </a:lnTo>
                <a:lnTo>
                  <a:pt x="587" y="717"/>
                </a:lnTo>
                <a:lnTo>
                  <a:pt x="585" y="724"/>
                </a:lnTo>
                <a:lnTo>
                  <a:pt x="583" y="731"/>
                </a:lnTo>
                <a:lnTo>
                  <a:pt x="581" y="737"/>
                </a:lnTo>
                <a:lnTo>
                  <a:pt x="581" y="744"/>
                </a:lnTo>
                <a:lnTo>
                  <a:pt x="578" y="746"/>
                </a:lnTo>
                <a:lnTo>
                  <a:pt x="576" y="746"/>
                </a:lnTo>
                <a:lnTo>
                  <a:pt x="573" y="747"/>
                </a:lnTo>
                <a:lnTo>
                  <a:pt x="569" y="749"/>
                </a:lnTo>
                <a:lnTo>
                  <a:pt x="566" y="751"/>
                </a:lnTo>
                <a:lnTo>
                  <a:pt x="562" y="753"/>
                </a:lnTo>
                <a:lnTo>
                  <a:pt x="559" y="754"/>
                </a:lnTo>
                <a:lnTo>
                  <a:pt x="557" y="754"/>
                </a:lnTo>
                <a:lnTo>
                  <a:pt x="557" y="761"/>
                </a:lnTo>
                <a:lnTo>
                  <a:pt x="560" y="772"/>
                </a:lnTo>
                <a:lnTo>
                  <a:pt x="564" y="783"/>
                </a:lnTo>
                <a:lnTo>
                  <a:pt x="571" y="795"/>
                </a:lnTo>
                <a:lnTo>
                  <a:pt x="576" y="806"/>
                </a:lnTo>
                <a:lnTo>
                  <a:pt x="581" y="816"/>
                </a:lnTo>
                <a:lnTo>
                  <a:pt x="587" y="823"/>
                </a:lnTo>
                <a:lnTo>
                  <a:pt x="592" y="829"/>
                </a:lnTo>
                <a:lnTo>
                  <a:pt x="626" y="829"/>
                </a:lnTo>
                <a:lnTo>
                  <a:pt x="629" y="825"/>
                </a:lnTo>
                <a:lnTo>
                  <a:pt x="634" y="818"/>
                </a:lnTo>
                <a:lnTo>
                  <a:pt x="642" y="813"/>
                </a:lnTo>
                <a:lnTo>
                  <a:pt x="649" y="806"/>
                </a:lnTo>
                <a:lnTo>
                  <a:pt x="656" y="800"/>
                </a:lnTo>
                <a:lnTo>
                  <a:pt x="665" y="795"/>
                </a:lnTo>
                <a:lnTo>
                  <a:pt x="672" y="792"/>
                </a:lnTo>
                <a:lnTo>
                  <a:pt x="679" y="792"/>
                </a:lnTo>
                <a:lnTo>
                  <a:pt x="677" y="797"/>
                </a:lnTo>
                <a:lnTo>
                  <a:pt x="677" y="804"/>
                </a:lnTo>
                <a:lnTo>
                  <a:pt x="675" y="809"/>
                </a:lnTo>
                <a:lnTo>
                  <a:pt x="673" y="813"/>
                </a:lnTo>
                <a:lnTo>
                  <a:pt x="670" y="818"/>
                </a:lnTo>
                <a:lnTo>
                  <a:pt x="666" y="822"/>
                </a:lnTo>
                <a:lnTo>
                  <a:pt x="665" y="825"/>
                </a:lnTo>
                <a:lnTo>
                  <a:pt x="661" y="829"/>
                </a:lnTo>
                <a:lnTo>
                  <a:pt x="661" y="866"/>
                </a:lnTo>
                <a:lnTo>
                  <a:pt x="670" y="875"/>
                </a:lnTo>
                <a:lnTo>
                  <a:pt x="739" y="875"/>
                </a:lnTo>
                <a:lnTo>
                  <a:pt x="739" y="883"/>
                </a:lnTo>
                <a:lnTo>
                  <a:pt x="739" y="889"/>
                </a:lnTo>
                <a:lnTo>
                  <a:pt x="739" y="892"/>
                </a:lnTo>
                <a:lnTo>
                  <a:pt x="739" y="894"/>
                </a:lnTo>
                <a:lnTo>
                  <a:pt x="739" y="896"/>
                </a:lnTo>
                <a:lnTo>
                  <a:pt x="737" y="899"/>
                </a:lnTo>
                <a:lnTo>
                  <a:pt x="737" y="903"/>
                </a:lnTo>
                <a:lnTo>
                  <a:pt x="737" y="908"/>
                </a:lnTo>
                <a:lnTo>
                  <a:pt x="744" y="917"/>
                </a:lnTo>
                <a:lnTo>
                  <a:pt x="783" y="922"/>
                </a:lnTo>
                <a:close/>
                <a:moveTo>
                  <a:pt x="792" y="475"/>
                </a:moveTo>
                <a:lnTo>
                  <a:pt x="797" y="475"/>
                </a:lnTo>
                <a:lnTo>
                  <a:pt x="804" y="477"/>
                </a:lnTo>
                <a:lnTo>
                  <a:pt x="809" y="479"/>
                </a:lnTo>
                <a:lnTo>
                  <a:pt x="816" y="481"/>
                </a:lnTo>
                <a:lnTo>
                  <a:pt x="822" y="482"/>
                </a:lnTo>
                <a:lnTo>
                  <a:pt x="827" y="482"/>
                </a:lnTo>
                <a:lnTo>
                  <a:pt x="831" y="484"/>
                </a:lnTo>
                <a:lnTo>
                  <a:pt x="834" y="484"/>
                </a:lnTo>
                <a:lnTo>
                  <a:pt x="829" y="491"/>
                </a:lnTo>
                <a:lnTo>
                  <a:pt x="822" y="498"/>
                </a:lnTo>
                <a:lnTo>
                  <a:pt x="816" y="505"/>
                </a:lnTo>
                <a:lnTo>
                  <a:pt x="813" y="512"/>
                </a:lnTo>
                <a:lnTo>
                  <a:pt x="809" y="521"/>
                </a:lnTo>
                <a:lnTo>
                  <a:pt x="806" y="530"/>
                </a:lnTo>
                <a:lnTo>
                  <a:pt x="806" y="539"/>
                </a:lnTo>
                <a:lnTo>
                  <a:pt x="808" y="549"/>
                </a:lnTo>
                <a:lnTo>
                  <a:pt x="815" y="546"/>
                </a:lnTo>
                <a:lnTo>
                  <a:pt x="820" y="541"/>
                </a:lnTo>
                <a:lnTo>
                  <a:pt x="825" y="535"/>
                </a:lnTo>
                <a:lnTo>
                  <a:pt x="831" y="530"/>
                </a:lnTo>
                <a:lnTo>
                  <a:pt x="836" y="523"/>
                </a:lnTo>
                <a:lnTo>
                  <a:pt x="841" y="516"/>
                </a:lnTo>
                <a:lnTo>
                  <a:pt x="846" y="509"/>
                </a:lnTo>
                <a:lnTo>
                  <a:pt x="852" y="502"/>
                </a:lnTo>
                <a:lnTo>
                  <a:pt x="855" y="502"/>
                </a:lnTo>
                <a:lnTo>
                  <a:pt x="859" y="502"/>
                </a:lnTo>
                <a:lnTo>
                  <a:pt x="862" y="500"/>
                </a:lnTo>
                <a:lnTo>
                  <a:pt x="866" y="498"/>
                </a:lnTo>
                <a:lnTo>
                  <a:pt x="869" y="496"/>
                </a:lnTo>
                <a:lnTo>
                  <a:pt x="871" y="495"/>
                </a:lnTo>
                <a:lnTo>
                  <a:pt x="875" y="495"/>
                </a:lnTo>
                <a:lnTo>
                  <a:pt x="878" y="495"/>
                </a:lnTo>
                <a:lnTo>
                  <a:pt x="861" y="512"/>
                </a:lnTo>
                <a:lnTo>
                  <a:pt x="864" y="518"/>
                </a:lnTo>
                <a:lnTo>
                  <a:pt x="864" y="523"/>
                </a:lnTo>
                <a:lnTo>
                  <a:pt x="864" y="526"/>
                </a:lnTo>
                <a:lnTo>
                  <a:pt x="864" y="530"/>
                </a:lnTo>
                <a:lnTo>
                  <a:pt x="864" y="534"/>
                </a:lnTo>
                <a:lnTo>
                  <a:pt x="862" y="539"/>
                </a:lnTo>
                <a:lnTo>
                  <a:pt x="861" y="542"/>
                </a:lnTo>
                <a:lnTo>
                  <a:pt x="861" y="549"/>
                </a:lnTo>
                <a:lnTo>
                  <a:pt x="875" y="548"/>
                </a:lnTo>
                <a:lnTo>
                  <a:pt x="887" y="542"/>
                </a:lnTo>
                <a:lnTo>
                  <a:pt x="899" y="534"/>
                </a:lnTo>
                <a:lnTo>
                  <a:pt x="910" y="526"/>
                </a:lnTo>
                <a:lnTo>
                  <a:pt x="921" y="518"/>
                </a:lnTo>
                <a:lnTo>
                  <a:pt x="928" y="511"/>
                </a:lnTo>
                <a:lnTo>
                  <a:pt x="935" y="505"/>
                </a:lnTo>
                <a:lnTo>
                  <a:pt x="938" y="502"/>
                </a:lnTo>
                <a:lnTo>
                  <a:pt x="929" y="498"/>
                </a:lnTo>
                <a:lnTo>
                  <a:pt x="919" y="493"/>
                </a:lnTo>
                <a:lnTo>
                  <a:pt x="910" y="486"/>
                </a:lnTo>
                <a:lnTo>
                  <a:pt x="901" y="479"/>
                </a:lnTo>
                <a:lnTo>
                  <a:pt x="892" y="470"/>
                </a:lnTo>
                <a:lnTo>
                  <a:pt x="883" y="463"/>
                </a:lnTo>
                <a:lnTo>
                  <a:pt x="876" y="454"/>
                </a:lnTo>
                <a:lnTo>
                  <a:pt x="869" y="447"/>
                </a:lnTo>
                <a:lnTo>
                  <a:pt x="862" y="447"/>
                </a:lnTo>
                <a:lnTo>
                  <a:pt x="853" y="445"/>
                </a:lnTo>
                <a:lnTo>
                  <a:pt x="843" y="445"/>
                </a:lnTo>
                <a:lnTo>
                  <a:pt x="832" y="445"/>
                </a:lnTo>
                <a:lnTo>
                  <a:pt x="822" y="447"/>
                </a:lnTo>
                <a:lnTo>
                  <a:pt x="811" y="452"/>
                </a:lnTo>
                <a:lnTo>
                  <a:pt x="806" y="458"/>
                </a:lnTo>
                <a:lnTo>
                  <a:pt x="800" y="463"/>
                </a:lnTo>
                <a:lnTo>
                  <a:pt x="795" y="468"/>
                </a:lnTo>
                <a:lnTo>
                  <a:pt x="792" y="475"/>
                </a:lnTo>
                <a:close/>
                <a:moveTo>
                  <a:pt x="1217" y="410"/>
                </a:moveTo>
                <a:lnTo>
                  <a:pt x="1217" y="419"/>
                </a:lnTo>
                <a:lnTo>
                  <a:pt x="1217" y="427"/>
                </a:lnTo>
                <a:lnTo>
                  <a:pt x="1216" y="436"/>
                </a:lnTo>
                <a:lnTo>
                  <a:pt x="1214" y="442"/>
                </a:lnTo>
                <a:lnTo>
                  <a:pt x="1208" y="449"/>
                </a:lnTo>
                <a:lnTo>
                  <a:pt x="1203" y="452"/>
                </a:lnTo>
                <a:lnTo>
                  <a:pt x="1194" y="454"/>
                </a:lnTo>
                <a:lnTo>
                  <a:pt x="1184" y="456"/>
                </a:lnTo>
                <a:lnTo>
                  <a:pt x="1187" y="459"/>
                </a:lnTo>
                <a:lnTo>
                  <a:pt x="1191" y="461"/>
                </a:lnTo>
                <a:lnTo>
                  <a:pt x="1196" y="465"/>
                </a:lnTo>
                <a:lnTo>
                  <a:pt x="1200" y="468"/>
                </a:lnTo>
                <a:lnTo>
                  <a:pt x="1205" y="472"/>
                </a:lnTo>
                <a:lnTo>
                  <a:pt x="1210" y="475"/>
                </a:lnTo>
                <a:lnTo>
                  <a:pt x="1214" y="479"/>
                </a:lnTo>
                <a:lnTo>
                  <a:pt x="1217" y="482"/>
                </a:lnTo>
                <a:lnTo>
                  <a:pt x="1235" y="465"/>
                </a:lnTo>
                <a:lnTo>
                  <a:pt x="1238" y="465"/>
                </a:lnTo>
                <a:lnTo>
                  <a:pt x="1240" y="465"/>
                </a:lnTo>
                <a:lnTo>
                  <a:pt x="1244" y="466"/>
                </a:lnTo>
                <a:lnTo>
                  <a:pt x="1247" y="468"/>
                </a:lnTo>
                <a:lnTo>
                  <a:pt x="1251" y="470"/>
                </a:lnTo>
                <a:lnTo>
                  <a:pt x="1254" y="472"/>
                </a:lnTo>
                <a:lnTo>
                  <a:pt x="1258" y="473"/>
                </a:lnTo>
                <a:lnTo>
                  <a:pt x="1261" y="473"/>
                </a:lnTo>
                <a:lnTo>
                  <a:pt x="1235" y="445"/>
                </a:lnTo>
                <a:lnTo>
                  <a:pt x="1235" y="440"/>
                </a:lnTo>
                <a:lnTo>
                  <a:pt x="1235" y="435"/>
                </a:lnTo>
                <a:lnTo>
                  <a:pt x="1235" y="431"/>
                </a:lnTo>
                <a:lnTo>
                  <a:pt x="1235" y="427"/>
                </a:lnTo>
                <a:lnTo>
                  <a:pt x="1235" y="424"/>
                </a:lnTo>
                <a:lnTo>
                  <a:pt x="1231" y="420"/>
                </a:lnTo>
                <a:lnTo>
                  <a:pt x="1226" y="415"/>
                </a:lnTo>
                <a:lnTo>
                  <a:pt x="1217" y="410"/>
                </a:lnTo>
                <a:close/>
                <a:moveTo>
                  <a:pt x="1117" y="138"/>
                </a:moveTo>
                <a:lnTo>
                  <a:pt x="1117" y="148"/>
                </a:lnTo>
                <a:lnTo>
                  <a:pt x="1118" y="154"/>
                </a:lnTo>
                <a:lnTo>
                  <a:pt x="1122" y="155"/>
                </a:lnTo>
                <a:lnTo>
                  <a:pt x="1125" y="155"/>
                </a:lnTo>
                <a:lnTo>
                  <a:pt x="1129" y="152"/>
                </a:lnTo>
                <a:lnTo>
                  <a:pt x="1134" y="148"/>
                </a:lnTo>
                <a:lnTo>
                  <a:pt x="1141" y="143"/>
                </a:lnTo>
                <a:lnTo>
                  <a:pt x="1147" y="138"/>
                </a:lnTo>
                <a:lnTo>
                  <a:pt x="1164" y="157"/>
                </a:lnTo>
                <a:lnTo>
                  <a:pt x="1171" y="155"/>
                </a:lnTo>
                <a:lnTo>
                  <a:pt x="1178" y="155"/>
                </a:lnTo>
                <a:lnTo>
                  <a:pt x="1187" y="157"/>
                </a:lnTo>
                <a:lnTo>
                  <a:pt x="1196" y="159"/>
                </a:lnTo>
                <a:lnTo>
                  <a:pt x="1205" y="161"/>
                </a:lnTo>
                <a:lnTo>
                  <a:pt x="1216" y="164"/>
                </a:lnTo>
                <a:lnTo>
                  <a:pt x="1224" y="166"/>
                </a:lnTo>
                <a:lnTo>
                  <a:pt x="1235" y="168"/>
                </a:lnTo>
                <a:lnTo>
                  <a:pt x="1235" y="173"/>
                </a:lnTo>
                <a:lnTo>
                  <a:pt x="1237" y="178"/>
                </a:lnTo>
                <a:lnTo>
                  <a:pt x="1238" y="182"/>
                </a:lnTo>
                <a:lnTo>
                  <a:pt x="1240" y="184"/>
                </a:lnTo>
                <a:lnTo>
                  <a:pt x="1244" y="185"/>
                </a:lnTo>
                <a:lnTo>
                  <a:pt x="1249" y="189"/>
                </a:lnTo>
                <a:lnTo>
                  <a:pt x="1254" y="191"/>
                </a:lnTo>
                <a:lnTo>
                  <a:pt x="1260" y="194"/>
                </a:lnTo>
                <a:lnTo>
                  <a:pt x="1260" y="201"/>
                </a:lnTo>
                <a:lnTo>
                  <a:pt x="1260" y="208"/>
                </a:lnTo>
                <a:lnTo>
                  <a:pt x="1261" y="214"/>
                </a:lnTo>
                <a:lnTo>
                  <a:pt x="1261" y="219"/>
                </a:lnTo>
                <a:lnTo>
                  <a:pt x="1265" y="222"/>
                </a:lnTo>
                <a:lnTo>
                  <a:pt x="1267" y="224"/>
                </a:lnTo>
                <a:lnTo>
                  <a:pt x="1272" y="224"/>
                </a:lnTo>
                <a:lnTo>
                  <a:pt x="1277" y="222"/>
                </a:lnTo>
                <a:lnTo>
                  <a:pt x="1277" y="230"/>
                </a:lnTo>
                <a:lnTo>
                  <a:pt x="1276" y="235"/>
                </a:lnTo>
                <a:lnTo>
                  <a:pt x="1274" y="240"/>
                </a:lnTo>
                <a:lnTo>
                  <a:pt x="1272" y="244"/>
                </a:lnTo>
                <a:lnTo>
                  <a:pt x="1270" y="249"/>
                </a:lnTo>
                <a:lnTo>
                  <a:pt x="1267" y="253"/>
                </a:lnTo>
                <a:lnTo>
                  <a:pt x="1263" y="256"/>
                </a:lnTo>
                <a:lnTo>
                  <a:pt x="1260" y="260"/>
                </a:lnTo>
                <a:lnTo>
                  <a:pt x="1256" y="256"/>
                </a:lnTo>
                <a:lnTo>
                  <a:pt x="1253" y="253"/>
                </a:lnTo>
                <a:lnTo>
                  <a:pt x="1249" y="249"/>
                </a:lnTo>
                <a:lnTo>
                  <a:pt x="1246" y="247"/>
                </a:lnTo>
                <a:lnTo>
                  <a:pt x="1242" y="244"/>
                </a:lnTo>
                <a:lnTo>
                  <a:pt x="1237" y="242"/>
                </a:lnTo>
                <a:lnTo>
                  <a:pt x="1231" y="242"/>
                </a:lnTo>
                <a:lnTo>
                  <a:pt x="1226" y="240"/>
                </a:lnTo>
                <a:lnTo>
                  <a:pt x="1226" y="244"/>
                </a:lnTo>
                <a:lnTo>
                  <a:pt x="1226" y="247"/>
                </a:lnTo>
                <a:lnTo>
                  <a:pt x="1228" y="251"/>
                </a:lnTo>
                <a:lnTo>
                  <a:pt x="1230" y="254"/>
                </a:lnTo>
                <a:lnTo>
                  <a:pt x="1231" y="258"/>
                </a:lnTo>
                <a:lnTo>
                  <a:pt x="1233" y="261"/>
                </a:lnTo>
                <a:lnTo>
                  <a:pt x="1233" y="265"/>
                </a:lnTo>
                <a:lnTo>
                  <a:pt x="1235" y="268"/>
                </a:lnTo>
                <a:lnTo>
                  <a:pt x="1228" y="272"/>
                </a:lnTo>
                <a:lnTo>
                  <a:pt x="1224" y="274"/>
                </a:lnTo>
                <a:lnTo>
                  <a:pt x="1221" y="276"/>
                </a:lnTo>
                <a:lnTo>
                  <a:pt x="1217" y="276"/>
                </a:lnTo>
                <a:lnTo>
                  <a:pt x="1214" y="276"/>
                </a:lnTo>
                <a:lnTo>
                  <a:pt x="1210" y="274"/>
                </a:lnTo>
                <a:lnTo>
                  <a:pt x="1205" y="272"/>
                </a:lnTo>
                <a:lnTo>
                  <a:pt x="1200" y="268"/>
                </a:lnTo>
                <a:lnTo>
                  <a:pt x="1182" y="288"/>
                </a:lnTo>
                <a:lnTo>
                  <a:pt x="1155" y="260"/>
                </a:lnTo>
                <a:lnTo>
                  <a:pt x="1104" y="260"/>
                </a:lnTo>
                <a:lnTo>
                  <a:pt x="1108" y="260"/>
                </a:lnTo>
                <a:lnTo>
                  <a:pt x="1111" y="258"/>
                </a:lnTo>
                <a:lnTo>
                  <a:pt x="1117" y="256"/>
                </a:lnTo>
                <a:lnTo>
                  <a:pt x="1122" y="254"/>
                </a:lnTo>
                <a:lnTo>
                  <a:pt x="1127" y="253"/>
                </a:lnTo>
                <a:lnTo>
                  <a:pt x="1134" y="251"/>
                </a:lnTo>
                <a:lnTo>
                  <a:pt x="1140" y="251"/>
                </a:lnTo>
                <a:lnTo>
                  <a:pt x="1147" y="251"/>
                </a:lnTo>
                <a:lnTo>
                  <a:pt x="1150" y="244"/>
                </a:lnTo>
                <a:lnTo>
                  <a:pt x="1154" y="237"/>
                </a:lnTo>
                <a:lnTo>
                  <a:pt x="1157" y="230"/>
                </a:lnTo>
                <a:lnTo>
                  <a:pt x="1161" y="222"/>
                </a:lnTo>
                <a:lnTo>
                  <a:pt x="1166" y="215"/>
                </a:lnTo>
                <a:lnTo>
                  <a:pt x="1170" y="208"/>
                </a:lnTo>
                <a:lnTo>
                  <a:pt x="1175" y="201"/>
                </a:lnTo>
                <a:lnTo>
                  <a:pt x="1182" y="194"/>
                </a:lnTo>
                <a:lnTo>
                  <a:pt x="1177" y="187"/>
                </a:lnTo>
                <a:lnTo>
                  <a:pt x="1168" y="182"/>
                </a:lnTo>
                <a:lnTo>
                  <a:pt x="1157" y="178"/>
                </a:lnTo>
                <a:lnTo>
                  <a:pt x="1147" y="175"/>
                </a:lnTo>
                <a:lnTo>
                  <a:pt x="1134" y="173"/>
                </a:lnTo>
                <a:lnTo>
                  <a:pt x="1122" y="173"/>
                </a:lnTo>
                <a:lnTo>
                  <a:pt x="1111" y="173"/>
                </a:lnTo>
                <a:lnTo>
                  <a:pt x="1104" y="177"/>
                </a:lnTo>
                <a:lnTo>
                  <a:pt x="1104" y="175"/>
                </a:lnTo>
                <a:lnTo>
                  <a:pt x="1101" y="173"/>
                </a:lnTo>
                <a:lnTo>
                  <a:pt x="1099" y="169"/>
                </a:lnTo>
                <a:lnTo>
                  <a:pt x="1094" y="168"/>
                </a:lnTo>
                <a:lnTo>
                  <a:pt x="1090" y="164"/>
                </a:lnTo>
                <a:lnTo>
                  <a:pt x="1087" y="161"/>
                </a:lnTo>
                <a:lnTo>
                  <a:pt x="1081" y="159"/>
                </a:lnTo>
                <a:lnTo>
                  <a:pt x="1078" y="157"/>
                </a:lnTo>
                <a:lnTo>
                  <a:pt x="1085" y="152"/>
                </a:lnTo>
                <a:lnTo>
                  <a:pt x="1092" y="147"/>
                </a:lnTo>
                <a:lnTo>
                  <a:pt x="1097" y="143"/>
                </a:lnTo>
                <a:lnTo>
                  <a:pt x="1104" y="139"/>
                </a:lnTo>
                <a:lnTo>
                  <a:pt x="1110" y="138"/>
                </a:lnTo>
                <a:lnTo>
                  <a:pt x="1113" y="138"/>
                </a:lnTo>
                <a:lnTo>
                  <a:pt x="1115" y="138"/>
                </a:lnTo>
                <a:lnTo>
                  <a:pt x="1117" y="138"/>
                </a:lnTo>
                <a:close/>
                <a:moveTo>
                  <a:pt x="1131" y="102"/>
                </a:moveTo>
                <a:lnTo>
                  <a:pt x="1134" y="102"/>
                </a:lnTo>
                <a:lnTo>
                  <a:pt x="1138" y="104"/>
                </a:lnTo>
                <a:lnTo>
                  <a:pt x="1143" y="106"/>
                </a:lnTo>
                <a:lnTo>
                  <a:pt x="1147" y="108"/>
                </a:lnTo>
                <a:lnTo>
                  <a:pt x="1152" y="108"/>
                </a:lnTo>
                <a:lnTo>
                  <a:pt x="1157" y="109"/>
                </a:lnTo>
                <a:lnTo>
                  <a:pt x="1161" y="111"/>
                </a:lnTo>
                <a:lnTo>
                  <a:pt x="1164" y="111"/>
                </a:lnTo>
                <a:lnTo>
                  <a:pt x="1171" y="108"/>
                </a:lnTo>
                <a:lnTo>
                  <a:pt x="1180" y="106"/>
                </a:lnTo>
                <a:lnTo>
                  <a:pt x="1189" y="104"/>
                </a:lnTo>
                <a:lnTo>
                  <a:pt x="1200" y="101"/>
                </a:lnTo>
                <a:lnTo>
                  <a:pt x="1208" y="99"/>
                </a:lnTo>
                <a:lnTo>
                  <a:pt x="1219" y="95"/>
                </a:lnTo>
                <a:lnTo>
                  <a:pt x="1228" y="90"/>
                </a:lnTo>
                <a:lnTo>
                  <a:pt x="1235" y="85"/>
                </a:lnTo>
                <a:lnTo>
                  <a:pt x="1238" y="85"/>
                </a:lnTo>
                <a:lnTo>
                  <a:pt x="1240" y="86"/>
                </a:lnTo>
                <a:lnTo>
                  <a:pt x="1244" y="86"/>
                </a:lnTo>
                <a:lnTo>
                  <a:pt x="1247" y="88"/>
                </a:lnTo>
                <a:lnTo>
                  <a:pt x="1251" y="90"/>
                </a:lnTo>
                <a:lnTo>
                  <a:pt x="1254" y="92"/>
                </a:lnTo>
                <a:lnTo>
                  <a:pt x="1258" y="93"/>
                </a:lnTo>
                <a:lnTo>
                  <a:pt x="1260" y="93"/>
                </a:lnTo>
                <a:lnTo>
                  <a:pt x="1286" y="65"/>
                </a:lnTo>
                <a:lnTo>
                  <a:pt x="1302" y="65"/>
                </a:lnTo>
                <a:lnTo>
                  <a:pt x="1313" y="62"/>
                </a:lnTo>
                <a:lnTo>
                  <a:pt x="1323" y="58"/>
                </a:lnTo>
                <a:lnTo>
                  <a:pt x="1332" y="53"/>
                </a:lnTo>
                <a:lnTo>
                  <a:pt x="1341" y="46"/>
                </a:lnTo>
                <a:lnTo>
                  <a:pt x="1348" y="37"/>
                </a:lnTo>
                <a:lnTo>
                  <a:pt x="1357" y="28"/>
                </a:lnTo>
                <a:lnTo>
                  <a:pt x="1366" y="17"/>
                </a:lnTo>
                <a:lnTo>
                  <a:pt x="1371" y="21"/>
                </a:lnTo>
                <a:lnTo>
                  <a:pt x="1378" y="21"/>
                </a:lnTo>
                <a:lnTo>
                  <a:pt x="1385" y="19"/>
                </a:lnTo>
                <a:lnTo>
                  <a:pt x="1392" y="16"/>
                </a:lnTo>
                <a:lnTo>
                  <a:pt x="1399" y="14"/>
                </a:lnTo>
                <a:lnTo>
                  <a:pt x="1408" y="10"/>
                </a:lnTo>
                <a:lnTo>
                  <a:pt x="1417" y="9"/>
                </a:lnTo>
                <a:lnTo>
                  <a:pt x="1426" y="7"/>
                </a:lnTo>
                <a:lnTo>
                  <a:pt x="1426" y="7"/>
                </a:lnTo>
                <a:lnTo>
                  <a:pt x="1424" y="7"/>
                </a:lnTo>
                <a:lnTo>
                  <a:pt x="1422" y="5"/>
                </a:lnTo>
                <a:lnTo>
                  <a:pt x="1420" y="3"/>
                </a:lnTo>
                <a:lnTo>
                  <a:pt x="1417" y="3"/>
                </a:lnTo>
                <a:lnTo>
                  <a:pt x="1415" y="2"/>
                </a:lnTo>
                <a:lnTo>
                  <a:pt x="1412" y="0"/>
                </a:lnTo>
                <a:lnTo>
                  <a:pt x="1408" y="0"/>
                </a:lnTo>
                <a:lnTo>
                  <a:pt x="1403" y="3"/>
                </a:lnTo>
                <a:lnTo>
                  <a:pt x="1399" y="5"/>
                </a:lnTo>
                <a:lnTo>
                  <a:pt x="1397" y="5"/>
                </a:lnTo>
                <a:lnTo>
                  <a:pt x="1396" y="5"/>
                </a:lnTo>
                <a:lnTo>
                  <a:pt x="1394" y="5"/>
                </a:lnTo>
                <a:lnTo>
                  <a:pt x="1390" y="5"/>
                </a:lnTo>
                <a:lnTo>
                  <a:pt x="1387" y="7"/>
                </a:lnTo>
                <a:lnTo>
                  <a:pt x="1382" y="10"/>
                </a:lnTo>
                <a:lnTo>
                  <a:pt x="1376" y="7"/>
                </a:lnTo>
                <a:lnTo>
                  <a:pt x="1369" y="5"/>
                </a:lnTo>
                <a:lnTo>
                  <a:pt x="1362" y="3"/>
                </a:lnTo>
                <a:lnTo>
                  <a:pt x="1357" y="3"/>
                </a:lnTo>
                <a:lnTo>
                  <a:pt x="1350" y="3"/>
                </a:lnTo>
                <a:lnTo>
                  <a:pt x="1343" y="5"/>
                </a:lnTo>
                <a:lnTo>
                  <a:pt x="1337" y="7"/>
                </a:lnTo>
                <a:lnTo>
                  <a:pt x="1330" y="10"/>
                </a:lnTo>
                <a:lnTo>
                  <a:pt x="1318" y="7"/>
                </a:lnTo>
                <a:lnTo>
                  <a:pt x="1304" y="7"/>
                </a:lnTo>
                <a:lnTo>
                  <a:pt x="1286" y="9"/>
                </a:lnTo>
                <a:lnTo>
                  <a:pt x="1269" y="10"/>
                </a:lnTo>
                <a:lnTo>
                  <a:pt x="1249" y="14"/>
                </a:lnTo>
                <a:lnTo>
                  <a:pt x="1231" y="16"/>
                </a:lnTo>
                <a:lnTo>
                  <a:pt x="1214" y="19"/>
                </a:lnTo>
                <a:lnTo>
                  <a:pt x="1200" y="19"/>
                </a:lnTo>
                <a:lnTo>
                  <a:pt x="1203" y="23"/>
                </a:lnTo>
                <a:lnTo>
                  <a:pt x="1208" y="28"/>
                </a:lnTo>
                <a:lnTo>
                  <a:pt x="1214" y="33"/>
                </a:lnTo>
                <a:lnTo>
                  <a:pt x="1221" y="37"/>
                </a:lnTo>
                <a:lnTo>
                  <a:pt x="1228" y="42"/>
                </a:lnTo>
                <a:lnTo>
                  <a:pt x="1233" y="48"/>
                </a:lnTo>
                <a:lnTo>
                  <a:pt x="1238" y="53"/>
                </a:lnTo>
                <a:lnTo>
                  <a:pt x="1244" y="56"/>
                </a:lnTo>
                <a:lnTo>
                  <a:pt x="1233" y="62"/>
                </a:lnTo>
                <a:lnTo>
                  <a:pt x="1221" y="67"/>
                </a:lnTo>
                <a:lnTo>
                  <a:pt x="1210" y="76"/>
                </a:lnTo>
                <a:lnTo>
                  <a:pt x="1196" y="83"/>
                </a:lnTo>
                <a:lnTo>
                  <a:pt x="1182" y="90"/>
                </a:lnTo>
                <a:lnTo>
                  <a:pt x="1166" y="97"/>
                </a:lnTo>
                <a:lnTo>
                  <a:pt x="1148" y="101"/>
                </a:lnTo>
                <a:lnTo>
                  <a:pt x="1131" y="102"/>
                </a:lnTo>
                <a:close/>
                <a:moveTo>
                  <a:pt x="947" y="148"/>
                </a:moveTo>
                <a:lnTo>
                  <a:pt x="942" y="148"/>
                </a:lnTo>
                <a:lnTo>
                  <a:pt x="935" y="148"/>
                </a:lnTo>
                <a:lnTo>
                  <a:pt x="928" y="148"/>
                </a:lnTo>
                <a:lnTo>
                  <a:pt x="922" y="148"/>
                </a:lnTo>
                <a:lnTo>
                  <a:pt x="915" y="147"/>
                </a:lnTo>
                <a:lnTo>
                  <a:pt x="908" y="145"/>
                </a:lnTo>
                <a:lnTo>
                  <a:pt x="903" y="143"/>
                </a:lnTo>
                <a:lnTo>
                  <a:pt x="896" y="139"/>
                </a:lnTo>
                <a:lnTo>
                  <a:pt x="892" y="139"/>
                </a:lnTo>
                <a:lnTo>
                  <a:pt x="889" y="141"/>
                </a:lnTo>
                <a:lnTo>
                  <a:pt x="885" y="143"/>
                </a:lnTo>
                <a:lnTo>
                  <a:pt x="883" y="145"/>
                </a:lnTo>
                <a:lnTo>
                  <a:pt x="880" y="147"/>
                </a:lnTo>
                <a:lnTo>
                  <a:pt x="876" y="147"/>
                </a:lnTo>
                <a:lnTo>
                  <a:pt x="873" y="148"/>
                </a:lnTo>
                <a:lnTo>
                  <a:pt x="869" y="148"/>
                </a:lnTo>
                <a:lnTo>
                  <a:pt x="852" y="131"/>
                </a:lnTo>
                <a:lnTo>
                  <a:pt x="848" y="131"/>
                </a:lnTo>
                <a:lnTo>
                  <a:pt x="846" y="132"/>
                </a:lnTo>
                <a:lnTo>
                  <a:pt x="843" y="134"/>
                </a:lnTo>
                <a:lnTo>
                  <a:pt x="839" y="136"/>
                </a:lnTo>
                <a:lnTo>
                  <a:pt x="836" y="136"/>
                </a:lnTo>
                <a:lnTo>
                  <a:pt x="832" y="138"/>
                </a:lnTo>
                <a:lnTo>
                  <a:pt x="829" y="139"/>
                </a:lnTo>
                <a:lnTo>
                  <a:pt x="825" y="139"/>
                </a:lnTo>
                <a:lnTo>
                  <a:pt x="809" y="122"/>
                </a:lnTo>
                <a:lnTo>
                  <a:pt x="792" y="122"/>
                </a:lnTo>
                <a:lnTo>
                  <a:pt x="788" y="124"/>
                </a:lnTo>
                <a:lnTo>
                  <a:pt x="783" y="127"/>
                </a:lnTo>
                <a:lnTo>
                  <a:pt x="779" y="134"/>
                </a:lnTo>
                <a:lnTo>
                  <a:pt x="776" y="141"/>
                </a:lnTo>
                <a:lnTo>
                  <a:pt x="770" y="148"/>
                </a:lnTo>
                <a:lnTo>
                  <a:pt x="769" y="155"/>
                </a:lnTo>
                <a:lnTo>
                  <a:pt x="767" y="162"/>
                </a:lnTo>
                <a:lnTo>
                  <a:pt x="765" y="168"/>
                </a:lnTo>
                <a:lnTo>
                  <a:pt x="772" y="166"/>
                </a:lnTo>
                <a:lnTo>
                  <a:pt x="778" y="166"/>
                </a:lnTo>
                <a:lnTo>
                  <a:pt x="781" y="164"/>
                </a:lnTo>
                <a:lnTo>
                  <a:pt x="786" y="161"/>
                </a:lnTo>
                <a:lnTo>
                  <a:pt x="790" y="159"/>
                </a:lnTo>
                <a:lnTo>
                  <a:pt x="793" y="155"/>
                </a:lnTo>
                <a:lnTo>
                  <a:pt x="797" y="152"/>
                </a:lnTo>
                <a:lnTo>
                  <a:pt x="800" y="148"/>
                </a:lnTo>
                <a:lnTo>
                  <a:pt x="852" y="148"/>
                </a:lnTo>
                <a:lnTo>
                  <a:pt x="846" y="150"/>
                </a:lnTo>
                <a:lnTo>
                  <a:pt x="841" y="150"/>
                </a:lnTo>
                <a:lnTo>
                  <a:pt x="836" y="152"/>
                </a:lnTo>
                <a:lnTo>
                  <a:pt x="834" y="155"/>
                </a:lnTo>
                <a:lnTo>
                  <a:pt x="832" y="159"/>
                </a:lnTo>
                <a:lnTo>
                  <a:pt x="831" y="164"/>
                </a:lnTo>
                <a:lnTo>
                  <a:pt x="832" y="169"/>
                </a:lnTo>
                <a:lnTo>
                  <a:pt x="834" y="177"/>
                </a:lnTo>
                <a:lnTo>
                  <a:pt x="831" y="177"/>
                </a:lnTo>
                <a:lnTo>
                  <a:pt x="829" y="178"/>
                </a:lnTo>
                <a:lnTo>
                  <a:pt x="825" y="178"/>
                </a:lnTo>
                <a:lnTo>
                  <a:pt x="822" y="180"/>
                </a:lnTo>
                <a:lnTo>
                  <a:pt x="818" y="182"/>
                </a:lnTo>
                <a:lnTo>
                  <a:pt x="815" y="184"/>
                </a:lnTo>
                <a:lnTo>
                  <a:pt x="813" y="185"/>
                </a:lnTo>
                <a:lnTo>
                  <a:pt x="809" y="185"/>
                </a:lnTo>
                <a:lnTo>
                  <a:pt x="825" y="191"/>
                </a:lnTo>
                <a:lnTo>
                  <a:pt x="845" y="194"/>
                </a:lnTo>
                <a:lnTo>
                  <a:pt x="862" y="196"/>
                </a:lnTo>
                <a:lnTo>
                  <a:pt x="882" y="194"/>
                </a:lnTo>
                <a:lnTo>
                  <a:pt x="891" y="192"/>
                </a:lnTo>
                <a:lnTo>
                  <a:pt x="899" y="189"/>
                </a:lnTo>
                <a:lnTo>
                  <a:pt x="908" y="185"/>
                </a:lnTo>
                <a:lnTo>
                  <a:pt x="917" y="180"/>
                </a:lnTo>
                <a:lnTo>
                  <a:pt x="926" y="175"/>
                </a:lnTo>
                <a:lnTo>
                  <a:pt x="933" y="168"/>
                </a:lnTo>
                <a:lnTo>
                  <a:pt x="942" y="159"/>
                </a:lnTo>
                <a:lnTo>
                  <a:pt x="947" y="148"/>
                </a:lnTo>
                <a:close/>
                <a:moveTo>
                  <a:pt x="1161" y="71"/>
                </a:moveTo>
                <a:lnTo>
                  <a:pt x="1150" y="71"/>
                </a:lnTo>
                <a:lnTo>
                  <a:pt x="1141" y="71"/>
                </a:lnTo>
                <a:lnTo>
                  <a:pt x="1133" y="71"/>
                </a:lnTo>
                <a:lnTo>
                  <a:pt x="1122" y="71"/>
                </a:lnTo>
                <a:lnTo>
                  <a:pt x="1113" y="72"/>
                </a:lnTo>
                <a:lnTo>
                  <a:pt x="1106" y="74"/>
                </a:lnTo>
                <a:lnTo>
                  <a:pt x="1099" y="76"/>
                </a:lnTo>
                <a:lnTo>
                  <a:pt x="1092" y="79"/>
                </a:lnTo>
                <a:lnTo>
                  <a:pt x="1088" y="76"/>
                </a:lnTo>
                <a:lnTo>
                  <a:pt x="1085" y="72"/>
                </a:lnTo>
                <a:lnTo>
                  <a:pt x="1081" y="69"/>
                </a:lnTo>
                <a:lnTo>
                  <a:pt x="1078" y="67"/>
                </a:lnTo>
                <a:lnTo>
                  <a:pt x="1072" y="65"/>
                </a:lnTo>
                <a:lnTo>
                  <a:pt x="1069" y="63"/>
                </a:lnTo>
                <a:lnTo>
                  <a:pt x="1064" y="62"/>
                </a:lnTo>
                <a:lnTo>
                  <a:pt x="1057" y="62"/>
                </a:lnTo>
                <a:lnTo>
                  <a:pt x="1057" y="58"/>
                </a:lnTo>
                <a:lnTo>
                  <a:pt x="1057" y="55"/>
                </a:lnTo>
                <a:lnTo>
                  <a:pt x="1058" y="51"/>
                </a:lnTo>
                <a:lnTo>
                  <a:pt x="1058" y="48"/>
                </a:lnTo>
                <a:lnTo>
                  <a:pt x="1058" y="46"/>
                </a:lnTo>
                <a:lnTo>
                  <a:pt x="1058" y="42"/>
                </a:lnTo>
                <a:lnTo>
                  <a:pt x="1058" y="39"/>
                </a:lnTo>
                <a:lnTo>
                  <a:pt x="1058" y="35"/>
                </a:lnTo>
                <a:lnTo>
                  <a:pt x="1048" y="16"/>
                </a:lnTo>
                <a:lnTo>
                  <a:pt x="1051" y="17"/>
                </a:lnTo>
                <a:lnTo>
                  <a:pt x="1058" y="23"/>
                </a:lnTo>
                <a:lnTo>
                  <a:pt x="1065" y="32"/>
                </a:lnTo>
                <a:lnTo>
                  <a:pt x="1072" y="42"/>
                </a:lnTo>
                <a:lnTo>
                  <a:pt x="1080" y="53"/>
                </a:lnTo>
                <a:lnTo>
                  <a:pt x="1087" y="62"/>
                </a:lnTo>
                <a:lnTo>
                  <a:pt x="1090" y="67"/>
                </a:lnTo>
                <a:lnTo>
                  <a:pt x="1092" y="71"/>
                </a:lnTo>
                <a:lnTo>
                  <a:pt x="1101" y="69"/>
                </a:lnTo>
                <a:lnTo>
                  <a:pt x="1110" y="69"/>
                </a:lnTo>
                <a:lnTo>
                  <a:pt x="1118" y="67"/>
                </a:lnTo>
                <a:lnTo>
                  <a:pt x="1125" y="67"/>
                </a:lnTo>
                <a:lnTo>
                  <a:pt x="1134" y="65"/>
                </a:lnTo>
                <a:lnTo>
                  <a:pt x="1143" y="67"/>
                </a:lnTo>
                <a:lnTo>
                  <a:pt x="1152" y="67"/>
                </a:lnTo>
                <a:lnTo>
                  <a:pt x="1161" y="71"/>
                </a:lnTo>
                <a:close/>
                <a:moveTo>
                  <a:pt x="956" y="131"/>
                </a:moveTo>
                <a:lnTo>
                  <a:pt x="959" y="118"/>
                </a:lnTo>
                <a:lnTo>
                  <a:pt x="961" y="111"/>
                </a:lnTo>
                <a:lnTo>
                  <a:pt x="961" y="106"/>
                </a:lnTo>
                <a:lnTo>
                  <a:pt x="959" y="104"/>
                </a:lnTo>
                <a:lnTo>
                  <a:pt x="958" y="106"/>
                </a:lnTo>
                <a:lnTo>
                  <a:pt x="954" y="109"/>
                </a:lnTo>
                <a:lnTo>
                  <a:pt x="947" y="115"/>
                </a:lnTo>
                <a:lnTo>
                  <a:pt x="938" y="120"/>
                </a:lnTo>
                <a:lnTo>
                  <a:pt x="933" y="115"/>
                </a:lnTo>
                <a:lnTo>
                  <a:pt x="926" y="109"/>
                </a:lnTo>
                <a:lnTo>
                  <a:pt x="921" y="106"/>
                </a:lnTo>
                <a:lnTo>
                  <a:pt x="915" y="102"/>
                </a:lnTo>
                <a:lnTo>
                  <a:pt x="910" y="99"/>
                </a:lnTo>
                <a:lnTo>
                  <a:pt x="906" y="95"/>
                </a:lnTo>
                <a:lnTo>
                  <a:pt x="905" y="90"/>
                </a:lnTo>
                <a:lnTo>
                  <a:pt x="903" y="83"/>
                </a:lnTo>
                <a:lnTo>
                  <a:pt x="894" y="85"/>
                </a:lnTo>
                <a:lnTo>
                  <a:pt x="887" y="85"/>
                </a:lnTo>
                <a:lnTo>
                  <a:pt x="880" y="86"/>
                </a:lnTo>
                <a:lnTo>
                  <a:pt x="875" y="86"/>
                </a:lnTo>
                <a:lnTo>
                  <a:pt x="869" y="88"/>
                </a:lnTo>
                <a:lnTo>
                  <a:pt x="864" y="88"/>
                </a:lnTo>
                <a:lnTo>
                  <a:pt x="859" y="86"/>
                </a:lnTo>
                <a:lnTo>
                  <a:pt x="852" y="83"/>
                </a:lnTo>
                <a:lnTo>
                  <a:pt x="846" y="86"/>
                </a:lnTo>
                <a:lnTo>
                  <a:pt x="839" y="90"/>
                </a:lnTo>
                <a:lnTo>
                  <a:pt x="834" y="92"/>
                </a:lnTo>
                <a:lnTo>
                  <a:pt x="829" y="95"/>
                </a:lnTo>
                <a:lnTo>
                  <a:pt x="823" y="99"/>
                </a:lnTo>
                <a:lnTo>
                  <a:pt x="820" y="104"/>
                </a:lnTo>
                <a:lnTo>
                  <a:pt x="818" y="111"/>
                </a:lnTo>
                <a:lnTo>
                  <a:pt x="816" y="120"/>
                </a:lnTo>
                <a:lnTo>
                  <a:pt x="823" y="116"/>
                </a:lnTo>
                <a:lnTo>
                  <a:pt x="832" y="115"/>
                </a:lnTo>
                <a:lnTo>
                  <a:pt x="843" y="111"/>
                </a:lnTo>
                <a:lnTo>
                  <a:pt x="852" y="108"/>
                </a:lnTo>
                <a:lnTo>
                  <a:pt x="862" y="106"/>
                </a:lnTo>
                <a:lnTo>
                  <a:pt x="871" y="104"/>
                </a:lnTo>
                <a:lnTo>
                  <a:pt x="880" y="102"/>
                </a:lnTo>
                <a:lnTo>
                  <a:pt x="887" y="102"/>
                </a:lnTo>
                <a:lnTo>
                  <a:pt x="869" y="120"/>
                </a:lnTo>
                <a:lnTo>
                  <a:pt x="876" y="122"/>
                </a:lnTo>
                <a:lnTo>
                  <a:pt x="883" y="122"/>
                </a:lnTo>
                <a:lnTo>
                  <a:pt x="892" y="124"/>
                </a:lnTo>
                <a:lnTo>
                  <a:pt x="899" y="125"/>
                </a:lnTo>
                <a:lnTo>
                  <a:pt x="908" y="127"/>
                </a:lnTo>
                <a:lnTo>
                  <a:pt x="915" y="129"/>
                </a:lnTo>
                <a:lnTo>
                  <a:pt x="922" y="129"/>
                </a:lnTo>
                <a:lnTo>
                  <a:pt x="929" y="131"/>
                </a:lnTo>
                <a:lnTo>
                  <a:pt x="956" y="131"/>
                </a:lnTo>
                <a:close/>
                <a:moveTo>
                  <a:pt x="1042" y="14"/>
                </a:moveTo>
                <a:lnTo>
                  <a:pt x="1034" y="17"/>
                </a:lnTo>
                <a:lnTo>
                  <a:pt x="1028" y="21"/>
                </a:lnTo>
                <a:lnTo>
                  <a:pt x="1023" y="23"/>
                </a:lnTo>
                <a:lnTo>
                  <a:pt x="1019" y="25"/>
                </a:lnTo>
                <a:lnTo>
                  <a:pt x="1016" y="26"/>
                </a:lnTo>
                <a:lnTo>
                  <a:pt x="1014" y="30"/>
                </a:lnTo>
                <a:lnTo>
                  <a:pt x="1011" y="35"/>
                </a:lnTo>
                <a:lnTo>
                  <a:pt x="1009" y="44"/>
                </a:lnTo>
                <a:lnTo>
                  <a:pt x="1000" y="44"/>
                </a:lnTo>
                <a:lnTo>
                  <a:pt x="993" y="46"/>
                </a:lnTo>
                <a:lnTo>
                  <a:pt x="984" y="48"/>
                </a:lnTo>
                <a:lnTo>
                  <a:pt x="975" y="51"/>
                </a:lnTo>
                <a:lnTo>
                  <a:pt x="968" y="51"/>
                </a:lnTo>
                <a:lnTo>
                  <a:pt x="963" y="51"/>
                </a:lnTo>
                <a:lnTo>
                  <a:pt x="961" y="49"/>
                </a:lnTo>
                <a:lnTo>
                  <a:pt x="959" y="48"/>
                </a:lnTo>
                <a:lnTo>
                  <a:pt x="958" y="46"/>
                </a:lnTo>
                <a:lnTo>
                  <a:pt x="958" y="42"/>
                </a:lnTo>
                <a:lnTo>
                  <a:pt x="949" y="48"/>
                </a:lnTo>
                <a:lnTo>
                  <a:pt x="942" y="53"/>
                </a:lnTo>
                <a:lnTo>
                  <a:pt x="935" y="58"/>
                </a:lnTo>
                <a:lnTo>
                  <a:pt x="929" y="63"/>
                </a:lnTo>
                <a:lnTo>
                  <a:pt x="924" y="67"/>
                </a:lnTo>
                <a:lnTo>
                  <a:pt x="919" y="72"/>
                </a:lnTo>
                <a:lnTo>
                  <a:pt x="914" y="76"/>
                </a:lnTo>
                <a:lnTo>
                  <a:pt x="908" y="79"/>
                </a:lnTo>
                <a:lnTo>
                  <a:pt x="914" y="55"/>
                </a:lnTo>
                <a:lnTo>
                  <a:pt x="921" y="51"/>
                </a:lnTo>
                <a:lnTo>
                  <a:pt x="926" y="48"/>
                </a:lnTo>
                <a:lnTo>
                  <a:pt x="933" y="42"/>
                </a:lnTo>
                <a:lnTo>
                  <a:pt x="938" y="37"/>
                </a:lnTo>
                <a:lnTo>
                  <a:pt x="945" y="30"/>
                </a:lnTo>
                <a:lnTo>
                  <a:pt x="952" y="25"/>
                </a:lnTo>
                <a:lnTo>
                  <a:pt x="958" y="21"/>
                </a:lnTo>
                <a:lnTo>
                  <a:pt x="963" y="17"/>
                </a:lnTo>
                <a:lnTo>
                  <a:pt x="967" y="19"/>
                </a:lnTo>
                <a:lnTo>
                  <a:pt x="968" y="21"/>
                </a:lnTo>
                <a:lnTo>
                  <a:pt x="972" y="25"/>
                </a:lnTo>
                <a:lnTo>
                  <a:pt x="974" y="26"/>
                </a:lnTo>
                <a:lnTo>
                  <a:pt x="977" y="28"/>
                </a:lnTo>
                <a:lnTo>
                  <a:pt x="981" y="32"/>
                </a:lnTo>
                <a:lnTo>
                  <a:pt x="982" y="33"/>
                </a:lnTo>
                <a:lnTo>
                  <a:pt x="984" y="37"/>
                </a:lnTo>
                <a:lnTo>
                  <a:pt x="989" y="33"/>
                </a:lnTo>
                <a:lnTo>
                  <a:pt x="995" y="30"/>
                </a:lnTo>
                <a:lnTo>
                  <a:pt x="998" y="26"/>
                </a:lnTo>
                <a:lnTo>
                  <a:pt x="1002" y="21"/>
                </a:lnTo>
                <a:lnTo>
                  <a:pt x="1005" y="17"/>
                </a:lnTo>
                <a:lnTo>
                  <a:pt x="1009" y="14"/>
                </a:lnTo>
                <a:lnTo>
                  <a:pt x="1012" y="10"/>
                </a:lnTo>
                <a:lnTo>
                  <a:pt x="1018" y="7"/>
                </a:lnTo>
                <a:lnTo>
                  <a:pt x="1019" y="10"/>
                </a:lnTo>
                <a:lnTo>
                  <a:pt x="1023" y="12"/>
                </a:lnTo>
                <a:lnTo>
                  <a:pt x="1025" y="14"/>
                </a:lnTo>
                <a:lnTo>
                  <a:pt x="1028" y="14"/>
                </a:lnTo>
                <a:lnTo>
                  <a:pt x="1032" y="16"/>
                </a:lnTo>
                <a:lnTo>
                  <a:pt x="1035" y="16"/>
                </a:lnTo>
                <a:lnTo>
                  <a:pt x="1039" y="16"/>
                </a:lnTo>
                <a:lnTo>
                  <a:pt x="1042" y="14"/>
                </a:lnTo>
                <a:close/>
                <a:moveTo>
                  <a:pt x="1042" y="122"/>
                </a:moveTo>
                <a:lnTo>
                  <a:pt x="1042" y="131"/>
                </a:lnTo>
                <a:lnTo>
                  <a:pt x="1042" y="139"/>
                </a:lnTo>
                <a:lnTo>
                  <a:pt x="1042" y="148"/>
                </a:lnTo>
                <a:lnTo>
                  <a:pt x="1042" y="155"/>
                </a:lnTo>
                <a:lnTo>
                  <a:pt x="1046" y="161"/>
                </a:lnTo>
                <a:lnTo>
                  <a:pt x="1051" y="164"/>
                </a:lnTo>
                <a:lnTo>
                  <a:pt x="1058" y="168"/>
                </a:lnTo>
                <a:lnTo>
                  <a:pt x="1069" y="168"/>
                </a:lnTo>
                <a:lnTo>
                  <a:pt x="1069" y="161"/>
                </a:lnTo>
                <a:lnTo>
                  <a:pt x="1067" y="155"/>
                </a:lnTo>
                <a:lnTo>
                  <a:pt x="1065" y="150"/>
                </a:lnTo>
                <a:lnTo>
                  <a:pt x="1062" y="145"/>
                </a:lnTo>
                <a:lnTo>
                  <a:pt x="1058" y="139"/>
                </a:lnTo>
                <a:lnTo>
                  <a:pt x="1055" y="134"/>
                </a:lnTo>
                <a:lnTo>
                  <a:pt x="1050" y="127"/>
                </a:lnTo>
                <a:lnTo>
                  <a:pt x="1042" y="122"/>
                </a:lnTo>
                <a:close/>
                <a:moveTo>
                  <a:pt x="1012" y="78"/>
                </a:moveTo>
                <a:lnTo>
                  <a:pt x="1002" y="81"/>
                </a:lnTo>
                <a:lnTo>
                  <a:pt x="995" y="85"/>
                </a:lnTo>
                <a:lnTo>
                  <a:pt x="991" y="86"/>
                </a:lnTo>
                <a:lnTo>
                  <a:pt x="991" y="88"/>
                </a:lnTo>
                <a:lnTo>
                  <a:pt x="991" y="90"/>
                </a:lnTo>
                <a:lnTo>
                  <a:pt x="993" y="95"/>
                </a:lnTo>
                <a:lnTo>
                  <a:pt x="995" y="102"/>
                </a:lnTo>
                <a:lnTo>
                  <a:pt x="995" y="113"/>
                </a:lnTo>
                <a:lnTo>
                  <a:pt x="1002" y="113"/>
                </a:lnTo>
                <a:lnTo>
                  <a:pt x="1007" y="111"/>
                </a:lnTo>
                <a:lnTo>
                  <a:pt x="1011" y="109"/>
                </a:lnTo>
                <a:lnTo>
                  <a:pt x="1014" y="108"/>
                </a:lnTo>
                <a:lnTo>
                  <a:pt x="1019" y="104"/>
                </a:lnTo>
                <a:lnTo>
                  <a:pt x="1023" y="102"/>
                </a:lnTo>
                <a:lnTo>
                  <a:pt x="1025" y="99"/>
                </a:lnTo>
                <a:lnTo>
                  <a:pt x="1028" y="95"/>
                </a:lnTo>
                <a:lnTo>
                  <a:pt x="1025" y="92"/>
                </a:lnTo>
                <a:lnTo>
                  <a:pt x="1023" y="88"/>
                </a:lnTo>
                <a:lnTo>
                  <a:pt x="1019" y="85"/>
                </a:lnTo>
                <a:lnTo>
                  <a:pt x="1018" y="83"/>
                </a:lnTo>
                <a:lnTo>
                  <a:pt x="1014" y="79"/>
                </a:lnTo>
                <a:lnTo>
                  <a:pt x="1014" y="78"/>
                </a:lnTo>
                <a:lnTo>
                  <a:pt x="1012" y="78"/>
                </a:lnTo>
                <a:lnTo>
                  <a:pt x="1012" y="78"/>
                </a:lnTo>
                <a:close/>
                <a:moveTo>
                  <a:pt x="894" y="800"/>
                </a:moveTo>
                <a:lnTo>
                  <a:pt x="887" y="802"/>
                </a:lnTo>
                <a:lnTo>
                  <a:pt x="880" y="806"/>
                </a:lnTo>
                <a:lnTo>
                  <a:pt x="875" y="807"/>
                </a:lnTo>
                <a:lnTo>
                  <a:pt x="873" y="811"/>
                </a:lnTo>
                <a:lnTo>
                  <a:pt x="871" y="816"/>
                </a:lnTo>
                <a:lnTo>
                  <a:pt x="869" y="823"/>
                </a:lnTo>
                <a:lnTo>
                  <a:pt x="869" y="834"/>
                </a:lnTo>
                <a:lnTo>
                  <a:pt x="869" y="846"/>
                </a:lnTo>
                <a:lnTo>
                  <a:pt x="878" y="846"/>
                </a:lnTo>
                <a:lnTo>
                  <a:pt x="885" y="845"/>
                </a:lnTo>
                <a:lnTo>
                  <a:pt x="892" y="843"/>
                </a:lnTo>
                <a:lnTo>
                  <a:pt x="898" y="843"/>
                </a:lnTo>
                <a:lnTo>
                  <a:pt x="903" y="841"/>
                </a:lnTo>
                <a:lnTo>
                  <a:pt x="908" y="843"/>
                </a:lnTo>
                <a:lnTo>
                  <a:pt x="914" y="843"/>
                </a:lnTo>
                <a:lnTo>
                  <a:pt x="921" y="846"/>
                </a:lnTo>
                <a:lnTo>
                  <a:pt x="938" y="827"/>
                </a:lnTo>
                <a:lnTo>
                  <a:pt x="921" y="807"/>
                </a:lnTo>
                <a:lnTo>
                  <a:pt x="894" y="800"/>
                </a:lnTo>
                <a:close/>
                <a:moveTo>
                  <a:pt x="843" y="809"/>
                </a:moveTo>
                <a:lnTo>
                  <a:pt x="831" y="809"/>
                </a:lnTo>
                <a:lnTo>
                  <a:pt x="822" y="809"/>
                </a:lnTo>
                <a:lnTo>
                  <a:pt x="816" y="807"/>
                </a:lnTo>
                <a:lnTo>
                  <a:pt x="809" y="807"/>
                </a:lnTo>
                <a:lnTo>
                  <a:pt x="806" y="804"/>
                </a:lnTo>
                <a:lnTo>
                  <a:pt x="800" y="802"/>
                </a:lnTo>
                <a:lnTo>
                  <a:pt x="797" y="797"/>
                </a:lnTo>
                <a:lnTo>
                  <a:pt x="790" y="792"/>
                </a:lnTo>
                <a:lnTo>
                  <a:pt x="783" y="792"/>
                </a:lnTo>
                <a:lnTo>
                  <a:pt x="776" y="792"/>
                </a:lnTo>
                <a:lnTo>
                  <a:pt x="769" y="790"/>
                </a:lnTo>
                <a:lnTo>
                  <a:pt x="760" y="790"/>
                </a:lnTo>
                <a:lnTo>
                  <a:pt x="753" y="788"/>
                </a:lnTo>
                <a:lnTo>
                  <a:pt x="744" y="786"/>
                </a:lnTo>
                <a:lnTo>
                  <a:pt x="737" y="784"/>
                </a:lnTo>
                <a:lnTo>
                  <a:pt x="730" y="781"/>
                </a:lnTo>
                <a:lnTo>
                  <a:pt x="739" y="779"/>
                </a:lnTo>
                <a:lnTo>
                  <a:pt x="749" y="776"/>
                </a:lnTo>
                <a:lnTo>
                  <a:pt x="758" y="774"/>
                </a:lnTo>
                <a:lnTo>
                  <a:pt x="767" y="772"/>
                </a:lnTo>
                <a:lnTo>
                  <a:pt x="774" y="774"/>
                </a:lnTo>
                <a:lnTo>
                  <a:pt x="781" y="776"/>
                </a:lnTo>
                <a:lnTo>
                  <a:pt x="786" y="783"/>
                </a:lnTo>
                <a:lnTo>
                  <a:pt x="790" y="792"/>
                </a:lnTo>
                <a:lnTo>
                  <a:pt x="793" y="790"/>
                </a:lnTo>
                <a:lnTo>
                  <a:pt x="797" y="790"/>
                </a:lnTo>
                <a:lnTo>
                  <a:pt x="800" y="788"/>
                </a:lnTo>
                <a:lnTo>
                  <a:pt x="804" y="786"/>
                </a:lnTo>
                <a:lnTo>
                  <a:pt x="808" y="784"/>
                </a:lnTo>
                <a:lnTo>
                  <a:pt x="811" y="783"/>
                </a:lnTo>
                <a:lnTo>
                  <a:pt x="813" y="783"/>
                </a:lnTo>
                <a:lnTo>
                  <a:pt x="816" y="781"/>
                </a:lnTo>
                <a:lnTo>
                  <a:pt x="820" y="783"/>
                </a:lnTo>
                <a:lnTo>
                  <a:pt x="825" y="784"/>
                </a:lnTo>
                <a:lnTo>
                  <a:pt x="829" y="788"/>
                </a:lnTo>
                <a:lnTo>
                  <a:pt x="834" y="792"/>
                </a:lnTo>
                <a:lnTo>
                  <a:pt x="839" y="795"/>
                </a:lnTo>
                <a:lnTo>
                  <a:pt x="843" y="797"/>
                </a:lnTo>
                <a:lnTo>
                  <a:pt x="848" y="800"/>
                </a:lnTo>
                <a:lnTo>
                  <a:pt x="852" y="800"/>
                </a:lnTo>
                <a:lnTo>
                  <a:pt x="843" y="809"/>
                </a:lnTo>
                <a:close/>
                <a:moveTo>
                  <a:pt x="98" y="380"/>
                </a:moveTo>
                <a:lnTo>
                  <a:pt x="89" y="380"/>
                </a:lnTo>
                <a:lnTo>
                  <a:pt x="80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0"/>
                </a:lnTo>
                <a:lnTo>
                  <a:pt x="69" y="380"/>
                </a:lnTo>
                <a:lnTo>
                  <a:pt x="69" y="380"/>
                </a:lnTo>
                <a:lnTo>
                  <a:pt x="71" y="380"/>
                </a:lnTo>
                <a:lnTo>
                  <a:pt x="71" y="380"/>
                </a:lnTo>
                <a:lnTo>
                  <a:pt x="71" y="380"/>
                </a:lnTo>
                <a:lnTo>
                  <a:pt x="73" y="380"/>
                </a:lnTo>
                <a:lnTo>
                  <a:pt x="73" y="380"/>
                </a:lnTo>
                <a:lnTo>
                  <a:pt x="73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6"/>
                </a:lnTo>
                <a:lnTo>
                  <a:pt x="75" y="376"/>
                </a:lnTo>
                <a:lnTo>
                  <a:pt x="75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2" y="378"/>
                </a:lnTo>
                <a:lnTo>
                  <a:pt x="82" y="378"/>
                </a:lnTo>
                <a:lnTo>
                  <a:pt x="82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6"/>
                </a:lnTo>
                <a:lnTo>
                  <a:pt x="87" y="376"/>
                </a:lnTo>
                <a:lnTo>
                  <a:pt x="87" y="376"/>
                </a:lnTo>
                <a:lnTo>
                  <a:pt x="85" y="376"/>
                </a:lnTo>
                <a:lnTo>
                  <a:pt x="85" y="376"/>
                </a:lnTo>
                <a:lnTo>
                  <a:pt x="85" y="374"/>
                </a:lnTo>
                <a:lnTo>
                  <a:pt x="85" y="374"/>
                </a:lnTo>
                <a:lnTo>
                  <a:pt x="83" y="374"/>
                </a:lnTo>
                <a:lnTo>
                  <a:pt x="85" y="374"/>
                </a:lnTo>
                <a:lnTo>
                  <a:pt x="85" y="374"/>
                </a:lnTo>
                <a:lnTo>
                  <a:pt x="87" y="374"/>
                </a:lnTo>
                <a:lnTo>
                  <a:pt x="87" y="374"/>
                </a:lnTo>
                <a:lnTo>
                  <a:pt x="89" y="374"/>
                </a:lnTo>
                <a:lnTo>
                  <a:pt x="89" y="374"/>
                </a:lnTo>
                <a:lnTo>
                  <a:pt x="91" y="374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2" y="376"/>
                </a:lnTo>
                <a:lnTo>
                  <a:pt x="92" y="376"/>
                </a:lnTo>
                <a:lnTo>
                  <a:pt x="92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8" y="380"/>
                </a:lnTo>
                <a:close/>
                <a:moveTo>
                  <a:pt x="145" y="367"/>
                </a:moveTo>
                <a:lnTo>
                  <a:pt x="136" y="371"/>
                </a:lnTo>
                <a:lnTo>
                  <a:pt x="122" y="376"/>
                </a:lnTo>
                <a:lnTo>
                  <a:pt x="110" y="374"/>
                </a:lnTo>
                <a:lnTo>
                  <a:pt x="110" y="374"/>
                </a:lnTo>
                <a:lnTo>
                  <a:pt x="110" y="374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2" y="371"/>
                </a:lnTo>
                <a:lnTo>
                  <a:pt x="112" y="371"/>
                </a:lnTo>
                <a:lnTo>
                  <a:pt x="113" y="371"/>
                </a:lnTo>
                <a:lnTo>
                  <a:pt x="113" y="371"/>
                </a:lnTo>
                <a:lnTo>
                  <a:pt x="115" y="371"/>
                </a:lnTo>
                <a:lnTo>
                  <a:pt x="115" y="371"/>
                </a:lnTo>
                <a:lnTo>
                  <a:pt x="115" y="371"/>
                </a:lnTo>
                <a:lnTo>
                  <a:pt x="117" y="371"/>
                </a:lnTo>
                <a:lnTo>
                  <a:pt x="117" y="369"/>
                </a:lnTo>
                <a:lnTo>
                  <a:pt x="117" y="369"/>
                </a:lnTo>
                <a:lnTo>
                  <a:pt x="117" y="367"/>
                </a:lnTo>
                <a:lnTo>
                  <a:pt x="117" y="367"/>
                </a:lnTo>
                <a:lnTo>
                  <a:pt x="117" y="367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22" y="366"/>
                </a:lnTo>
                <a:lnTo>
                  <a:pt x="122" y="366"/>
                </a:lnTo>
                <a:lnTo>
                  <a:pt x="122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7"/>
                </a:lnTo>
                <a:lnTo>
                  <a:pt x="124" y="367"/>
                </a:lnTo>
                <a:lnTo>
                  <a:pt x="126" y="367"/>
                </a:lnTo>
                <a:lnTo>
                  <a:pt x="126" y="367"/>
                </a:lnTo>
                <a:lnTo>
                  <a:pt x="126" y="367"/>
                </a:lnTo>
                <a:lnTo>
                  <a:pt x="128" y="367"/>
                </a:lnTo>
                <a:lnTo>
                  <a:pt x="128" y="367"/>
                </a:lnTo>
                <a:lnTo>
                  <a:pt x="128" y="367"/>
                </a:lnTo>
                <a:lnTo>
                  <a:pt x="129" y="366"/>
                </a:lnTo>
                <a:lnTo>
                  <a:pt x="129" y="366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4"/>
                </a:lnTo>
                <a:lnTo>
                  <a:pt x="133" y="364"/>
                </a:lnTo>
                <a:lnTo>
                  <a:pt x="131" y="364"/>
                </a:lnTo>
                <a:lnTo>
                  <a:pt x="131" y="364"/>
                </a:lnTo>
                <a:lnTo>
                  <a:pt x="131" y="364"/>
                </a:lnTo>
                <a:lnTo>
                  <a:pt x="129" y="362"/>
                </a:lnTo>
                <a:lnTo>
                  <a:pt x="129" y="362"/>
                </a:lnTo>
                <a:lnTo>
                  <a:pt x="131" y="362"/>
                </a:lnTo>
                <a:lnTo>
                  <a:pt x="131" y="362"/>
                </a:lnTo>
                <a:lnTo>
                  <a:pt x="133" y="362"/>
                </a:lnTo>
                <a:lnTo>
                  <a:pt x="135" y="360"/>
                </a:lnTo>
                <a:lnTo>
                  <a:pt x="135" y="362"/>
                </a:lnTo>
                <a:lnTo>
                  <a:pt x="136" y="362"/>
                </a:lnTo>
                <a:lnTo>
                  <a:pt x="136" y="362"/>
                </a:lnTo>
                <a:lnTo>
                  <a:pt x="138" y="364"/>
                </a:lnTo>
                <a:lnTo>
                  <a:pt x="136" y="364"/>
                </a:lnTo>
                <a:lnTo>
                  <a:pt x="138" y="364"/>
                </a:lnTo>
                <a:lnTo>
                  <a:pt x="138" y="364"/>
                </a:lnTo>
                <a:lnTo>
                  <a:pt x="140" y="364"/>
                </a:lnTo>
                <a:lnTo>
                  <a:pt x="140" y="364"/>
                </a:lnTo>
                <a:lnTo>
                  <a:pt x="142" y="364"/>
                </a:lnTo>
                <a:lnTo>
                  <a:pt x="142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6"/>
                </a:lnTo>
                <a:lnTo>
                  <a:pt x="144" y="366"/>
                </a:lnTo>
                <a:lnTo>
                  <a:pt x="144" y="366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close/>
                <a:moveTo>
                  <a:pt x="32" y="387"/>
                </a:moveTo>
                <a:lnTo>
                  <a:pt x="59" y="387"/>
                </a:lnTo>
                <a:lnTo>
                  <a:pt x="59" y="387"/>
                </a:lnTo>
                <a:lnTo>
                  <a:pt x="57" y="385"/>
                </a:lnTo>
                <a:lnTo>
                  <a:pt x="57" y="385"/>
                </a:lnTo>
                <a:lnTo>
                  <a:pt x="55" y="385"/>
                </a:lnTo>
                <a:lnTo>
                  <a:pt x="55" y="385"/>
                </a:lnTo>
                <a:lnTo>
                  <a:pt x="53" y="385"/>
                </a:lnTo>
                <a:lnTo>
                  <a:pt x="53" y="385"/>
                </a:lnTo>
                <a:lnTo>
                  <a:pt x="53" y="385"/>
                </a:lnTo>
                <a:lnTo>
                  <a:pt x="52" y="385"/>
                </a:lnTo>
                <a:lnTo>
                  <a:pt x="52" y="385"/>
                </a:lnTo>
                <a:lnTo>
                  <a:pt x="50" y="383"/>
                </a:lnTo>
                <a:lnTo>
                  <a:pt x="50" y="383"/>
                </a:lnTo>
                <a:lnTo>
                  <a:pt x="48" y="383"/>
                </a:lnTo>
                <a:lnTo>
                  <a:pt x="48" y="383"/>
                </a:lnTo>
                <a:lnTo>
                  <a:pt x="46" y="383"/>
                </a:lnTo>
                <a:lnTo>
                  <a:pt x="46" y="383"/>
                </a:lnTo>
                <a:lnTo>
                  <a:pt x="45" y="385"/>
                </a:lnTo>
                <a:lnTo>
                  <a:pt x="43" y="385"/>
                </a:lnTo>
                <a:lnTo>
                  <a:pt x="43" y="385"/>
                </a:lnTo>
                <a:lnTo>
                  <a:pt x="41" y="385"/>
                </a:lnTo>
                <a:lnTo>
                  <a:pt x="41" y="385"/>
                </a:lnTo>
                <a:lnTo>
                  <a:pt x="39" y="385"/>
                </a:lnTo>
                <a:lnTo>
                  <a:pt x="39" y="383"/>
                </a:lnTo>
                <a:lnTo>
                  <a:pt x="38" y="383"/>
                </a:lnTo>
                <a:lnTo>
                  <a:pt x="38" y="382"/>
                </a:lnTo>
                <a:lnTo>
                  <a:pt x="36" y="382"/>
                </a:lnTo>
                <a:lnTo>
                  <a:pt x="32" y="385"/>
                </a:lnTo>
                <a:lnTo>
                  <a:pt x="32" y="387"/>
                </a:lnTo>
                <a:close/>
                <a:moveTo>
                  <a:pt x="0" y="387"/>
                </a:move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5" y="385"/>
                </a:lnTo>
                <a:lnTo>
                  <a:pt x="15" y="385"/>
                </a:lnTo>
                <a:lnTo>
                  <a:pt x="15" y="385"/>
                </a:lnTo>
                <a:lnTo>
                  <a:pt x="13" y="385"/>
                </a:lnTo>
                <a:lnTo>
                  <a:pt x="13" y="385"/>
                </a:lnTo>
                <a:lnTo>
                  <a:pt x="11" y="385"/>
                </a:lnTo>
                <a:lnTo>
                  <a:pt x="11" y="385"/>
                </a:lnTo>
                <a:lnTo>
                  <a:pt x="11" y="385"/>
                </a:lnTo>
                <a:lnTo>
                  <a:pt x="9" y="385"/>
                </a:lnTo>
                <a:lnTo>
                  <a:pt x="9" y="385"/>
                </a:lnTo>
                <a:lnTo>
                  <a:pt x="8" y="385"/>
                </a:lnTo>
                <a:lnTo>
                  <a:pt x="8" y="385"/>
                </a:lnTo>
                <a:lnTo>
                  <a:pt x="8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3"/>
                </a:lnTo>
                <a:lnTo>
                  <a:pt x="2" y="383"/>
                </a:lnTo>
                <a:lnTo>
                  <a:pt x="0" y="387"/>
                </a:lnTo>
                <a:lnTo>
                  <a:pt x="0" y="387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8600" y="1873080"/>
            <a:ext cx="6691320" cy="3584880"/>
          </a:xfrm>
          <a:custGeom>
            <a:avLst/>
            <a:gdLst/>
            <a:ahLst/>
            <a:rect l="l" t="t" r="r" b="b"/>
            <a:pathLst>
              <a:path w="4742" h="2258">
                <a:moveTo>
                  <a:pt x="1385" y="2258"/>
                </a:moveTo>
                <a:lnTo>
                  <a:pt x="1298" y="2235"/>
                </a:lnTo>
                <a:lnTo>
                  <a:pt x="1215" y="2210"/>
                </a:lnTo>
                <a:lnTo>
                  <a:pt x="1134" y="2184"/>
                </a:lnTo>
                <a:lnTo>
                  <a:pt x="1056" y="2157"/>
                </a:lnTo>
                <a:lnTo>
                  <a:pt x="980" y="2131"/>
                </a:lnTo>
                <a:lnTo>
                  <a:pt x="908" y="2102"/>
                </a:lnTo>
                <a:lnTo>
                  <a:pt x="839" y="2072"/>
                </a:lnTo>
                <a:lnTo>
                  <a:pt x="772" y="2042"/>
                </a:lnTo>
                <a:lnTo>
                  <a:pt x="708" y="2012"/>
                </a:lnTo>
                <a:lnTo>
                  <a:pt x="647" y="1981"/>
                </a:lnTo>
                <a:lnTo>
                  <a:pt x="588" y="1949"/>
                </a:lnTo>
                <a:lnTo>
                  <a:pt x="532" y="1917"/>
                </a:lnTo>
                <a:lnTo>
                  <a:pt x="479" y="1883"/>
                </a:lnTo>
                <a:lnTo>
                  <a:pt x="429" y="1848"/>
                </a:lnTo>
                <a:lnTo>
                  <a:pt x="382" y="1814"/>
                </a:lnTo>
                <a:lnTo>
                  <a:pt x="338" y="1779"/>
                </a:lnTo>
                <a:lnTo>
                  <a:pt x="295" y="1742"/>
                </a:lnTo>
                <a:lnTo>
                  <a:pt x="256" y="1707"/>
                </a:lnTo>
                <a:lnTo>
                  <a:pt x="221" y="1670"/>
                </a:lnTo>
                <a:lnTo>
                  <a:pt x="188" y="1632"/>
                </a:lnTo>
                <a:lnTo>
                  <a:pt x="156" y="1595"/>
                </a:lnTo>
                <a:lnTo>
                  <a:pt x="127" y="1556"/>
                </a:lnTo>
                <a:lnTo>
                  <a:pt x="103" y="1518"/>
                </a:lnTo>
                <a:lnTo>
                  <a:pt x="80" y="1479"/>
                </a:lnTo>
                <a:lnTo>
                  <a:pt x="60" y="1440"/>
                </a:lnTo>
                <a:lnTo>
                  <a:pt x="44" y="1401"/>
                </a:lnTo>
                <a:lnTo>
                  <a:pt x="30" y="1360"/>
                </a:lnTo>
                <a:lnTo>
                  <a:pt x="18" y="1321"/>
                </a:lnTo>
                <a:lnTo>
                  <a:pt x="9" y="1281"/>
                </a:lnTo>
                <a:lnTo>
                  <a:pt x="4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5" y="998"/>
                </a:lnTo>
                <a:lnTo>
                  <a:pt x="39" y="957"/>
                </a:lnTo>
                <a:lnTo>
                  <a:pt x="55" y="917"/>
                </a:lnTo>
                <a:lnTo>
                  <a:pt x="73" y="878"/>
                </a:lnTo>
                <a:lnTo>
                  <a:pt x="94" y="837"/>
                </a:lnTo>
                <a:lnTo>
                  <a:pt x="119" y="797"/>
                </a:lnTo>
                <a:lnTo>
                  <a:pt x="145" y="758"/>
                </a:lnTo>
                <a:lnTo>
                  <a:pt x="175" y="719"/>
                </a:lnTo>
                <a:lnTo>
                  <a:pt x="207" y="680"/>
                </a:lnTo>
                <a:lnTo>
                  <a:pt x="242" y="641"/>
                </a:lnTo>
                <a:lnTo>
                  <a:pt x="279" y="602"/>
                </a:lnTo>
                <a:lnTo>
                  <a:pt x="320" y="563"/>
                </a:lnTo>
                <a:lnTo>
                  <a:pt x="362" y="526"/>
                </a:lnTo>
                <a:lnTo>
                  <a:pt x="408" y="489"/>
                </a:lnTo>
                <a:lnTo>
                  <a:pt x="458" y="452"/>
                </a:lnTo>
                <a:lnTo>
                  <a:pt x="509" y="415"/>
                </a:lnTo>
                <a:lnTo>
                  <a:pt x="562" y="379"/>
                </a:lnTo>
                <a:lnTo>
                  <a:pt x="618" y="344"/>
                </a:lnTo>
                <a:lnTo>
                  <a:pt x="678" y="309"/>
                </a:lnTo>
                <a:lnTo>
                  <a:pt x="740" y="275"/>
                </a:lnTo>
                <a:lnTo>
                  <a:pt x="806" y="242"/>
                </a:lnTo>
                <a:lnTo>
                  <a:pt x="873" y="208"/>
                </a:lnTo>
                <a:lnTo>
                  <a:pt x="942" y="176"/>
                </a:lnTo>
                <a:lnTo>
                  <a:pt x="1014" y="144"/>
                </a:lnTo>
                <a:lnTo>
                  <a:pt x="1090" y="114"/>
                </a:lnTo>
                <a:lnTo>
                  <a:pt x="1168" y="84"/>
                </a:lnTo>
                <a:lnTo>
                  <a:pt x="1249" y="54"/>
                </a:lnTo>
                <a:lnTo>
                  <a:pt x="1332" y="26"/>
                </a:lnTo>
                <a:lnTo>
                  <a:pt x="1418" y="0"/>
                </a:lnTo>
                <a:lnTo>
                  <a:pt x="3324" y="0"/>
                </a:lnTo>
                <a:lnTo>
                  <a:pt x="3411" y="26"/>
                </a:lnTo>
                <a:lnTo>
                  <a:pt x="3494" y="54"/>
                </a:lnTo>
                <a:lnTo>
                  <a:pt x="3573" y="84"/>
                </a:lnTo>
                <a:lnTo>
                  <a:pt x="3653" y="114"/>
                </a:lnTo>
                <a:lnTo>
                  <a:pt x="3727" y="144"/>
                </a:lnTo>
                <a:lnTo>
                  <a:pt x="3801" y="176"/>
                </a:lnTo>
                <a:lnTo>
                  <a:pt x="3870" y="208"/>
                </a:lnTo>
                <a:lnTo>
                  <a:pt x="3937" y="242"/>
                </a:lnTo>
                <a:lnTo>
                  <a:pt x="4002" y="275"/>
                </a:lnTo>
                <a:lnTo>
                  <a:pt x="4064" y="309"/>
                </a:lnTo>
                <a:lnTo>
                  <a:pt x="4124" y="344"/>
                </a:lnTo>
                <a:lnTo>
                  <a:pt x="4181" y="379"/>
                </a:lnTo>
                <a:lnTo>
                  <a:pt x="4234" y="415"/>
                </a:lnTo>
                <a:lnTo>
                  <a:pt x="4285" y="452"/>
                </a:lnTo>
                <a:lnTo>
                  <a:pt x="4334" y="489"/>
                </a:lnTo>
                <a:lnTo>
                  <a:pt x="4378" y="526"/>
                </a:lnTo>
                <a:lnTo>
                  <a:pt x="4423" y="563"/>
                </a:lnTo>
                <a:lnTo>
                  <a:pt x="4463" y="602"/>
                </a:lnTo>
                <a:lnTo>
                  <a:pt x="4500" y="641"/>
                </a:lnTo>
                <a:lnTo>
                  <a:pt x="4536" y="680"/>
                </a:lnTo>
                <a:lnTo>
                  <a:pt x="4567" y="719"/>
                </a:lnTo>
                <a:lnTo>
                  <a:pt x="4597" y="758"/>
                </a:lnTo>
                <a:lnTo>
                  <a:pt x="4624" y="797"/>
                </a:lnTo>
                <a:lnTo>
                  <a:pt x="4649" y="837"/>
                </a:lnTo>
                <a:lnTo>
                  <a:pt x="4670" y="878"/>
                </a:lnTo>
                <a:lnTo>
                  <a:pt x="4687" y="917"/>
                </a:lnTo>
                <a:lnTo>
                  <a:pt x="4703" y="957"/>
                </a:lnTo>
                <a:lnTo>
                  <a:pt x="4718" y="998"/>
                </a:lnTo>
                <a:lnTo>
                  <a:pt x="4728" y="1039"/>
                </a:lnTo>
                <a:lnTo>
                  <a:pt x="4735" y="1079"/>
                </a:lnTo>
                <a:lnTo>
                  <a:pt x="4740" y="1120"/>
                </a:lnTo>
                <a:lnTo>
                  <a:pt x="4742" y="1161"/>
                </a:lnTo>
                <a:lnTo>
                  <a:pt x="4742" y="1201"/>
                </a:lnTo>
                <a:lnTo>
                  <a:pt x="4739" y="1240"/>
                </a:lnTo>
                <a:lnTo>
                  <a:pt x="4733" y="1281"/>
                </a:lnTo>
                <a:lnTo>
                  <a:pt x="4725" y="1321"/>
                </a:lnTo>
                <a:lnTo>
                  <a:pt x="4712" y="1360"/>
                </a:lnTo>
                <a:lnTo>
                  <a:pt x="4698" y="1401"/>
                </a:lnTo>
                <a:lnTo>
                  <a:pt x="4682" y="1440"/>
                </a:lnTo>
                <a:lnTo>
                  <a:pt x="4661" y="1479"/>
                </a:lnTo>
                <a:lnTo>
                  <a:pt x="4640" y="1518"/>
                </a:lnTo>
                <a:lnTo>
                  <a:pt x="4613" y="1556"/>
                </a:lnTo>
                <a:lnTo>
                  <a:pt x="4587" y="1595"/>
                </a:lnTo>
                <a:lnTo>
                  <a:pt x="4555" y="1632"/>
                </a:lnTo>
                <a:lnTo>
                  <a:pt x="4521" y="1670"/>
                </a:lnTo>
                <a:lnTo>
                  <a:pt x="4486" y="1707"/>
                </a:lnTo>
                <a:lnTo>
                  <a:pt x="4447" y="1742"/>
                </a:lnTo>
                <a:lnTo>
                  <a:pt x="4405" y="1779"/>
                </a:lnTo>
                <a:lnTo>
                  <a:pt x="4361" y="1814"/>
                </a:lnTo>
                <a:lnTo>
                  <a:pt x="4313" y="1848"/>
                </a:lnTo>
                <a:lnTo>
                  <a:pt x="4262" y="1883"/>
                </a:lnTo>
                <a:lnTo>
                  <a:pt x="4209" y="1917"/>
                </a:lnTo>
                <a:lnTo>
                  <a:pt x="4154" y="1949"/>
                </a:lnTo>
                <a:lnTo>
                  <a:pt x="4096" y="1981"/>
                </a:lnTo>
                <a:lnTo>
                  <a:pt x="4034" y="2012"/>
                </a:lnTo>
                <a:lnTo>
                  <a:pt x="3970" y="2042"/>
                </a:lnTo>
                <a:lnTo>
                  <a:pt x="3903" y="2072"/>
                </a:lnTo>
                <a:lnTo>
                  <a:pt x="3834" y="2102"/>
                </a:lnTo>
                <a:lnTo>
                  <a:pt x="3762" y="2131"/>
                </a:lnTo>
                <a:lnTo>
                  <a:pt x="3686" y="2157"/>
                </a:lnTo>
                <a:lnTo>
                  <a:pt x="3608" y="2184"/>
                </a:lnTo>
                <a:lnTo>
                  <a:pt x="3527" y="2210"/>
                </a:lnTo>
                <a:lnTo>
                  <a:pt x="3444" y="2235"/>
                </a:lnTo>
                <a:lnTo>
                  <a:pt x="3358" y="2258"/>
                </a:lnTo>
                <a:lnTo>
                  <a:pt x="1385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3840" y="1873080"/>
            <a:ext cx="6357960" cy="3584880"/>
          </a:xfrm>
          <a:custGeom>
            <a:avLst/>
            <a:gdLst/>
            <a:ahLst/>
            <a:rect l="l" t="t" r="r" b="b"/>
            <a:pathLst>
              <a:path w="4505" h="2258">
                <a:moveTo>
                  <a:pt x="1316" y="2258"/>
                </a:moveTo>
                <a:lnTo>
                  <a:pt x="1233" y="2235"/>
                </a:lnTo>
                <a:lnTo>
                  <a:pt x="1153" y="2210"/>
                </a:lnTo>
                <a:lnTo>
                  <a:pt x="1077" y="2184"/>
                </a:lnTo>
                <a:lnTo>
                  <a:pt x="1003" y="2157"/>
                </a:lnTo>
                <a:lnTo>
                  <a:pt x="931" y="2131"/>
                </a:lnTo>
                <a:lnTo>
                  <a:pt x="862" y="2102"/>
                </a:lnTo>
                <a:lnTo>
                  <a:pt x="796" y="2072"/>
                </a:lnTo>
                <a:lnTo>
                  <a:pt x="733" y="2042"/>
                </a:lnTo>
                <a:lnTo>
                  <a:pt x="673" y="2012"/>
                </a:lnTo>
                <a:lnTo>
                  <a:pt x="614" y="1981"/>
                </a:lnTo>
                <a:lnTo>
                  <a:pt x="558" y="1949"/>
                </a:lnTo>
                <a:lnTo>
                  <a:pt x="505" y="1917"/>
                </a:lnTo>
                <a:lnTo>
                  <a:pt x="456" y="1883"/>
                </a:lnTo>
                <a:lnTo>
                  <a:pt x="408" y="1848"/>
                </a:lnTo>
                <a:lnTo>
                  <a:pt x="362" y="1814"/>
                </a:lnTo>
                <a:lnTo>
                  <a:pt x="320" y="1779"/>
                </a:lnTo>
                <a:lnTo>
                  <a:pt x="281" y="1742"/>
                </a:lnTo>
                <a:lnTo>
                  <a:pt x="244" y="1707"/>
                </a:lnTo>
                <a:lnTo>
                  <a:pt x="208" y="1670"/>
                </a:lnTo>
                <a:lnTo>
                  <a:pt x="176" y="1632"/>
                </a:lnTo>
                <a:lnTo>
                  <a:pt x="148" y="1595"/>
                </a:lnTo>
                <a:lnTo>
                  <a:pt x="122" y="1556"/>
                </a:lnTo>
                <a:lnTo>
                  <a:pt x="97" y="1518"/>
                </a:lnTo>
                <a:lnTo>
                  <a:pt x="76" y="1479"/>
                </a:lnTo>
                <a:lnTo>
                  <a:pt x="56" y="1440"/>
                </a:lnTo>
                <a:lnTo>
                  <a:pt x="40" y="1401"/>
                </a:lnTo>
                <a:lnTo>
                  <a:pt x="28" y="1360"/>
                </a:lnTo>
                <a:lnTo>
                  <a:pt x="18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3" y="998"/>
                </a:lnTo>
                <a:lnTo>
                  <a:pt x="35" y="957"/>
                </a:lnTo>
                <a:lnTo>
                  <a:pt x="51" y="917"/>
                </a:lnTo>
                <a:lnTo>
                  <a:pt x="69" y="878"/>
                </a:lnTo>
                <a:lnTo>
                  <a:pt x="88" y="837"/>
                </a:lnTo>
                <a:lnTo>
                  <a:pt x="111" y="797"/>
                </a:lnTo>
                <a:lnTo>
                  <a:pt x="138" y="758"/>
                </a:lnTo>
                <a:lnTo>
                  <a:pt x="166" y="719"/>
                </a:lnTo>
                <a:lnTo>
                  <a:pt x="196" y="680"/>
                </a:lnTo>
                <a:lnTo>
                  <a:pt x="229" y="641"/>
                </a:lnTo>
                <a:lnTo>
                  <a:pt x="265" y="602"/>
                </a:lnTo>
                <a:lnTo>
                  <a:pt x="304" y="563"/>
                </a:lnTo>
                <a:lnTo>
                  <a:pt x="344" y="526"/>
                </a:lnTo>
                <a:lnTo>
                  <a:pt x="388" y="489"/>
                </a:lnTo>
                <a:lnTo>
                  <a:pt x="434" y="452"/>
                </a:lnTo>
                <a:lnTo>
                  <a:pt x="482" y="415"/>
                </a:lnTo>
                <a:lnTo>
                  <a:pt x="533" y="379"/>
                </a:lnTo>
                <a:lnTo>
                  <a:pt x="588" y="344"/>
                </a:lnTo>
                <a:lnTo>
                  <a:pt x="643" y="309"/>
                </a:lnTo>
                <a:lnTo>
                  <a:pt x="703" y="275"/>
                </a:lnTo>
                <a:lnTo>
                  <a:pt x="763" y="242"/>
                </a:lnTo>
                <a:lnTo>
                  <a:pt x="828" y="208"/>
                </a:lnTo>
                <a:lnTo>
                  <a:pt x="893" y="176"/>
                </a:lnTo>
                <a:lnTo>
                  <a:pt x="962" y="144"/>
                </a:lnTo>
                <a:lnTo>
                  <a:pt x="1035" y="114"/>
                </a:lnTo>
                <a:lnTo>
                  <a:pt x="1109" y="84"/>
                </a:lnTo>
                <a:lnTo>
                  <a:pt x="1185" y="54"/>
                </a:lnTo>
                <a:lnTo>
                  <a:pt x="1264" y="26"/>
                </a:lnTo>
                <a:lnTo>
                  <a:pt x="1346" y="0"/>
                </a:lnTo>
                <a:lnTo>
                  <a:pt x="3158" y="0"/>
                </a:lnTo>
                <a:lnTo>
                  <a:pt x="3239" y="26"/>
                </a:lnTo>
                <a:lnTo>
                  <a:pt x="3318" y="54"/>
                </a:lnTo>
                <a:lnTo>
                  <a:pt x="3394" y="84"/>
                </a:lnTo>
                <a:lnTo>
                  <a:pt x="3468" y="114"/>
                </a:lnTo>
                <a:lnTo>
                  <a:pt x="3541" y="144"/>
                </a:lnTo>
                <a:lnTo>
                  <a:pt x="3610" y="176"/>
                </a:lnTo>
                <a:lnTo>
                  <a:pt x="3677" y="208"/>
                </a:lnTo>
                <a:lnTo>
                  <a:pt x="3740" y="242"/>
                </a:lnTo>
                <a:lnTo>
                  <a:pt x="3802" y="275"/>
                </a:lnTo>
                <a:lnTo>
                  <a:pt x="3861" y="309"/>
                </a:lnTo>
                <a:lnTo>
                  <a:pt x="3917" y="344"/>
                </a:lnTo>
                <a:lnTo>
                  <a:pt x="3970" y="379"/>
                </a:lnTo>
                <a:lnTo>
                  <a:pt x="4021" y="415"/>
                </a:lnTo>
                <a:lnTo>
                  <a:pt x="4071" y="452"/>
                </a:lnTo>
                <a:lnTo>
                  <a:pt x="4117" y="489"/>
                </a:lnTo>
                <a:lnTo>
                  <a:pt x="4159" y="526"/>
                </a:lnTo>
                <a:lnTo>
                  <a:pt x="4201" y="563"/>
                </a:lnTo>
                <a:lnTo>
                  <a:pt x="4238" y="602"/>
                </a:lnTo>
                <a:lnTo>
                  <a:pt x="4276" y="641"/>
                </a:lnTo>
                <a:lnTo>
                  <a:pt x="4307" y="680"/>
                </a:lnTo>
                <a:lnTo>
                  <a:pt x="4339" y="719"/>
                </a:lnTo>
                <a:lnTo>
                  <a:pt x="4367" y="758"/>
                </a:lnTo>
                <a:lnTo>
                  <a:pt x="4392" y="797"/>
                </a:lnTo>
                <a:lnTo>
                  <a:pt x="4415" y="837"/>
                </a:lnTo>
                <a:lnTo>
                  <a:pt x="4434" y="878"/>
                </a:lnTo>
                <a:lnTo>
                  <a:pt x="4454" y="917"/>
                </a:lnTo>
                <a:lnTo>
                  <a:pt x="4468" y="957"/>
                </a:lnTo>
                <a:lnTo>
                  <a:pt x="4480" y="998"/>
                </a:lnTo>
                <a:lnTo>
                  <a:pt x="4491" y="1039"/>
                </a:lnTo>
                <a:lnTo>
                  <a:pt x="4498" y="1079"/>
                </a:lnTo>
                <a:lnTo>
                  <a:pt x="4503" y="1120"/>
                </a:lnTo>
                <a:lnTo>
                  <a:pt x="4505" y="1161"/>
                </a:lnTo>
                <a:lnTo>
                  <a:pt x="4505" y="1201"/>
                </a:lnTo>
                <a:lnTo>
                  <a:pt x="4502" y="1240"/>
                </a:lnTo>
                <a:lnTo>
                  <a:pt x="4496" y="1281"/>
                </a:lnTo>
                <a:lnTo>
                  <a:pt x="4487" y="1321"/>
                </a:lnTo>
                <a:lnTo>
                  <a:pt x="4477" y="1360"/>
                </a:lnTo>
                <a:lnTo>
                  <a:pt x="4463" y="1401"/>
                </a:lnTo>
                <a:lnTo>
                  <a:pt x="4447" y="1440"/>
                </a:lnTo>
                <a:lnTo>
                  <a:pt x="4427" y="1479"/>
                </a:lnTo>
                <a:lnTo>
                  <a:pt x="4406" y="1518"/>
                </a:lnTo>
                <a:lnTo>
                  <a:pt x="4383" y="1556"/>
                </a:lnTo>
                <a:lnTo>
                  <a:pt x="4357" y="1595"/>
                </a:lnTo>
                <a:lnTo>
                  <a:pt x="4327" y="1632"/>
                </a:lnTo>
                <a:lnTo>
                  <a:pt x="4295" y="1670"/>
                </a:lnTo>
                <a:lnTo>
                  <a:pt x="4261" y="1707"/>
                </a:lnTo>
                <a:lnTo>
                  <a:pt x="4224" y="1742"/>
                </a:lnTo>
                <a:lnTo>
                  <a:pt x="4184" y="1779"/>
                </a:lnTo>
                <a:lnTo>
                  <a:pt x="4141" y="1814"/>
                </a:lnTo>
                <a:lnTo>
                  <a:pt x="4097" y="1848"/>
                </a:lnTo>
                <a:lnTo>
                  <a:pt x="4049" y="1883"/>
                </a:lnTo>
                <a:lnTo>
                  <a:pt x="3998" y="1917"/>
                </a:lnTo>
                <a:lnTo>
                  <a:pt x="3945" y="1949"/>
                </a:lnTo>
                <a:lnTo>
                  <a:pt x="3891" y="1981"/>
                </a:lnTo>
                <a:lnTo>
                  <a:pt x="3832" y="2012"/>
                </a:lnTo>
                <a:lnTo>
                  <a:pt x="3772" y="2042"/>
                </a:lnTo>
                <a:lnTo>
                  <a:pt x="3709" y="2072"/>
                </a:lnTo>
                <a:lnTo>
                  <a:pt x="3642" y="2102"/>
                </a:lnTo>
                <a:lnTo>
                  <a:pt x="3573" y="2131"/>
                </a:lnTo>
                <a:lnTo>
                  <a:pt x="3502" y="2157"/>
                </a:lnTo>
                <a:lnTo>
                  <a:pt x="3428" y="2184"/>
                </a:lnTo>
                <a:lnTo>
                  <a:pt x="3350" y="2210"/>
                </a:lnTo>
                <a:lnTo>
                  <a:pt x="3271" y="2235"/>
                </a:lnTo>
                <a:lnTo>
                  <a:pt x="3189" y="2258"/>
                </a:lnTo>
                <a:lnTo>
                  <a:pt x="1316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63840" y="1873080"/>
            <a:ext cx="5821200" cy="3584880"/>
          </a:xfrm>
          <a:custGeom>
            <a:avLst/>
            <a:gdLst/>
            <a:ahLst/>
            <a:rect l="l" t="t" r="r" b="b"/>
            <a:pathLst>
              <a:path w="4125" h="2258">
                <a:moveTo>
                  <a:pt x="1204" y="2258"/>
                </a:moveTo>
                <a:lnTo>
                  <a:pt x="1128" y="2235"/>
                </a:lnTo>
                <a:lnTo>
                  <a:pt x="1056" y="2210"/>
                </a:lnTo>
                <a:lnTo>
                  <a:pt x="985" y="2184"/>
                </a:lnTo>
                <a:lnTo>
                  <a:pt x="918" y="2157"/>
                </a:lnTo>
                <a:lnTo>
                  <a:pt x="853" y="2131"/>
                </a:lnTo>
                <a:lnTo>
                  <a:pt x="789" y="2102"/>
                </a:lnTo>
                <a:lnTo>
                  <a:pt x="729" y="2072"/>
                </a:lnTo>
                <a:lnTo>
                  <a:pt x="671" y="2042"/>
                </a:lnTo>
                <a:lnTo>
                  <a:pt x="614" y="2012"/>
                </a:lnTo>
                <a:lnTo>
                  <a:pt x="561" y="1981"/>
                </a:lnTo>
                <a:lnTo>
                  <a:pt x="510" y="1949"/>
                </a:lnTo>
                <a:lnTo>
                  <a:pt x="462" y="1917"/>
                </a:lnTo>
                <a:lnTo>
                  <a:pt x="416" y="1883"/>
                </a:lnTo>
                <a:lnTo>
                  <a:pt x="372" y="1848"/>
                </a:lnTo>
                <a:lnTo>
                  <a:pt x="332" y="1814"/>
                </a:lnTo>
                <a:lnTo>
                  <a:pt x="293" y="1779"/>
                </a:lnTo>
                <a:lnTo>
                  <a:pt x="256" y="1742"/>
                </a:lnTo>
                <a:lnTo>
                  <a:pt x="222" y="1707"/>
                </a:lnTo>
                <a:lnTo>
                  <a:pt x="190" y="1670"/>
                </a:lnTo>
                <a:lnTo>
                  <a:pt x="162" y="1632"/>
                </a:lnTo>
                <a:lnTo>
                  <a:pt x="136" y="1595"/>
                </a:lnTo>
                <a:lnTo>
                  <a:pt x="111" y="1556"/>
                </a:lnTo>
                <a:lnTo>
                  <a:pt x="88" y="1518"/>
                </a:lnTo>
                <a:lnTo>
                  <a:pt x="68" y="1479"/>
                </a:lnTo>
                <a:lnTo>
                  <a:pt x="53" y="1440"/>
                </a:lnTo>
                <a:lnTo>
                  <a:pt x="37" y="1401"/>
                </a:lnTo>
                <a:lnTo>
                  <a:pt x="24" y="1360"/>
                </a:lnTo>
                <a:lnTo>
                  <a:pt x="15" y="1321"/>
                </a:lnTo>
                <a:lnTo>
                  <a:pt x="7" y="1281"/>
                </a:lnTo>
                <a:lnTo>
                  <a:pt x="1" y="1240"/>
                </a:lnTo>
                <a:lnTo>
                  <a:pt x="0" y="1201"/>
                </a:lnTo>
                <a:lnTo>
                  <a:pt x="0" y="1161"/>
                </a:lnTo>
                <a:lnTo>
                  <a:pt x="1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3" y="957"/>
                </a:lnTo>
                <a:lnTo>
                  <a:pt x="46" y="917"/>
                </a:lnTo>
                <a:lnTo>
                  <a:pt x="63" y="878"/>
                </a:lnTo>
                <a:lnTo>
                  <a:pt x="81" y="837"/>
                </a:lnTo>
                <a:lnTo>
                  <a:pt x="102" y="797"/>
                </a:lnTo>
                <a:lnTo>
                  <a:pt x="125" y="758"/>
                </a:lnTo>
                <a:lnTo>
                  <a:pt x="151" y="719"/>
                </a:lnTo>
                <a:lnTo>
                  <a:pt x="180" y="680"/>
                </a:lnTo>
                <a:lnTo>
                  <a:pt x="210" y="641"/>
                </a:lnTo>
                <a:lnTo>
                  <a:pt x="242" y="602"/>
                </a:lnTo>
                <a:lnTo>
                  <a:pt x="277" y="563"/>
                </a:lnTo>
                <a:lnTo>
                  <a:pt x="316" y="526"/>
                </a:lnTo>
                <a:lnTo>
                  <a:pt x="355" y="489"/>
                </a:lnTo>
                <a:lnTo>
                  <a:pt x="397" y="452"/>
                </a:lnTo>
                <a:lnTo>
                  <a:pt x="441" y="415"/>
                </a:lnTo>
                <a:lnTo>
                  <a:pt x="489" y="379"/>
                </a:lnTo>
                <a:lnTo>
                  <a:pt x="538" y="344"/>
                </a:lnTo>
                <a:lnTo>
                  <a:pt x="589" y="309"/>
                </a:lnTo>
                <a:lnTo>
                  <a:pt x="642" y="275"/>
                </a:lnTo>
                <a:lnTo>
                  <a:pt x="699" y="242"/>
                </a:lnTo>
                <a:lnTo>
                  <a:pt x="757" y="208"/>
                </a:lnTo>
                <a:lnTo>
                  <a:pt x="819" y="176"/>
                </a:lnTo>
                <a:lnTo>
                  <a:pt x="883" y="144"/>
                </a:lnTo>
                <a:lnTo>
                  <a:pt x="948" y="114"/>
                </a:lnTo>
                <a:lnTo>
                  <a:pt x="1015" y="84"/>
                </a:lnTo>
                <a:lnTo>
                  <a:pt x="1086" y="54"/>
                </a:lnTo>
                <a:lnTo>
                  <a:pt x="1158" y="26"/>
                </a:lnTo>
                <a:lnTo>
                  <a:pt x="1234" y="0"/>
                </a:lnTo>
                <a:lnTo>
                  <a:pt x="2891" y="0"/>
                </a:lnTo>
                <a:lnTo>
                  <a:pt x="2965" y="26"/>
                </a:lnTo>
                <a:lnTo>
                  <a:pt x="3037" y="54"/>
                </a:lnTo>
                <a:lnTo>
                  <a:pt x="3108" y="84"/>
                </a:lnTo>
                <a:lnTo>
                  <a:pt x="3177" y="114"/>
                </a:lnTo>
                <a:lnTo>
                  <a:pt x="3242" y="144"/>
                </a:lnTo>
                <a:lnTo>
                  <a:pt x="3306" y="176"/>
                </a:lnTo>
                <a:lnTo>
                  <a:pt x="3366" y="208"/>
                </a:lnTo>
                <a:lnTo>
                  <a:pt x="3424" y="242"/>
                </a:lnTo>
                <a:lnTo>
                  <a:pt x="3481" y="275"/>
                </a:lnTo>
                <a:lnTo>
                  <a:pt x="3535" y="309"/>
                </a:lnTo>
                <a:lnTo>
                  <a:pt x="3587" y="344"/>
                </a:lnTo>
                <a:lnTo>
                  <a:pt x="3636" y="379"/>
                </a:lnTo>
                <a:lnTo>
                  <a:pt x="3682" y="415"/>
                </a:lnTo>
                <a:lnTo>
                  <a:pt x="3726" y="452"/>
                </a:lnTo>
                <a:lnTo>
                  <a:pt x="3768" y="489"/>
                </a:lnTo>
                <a:lnTo>
                  <a:pt x="3809" y="526"/>
                </a:lnTo>
                <a:lnTo>
                  <a:pt x="3846" y="563"/>
                </a:lnTo>
                <a:lnTo>
                  <a:pt x="3881" y="602"/>
                </a:lnTo>
                <a:lnTo>
                  <a:pt x="3913" y="641"/>
                </a:lnTo>
                <a:lnTo>
                  <a:pt x="3945" y="680"/>
                </a:lnTo>
                <a:lnTo>
                  <a:pt x="3973" y="719"/>
                </a:lnTo>
                <a:lnTo>
                  <a:pt x="3998" y="758"/>
                </a:lnTo>
                <a:lnTo>
                  <a:pt x="4021" y="797"/>
                </a:lnTo>
                <a:lnTo>
                  <a:pt x="4042" y="837"/>
                </a:lnTo>
                <a:lnTo>
                  <a:pt x="4062" y="878"/>
                </a:lnTo>
                <a:lnTo>
                  <a:pt x="4077" y="917"/>
                </a:lnTo>
                <a:lnTo>
                  <a:pt x="4092" y="957"/>
                </a:lnTo>
                <a:lnTo>
                  <a:pt x="4102" y="998"/>
                </a:lnTo>
                <a:lnTo>
                  <a:pt x="4111" y="1039"/>
                </a:lnTo>
                <a:lnTo>
                  <a:pt x="4118" y="1079"/>
                </a:lnTo>
                <a:lnTo>
                  <a:pt x="4123" y="1120"/>
                </a:lnTo>
                <a:lnTo>
                  <a:pt x="4125" y="1161"/>
                </a:lnTo>
                <a:lnTo>
                  <a:pt x="4123" y="1201"/>
                </a:lnTo>
                <a:lnTo>
                  <a:pt x="4122" y="1240"/>
                </a:lnTo>
                <a:lnTo>
                  <a:pt x="4116" y="1281"/>
                </a:lnTo>
                <a:lnTo>
                  <a:pt x="4109" y="1321"/>
                </a:lnTo>
                <a:lnTo>
                  <a:pt x="4099" y="1360"/>
                </a:lnTo>
                <a:lnTo>
                  <a:pt x="4086" y="1401"/>
                </a:lnTo>
                <a:lnTo>
                  <a:pt x="4072" y="1440"/>
                </a:lnTo>
                <a:lnTo>
                  <a:pt x="4055" y="1479"/>
                </a:lnTo>
                <a:lnTo>
                  <a:pt x="4035" y="1518"/>
                </a:lnTo>
                <a:lnTo>
                  <a:pt x="4012" y="1556"/>
                </a:lnTo>
                <a:lnTo>
                  <a:pt x="3989" y="1595"/>
                </a:lnTo>
                <a:lnTo>
                  <a:pt x="3961" y="1632"/>
                </a:lnTo>
                <a:lnTo>
                  <a:pt x="3933" y="1670"/>
                </a:lnTo>
                <a:lnTo>
                  <a:pt x="3901" y="1707"/>
                </a:lnTo>
                <a:lnTo>
                  <a:pt x="3867" y="1742"/>
                </a:lnTo>
                <a:lnTo>
                  <a:pt x="3830" y="1779"/>
                </a:lnTo>
                <a:lnTo>
                  <a:pt x="3791" y="1814"/>
                </a:lnTo>
                <a:lnTo>
                  <a:pt x="3751" y="1848"/>
                </a:lnTo>
                <a:lnTo>
                  <a:pt x="3707" y="1883"/>
                </a:lnTo>
                <a:lnTo>
                  <a:pt x="3661" y="1917"/>
                </a:lnTo>
                <a:lnTo>
                  <a:pt x="3613" y="1949"/>
                </a:lnTo>
                <a:lnTo>
                  <a:pt x="3562" y="1981"/>
                </a:lnTo>
                <a:lnTo>
                  <a:pt x="3509" y="2012"/>
                </a:lnTo>
                <a:lnTo>
                  <a:pt x="3452" y="2042"/>
                </a:lnTo>
                <a:lnTo>
                  <a:pt x="3394" y="2072"/>
                </a:lnTo>
                <a:lnTo>
                  <a:pt x="3334" y="2102"/>
                </a:lnTo>
                <a:lnTo>
                  <a:pt x="3270" y="2131"/>
                </a:lnTo>
                <a:lnTo>
                  <a:pt x="3205" y="2157"/>
                </a:lnTo>
                <a:lnTo>
                  <a:pt x="3138" y="2184"/>
                </a:lnTo>
                <a:lnTo>
                  <a:pt x="3067" y="2210"/>
                </a:lnTo>
                <a:lnTo>
                  <a:pt x="2995" y="2235"/>
                </a:lnTo>
                <a:lnTo>
                  <a:pt x="2919" y="2258"/>
                </a:lnTo>
                <a:lnTo>
                  <a:pt x="1204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6720" y="1873080"/>
            <a:ext cx="5270400" cy="3584880"/>
          </a:xfrm>
          <a:custGeom>
            <a:avLst/>
            <a:gdLst/>
            <a:ahLst/>
            <a:rect l="l" t="t" r="r" b="b"/>
            <a:pathLst>
              <a:path w="3735" h="2258">
                <a:moveTo>
                  <a:pt x="1091" y="2258"/>
                </a:moveTo>
                <a:lnTo>
                  <a:pt x="1024" y="2235"/>
                </a:lnTo>
                <a:lnTo>
                  <a:pt x="957" y="2210"/>
                </a:lnTo>
                <a:lnTo>
                  <a:pt x="894" y="2184"/>
                </a:lnTo>
                <a:lnTo>
                  <a:pt x="832" y="2157"/>
                </a:lnTo>
                <a:lnTo>
                  <a:pt x="773" y="2131"/>
                </a:lnTo>
                <a:lnTo>
                  <a:pt x="717" y="2102"/>
                </a:lnTo>
                <a:lnTo>
                  <a:pt x="662" y="2072"/>
                </a:lnTo>
                <a:lnTo>
                  <a:pt x="609" y="2042"/>
                </a:lnTo>
                <a:lnTo>
                  <a:pt x="558" y="2012"/>
                </a:lnTo>
                <a:lnTo>
                  <a:pt x="510" y="1981"/>
                </a:lnTo>
                <a:lnTo>
                  <a:pt x="464" y="1949"/>
                </a:lnTo>
                <a:lnTo>
                  <a:pt x="420" y="1917"/>
                </a:lnTo>
                <a:lnTo>
                  <a:pt x="378" y="1883"/>
                </a:lnTo>
                <a:lnTo>
                  <a:pt x="339" y="1848"/>
                </a:lnTo>
                <a:lnTo>
                  <a:pt x="302" y="1814"/>
                </a:lnTo>
                <a:lnTo>
                  <a:pt x="267" y="1779"/>
                </a:lnTo>
                <a:lnTo>
                  <a:pt x="233" y="1742"/>
                </a:lnTo>
                <a:lnTo>
                  <a:pt x="203" y="1707"/>
                </a:lnTo>
                <a:lnTo>
                  <a:pt x="175" y="1670"/>
                </a:lnTo>
                <a:lnTo>
                  <a:pt x="148" y="1632"/>
                </a:lnTo>
                <a:lnTo>
                  <a:pt x="123" y="1595"/>
                </a:lnTo>
                <a:lnTo>
                  <a:pt x="102" y="1556"/>
                </a:lnTo>
                <a:lnTo>
                  <a:pt x="81" y="1518"/>
                </a:lnTo>
                <a:lnTo>
                  <a:pt x="63" y="1479"/>
                </a:lnTo>
                <a:lnTo>
                  <a:pt x="49" y="1440"/>
                </a:lnTo>
                <a:lnTo>
                  <a:pt x="35" y="1401"/>
                </a:lnTo>
                <a:lnTo>
                  <a:pt x="25" y="1360"/>
                </a:lnTo>
                <a:lnTo>
                  <a:pt x="14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0" y="957"/>
                </a:lnTo>
                <a:lnTo>
                  <a:pt x="44" y="917"/>
                </a:lnTo>
                <a:lnTo>
                  <a:pt x="58" y="878"/>
                </a:lnTo>
                <a:lnTo>
                  <a:pt x="74" y="837"/>
                </a:lnTo>
                <a:lnTo>
                  <a:pt x="93" y="797"/>
                </a:lnTo>
                <a:lnTo>
                  <a:pt x="115" y="758"/>
                </a:lnTo>
                <a:lnTo>
                  <a:pt x="138" y="719"/>
                </a:lnTo>
                <a:lnTo>
                  <a:pt x="164" y="680"/>
                </a:lnTo>
                <a:lnTo>
                  <a:pt x="191" y="641"/>
                </a:lnTo>
                <a:lnTo>
                  <a:pt x="221" y="602"/>
                </a:lnTo>
                <a:lnTo>
                  <a:pt x="252" y="563"/>
                </a:lnTo>
                <a:lnTo>
                  <a:pt x="286" y="526"/>
                </a:lnTo>
                <a:lnTo>
                  <a:pt x="323" y="489"/>
                </a:lnTo>
                <a:lnTo>
                  <a:pt x="360" y="452"/>
                </a:lnTo>
                <a:lnTo>
                  <a:pt x="401" y="415"/>
                </a:lnTo>
                <a:lnTo>
                  <a:pt x="443" y="379"/>
                </a:lnTo>
                <a:lnTo>
                  <a:pt x="487" y="344"/>
                </a:lnTo>
                <a:lnTo>
                  <a:pt x="535" y="309"/>
                </a:lnTo>
                <a:lnTo>
                  <a:pt x="583" y="275"/>
                </a:lnTo>
                <a:lnTo>
                  <a:pt x="634" y="242"/>
                </a:lnTo>
                <a:lnTo>
                  <a:pt x="687" y="208"/>
                </a:lnTo>
                <a:lnTo>
                  <a:pt x="742" y="176"/>
                </a:lnTo>
                <a:lnTo>
                  <a:pt x="800" y="144"/>
                </a:lnTo>
                <a:lnTo>
                  <a:pt x="858" y="114"/>
                </a:lnTo>
                <a:lnTo>
                  <a:pt x="920" y="84"/>
                </a:lnTo>
                <a:lnTo>
                  <a:pt x="984" y="54"/>
                </a:lnTo>
                <a:lnTo>
                  <a:pt x="1049" y="26"/>
                </a:lnTo>
                <a:lnTo>
                  <a:pt x="1118" y="0"/>
                </a:lnTo>
                <a:lnTo>
                  <a:pt x="2617" y="0"/>
                </a:lnTo>
                <a:lnTo>
                  <a:pt x="2686" y="26"/>
                </a:lnTo>
                <a:lnTo>
                  <a:pt x="2751" y="54"/>
                </a:lnTo>
                <a:lnTo>
                  <a:pt x="2815" y="84"/>
                </a:lnTo>
                <a:lnTo>
                  <a:pt x="2877" y="114"/>
                </a:lnTo>
                <a:lnTo>
                  <a:pt x="2935" y="144"/>
                </a:lnTo>
                <a:lnTo>
                  <a:pt x="2993" y="176"/>
                </a:lnTo>
                <a:lnTo>
                  <a:pt x="3048" y="208"/>
                </a:lnTo>
                <a:lnTo>
                  <a:pt x="3101" y="242"/>
                </a:lnTo>
                <a:lnTo>
                  <a:pt x="3152" y="275"/>
                </a:lnTo>
                <a:lnTo>
                  <a:pt x="3200" y="309"/>
                </a:lnTo>
                <a:lnTo>
                  <a:pt x="3248" y="344"/>
                </a:lnTo>
                <a:lnTo>
                  <a:pt x="3292" y="379"/>
                </a:lnTo>
                <a:lnTo>
                  <a:pt x="3334" y="415"/>
                </a:lnTo>
                <a:lnTo>
                  <a:pt x="3375" y="452"/>
                </a:lnTo>
                <a:lnTo>
                  <a:pt x="3412" y="489"/>
                </a:lnTo>
                <a:lnTo>
                  <a:pt x="3449" y="526"/>
                </a:lnTo>
                <a:lnTo>
                  <a:pt x="3483" y="563"/>
                </a:lnTo>
                <a:lnTo>
                  <a:pt x="3514" y="602"/>
                </a:lnTo>
                <a:lnTo>
                  <a:pt x="3544" y="641"/>
                </a:lnTo>
                <a:lnTo>
                  <a:pt x="3571" y="680"/>
                </a:lnTo>
                <a:lnTo>
                  <a:pt x="3597" y="719"/>
                </a:lnTo>
                <a:lnTo>
                  <a:pt x="3620" y="758"/>
                </a:lnTo>
                <a:lnTo>
                  <a:pt x="3642" y="797"/>
                </a:lnTo>
                <a:lnTo>
                  <a:pt x="3661" y="837"/>
                </a:lnTo>
                <a:lnTo>
                  <a:pt x="3677" y="878"/>
                </a:lnTo>
                <a:lnTo>
                  <a:pt x="3691" y="917"/>
                </a:lnTo>
                <a:lnTo>
                  <a:pt x="3705" y="957"/>
                </a:lnTo>
                <a:lnTo>
                  <a:pt x="3714" y="998"/>
                </a:lnTo>
                <a:lnTo>
                  <a:pt x="3723" y="1039"/>
                </a:lnTo>
                <a:lnTo>
                  <a:pt x="3730" y="1079"/>
                </a:lnTo>
                <a:lnTo>
                  <a:pt x="3733" y="1120"/>
                </a:lnTo>
                <a:lnTo>
                  <a:pt x="3735" y="1161"/>
                </a:lnTo>
                <a:lnTo>
                  <a:pt x="3733" y="1201"/>
                </a:lnTo>
                <a:lnTo>
                  <a:pt x="3732" y="1240"/>
                </a:lnTo>
                <a:lnTo>
                  <a:pt x="3726" y="1281"/>
                </a:lnTo>
                <a:lnTo>
                  <a:pt x="3719" y="1321"/>
                </a:lnTo>
                <a:lnTo>
                  <a:pt x="3710" y="1360"/>
                </a:lnTo>
                <a:lnTo>
                  <a:pt x="3700" y="1401"/>
                </a:lnTo>
                <a:lnTo>
                  <a:pt x="3686" y="1440"/>
                </a:lnTo>
                <a:lnTo>
                  <a:pt x="3672" y="1479"/>
                </a:lnTo>
                <a:lnTo>
                  <a:pt x="3654" y="1518"/>
                </a:lnTo>
                <a:lnTo>
                  <a:pt x="3633" y="1556"/>
                </a:lnTo>
                <a:lnTo>
                  <a:pt x="3612" y="1595"/>
                </a:lnTo>
                <a:lnTo>
                  <a:pt x="3587" y="1632"/>
                </a:lnTo>
                <a:lnTo>
                  <a:pt x="3560" y="1670"/>
                </a:lnTo>
                <a:lnTo>
                  <a:pt x="3532" y="1707"/>
                </a:lnTo>
                <a:lnTo>
                  <a:pt x="3502" y="1742"/>
                </a:lnTo>
                <a:lnTo>
                  <a:pt x="3468" y="1779"/>
                </a:lnTo>
                <a:lnTo>
                  <a:pt x="3433" y="1814"/>
                </a:lnTo>
                <a:lnTo>
                  <a:pt x="3396" y="1848"/>
                </a:lnTo>
                <a:lnTo>
                  <a:pt x="3357" y="1883"/>
                </a:lnTo>
                <a:lnTo>
                  <a:pt x="3315" y="1917"/>
                </a:lnTo>
                <a:lnTo>
                  <a:pt x="3271" y="1949"/>
                </a:lnTo>
                <a:lnTo>
                  <a:pt x="3225" y="1981"/>
                </a:lnTo>
                <a:lnTo>
                  <a:pt x="3177" y="2012"/>
                </a:lnTo>
                <a:lnTo>
                  <a:pt x="3126" y="2042"/>
                </a:lnTo>
                <a:lnTo>
                  <a:pt x="3073" y="2072"/>
                </a:lnTo>
                <a:lnTo>
                  <a:pt x="3018" y="2102"/>
                </a:lnTo>
                <a:lnTo>
                  <a:pt x="2962" y="2131"/>
                </a:lnTo>
                <a:lnTo>
                  <a:pt x="2903" y="2157"/>
                </a:lnTo>
                <a:lnTo>
                  <a:pt x="2841" y="2184"/>
                </a:lnTo>
                <a:lnTo>
                  <a:pt x="2778" y="2210"/>
                </a:lnTo>
                <a:lnTo>
                  <a:pt x="2711" y="2235"/>
                </a:lnTo>
                <a:lnTo>
                  <a:pt x="2644" y="2258"/>
                </a:lnTo>
                <a:lnTo>
                  <a:pt x="1091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55680" y="1873080"/>
            <a:ext cx="4632480" cy="3584880"/>
          </a:xfrm>
          <a:custGeom>
            <a:avLst/>
            <a:gdLst/>
            <a:ahLst/>
            <a:rect l="l" t="t" r="r" b="b"/>
            <a:pathLst>
              <a:path w="3283" h="2258">
                <a:moveTo>
                  <a:pt x="959" y="2258"/>
                </a:moveTo>
                <a:lnTo>
                  <a:pt x="899" y="2235"/>
                </a:lnTo>
                <a:lnTo>
                  <a:pt x="841" y="2210"/>
                </a:lnTo>
                <a:lnTo>
                  <a:pt x="786" y="2184"/>
                </a:lnTo>
                <a:lnTo>
                  <a:pt x="731" y="2157"/>
                </a:lnTo>
                <a:lnTo>
                  <a:pt x="678" y="2131"/>
                </a:lnTo>
                <a:lnTo>
                  <a:pt x="629" y="2102"/>
                </a:lnTo>
                <a:lnTo>
                  <a:pt x="581" y="2072"/>
                </a:lnTo>
                <a:lnTo>
                  <a:pt x="535" y="2042"/>
                </a:lnTo>
                <a:lnTo>
                  <a:pt x="489" y="2012"/>
                </a:lnTo>
                <a:lnTo>
                  <a:pt x="447" y="1981"/>
                </a:lnTo>
                <a:lnTo>
                  <a:pt x="406" y="1949"/>
                </a:lnTo>
                <a:lnTo>
                  <a:pt x="369" y="1917"/>
                </a:lnTo>
                <a:lnTo>
                  <a:pt x="332" y="1883"/>
                </a:lnTo>
                <a:lnTo>
                  <a:pt x="297" y="1848"/>
                </a:lnTo>
                <a:lnTo>
                  <a:pt x="265" y="1814"/>
                </a:lnTo>
                <a:lnTo>
                  <a:pt x="233" y="1779"/>
                </a:lnTo>
                <a:lnTo>
                  <a:pt x="205" y="1742"/>
                </a:lnTo>
                <a:lnTo>
                  <a:pt x="178" y="1707"/>
                </a:lnTo>
                <a:lnTo>
                  <a:pt x="152" y="1670"/>
                </a:lnTo>
                <a:lnTo>
                  <a:pt x="129" y="1632"/>
                </a:lnTo>
                <a:lnTo>
                  <a:pt x="108" y="1595"/>
                </a:lnTo>
                <a:lnTo>
                  <a:pt x="88" y="1556"/>
                </a:lnTo>
                <a:lnTo>
                  <a:pt x="71" y="1518"/>
                </a:lnTo>
                <a:lnTo>
                  <a:pt x="55" y="1479"/>
                </a:lnTo>
                <a:lnTo>
                  <a:pt x="42" y="1440"/>
                </a:lnTo>
                <a:lnTo>
                  <a:pt x="30" y="1401"/>
                </a:lnTo>
                <a:lnTo>
                  <a:pt x="21" y="1360"/>
                </a:lnTo>
                <a:lnTo>
                  <a:pt x="12" y="1321"/>
                </a:lnTo>
                <a:lnTo>
                  <a:pt x="7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1" y="1039"/>
                </a:lnTo>
                <a:lnTo>
                  <a:pt x="18" y="998"/>
                </a:lnTo>
                <a:lnTo>
                  <a:pt x="26" y="957"/>
                </a:lnTo>
                <a:lnTo>
                  <a:pt x="37" y="917"/>
                </a:lnTo>
                <a:lnTo>
                  <a:pt x="51" y="878"/>
                </a:lnTo>
                <a:lnTo>
                  <a:pt x="65" y="837"/>
                </a:lnTo>
                <a:lnTo>
                  <a:pt x="81" y="797"/>
                </a:lnTo>
                <a:lnTo>
                  <a:pt x="101" y="758"/>
                </a:lnTo>
                <a:lnTo>
                  <a:pt x="120" y="719"/>
                </a:lnTo>
                <a:lnTo>
                  <a:pt x="143" y="680"/>
                </a:lnTo>
                <a:lnTo>
                  <a:pt x="168" y="641"/>
                </a:lnTo>
                <a:lnTo>
                  <a:pt x="194" y="602"/>
                </a:lnTo>
                <a:lnTo>
                  <a:pt x="221" y="563"/>
                </a:lnTo>
                <a:lnTo>
                  <a:pt x="251" y="526"/>
                </a:lnTo>
                <a:lnTo>
                  <a:pt x="282" y="489"/>
                </a:lnTo>
                <a:lnTo>
                  <a:pt x="316" y="452"/>
                </a:lnTo>
                <a:lnTo>
                  <a:pt x="351" y="415"/>
                </a:lnTo>
                <a:lnTo>
                  <a:pt x="388" y="379"/>
                </a:lnTo>
                <a:lnTo>
                  <a:pt x="429" y="344"/>
                </a:lnTo>
                <a:lnTo>
                  <a:pt x="470" y="309"/>
                </a:lnTo>
                <a:lnTo>
                  <a:pt x="512" y="275"/>
                </a:lnTo>
                <a:lnTo>
                  <a:pt x="556" y="242"/>
                </a:lnTo>
                <a:lnTo>
                  <a:pt x="604" y="208"/>
                </a:lnTo>
                <a:lnTo>
                  <a:pt x="652" y="176"/>
                </a:lnTo>
                <a:lnTo>
                  <a:pt x="703" y="144"/>
                </a:lnTo>
                <a:lnTo>
                  <a:pt x="754" y="114"/>
                </a:lnTo>
                <a:lnTo>
                  <a:pt x="809" y="84"/>
                </a:lnTo>
                <a:lnTo>
                  <a:pt x="865" y="54"/>
                </a:lnTo>
                <a:lnTo>
                  <a:pt x="922" y="26"/>
                </a:lnTo>
                <a:lnTo>
                  <a:pt x="982" y="0"/>
                </a:lnTo>
                <a:lnTo>
                  <a:pt x="2301" y="0"/>
                </a:lnTo>
                <a:lnTo>
                  <a:pt x="2361" y="26"/>
                </a:lnTo>
                <a:lnTo>
                  <a:pt x="2418" y="54"/>
                </a:lnTo>
                <a:lnTo>
                  <a:pt x="2474" y="84"/>
                </a:lnTo>
                <a:lnTo>
                  <a:pt x="2529" y="114"/>
                </a:lnTo>
                <a:lnTo>
                  <a:pt x="2580" y="144"/>
                </a:lnTo>
                <a:lnTo>
                  <a:pt x="2631" y="176"/>
                </a:lnTo>
                <a:lnTo>
                  <a:pt x="2679" y="208"/>
                </a:lnTo>
                <a:lnTo>
                  <a:pt x="2727" y="242"/>
                </a:lnTo>
                <a:lnTo>
                  <a:pt x="2771" y="275"/>
                </a:lnTo>
                <a:lnTo>
                  <a:pt x="2813" y="309"/>
                </a:lnTo>
                <a:lnTo>
                  <a:pt x="2856" y="344"/>
                </a:lnTo>
                <a:lnTo>
                  <a:pt x="2895" y="379"/>
                </a:lnTo>
                <a:lnTo>
                  <a:pt x="2932" y="415"/>
                </a:lnTo>
                <a:lnTo>
                  <a:pt x="2967" y="452"/>
                </a:lnTo>
                <a:lnTo>
                  <a:pt x="3001" y="489"/>
                </a:lnTo>
                <a:lnTo>
                  <a:pt x="3032" y="526"/>
                </a:lnTo>
                <a:lnTo>
                  <a:pt x="3062" y="563"/>
                </a:lnTo>
                <a:lnTo>
                  <a:pt x="3091" y="602"/>
                </a:lnTo>
                <a:lnTo>
                  <a:pt x="3115" y="641"/>
                </a:lnTo>
                <a:lnTo>
                  <a:pt x="3140" y="680"/>
                </a:lnTo>
                <a:lnTo>
                  <a:pt x="3163" y="719"/>
                </a:lnTo>
                <a:lnTo>
                  <a:pt x="3182" y="758"/>
                </a:lnTo>
                <a:lnTo>
                  <a:pt x="3202" y="797"/>
                </a:lnTo>
                <a:lnTo>
                  <a:pt x="3218" y="837"/>
                </a:lnTo>
                <a:lnTo>
                  <a:pt x="3234" y="878"/>
                </a:lnTo>
                <a:lnTo>
                  <a:pt x="3246" y="917"/>
                </a:lnTo>
                <a:lnTo>
                  <a:pt x="3257" y="957"/>
                </a:lnTo>
                <a:lnTo>
                  <a:pt x="3265" y="998"/>
                </a:lnTo>
                <a:lnTo>
                  <a:pt x="3272" y="1039"/>
                </a:lnTo>
                <a:lnTo>
                  <a:pt x="3278" y="1079"/>
                </a:lnTo>
                <a:lnTo>
                  <a:pt x="3281" y="1120"/>
                </a:lnTo>
                <a:lnTo>
                  <a:pt x="3283" y="1161"/>
                </a:lnTo>
                <a:lnTo>
                  <a:pt x="3283" y="1201"/>
                </a:lnTo>
                <a:lnTo>
                  <a:pt x="3281" y="1240"/>
                </a:lnTo>
                <a:lnTo>
                  <a:pt x="3278" y="1281"/>
                </a:lnTo>
                <a:lnTo>
                  <a:pt x="3271" y="1321"/>
                </a:lnTo>
                <a:lnTo>
                  <a:pt x="3264" y="1360"/>
                </a:lnTo>
                <a:lnTo>
                  <a:pt x="3253" y="1401"/>
                </a:lnTo>
                <a:lnTo>
                  <a:pt x="3241" y="1440"/>
                </a:lnTo>
                <a:lnTo>
                  <a:pt x="3228" y="1479"/>
                </a:lnTo>
                <a:lnTo>
                  <a:pt x="3212" y="1518"/>
                </a:lnTo>
                <a:lnTo>
                  <a:pt x="3195" y="1556"/>
                </a:lnTo>
                <a:lnTo>
                  <a:pt x="3175" y="1595"/>
                </a:lnTo>
                <a:lnTo>
                  <a:pt x="3154" y="1632"/>
                </a:lnTo>
                <a:lnTo>
                  <a:pt x="3131" y="1670"/>
                </a:lnTo>
                <a:lnTo>
                  <a:pt x="3106" y="1707"/>
                </a:lnTo>
                <a:lnTo>
                  <a:pt x="3078" y="1742"/>
                </a:lnTo>
                <a:lnTo>
                  <a:pt x="3050" y="1779"/>
                </a:lnTo>
                <a:lnTo>
                  <a:pt x="3018" y="1814"/>
                </a:lnTo>
                <a:lnTo>
                  <a:pt x="2986" y="1848"/>
                </a:lnTo>
                <a:lnTo>
                  <a:pt x="2951" y="1883"/>
                </a:lnTo>
                <a:lnTo>
                  <a:pt x="2914" y="1917"/>
                </a:lnTo>
                <a:lnTo>
                  <a:pt x="2877" y="1949"/>
                </a:lnTo>
                <a:lnTo>
                  <a:pt x="2836" y="1981"/>
                </a:lnTo>
                <a:lnTo>
                  <a:pt x="2794" y="2012"/>
                </a:lnTo>
                <a:lnTo>
                  <a:pt x="2748" y="2042"/>
                </a:lnTo>
                <a:lnTo>
                  <a:pt x="2702" y="2072"/>
                </a:lnTo>
                <a:lnTo>
                  <a:pt x="2654" y="2102"/>
                </a:lnTo>
                <a:lnTo>
                  <a:pt x="2605" y="2131"/>
                </a:lnTo>
                <a:lnTo>
                  <a:pt x="2552" y="2157"/>
                </a:lnTo>
                <a:lnTo>
                  <a:pt x="2497" y="2184"/>
                </a:lnTo>
                <a:lnTo>
                  <a:pt x="2442" y="2210"/>
                </a:lnTo>
                <a:lnTo>
                  <a:pt x="2384" y="2235"/>
                </a:lnTo>
                <a:lnTo>
                  <a:pt x="2324" y="2258"/>
                </a:lnTo>
                <a:lnTo>
                  <a:pt x="959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0040" y="1873080"/>
            <a:ext cx="3805200" cy="3584880"/>
          </a:xfrm>
          <a:custGeom>
            <a:avLst/>
            <a:gdLst/>
            <a:ahLst/>
            <a:rect l="l" t="t" r="r" b="b"/>
            <a:pathLst>
              <a:path w="2697" h="2258">
                <a:moveTo>
                  <a:pt x="788" y="2258"/>
                </a:moveTo>
                <a:lnTo>
                  <a:pt x="738" y="2235"/>
                </a:lnTo>
                <a:lnTo>
                  <a:pt x="691" y="2210"/>
                </a:lnTo>
                <a:lnTo>
                  <a:pt x="645" y="2184"/>
                </a:lnTo>
                <a:lnTo>
                  <a:pt x="601" y="2157"/>
                </a:lnTo>
                <a:lnTo>
                  <a:pt x="558" y="2131"/>
                </a:lnTo>
                <a:lnTo>
                  <a:pt x="518" y="2102"/>
                </a:lnTo>
                <a:lnTo>
                  <a:pt x="477" y="2072"/>
                </a:lnTo>
                <a:lnTo>
                  <a:pt x="440" y="2042"/>
                </a:lnTo>
                <a:lnTo>
                  <a:pt x="403" y="2012"/>
                </a:lnTo>
                <a:lnTo>
                  <a:pt x="367" y="1981"/>
                </a:lnTo>
                <a:lnTo>
                  <a:pt x="334" y="1949"/>
                </a:lnTo>
                <a:lnTo>
                  <a:pt x="302" y="1917"/>
                </a:lnTo>
                <a:lnTo>
                  <a:pt x="272" y="1883"/>
                </a:lnTo>
                <a:lnTo>
                  <a:pt x="244" y="1848"/>
                </a:lnTo>
                <a:lnTo>
                  <a:pt x="217" y="1814"/>
                </a:lnTo>
                <a:lnTo>
                  <a:pt x="193" y="1779"/>
                </a:lnTo>
                <a:lnTo>
                  <a:pt x="168" y="1742"/>
                </a:lnTo>
                <a:lnTo>
                  <a:pt x="147" y="1707"/>
                </a:lnTo>
                <a:lnTo>
                  <a:pt x="125" y="1670"/>
                </a:lnTo>
                <a:lnTo>
                  <a:pt x="106" y="1632"/>
                </a:lnTo>
                <a:lnTo>
                  <a:pt x="88" y="1595"/>
                </a:lnTo>
                <a:lnTo>
                  <a:pt x="73" y="1556"/>
                </a:lnTo>
                <a:lnTo>
                  <a:pt x="58" y="1518"/>
                </a:lnTo>
                <a:lnTo>
                  <a:pt x="46" y="1479"/>
                </a:lnTo>
                <a:lnTo>
                  <a:pt x="35" y="1440"/>
                </a:lnTo>
                <a:lnTo>
                  <a:pt x="25" y="1401"/>
                </a:lnTo>
                <a:lnTo>
                  <a:pt x="18" y="1360"/>
                </a:lnTo>
                <a:lnTo>
                  <a:pt x="11" y="1321"/>
                </a:lnTo>
                <a:lnTo>
                  <a:pt x="5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4" y="1079"/>
                </a:lnTo>
                <a:lnTo>
                  <a:pt x="9" y="1039"/>
                </a:lnTo>
                <a:lnTo>
                  <a:pt x="14" y="998"/>
                </a:lnTo>
                <a:lnTo>
                  <a:pt x="21" y="957"/>
                </a:lnTo>
                <a:lnTo>
                  <a:pt x="32" y="917"/>
                </a:lnTo>
                <a:lnTo>
                  <a:pt x="42" y="878"/>
                </a:lnTo>
                <a:lnTo>
                  <a:pt x="53" y="837"/>
                </a:lnTo>
                <a:lnTo>
                  <a:pt x="67" y="797"/>
                </a:lnTo>
                <a:lnTo>
                  <a:pt x="83" y="758"/>
                </a:lnTo>
                <a:lnTo>
                  <a:pt x="99" y="719"/>
                </a:lnTo>
                <a:lnTo>
                  <a:pt x="118" y="680"/>
                </a:lnTo>
                <a:lnTo>
                  <a:pt x="138" y="641"/>
                </a:lnTo>
                <a:lnTo>
                  <a:pt x="159" y="602"/>
                </a:lnTo>
                <a:lnTo>
                  <a:pt x="182" y="563"/>
                </a:lnTo>
                <a:lnTo>
                  <a:pt x="207" y="526"/>
                </a:lnTo>
                <a:lnTo>
                  <a:pt x="233" y="489"/>
                </a:lnTo>
                <a:lnTo>
                  <a:pt x="260" y="452"/>
                </a:lnTo>
                <a:lnTo>
                  <a:pt x="290" y="415"/>
                </a:lnTo>
                <a:lnTo>
                  <a:pt x="320" y="379"/>
                </a:lnTo>
                <a:lnTo>
                  <a:pt x="352" y="344"/>
                </a:lnTo>
                <a:lnTo>
                  <a:pt x="385" y="309"/>
                </a:lnTo>
                <a:lnTo>
                  <a:pt x="420" y="275"/>
                </a:lnTo>
                <a:lnTo>
                  <a:pt x="458" y="242"/>
                </a:lnTo>
                <a:lnTo>
                  <a:pt x="496" y="208"/>
                </a:lnTo>
                <a:lnTo>
                  <a:pt x="535" y="176"/>
                </a:lnTo>
                <a:lnTo>
                  <a:pt x="578" y="144"/>
                </a:lnTo>
                <a:lnTo>
                  <a:pt x="620" y="114"/>
                </a:lnTo>
                <a:lnTo>
                  <a:pt x="664" y="84"/>
                </a:lnTo>
                <a:lnTo>
                  <a:pt x="710" y="54"/>
                </a:lnTo>
                <a:lnTo>
                  <a:pt x="758" y="26"/>
                </a:lnTo>
                <a:lnTo>
                  <a:pt x="807" y="0"/>
                </a:lnTo>
                <a:lnTo>
                  <a:pt x="1892" y="0"/>
                </a:lnTo>
                <a:lnTo>
                  <a:pt x="1939" y="26"/>
                </a:lnTo>
                <a:lnTo>
                  <a:pt x="1987" y="54"/>
                </a:lnTo>
                <a:lnTo>
                  <a:pt x="2033" y="84"/>
                </a:lnTo>
                <a:lnTo>
                  <a:pt x="2077" y="114"/>
                </a:lnTo>
                <a:lnTo>
                  <a:pt x="2121" y="144"/>
                </a:lnTo>
                <a:lnTo>
                  <a:pt x="2162" y="176"/>
                </a:lnTo>
                <a:lnTo>
                  <a:pt x="2202" y="208"/>
                </a:lnTo>
                <a:lnTo>
                  <a:pt x="2239" y="242"/>
                </a:lnTo>
                <a:lnTo>
                  <a:pt x="2277" y="275"/>
                </a:lnTo>
                <a:lnTo>
                  <a:pt x="2312" y="309"/>
                </a:lnTo>
                <a:lnTo>
                  <a:pt x="2345" y="344"/>
                </a:lnTo>
                <a:lnTo>
                  <a:pt x="2377" y="379"/>
                </a:lnTo>
                <a:lnTo>
                  <a:pt x="2409" y="415"/>
                </a:lnTo>
                <a:lnTo>
                  <a:pt x="2437" y="452"/>
                </a:lnTo>
                <a:lnTo>
                  <a:pt x="2466" y="489"/>
                </a:lnTo>
                <a:lnTo>
                  <a:pt x="2492" y="526"/>
                </a:lnTo>
                <a:lnTo>
                  <a:pt x="2515" y="563"/>
                </a:lnTo>
                <a:lnTo>
                  <a:pt x="2538" y="602"/>
                </a:lnTo>
                <a:lnTo>
                  <a:pt x="2561" y="641"/>
                </a:lnTo>
                <a:lnTo>
                  <a:pt x="2580" y="680"/>
                </a:lnTo>
                <a:lnTo>
                  <a:pt x="2598" y="719"/>
                </a:lnTo>
                <a:lnTo>
                  <a:pt x="2616" y="758"/>
                </a:lnTo>
                <a:lnTo>
                  <a:pt x="2630" y="797"/>
                </a:lnTo>
                <a:lnTo>
                  <a:pt x="2644" y="837"/>
                </a:lnTo>
                <a:lnTo>
                  <a:pt x="2656" y="878"/>
                </a:lnTo>
                <a:lnTo>
                  <a:pt x="2667" y="917"/>
                </a:lnTo>
                <a:lnTo>
                  <a:pt x="2676" y="957"/>
                </a:lnTo>
                <a:lnTo>
                  <a:pt x="2683" y="998"/>
                </a:lnTo>
                <a:lnTo>
                  <a:pt x="2690" y="1039"/>
                </a:lnTo>
                <a:lnTo>
                  <a:pt x="2693" y="1079"/>
                </a:lnTo>
                <a:lnTo>
                  <a:pt x="2697" y="1120"/>
                </a:lnTo>
                <a:lnTo>
                  <a:pt x="2697" y="1161"/>
                </a:lnTo>
                <a:lnTo>
                  <a:pt x="2697" y="1201"/>
                </a:lnTo>
                <a:lnTo>
                  <a:pt x="2695" y="1240"/>
                </a:lnTo>
                <a:lnTo>
                  <a:pt x="2692" y="1281"/>
                </a:lnTo>
                <a:lnTo>
                  <a:pt x="2686" y="1321"/>
                </a:lnTo>
                <a:lnTo>
                  <a:pt x="2681" y="1360"/>
                </a:lnTo>
                <a:lnTo>
                  <a:pt x="2672" y="1401"/>
                </a:lnTo>
                <a:lnTo>
                  <a:pt x="2663" y="1440"/>
                </a:lnTo>
                <a:lnTo>
                  <a:pt x="2651" y="1479"/>
                </a:lnTo>
                <a:lnTo>
                  <a:pt x="2639" y="1518"/>
                </a:lnTo>
                <a:lnTo>
                  <a:pt x="2624" y="1556"/>
                </a:lnTo>
                <a:lnTo>
                  <a:pt x="2609" y="1595"/>
                </a:lnTo>
                <a:lnTo>
                  <a:pt x="2591" y="1632"/>
                </a:lnTo>
                <a:lnTo>
                  <a:pt x="2572" y="1670"/>
                </a:lnTo>
                <a:lnTo>
                  <a:pt x="2550" y="1707"/>
                </a:lnTo>
                <a:lnTo>
                  <a:pt x="2529" y="1742"/>
                </a:lnTo>
                <a:lnTo>
                  <a:pt x="2504" y="1779"/>
                </a:lnTo>
                <a:lnTo>
                  <a:pt x="2480" y="1814"/>
                </a:lnTo>
                <a:lnTo>
                  <a:pt x="2453" y="1848"/>
                </a:lnTo>
                <a:lnTo>
                  <a:pt x="2425" y="1883"/>
                </a:lnTo>
                <a:lnTo>
                  <a:pt x="2395" y="1917"/>
                </a:lnTo>
                <a:lnTo>
                  <a:pt x="2363" y="1949"/>
                </a:lnTo>
                <a:lnTo>
                  <a:pt x="2330" y="1981"/>
                </a:lnTo>
                <a:lnTo>
                  <a:pt x="2294" y="2012"/>
                </a:lnTo>
                <a:lnTo>
                  <a:pt x="2257" y="2042"/>
                </a:lnTo>
                <a:lnTo>
                  <a:pt x="2220" y="2072"/>
                </a:lnTo>
                <a:lnTo>
                  <a:pt x="2179" y="2102"/>
                </a:lnTo>
                <a:lnTo>
                  <a:pt x="2139" y="2131"/>
                </a:lnTo>
                <a:lnTo>
                  <a:pt x="2096" y="2157"/>
                </a:lnTo>
                <a:lnTo>
                  <a:pt x="2052" y="2184"/>
                </a:lnTo>
                <a:lnTo>
                  <a:pt x="2006" y="2210"/>
                </a:lnTo>
                <a:lnTo>
                  <a:pt x="1959" y="2235"/>
                </a:lnTo>
                <a:lnTo>
                  <a:pt x="1909" y="2258"/>
                </a:lnTo>
                <a:lnTo>
                  <a:pt x="788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2920" y="1873080"/>
            <a:ext cx="2719440" cy="3584880"/>
          </a:xfrm>
          <a:custGeom>
            <a:avLst/>
            <a:gdLst/>
            <a:ahLst/>
            <a:rect l="l" t="t" r="r" b="b"/>
            <a:pathLst>
              <a:path w="1927" h="2258">
                <a:moveTo>
                  <a:pt x="563" y="2258"/>
                </a:moveTo>
                <a:lnTo>
                  <a:pt x="528" y="2235"/>
                </a:lnTo>
                <a:lnTo>
                  <a:pt x="495" y="2210"/>
                </a:lnTo>
                <a:lnTo>
                  <a:pt x="461" y="2184"/>
                </a:lnTo>
                <a:lnTo>
                  <a:pt x="429" y="2157"/>
                </a:lnTo>
                <a:lnTo>
                  <a:pt x="399" y="2131"/>
                </a:lnTo>
                <a:lnTo>
                  <a:pt x="369" y="2102"/>
                </a:lnTo>
                <a:lnTo>
                  <a:pt x="341" y="2072"/>
                </a:lnTo>
                <a:lnTo>
                  <a:pt x="314" y="2042"/>
                </a:lnTo>
                <a:lnTo>
                  <a:pt x="288" y="2012"/>
                </a:lnTo>
                <a:lnTo>
                  <a:pt x="263" y="1981"/>
                </a:lnTo>
                <a:lnTo>
                  <a:pt x="239" y="1949"/>
                </a:lnTo>
                <a:lnTo>
                  <a:pt x="217" y="1917"/>
                </a:lnTo>
                <a:lnTo>
                  <a:pt x="194" y="1883"/>
                </a:lnTo>
                <a:lnTo>
                  <a:pt x="175" y="1848"/>
                </a:lnTo>
                <a:lnTo>
                  <a:pt x="156" y="1814"/>
                </a:lnTo>
                <a:lnTo>
                  <a:pt x="138" y="1779"/>
                </a:lnTo>
                <a:lnTo>
                  <a:pt x="120" y="1742"/>
                </a:lnTo>
                <a:lnTo>
                  <a:pt x="104" y="1707"/>
                </a:lnTo>
                <a:lnTo>
                  <a:pt x="90" y="1670"/>
                </a:lnTo>
                <a:lnTo>
                  <a:pt x="76" y="1632"/>
                </a:lnTo>
                <a:lnTo>
                  <a:pt x="64" y="1595"/>
                </a:lnTo>
                <a:lnTo>
                  <a:pt x="51" y="1556"/>
                </a:lnTo>
                <a:lnTo>
                  <a:pt x="42" y="1518"/>
                </a:lnTo>
                <a:lnTo>
                  <a:pt x="32" y="1479"/>
                </a:lnTo>
                <a:lnTo>
                  <a:pt x="25" y="1440"/>
                </a:lnTo>
                <a:lnTo>
                  <a:pt x="18" y="1401"/>
                </a:lnTo>
                <a:lnTo>
                  <a:pt x="12" y="1360"/>
                </a:lnTo>
                <a:lnTo>
                  <a:pt x="7" y="1321"/>
                </a:lnTo>
                <a:lnTo>
                  <a:pt x="4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0" y="1120"/>
                </a:lnTo>
                <a:lnTo>
                  <a:pt x="4" y="1079"/>
                </a:lnTo>
                <a:lnTo>
                  <a:pt x="5" y="1039"/>
                </a:lnTo>
                <a:lnTo>
                  <a:pt x="11" y="998"/>
                </a:lnTo>
                <a:lnTo>
                  <a:pt x="16" y="957"/>
                </a:lnTo>
                <a:lnTo>
                  <a:pt x="21" y="917"/>
                </a:lnTo>
                <a:lnTo>
                  <a:pt x="30" y="878"/>
                </a:lnTo>
                <a:lnTo>
                  <a:pt x="39" y="837"/>
                </a:lnTo>
                <a:lnTo>
                  <a:pt x="48" y="797"/>
                </a:lnTo>
                <a:lnTo>
                  <a:pt x="58" y="758"/>
                </a:lnTo>
                <a:lnTo>
                  <a:pt x="71" y="719"/>
                </a:lnTo>
                <a:lnTo>
                  <a:pt x="85" y="680"/>
                </a:lnTo>
                <a:lnTo>
                  <a:pt x="99" y="641"/>
                </a:lnTo>
                <a:lnTo>
                  <a:pt x="113" y="602"/>
                </a:lnTo>
                <a:lnTo>
                  <a:pt x="131" y="563"/>
                </a:lnTo>
                <a:lnTo>
                  <a:pt x="147" y="526"/>
                </a:lnTo>
                <a:lnTo>
                  <a:pt x="166" y="489"/>
                </a:lnTo>
                <a:lnTo>
                  <a:pt x="186" y="452"/>
                </a:lnTo>
                <a:lnTo>
                  <a:pt x="207" y="415"/>
                </a:lnTo>
                <a:lnTo>
                  <a:pt x="228" y="379"/>
                </a:lnTo>
                <a:lnTo>
                  <a:pt x="251" y="344"/>
                </a:lnTo>
                <a:lnTo>
                  <a:pt x="276" y="309"/>
                </a:lnTo>
                <a:lnTo>
                  <a:pt x="300" y="275"/>
                </a:lnTo>
                <a:lnTo>
                  <a:pt x="327" y="242"/>
                </a:lnTo>
                <a:lnTo>
                  <a:pt x="355" y="208"/>
                </a:lnTo>
                <a:lnTo>
                  <a:pt x="383" y="176"/>
                </a:lnTo>
                <a:lnTo>
                  <a:pt x="413" y="144"/>
                </a:lnTo>
                <a:lnTo>
                  <a:pt x="443" y="114"/>
                </a:lnTo>
                <a:lnTo>
                  <a:pt x="475" y="84"/>
                </a:lnTo>
                <a:lnTo>
                  <a:pt x="509" y="54"/>
                </a:lnTo>
                <a:lnTo>
                  <a:pt x="542" y="26"/>
                </a:lnTo>
                <a:lnTo>
                  <a:pt x="578" y="0"/>
                </a:lnTo>
                <a:lnTo>
                  <a:pt x="1351" y="0"/>
                </a:lnTo>
                <a:lnTo>
                  <a:pt x="1386" y="26"/>
                </a:lnTo>
                <a:lnTo>
                  <a:pt x="1420" y="54"/>
                </a:lnTo>
                <a:lnTo>
                  <a:pt x="1452" y="84"/>
                </a:lnTo>
                <a:lnTo>
                  <a:pt x="1484" y="114"/>
                </a:lnTo>
                <a:lnTo>
                  <a:pt x="1515" y="144"/>
                </a:lnTo>
                <a:lnTo>
                  <a:pt x="1544" y="176"/>
                </a:lnTo>
                <a:lnTo>
                  <a:pt x="1574" y="208"/>
                </a:lnTo>
                <a:lnTo>
                  <a:pt x="1600" y="242"/>
                </a:lnTo>
                <a:lnTo>
                  <a:pt x="1627" y="275"/>
                </a:lnTo>
                <a:lnTo>
                  <a:pt x="1651" y="309"/>
                </a:lnTo>
                <a:lnTo>
                  <a:pt x="1676" y="344"/>
                </a:lnTo>
                <a:lnTo>
                  <a:pt x="1699" y="379"/>
                </a:lnTo>
                <a:lnTo>
                  <a:pt x="1720" y="415"/>
                </a:lnTo>
                <a:lnTo>
                  <a:pt x="1741" y="452"/>
                </a:lnTo>
                <a:lnTo>
                  <a:pt x="1761" y="489"/>
                </a:lnTo>
                <a:lnTo>
                  <a:pt x="1780" y="526"/>
                </a:lnTo>
                <a:lnTo>
                  <a:pt x="1798" y="563"/>
                </a:lnTo>
                <a:lnTo>
                  <a:pt x="1814" y="602"/>
                </a:lnTo>
                <a:lnTo>
                  <a:pt x="1830" y="641"/>
                </a:lnTo>
                <a:lnTo>
                  <a:pt x="1844" y="680"/>
                </a:lnTo>
                <a:lnTo>
                  <a:pt x="1856" y="719"/>
                </a:lnTo>
                <a:lnTo>
                  <a:pt x="1869" y="758"/>
                </a:lnTo>
                <a:lnTo>
                  <a:pt x="1879" y="797"/>
                </a:lnTo>
                <a:lnTo>
                  <a:pt x="1890" y="837"/>
                </a:lnTo>
                <a:lnTo>
                  <a:pt x="1897" y="878"/>
                </a:lnTo>
                <a:lnTo>
                  <a:pt x="1906" y="917"/>
                </a:lnTo>
                <a:lnTo>
                  <a:pt x="1911" y="957"/>
                </a:lnTo>
                <a:lnTo>
                  <a:pt x="1916" y="998"/>
                </a:lnTo>
                <a:lnTo>
                  <a:pt x="1922" y="1039"/>
                </a:lnTo>
                <a:lnTo>
                  <a:pt x="1925" y="1079"/>
                </a:lnTo>
                <a:lnTo>
                  <a:pt x="1927" y="1120"/>
                </a:lnTo>
                <a:lnTo>
                  <a:pt x="1927" y="1161"/>
                </a:lnTo>
                <a:lnTo>
                  <a:pt x="1927" y="1201"/>
                </a:lnTo>
                <a:lnTo>
                  <a:pt x="1925" y="1240"/>
                </a:lnTo>
                <a:lnTo>
                  <a:pt x="1923" y="1281"/>
                </a:lnTo>
                <a:lnTo>
                  <a:pt x="1920" y="1321"/>
                </a:lnTo>
                <a:lnTo>
                  <a:pt x="1915" y="1360"/>
                </a:lnTo>
                <a:lnTo>
                  <a:pt x="1909" y="1401"/>
                </a:lnTo>
                <a:lnTo>
                  <a:pt x="1902" y="1440"/>
                </a:lnTo>
                <a:lnTo>
                  <a:pt x="1895" y="1479"/>
                </a:lnTo>
                <a:lnTo>
                  <a:pt x="1885" y="1518"/>
                </a:lnTo>
                <a:lnTo>
                  <a:pt x="1876" y="1556"/>
                </a:lnTo>
                <a:lnTo>
                  <a:pt x="1863" y="1595"/>
                </a:lnTo>
                <a:lnTo>
                  <a:pt x="1851" y="1632"/>
                </a:lnTo>
                <a:lnTo>
                  <a:pt x="1837" y="1670"/>
                </a:lnTo>
                <a:lnTo>
                  <a:pt x="1823" y="1707"/>
                </a:lnTo>
                <a:lnTo>
                  <a:pt x="1807" y="1742"/>
                </a:lnTo>
                <a:lnTo>
                  <a:pt x="1791" y="1779"/>
                </a:lnTo>
                <a:lnTo>
                  <a:pt x="1771" y="1814"/>
                </a:lnTo>
                <a:lnTo>
                  <a:pt x="1752" y="1848"/>
                </a:lnTo>
                <a:lnTo>
                  <a:pt x="1733" y="1883"/>
                </a:lnTo>
                <a:lnTo>
                  <a:pt x="1711" y="1917"/>
                </a:lnTo>
                <a:lnTo>
                  <a:pt x="1688" y="1949"/>
                </a:lnTo>
                <a:lnTo>
                  <a:pt x="1664" y="1981"/>
                </a:lnTo>
                <a:lnTo>
                  <a:pt x="1639" y="2012"/>
                </a:lnTo>
                <a:lnTo>
                  <a:pt x="1614" y="2042"/>
                </a:lnTo>
                <a:lnTo>
                  <a:pt x="1586" y="2072"/>
                </a:lnTo>
                <a:lnTo>
                  <a:pt x="1558" y="2102"/>
                </a:lnTo>
                <a:lnTo>
                  <a:pt x="1530" y="2131"/>
                </a:lnTo>
                <a:lnTo>
                  <a:pt x="1498" y="2157"/>
                </a:lnTo>
                <a:lnTo>
                  <a:pt x="1466" y="2184"/>
                </a:lnTo>
                <a:lnTo>
                  <a:pt x="1434" y="2210"/>
                </a:lnTo>
                <a:lnTo>
                  <a:pt x="1399" y="2235"/>
                </a:lnTo>
                <a:lnTo>
                  <a:pt x="1365" y="2258"/>
                </a:lnTo>
                <a:lnTo>
                  <a:pt x="563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43280" y="1873080"/>
            <a:ext cx="1460520" cy="3584880"/>
          </a:xfrm>
          <a:custGeom>
            <a:avLst/>
            <a:gdLst/>
            <a:ahLst/>
            <a:rect l="l" t="t" r="r" b="b"/>
            <a:pathLst>
              <a:path w="1035" h="2258">
                <a:moveTo>
                  <a:pt x="302" y="2258"/>
                </a:moveTo>
                <a:lnTo>
                  <a:pt x="284" y="2235"/>
                </a:lnTo>
                <a:lnTo>
                  <a:pt x="265" y="2210"/>
                </a:lnTo>
                <a:lnTo>
                  <a:pt x="247" y="2184"/>
                </a:lnTo>
                <a:lnTo>
                  <a:pt x="231" y="2157"/>
                </a:lnTo>
                <a:lnTo>
                  <a:pt x="214" y="2131"/>
                </a:lnTo>
                <a:lnTo>
                  <a:pt x="198" y="2102"/>
                </a:lnTo>
                <a:lnTo>
                  <a:pt x="184" y="2072"/>
                </a:lnTo>
                <a:lnTo>
                  <a:pt x="168" y="2042"/>
                </a:lnTo>
                <a:lnTo>
                  <a:pt x="141" y="1981"/>
                </a:lnTo>
                <a:lnTo>
                  <a:pt x="116" y="1917"/>
                </a:lnTo>
                <a:lnTo>
                  <a:pt x="94" y="1848"/>
                </a:lnTo>
                <a:lnTo>
                  <a:pt x="74" y="1779"/>
                </a:lnTo>
                <a:lnTo>
                  <a:pt x="56" y="1707"/>
                </a:lnTo>
                <a:lnTo>
                  <a:pt x="41" y="1632"/>
                </a:lnTo>
                <a:lnTo>
                  <a:pt x="28" y="1556"/>
                </a:lnTo>
                <a:lnTo>
                  <a:pt x="18" y="1479"/>
                </a:lnTo>
                <a:lnTo>
                  <a:pt x="9" y="1401"/>
                </a:lnTo>
                <a:lnTo>
                  <a:pt x="3" y="1321"/>
                </a:lnTo>
                <a:lnTo>
                  <a:pt x="0" y="1240"/>
                </a:lnTo>
                <a:lnTo>
                  <a:pt x="0" y="1161"/>
                </a:lnTo>
                <a:lnTo>
                  <a:pt x="2" y="1079"/>
                </a:lnTo>
                <a:lnTo>
                  <a:pt x="5" y="998"/>
                </a:lnTo>
                <a:lnTo>
                  <a:pt x="12" y="917"/>
                </a:lnTo>
                <a:lnTo>
                  <a:pt x="21" y="837"/>
                </a:lnTo>
                <a:lnTo>
                  <a:pt x="32" y="758"/>
                </a:lnTo>
                <a:lnTo>
                  <a:pt x="44" y="680"/>
                </a:lnTo>
                <a:lnTo>
                  <a:pt x="60" y="602"/>
                </a:lnTo>
                <a:lnTo>
                  <a:pt x="79" y="526"/>
                </a:lnTo>
                <a:lnTo>
                  <a:pt x="99" y="452"/>
                </a:lnTo>
                <a:lnTo>
                  <a:pt x="122" y="379"/>
                </a:lnTo>
                <a:lnTo>
                  <a:pt x="148" y="309"/>
                </a:lnTo>
                <a:lnTo>
                  <a:pt x="175" y="242"/>
                </a:lnTo>
                <a:lnTo>
                  <a:pt x="205" y="176"/>
                </a:lnTo>
                <a:lnTo>
                  <a:pt x="238" y="114"/>
                </a:lnTo>
                <a:lnTo>
                  <a:pt x="254" y="84"/>
                </a:lnTo>
                <a:lnTo>
                  <a:pt x="272" y="54"/>
                </a:lnTo>
                <a:lnTo>
                  <a:pt x="291" y="26"/>
                </a:lnTo>
                <a:lnTo>
                  <a:pt x="309" y="0"/>
                </a:lnTo>
                <a:lnTo>
                  <a:pt x="726" y="0"/>
                </a:lnTo>
                <a:lnTo>
                  <a:pt x="745" y="26"/>
                </a:lnTo>
                <a:lnTo>
                  <a:pt x="763" y="54"/>
                </a:lnTo>
                <a:lnTo>
                  <a:pt x="781" y="84"/>
                </a:lnTo>
                <a:lnTo>
                  <a:pt x="796" y="114"/>
                </a:lnTo>
                <a:lnTo>
                  <a:pt x="830" y="176"/>
                </a:lnTo>
                <a:lnTo>
                  <a:pt x="860" y="242"/>
                </a:lnTo>
                <a:lnTo>
                  <a:pt x="886" y="309"/>
                </a:lnTo>
                <a:lnTo>
                  <a:pt x="913" y="379"/>
                </a:lnTo>
                <a:lnTo>
                  <a:pt x="936" y="452"/>
                </a:lnTo>
                <a:lnTo>
                  <a:pt x="955" y="526"/>
                </a:lnTo>
                <a:lnTo>
                  <a:pt x="975" y="602"/>
                </a:lnTo>
                <a:lnTo>
                  <a:pt x="991" y="680"/>
                </a:lnTo>
                <a:lnTo>
                  <a:pt x="1003" y="758"/>
                </a:lnTo>
                <a:lnTo>
                  <a:pt x="1014" y="837"/>
                </a:lnTo>
                <a:lnTo>
                  <a:pt x="1022" y="917"/>
                </a:lnTo>
                <a:lnTo>
                  <a:pt x="1030" y="998"/>
                </a:lnTo>
                <a:lnTo>
                  <a:pt x="1033" y="1079"/>
                </a:lnTo>
                <a:lnTo>
                  <a:pt x="1035" y="1161"/>
                </a:lnTo>
                <a:lnTo>
                  <a:pt x="1035" y="1240"/>
                </a:lnTo>
                <a:lnTo>
                  <a:pt x="1031" y="1321"/>
                </a:lnTo>
                <a:lnTo>
                  <a:pt x="1026" y="1401"/>
                </a:lnTo>
                <a:lnTo>
                  <a:pt x="1017" y="1479"/>
                </a:lnTo>
                <a:lnTo>
                  <a:pt x="1007" y="1556"/>
                </a:lnTo>
                <a:lnTo>
                  <a:pt x="994" y="1632"/>
                </a:lnTo>
                <a:lnTo>
                  <a:pt x="978" y="1707"/>
                </a:lnTo>
                <a:lnTo>
                  <a:pt x="961" y="1779"/>
                </a:lnTo>
                <a:lnTo>
                  <a:pt x="941" y="1848"/>
                </a:lnTo>
                <a:lnTo>
                  <a:pt x="918" y="1917"/>
                </a:lnTo>
                <a:lnTo>
                  <a:pt x="894" y="1981"/>
                </a:lnTo>
                <a:lnTo>
                  <a:pt x="865" y="2042"/>
                </a:lnTo>
                <a:lnTo>
                  <a:pt x="851" y="2072"/>
                </a:lnTo>
                <a:lnTo>
                  <a:pt x="837" y="2102"/>
                </a:lnTo>
                <a:lnTo>
                  <a:pt x="821" y="2131"/>
                </a:lnTo>
                <a:lnTo>
                  <a:pt x="803" y="2157"/>
                </a:lnTo>
                <a:lnTo>
                  <a:pt x="788" y="2184"/>
                </a:lnTo>
                <a:lnTo>
                  <a:pt x="770" y="2210"/>
                </a:lnTo>
                <a:lnTo>
                  <a:pt x="751" y="2235"/>
                </a:lnTo>
                <a:lnTo>
                  <a:pt x="733" y="2258"/>
                </a:lnTo>
                <a:lnTo>
                  <a:pt x="302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68680" y="1872720"/>
            <a:ext cx="5040" cy="35816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11520" y="2004840"/>
            <a:ext cx="351468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33440" y="2220840"/>
            <a:ext cx="44784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33400" y="2532240"/>
            <a:ext cx="547380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3160" y="2887560"/>
            <a:ext cx="62532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3286080"/>
            <a:ext cx="67723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87480" y="3728880"/>
            <a:ext cx="696924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2240" y="4189320"/>
            <a:ext cx="676116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4584600"/>
            <a:ext cx="62089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05040" y="4938840"/>
            <a:ext cx="532296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7760" y="5246640"/>
            <a:ext cx="40975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úmero estimado de adultos y niños vivíendo con el VIH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47760" y="5635800"/>
            <a:ext cx="6594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: 39,5 (34,1 – 47,1) millon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133720"/>
            <a:ext cx="1654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ccidental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4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80 000 – 9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2944800"/>
            <a:ext cx="25048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del norte y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iente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46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70 000 – 76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94120" y="3808440"/>
            <a:ext cx="1731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subsahar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4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1,8 – 27,7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2060640"/>
            <a:ext cx="1546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riental y Asia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2 – 2,6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3500280"/>
            <a:ext cx="23018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meridional y sudor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,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,2 – 12,0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29264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e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8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0 000 – 1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01720" y="2457360"/>
            <a:ext cx="184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del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880 000 – 2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7280" y="3200400"/>
            <a:ext cx="20430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r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50 000</a:t>
            </a:r>
            <a:br>
              <a:rPr sz="1800"/>
            </a:b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90 000 – 32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06600" y="392112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La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3 – 2,5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1896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oriental</a:t>
            </a:r>
            <a:br>
              <a:rPr sz="1400"/>
            </a:b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460 000 – 1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embarazada que llega al parto sin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llega con su RN &lt; 48 horas de vida, y que no ha tenido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xamen rápido de detección del VIH,  con consentimiento inform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resultado 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2133720"/>
            <a:ext cx="647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5084640"/>
            <a:ext cx="0" cy="1441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995640" y="2276280"/>
            <a:ext cx="647640" cy="165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quipo VIH / SIDA adul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l Programa de Atención  VIH / SIDA Pediátrico del SS o de la Reg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espuesta inmedi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Madre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preventiva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y otras medidas preventivas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omar exámenes para confirmar o descartar diagnóstico de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mic Sans MS"/>
              </a:rPr>
              <a:t>PESQUISA VIH EN NIÑOS POR  </a:t>
            </a:r>
            <a:r>
              <a:rPr b="1" lang="es-AR" sz="2100" spc="-1" strike="noStrike">
                <a:solidFill>
                  <a:srgbClr val="000000"/>
                </a:solidFill>
                <a:latin typeface="Comic Sans MS"/>
              </a:rPr>
              <a:t>DETECCIÓN INTRAPARTO DE MUJER VIH (+) o DETECCIÓN RN (&lt; 48-72 h)  CON SEROLOGIA VIH (+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50560" y="1700280"/>
            <a:ext cx="87138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EMBARAZADA VIH (+)</a:t>
            </a:r>
            <a:br>
              <a:rPr sz="22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4176720" cy="2973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420" name=""/>
          <p:cNvSpPr/>
          <p:nvPr/>
        </p:nvSpPr>
        <p:spPr>
          <a:xfrm flipH="1">
            <a:off x="6732360" y="3429000"/>
            <a:ext cx="431640" cy="50472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81360" y="404496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MANEJO 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EXPUESTO AL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89440" y="3068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ticuerpos V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451280" y="2708280"/>
            <a:ext cx="289080" cy="360360"/>
          </a:xfrm>
          <a:prstGeom prst="line">
            <a:avLst/>
          </a:prstGeom>
          <a:ln w="63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89240" y="313920"/>
            <a:ext cx="6511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Inmedia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4360" y="2064960"/>
            <a:ext cx="763272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vitar monitoreo invas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piración orofríngea prolija y suave, con máquina. Lavado bucofaríng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ño con abundante agua y jabón Eliminar agua previa cl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eo cuidadoso de la piel donde se colocará tratamiento inyectable con alcohol (vitamina K y otr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4920" y="177120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Prohibir lactancia materna y por nodrizas. Alimentar con fórmula artifi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Vacuna BCG: postergar hasta realizar cuantificación Linfocitos CD4. Sólo administrar con CD4 norm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Terapia ARV: iniciar ZDV a las 6 a 12 horas de vida, además de otro ARV según el ca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3120" y="304560"/>
            <a:ext cx="6823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1760400"/>
            <a:ext cx="806436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studio de infección por VIH: tomar 1ª muestra de sangre en las primeras 48 horas de vida, para PCR, Ac y A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nviar a ISP con formulario respectivo, con identificación clara de madre e hi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Comunicación al Comité de SIDA Pediátrico del Servicio de Salud o del Hospital Pediátrico correspondien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3520" y="190512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El seguimiento del niño se hará en forma ambulatoria al alta de la Mater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aso de no poder asegurar que la madre cumpla las indicaciones de tratamiento antiretroviral y de alimentación artificial, se deberá mantener al niño hospitalizado, en la Maternidad o en el Hospital Pediátrico correspond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5516640"/>
            <a:ext cx="86868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Notificar el caso en formulario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6920" y="2565360"/>
            <a:ext cx="2953080" cy="2808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2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4210200" y="2205000"/>
            <a:ext cx="3457440" cy="187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3640" y="1413000"/>
            <a:ext cx="5621400" cy="42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3399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9,5 millones [ 34,1 – 47,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dult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7,2 millones [ 32,1 – 44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uje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,7 millones [ 15,1 – 20,9 ] Menores de 15 añ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3 millones [   1,7 –   3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4,3 millones   [ 3,6 – 6,6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3,8 millones   [ 3,2 – 5,7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5 millones   [ 0,4 – 0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9 millones    [ 2,5 – 3,5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6 millones    [ 2,2 – 3,0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4 millones    [ 0,3 -  0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sonas que vivían con el VIH e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354480"/>
            <a:ext cx="289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evas infecciones por el VIH en 200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578480"/>
            <a:ext cx="28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unciones causadas por el SIDA en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781360"/>
            <a:ext cx="841032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040" y="4495680"/>
            <a:ext cx="841068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0280"/>
            <a:ext cx="9144000" cy="76212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4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Resumen mundial de la epidemia de VIH y de SIDA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acterización de la Epidemia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H - Sida en Chile. 1984-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772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6668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calización urbana, tendencia a la rur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ominio en H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heterosex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femi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uperización en hombres y muj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gnóstico mayoritario en edad ad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560" y="6095880"/>
            <a:ext cx="2061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hile, 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7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sos VIH - Sida en Chile. 1984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87320" y="1590840"/>
          <a:ext cx="6908760" cy="44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320" y="1590840"/>
                    <a:ext cx="690876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66480" y="4365720"/>
            <a:ext cx="659844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tal Casos VIH-SID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84-2006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7.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VIH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SIDA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7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rtal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90-2005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5.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cterización de la Epidemia VIH - Sida en Chile Casos acumulados de SIDA por categoría de exposición declarada. 1984-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66640" y="2838600"/>
          <a:ext cx="3922920" cy="20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6640" y="2838600"/>
                    <a:ext cx="39229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8840" y="6095880"/>
            <a:ext cx="3091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b2c1"/>
                </a:solidFill>
                <a:latin typeface="Arial"/>
              </a:rPr>
              <a:t>MINSAL, Chile, Dic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773360"/>
          <a:ext cx="8134200" cy="436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773360"/>
                    <a:ext cx="81342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874880" y="3429000"/>
            <a:ext cx="90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C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17.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3:14:44Z</dcterms:created>
  <dc:creator>Elba Wu Hupat</dc:creator>
  <dc:description/>
  <dc:language>en-US</dc:language>
  <cp:lastModifiedBy>Fac. de Medicina</cp:lastModifiedBy>
  <dcterms:modified xsi:type="dcterms:W3CDTF">2008-11-20T15:38:51Z</dcterms:modified>
  <cp:revision>37</cp:revision>
  <dc:subject/>
  <dc:title>VIH / SIDA-08-06</dc:title>
</cp:coreProperties>
</file>