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4B1-9D36-4F4B-8B4C-F9B8D56E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20F-DFBE-49A6-8C66-7CCE4222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688-E984-45B8-B6A5-3A00B8F1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E57-18CC-44EC-BADC-31BE7E02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8FF-53EA-4CD6-929A-8DB9576A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8AC-D6FE-4DE9-8CE6-29B58DD6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A75-1C8D-4546-B05F-D8B46CCA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A79-BEA3-4878-8621-199C6D3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7A0-6EC4-47DD-A084-C9970AC6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97D-F8E8-4187-BD72-316BBDC4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8D4-7A8E-465A-8FB2-0A631E1D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DFF-638C-466B-B5F3-56943B10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BF38-84FE-4724-9FBB-AE29FB1CA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EMINARIO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ASES 3-4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29-10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9000" y="-3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MIGDALITIS FEBRIL </a:t>
            </a:r>
            <a:br>
              <a:rPr sz="3600"/>
            </a:b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“enseñanz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s amigdalitis generalmente mejoran con tratamiento antimicrobiano en 2 a 4 d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Ante la persistencia del cuadro sospechar mononucleosis infecciosa y pedir examenes: hemograma, cultivo secreción faríngea (-); monotest  o  IgM  VCA de EB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 etiología herpética es rara, pero debe considerarse:  persiste dolor y la lesión rebasa las amígdalas. Cultivo  para 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3360" y="4680"/>
            <a:ext cx="78739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2708280"/>
            <a:ext cx="4397400" cy="637560"/>
          </a:xfrm>
          <a:prstGeom prst="rect">
            <a:avLst/>
          </a:prstGeom>
          <a:solidFill>
            <a:srgbClr val="04d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UENA MUE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1520" y="0"/>
            <a:ext cx="3967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pidem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0640" y="1447920"/>
            <a:ext cx="0" cy="1041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720" y="1371600"/>
            <a:ext cx="318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razone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3680" y="1295280"/>
            <a:ext cx="4460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colección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seg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sistemas u órganos afec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virus  sospe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raslado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en f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42640" y="3278160"/>
            <a:ext cx="456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servación</a:t>
            </a:r>
            <a:r>
              <a:rPr b="1" lang="en-US" sz="2400" spc="-1" strike="noStrike">
                <a:solidFill>
                  <a:srgbClr val="fecd8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 4ºC, -20, -80, -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" y="4729320"/>
            <a:ext cx="27903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isl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cep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huevo embr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5480" y="4516560"/>
            <a:ext cx="32583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Inmuno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-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glut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munocroma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Western b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4080" y="4876920"/>
            <a:ext cx="32979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R y RT-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CR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RFLP (endonuclea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2520" y="4267080"/>
            <a:ext cx="329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icroscopía electr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60640" y="3429000"/>
            <a:ext cx="0" cy="479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76640"/>
            <a:ext cx="5724360" cy="571680"/>
          </a:xfrm>
          <a:prstGeom prst="rect">
            <a:avLst/>
          </a:prstGeom>
          <a:solidFill>
            <a:srgbClr val="f6ee4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CNICAS  DIAGNOSTICO  VI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1440" y="761760"/>
            <a:ext cx="0" cy="3352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1440" y="762120"/>
            <a:ext cx="1420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78440" y="37814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r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440" y="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bul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pitalizado (U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99880" y="83808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xperi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8040" y="364968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no U Ch: 978 6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56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RESPIRATORIA (1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9200" y="1413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. Huenumán, 42a, empleada doméstica en Santiago, oriunda de Temuco. El 25 Mayo 2004 viaja a Temuco y permanece una semana. Dos familiares están con fiebre y tos. Regresa a la capital y presenta decaimiento, fiebre y cefa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amen físico: tº 37.8 ax., faringe congestiva +, pulmones n/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IRA alta. Estado gripal, ¿influe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Tratamiento: sinto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INFECCION RESPIRATORIA (1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8040" y="6858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 En Santiago y el resto del país se ha detectado circulación de virus Influenza A H3N2 variedad Fujian desde mediados de Ma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En su lugar de trabajo hay 2 adultos sobre 45 años y 2 estudiantes universitarios. Todos están sanos y los mayores se vacunaron contra influenza en Ab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agnóstic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Influen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boratori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Detección de virus influenza por IF o ELISA (diagnóstico ráp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voluc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Control estricto de temperatura (curva febril) muestra normalización en dos días; aumenta la tos, que es más productiva, desaparece la cefal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clus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440" y="13716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 S O. 43a, bioquímico U. Chile, casado con BQ., llegados en Febrero desde USA donde estuvieron becados por 2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n Mayo la hija de 8 meses presenta un cuadro de un día con vómitos y fiebre, seguido de deposiciones líquidas por 3 días, que mejora con tratamiento diet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 los 4 días el padre presenta 2 vómitos y deposiciones líquidas durante dos días. No hay antecedentes de transgresiones alimen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-171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9200" y="15238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tiologí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bacterian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Salmonella, Shigella, E. Coli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V. Parahaemolyticu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tox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virales: rotavirus, calici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arasitari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E. histolytica, 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ámenes: ¿Rotavirus? (ELISA); ¿coprocultiv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onclusión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Arial"/>
              </a:rPr>
              <a:t>¿Saben lo suficiente sobr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innata y adqui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humoral primaria y secund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determinar la inmunidad a un a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saber si una población está inmune contra la rubéola y la hepatiti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Se vacunarían Uds. contra el virus papilo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5560" y="-2289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imes New Roman"/>
              </a:rPr>
              <a:t>DIAGNÓSTICO VIR</a:t>
            </a:r>
            <a:r>
              <a:rPr b="1" lang="es-ES_tradnl" sz="4400" spc="-1" strike="noStrike">
                <a:solidFill>
                  <a:srgbClr val="333399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0033"/>
                </a:solidFill>
                <a:uFillTx/>
                <a:latin typeface="Arial"/>
              </a:rPr>
              <a:t>Diagnóstico clínico: or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Anamnesis personal (inmunosuprimidos), familiar, com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Examen físico: exantemas y enantemas; respiratorio bilateral y difuso; icterici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Laboratorio general: hemograma, LCR, Rx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Laboratorio virológico: conf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1.- Detección de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ir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nmunodiagnóstico: ELISA, IF, I Cr, aglutinació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islamiento: cultivos cel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CR, RT-PCR, PCR tiempo real; RFLP; s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2.- Respuesta inmune: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Serologí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= Ig M/ seroco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el diagnóstic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 la caracterización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viral: ¿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ónde situarn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440" y="1628280"/>
            <a:ext cx="9145440" cy="453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iagnóstico clínico y epidemiológico (pren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etección rápida de antígenos: IF ($), ELISA ($$), inmunocromatografía ($$)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aglutinación ($$), antigenemia 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Aislamiento en cultivo celular: HEp-2 (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CR ó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RT-PCR:  RLFP, sondas moleculares,  secuenciación  ($$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Serología: neutralización, ELISA, IFI; respuesta celular (LT, citokinas, ot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06640" y="623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oyo`s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30200"/>
            <a:ext cx="9144000" cy="77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846000" y="-1143000"/>
            <a:ext cx="10836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.I.C., 28a, administrador restaurante, sin antecedentes mórbidos (Marzo 2004).  Anamnesis por teléf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fiebre de 39ºC, odinofagia con amígdalas con exudado, adenopatía submaxilar mode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art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se indica Azitromicina 250 mg/ 12 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ev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persiste fiebre sobre 38.5 y odinof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hemograma: Hto 39 Hb 14; Leuc 7000 Bac 1, Seg 50, Linf 35 Mon 10; VHS 20mm/hr. Se solicita cultivo secreción faríngea e IgM VCA-EB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150560" y="-9072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Arial"/>
              </a:rPr>
              <a:t>AMIGDALITIS FEBRIL (1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6120" y="530064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11be3"/>
                </a:solidFill>
                <a:latin typeface="Arial"/>
              </a:rPr>
              <a:t>Linfocitos de Dow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MIGDALITIS FEBRIL (1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Tratamiento sólo sinto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fiebre, sigue odinofagia y lesiones en amígd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Miércol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Resultados: cultivo (-); IgM  VCA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odinofagia, persiste lesión faríngea. Cultivo  para adenovirus y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Francamente menos dolor y menos lesiones; persistió “decaido y débil” por 7 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-2286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50040" y="3141720"/>
            <a:ext cx="1893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SV 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1:31:14Z</dcterms:created>
  <dc:creator>Fac. de Medicina</dc:creator>
  <dc:description/>
  <dc:language>en-US</dc:language>
  <cp:lastModifiedBy>Fac. de Medicina</cp:lastModifiedBy>
  <dcterms:modified xsi:type="dcterms:W3CDTF">2008-10-29T11:57:30Z</dcterms:modified>
  <cp:revision>10</cp:revision>
  <dc:subject/>
  <dc:title>SEMINARIO  CLASES 3-4-5</dc:title>
</cp:coreProperties>
</file>