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07A2-446F-4F7E-85DF-958D1489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6E4-BFD6-4A9D-AD37-724CA837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836-868B-4122-BF3B-78CAEAD7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9D0-A273-4681-860C-A5D5625E9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09B-F26B-4FE1-A1BA-9738EA8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87C0-A80E-4F70-846A-EA4420EB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B39C-4AC0-4759-9A60-0EE8FB50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C754-B3E5-4F96-ABD4-C92DCC1C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51A-CA8C-47D7-B4A2-D2ACA3F8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B06A-8CD8-48B6-AB1C-AF4E51B8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26E3-230F-4FBA-B3D8-A66FB043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4D34-2BCE-43F5-AC2E-9F372F0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29D1-DF69-4FB8-8F19-D2226838A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SEMINARIO 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LASES 3-4-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29-10-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79000" y="-3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AMIGDALITIS FEBRIL </a:t>
            </a:r>
            <a:br>
              <a:rPr sz="3600"/>
            </a:b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“enseñanz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s amigdalitis generalmente mejoran con tratamiento antimicrobiano en 2 a 4 d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Ante la persistencia del cuadro sospechar mononucleosis infecciosa y pedir examenes: hemograma, cultivo secreción faríngea (-); monotest  o  IgM  VCA de E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La etiología herpética es rara, pero debe considerarse:  persiste dolor y la lesión rebasa las amígdalas. Cultivo  para 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03360" y="4680"/>
            <a:ext cx="787392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835280" y="2708280"/>
            <a:ext cx="4397400" cy="637560"/>
          </a:xfrm>
          <a:prstGeom prst="rect">
            <a:avLst/>
          </a:prstGeom>
          <a:solidFill>
            <a:srgbClr val="04d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BUENA MU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1520" y="0"/>
            <a:ext cx="3967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clí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pidemi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60640" y="1447920"/>
            <a:ext cx="0" cy="1041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720" y="1371600"/>
            <a:ext cx="31899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razone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or investig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73680" y="1295280"/>
            <a:ext cx="446076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olección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segú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sistemas u órganos afec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- virus  sospech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raslado de la muestra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 en fr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42640" y="3278160"/>
            <a:ext cx="4567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ervación</a:t>
            </a:r>
            <a:r>
              <a:rPr b="1" lang="en-US" sz="2400" spc="-1" strike="noStrike">
                <a:solidFill>
                  <a:srgbClr val="fecd8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a 4ºC, -20, -80, -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" y="4729320"/>
            <a:ext cx="279036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islami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líne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cepa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ani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huevo embr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5480" y="4516560"/>
            <a:ext cx="32583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Inmuno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-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EL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gluti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munocromat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Western b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24080" y="4876920"/>
            <a:ext cx="32979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Acidos nucle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R y RT-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CR tiempo r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- RFLP (endonucleas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62520" y="4267080"/>
            <a:ext cx="329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Microscopía electró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60640" y="3429000"/>
            <a:ext cx="0" cy="479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076640"/>
            <a:ext cx="5724360" cy="571680"/>
          </a:xfrm>
          <a:prstGeom prst="rect">
            <a:avLst/>
          </a:prstGeom>
          <a:solidFill>
            <a:srgbClr val="f6ee4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CNICAS  DIAGNOSTICO  VI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71440" y="761760"/>
            <a:ext cx="0" cy="3352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1440" y="762120"/>
            <a:ext cx="1420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78440" y="37814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er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440" y="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bula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pitalizado (U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ec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99880" y="83808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tuación experi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8040" y="364968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ono U Ch: 978 63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856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RESPIRATORIA (1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9200" y="14130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. Huenumán, 42a, empleada doméstica en Santiago, oriunda de Temuco. El 25 Mayo 2004 viaja a Temuco y permanece una semana. Dos familiares están con fiebre y tos. Regresa a la capital y presenta decaimiento, fiebre y cefal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amen físico: tº 37.8 ax., faringe congestiva +, pulmones n/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IRA alta. Estado gripal, ¿influenz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Tratamiento: sintomá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INFECCION RESPIRATORIA (1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8040" y="6858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 En Santiago y el resto del país se ha detectado circulación de virus Influenza A H3N2 variedad Fujian desde mediados de Ma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En su lugar de trabajo hay 2 adultos sobre 45 años y 2 estudiantes universitarios. Todos están sanos y los mayores se vacunaron contra influenza en Ab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Diagnóstic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Influenz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aboratorio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Detección de virus influenza por IF o ELISA (diagnóstico rápi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Evoluc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Control estricto de temperatura (curva febril) muestra normalización en dos días; aumenta la tos, que es más productiva, desaparece la cefal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Conclusión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: ¿  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6975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06440" y="137160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 S O. 43a, bioquímico U. Chile, casado con BQ., llegados en Febrero desde USA donde estuvieron becados por 2 añ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n Mayo la hija de 8 meses presenta un cuadro de un día con vómitos y fiebre, seguido de deposiciones líquidas por 3 días, que mejora con tratamiento dieté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A los 4 días el padre presenta 2 vómitos y deposiciones líquidas durante dos días. No hay antecedentes de transgresione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Diagnóstico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5640" y="-171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INFECCION  DIGESTIVA (1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52388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tiologías po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bacterian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Salmonella, Shigella, E. Coli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V. Parahaemolyticu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tox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virales: rotavirus, calicivi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-46944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arasitarias: </a:t>
            </a:r>
            <a:r>
              <a:rPr b="1" i="1" lang="es-ES_tradnl" sz="2800" spc="-1" strike="noStrike">
                <a:solidFill>
                  <a:srgbClr val="990033"/>
                </a:solidFill>
                <a:latin typeface="Arial"/>
              </a:rPr>
              <a:t>E. histolytica, 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Exámenes: ¿Rotavirus? (ELISA); ¿coprocultiv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onclusión: Diarrea ag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ff"/>
                </a:solidFill>
                <a:latin typeface="Arial"/>
              </a:rPr>
              <a:t>¿Saben lo suficiente sobr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innata y adqui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Respuesta humoral primaria y secund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determinar la inmunidad a un agen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Cómo saber si una población está inmune contra la rubéola y la hepatitis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¿Se vacunarían Uds. contra el virus papilo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5560" y="-22896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99"/>
                </a:solidFill>
                <a:latin typeface="Times New Roman"/>
              </a:rPr>
              <a:t>DIAGNÓSTICO VIR</a:t>
            </a:r>
            <a:r>
              <a:rPr b="1" lang="es-ES_tradnl" sz="4400" spc="-1" strike="noStrike">
                <a:solidFill>
                  <a:srgbClr val="333399"/>
                </a:solidFill>
                <a:latin typeface="Times New Roman"/>
              </a:rPr>
              <a:t>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990033"/>
                </a:solidFill>
                <a:uFillTx/>
                <a:latin typeface="Arial"/>
              </a:rPr>
              <a:t>Diagnóstico clínico: ori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Anamnesis personal (inmunosuprimidos), familiar, comuni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Examen físico: exantemas y enantemas; respiratorio bilateral y difuso; icterici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Laboratorio general: hemograma, LCR, Rx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2800" spc="-1" strike="noStrike" u="sng">
                <a:solidFill>
                  <a:srgbClr val="0000ff"/>
                </a:solidFill>
                <a:uFillTx/>
                <a:latin typeface="Arial"/>
              </a:rPr>
              <a:t>Laboratorio virológico: con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1.- Detección de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 vir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Inmunodiagnóstico: ELISA, IF, I Cr, aglutinación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Aislamiento: cultivos cel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CR, RT-PCR, PCR tiempo real; RFLP; sondas molecu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2.- Respuesta inmune: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</a:rPr>
              <a:t>Serología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 = Ig M/ seroco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el diagnóstico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 la caracterización 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viral: ¿d</a:t>
            </a:r>
            <a:r>
              <a:rPr b="1" lang="es-ES" sz="4000" spc="-1" strike="noStrike">
                <a:solidFill>
                  <a:srgbClr val="333399"/>
                </a:solidFill>
                <a:latin typeface="Arial"/>
              </a:rPr>
              <a:t>ónde situarnos</a:t>
            </a:r>
            <a:r>
              <a:rPr b="1" lang="es-ES_tradnl" sz="40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1440" y="1628280"/>
            <a:ext cx="9145440" cy="453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iagnóstico clínico y epidemiológico (pren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Detección rápida de antígenos: IF ($), ELISA ($$), inmunocromatografía ($$)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, aglutinación ($$), antigenemia CM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Aislamiento en cultivo celular: HEp-2 (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PCR ó 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RT-PCR:  RLFP, sondas moleculares,  secuenciación  ($$$$$$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Serología: neutralización, ELISA, IFI; respuesta celular (LT, citokinas, ot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06640" y="6230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oyo`s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30200"/>
            <a:ext cx="9144000" cy="77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846000" y="-1143000"/>
            <a:ext cx="10836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1557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C.I.C., 28a, administrador restaurante, sin antecedentes mórbidos (Marzo 2004).  Anamnesis por teléf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fiebre de 39ºC, odinofagia con amígdalas con exudado, adenopatía submaxilar mode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Mart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se indica Azitromicina 250 mg/ 12 h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Juev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persiste fiebre sobre 38.5 y odinofa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: hemograma: Hto 39 Hb 14; Leuc 7000 Bac 1, Seg 50, Linf 35 Mon 10; VHS 20mm/hr. Se solicita cultivo secreción faríngea e IgM VCA-EB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150560" y="-90720"/>
            <a:ext cx="6977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AMIGDALITIS FEBRIL (1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56120" y="5300640"/>
            <a:ext cx="34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11be3"/>
                </a:solidFill>
                <a:latin typeface="Arial"/>
              </a:rPr>
              <a:t>Linfocitos de Dow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4320" y="-571680"/>
            <a:ext cx="6975360" cy="11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MIGDALITIS FEBRIL (1b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524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Tratamiento sólo sintom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- </a:t>
            </a: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fiebre, sigue odinofagia y lesiones en amígd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Miércol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Resultados: cultivo (-); IgM  VCA (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Vier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menos odinofagia, persiste lesión faríngea. Cultivo  para adenovirus y HS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unes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: Francamente menos dolor y menos lesiones; persistió “decaido y débil” por 7 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990033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2286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50040" y="3141720"/>
            <a:ext cx="1893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ul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HSV (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1:31:14Z</dcterms:created>
  <dc:creator>Fac. de Medicina</dc:creator>
  <dc:description/>
  <dc:language>en-US</dc:language>
  <cp:lastModifiedBy>Fac. de Medicina</cp:lastModifiedBy>
  <dcterms:modified xsi:type="dcterms:W3CDTF">2008-10-29T11:57:30Z</dcterms:modified>
  <cp:revision>10</cp:revision>
  <dc:subject/>
  <dc:title>SEMINARIO  CLASES 3-4-5</dc:title>
</cp:coreProperties>
</file>