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579-F0A2-4DDD-89B0-92BDEE51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AC1-3559-4753-BEAD-D094CAB0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9C0-2B8F-481C-B370-6B42FEFB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300-3036-4D6B-B1C6-7CC18D63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464-21DE-4939-B173-F0CAB80C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2E3-FA69-427A-9732-215387C8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611-C673-4365-AF25-A9013CFD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B60-6768-41EB-9D55-40C2BA0A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91F-2EFE-4E09-B8E0-CB5641DB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0F0-1FAF-426E-9A37-0498FC19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11B-9289-49BC-A48D-FFEFDE9E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E90-5DB1-485E-AB2D-447E896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2359-AB9F-4B21-93E7-C07C57353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EMINARIO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ASES 3-4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29-10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9000" y="-36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MIGDALITIS FEBRIL </a:t>
            </a:r>
            <a:br>
              <a:rPr sz="3600"/>
            </a:b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“enseñanz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Las amigdalitis generalmente mejoran con tratamiento antimicrobiano en 2 a 4 d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Ante la persistencia del cuadro sospechar mononucleosis infecciosa y pedir examenes: hemograma, cultivo secreción faríngea (-); monotest  o  IgM  VCA de EB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La etiología herpética es rara, pero debe considerarse:  persiste dolor y la lesión rebasa las amígdalas. Cultivo  para  HS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3360" y="4680"/>
            <a:ext cx="78739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2708280"/>
            <a:ext cx="4397400" cy="637560"/>
          </a:xfrm>
          <a:prstGeom prst="rect">
            <a:avLst/>
          </a:prstGeom>
          <a:solidFill>
            <a:srgbClr val="04d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UENA MUE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81520" y="0"/>
            <a:ext cx="3967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clí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epidem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60640" y="1447920"/>
            <a:ext cx="0" cy="1041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720" y="1371600"/>
            <a:ext cx="3189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 razone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3680" y="1295280"/>
            <a:ext cx="44607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colección de la muestra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seg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- sistemas u órganos afec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- virus  sospe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raslado de la muestra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en fr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42640" y="3278160"/>
            <a:ext cx="456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nservación</a:t>
            </a:r>
            <a:r>
              <a:rPr b="1" lang="en-US" sz="2400" spc="-1" strike="noStrike">
                <a:solidFill>
                  <a:srgbClr val="fecd8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a 4ºC, -20, -80, -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" y="4729320"/>
            <a:ext cx="27903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isl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líne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cep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huevo embri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5480" y="4516560"/>
            <a:ext cx="32583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Inmuno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-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EL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glut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munocroma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Western b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4080" y="4876920"/>
            <a:ext cx="32979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cidos nucle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ndas mol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CR y RT-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CR ti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RFLP (endonuclea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2520" y="4267080"/>
            <a:ext cx="329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icroscopía electr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60640" y="3429000"/>
            <a:ext cx="0" cy="479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076640"/>
            <a:ext cx="5724360" cy="571680"/>
          </a:xfrm>
          <a:prstGeom prst="rect">
            <a:avLst/>
          </a:prstGeom>
          <a:solidFill>
            <a:srgbClr val="f6ee4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CNICAS  DIAGNOSTICO  VI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71440" y="761760"/>
            <a:ext cx="0" cy="3352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1440" y="762120"/>
            <a:ext cx="1420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78440" y="37814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r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440" y="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bul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spitalizado (U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99880" y="83808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experi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8040" y="364968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no U Ch: 978 6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56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RESPIRATORIA (1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9200" y="14130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A. Huenumán, 42a, empleada doméstica en Santiago, oriunda de Temuco. El 25 Mayo 2004 viaja a Temuco y permanece una semana. Dos familiares están con fiebre y tos. Regresa a la capital y presenta decaimiento, fiebre y cefal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xamen físico: tº 37.8 ax., faringe congestiva +, pulmones n/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Diagnóstico: IRA alta. Estado gripal, ¿influe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Tratamiento: sinto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4320" y="-571680"/>
            <a:ext cx="6975360" cy="11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INFECCION RESPIRATORIA (1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8040" y="6858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 En Santiago y el resto del país se ha detectado circulación de virus Influenza A H3N2 variedad Fujian desde mediados de Ma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En su lugar de trabajo hay 2 adultos sobre 45 años y 2 estudiantes universitarios. Todos están sanos y los mayores se vacunaron contra influenza en Ab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agnóstico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¿Influenz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boratorio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Detección de virus influenza por IF o ELISA (diagnóstico ráp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volución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Control estricto de temperatura (curva febril) muestra normalización en dos días; aumenta la tos, que es más productiva, desaparece la cefal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clusión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¿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 DIGESTIVA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440" y="13716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 S O. 43a, bioquímico U. Chile, casado con BQ., llegados en Febrero desde USA donde estuvieron becados por 2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n Mayo la hija de 8 meses presenta un cuadro de un día con vómitos y fiebre, seguido de deposiciones líquidas por 3 días, que mejora con tratamiento diet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A los 4 días el padre presenta 2 vómitos y deposiciones líquidas durante dos días. No hay antecedentes de transgresiones alimen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Diagnóstico: Diarrea ag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-171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 DIGESTIVA (1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9200" y="152388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tiologías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bacterianas: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Salmonella, Shigella, E. Coli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V. Parahaemolyticu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tox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virales: rotavirus, calici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parasitarias: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E. histolytica, 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xámenes: ¿Rotavirus? (ELISA); ¿coprocultiv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Conclusión: Diarrea ag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Arial"/>
              </a:rPr>
              <a:t>¿Saben lo suficiente sobr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spuesta innata y adqui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spuesta humoral primaria y secund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Cómo determinar la inmunidad a un a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Cómo saber si una población está inmune contra la rubéola y la hepatiti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Se vacunarían Uds. contra el virus papilo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5560" y="-22896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imes New Roman"/>
              </a:rPr>
              <a:t>DIAGNÓSTICO VIR</a:t>
            </a:r>
            <a:r>
              <a:rPr b="1" lang="es-ES_tradnl" sz="4400" spc="-1" strike="noStrike">
                <a:solidFill>
                  <a:srgbClr val="333399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0033"/>
                </a:solidFill>
                <a:uFillTx/>
                <a:latin typeface="Arial"/>
              </a:rPr>
              <a:t>Diagnóstico clínico: or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Anamnesis personal (inmunosuprimidos), familiar, com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Examen físico: exantemas y enantemas; respiratorio bilateral y difuso; icterici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Laboratorio general: hemograma, LCR, Rx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Laboratorio virológico: confi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1.- Detección de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vir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nmunodiagnóstico: ELISA, IF, I Cr, aglutinació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islamiento: cultivos cel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CR, RT-PCR, PCR tiempo real; RFLP; sondas mol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2.- Respuesta inmune: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Serologí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= Ig M/ seroco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el diagnóstic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 la caracterización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viral: ¿d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ónde situarn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440" y="1628280"/>
            <a:ext cx="9145440" cy="453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iagnóstico clínico y epidemiológico (pren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etección rápida de antígenos: IF ($), ELISA ($$), inmunocromatografía ($$)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aglutinación ($$), antigenemia C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Aislamiento en cultivo celular: HEp-2 ($$$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PCR ó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RT-PCR:  RLFP, sondas moleculares,  secuenciación  ($$$$$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Serología: neutralización, ELISA, IFI; respuesta celular (LT, citokinas, ot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06640" y="623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oyo`s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30200"/>
            <a:ext cx="9144000" cy="77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846000" y="-1143000"/>
            <a:ext cx="10836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C.I.C., 28a, administrador restaurante, sin antecedentes mórbidos (Marzo 2004).  Anamnesis por teléf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fiebre de 39ºC, odinofagia con amígdalas con exudado, adenopatía submaxilar mode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art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se indica Azitromicina 250 mg/ 12 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uev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persiste fiebre sobre 38.5 y odinofa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hemograma: Hto 39 Hb 14; Leuc 7000 Bac 1, Seg 50, Linf 35 Mon 10; VHS 20mm/hr. Se solicita cultivo secreción faríngea e IgM VCA-EB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150560" y="-9072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Arial"/>
              </a:rPr>
              <a:t>AMIGDALITIS FEBRIL (1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56120" y="530064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11be3"/>
                </a:solidFill>
                <a:latin typeface="Arial"/>
              </a:rPr>
              <a:t>Linfocitos de Dow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4320" y="-571680"/>
            <a:ext cx="6975360" cy="11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MIGDALITIS FEBRIL (1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Tratamiento sólo sinto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menos fiebre, sigue odinofagia y lesiones en amígd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Miércol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Resultados: cultivo (-); IgM  VCA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menos odinofagia, persiste lesión faríngea. Cultivo  para adenovirus y HS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Francamente menos dolor y menos lesiones; persistió “decaido y débil” por 7 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3880" y="-2286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50040" y="3141720"/>
            <a:ext cx="1893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HSV 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1:31:14Z</dcterms:created>
  <dc:creator>Fac. de Medicina</dc:creator>
  <dc:description/>
  <dc:language>en-US</dc:language>
  <cp:lastModifiedBy>Fac. de Medicina</cp:lastModifiedBy>
  <dcterms:modified xsi:type="dcterms:W3CDTF">2008-10-29T11:57:30Z</dcterms:modified>
  <cp:revision>10</cp:revision>
  <dc:subject/>
  <dc:title>SEMINARIO  CLASES 3-4-5</dc:title>
</cp:coreProperties>
</file>