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9.wmf" ContentType="image/x-wmf"/>
  <Override PartName="/ppt/media/image10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media/image1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7F31-6BF7-4995-B9E8-53E01359C26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9410-6246-4AD7-8AAD-233808C6E02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F73D-5ED9-4DF2-84B8-DCFFEB22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E7F7-19EC-4AB2-B02C-6905EAB4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92D9-14A3-4A9C-ADBE-1907980A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9502-B634-4662-B1E8-2D781E2C2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F6E1-7918-4347-B2E4-E68F0861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2B16-1BFF-4541-A794-A7A4F23D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276E-CBB4-42C8-BE77-C347D356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3819-DFD7-48E2-AFF3-40211E90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C37E-5D0D-4192-8C5E-42EF642B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CB71-9D33-4474-944F-44080FC5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CF77-AB97-4414-B0FC-A491152A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6663-8353-42EE-B186-BDADABA1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4BFD-C319-4DF6-8C4B-7507B9B11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7310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e07a1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3e07a1"/>
                </a:solidFill>
                <a:latin typeface="Times New Roman"/>
              </a:rPr>
              <a:t>Curso de Obstetricia 1er año - 20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e07a1"/>
                </a:solidFill>
                <a:latin typeface="Times New Roman"/>
                <a:ea typeface="Arial"/>
              </a:rPr>
              <a:t>¿COMO LOS VIRUS PRODUCEN INFECCIONES Y/O ENFERMEDADES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18880" y="3166560"/>
            <a:ext cx="50576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e07a1"/>
                </a:solidFill>
                <a:latin typeface="Times New Roman"/>
              </a:rPr>
              <a:t>Dr. Luis Fidel Avendaño C.</a:t>
            </a:r>
            <a:br>
              <a:rPr sz="3200"/>
            </a:br>
            <a:r>
              <a:rPr b="1" lang="es-ES_tradnl" sz="2800" spc="-1" strike="noStrike">
                <a:solidFill>
                  <a:srgbClr val="3e07a1"/>
                </a:solidFill>
                <a:latin typeface="Times New Roman"/>
              </a:rPr>
              <a:t>lavendan@med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648320"/>
            <a:ext cx="87962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07a1"/>
                </a:solidFill>
                <a:latin typeface="Times New Roman"/>
                <a:ea typeface="Arial"/>
              </a:rPr>
              <a:t>Programa de VIROLOGIA.  ICB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07a1"/>
                </a:solidFill>
                <a:latin typeface="Times New Roman"/>
                <a:ea typeface="Arial"/>
              </a:rPr>
              <a:t>Facultad de Medicina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07a1"/>
                </a:solidFill>
                <a:latin typeface="Times New Roman"/>
                <a:ea typeface="Arial"/>
              </a:rPr>
              <a:t>Universidad de Chile          </a:t>
            </a:r>
            <a:r>
              <a:rPr b="1" lang="en-US" sz="2400" spc="-1" strike="noStrike">
                <a:solidFill>
                  <a:srgbClr val="3e07a1"/>
                </a:solidFill>
                <a:latin typeface="Times New Roman"/>
                <a:ea typeface="Arial"/>
              </a:rPr>
              <a:t>Santiago, 22 Octubre 2008</a:t>
            </a:r>
            <a:r>
              <a:rPr b="1" lang="en-US" sz="3200" spc="-1" strike="noStrike">
                <a:solidFill>
                  <a:srgbClr val="3e07a1"/>
                </a:solidFill>
                <a:latin typeface="Times New Roman"/>
                <a:ea typeface="Arial"/>
              </a:rPr>
              <a:t>	</a:t>
            </a:r>
            <a:r>
              <a:rPr b="1" lang="en-US" sz="3200" spc="-1" strike="noStrike">
                <a:solidFill>
                  <a:srgbClr val="3e07a1"/>
                </a:solidFill>
                <a:latin typeface="Times New Roman"/>
                <a:ea typeface="Arial"/>
              </a:rPr>
              <a:t>	</a:t>
            </a:r>
            <a:r>
              <a:rPr b="1" lang="en-US" sz="3200" spc="-1" strike="noStrike">
                <a:solidFill>
                  <a:srgbClr val="3e07a1"/>
                </a:solidFill>
                <a:latin typeface="Times New Roman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937200" y="2851200"/>
            <a:ext cx="173844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ORMAS DE PRESENTACION  DE INFECCIONES VI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ocalizadas: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verrugas, herpes simple,                               infecciones respiratorias, diarreas, 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      herpes zóster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generalizadas: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varicela, sarampió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rubéola,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hepatitis, polio, ot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línicas: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sarampión, varicela; hepatitis, 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polio, respiratorias, diarrea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ubclínicas: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respiratorias, rubéola, 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hepat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-285840"/>
            <a:ext cx="932508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MODELOS  de INFECCIONES VIR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agudas:</a:t>
            </a:r>
            <a:r>
              <a:rPr b="1" lang="es-ES_tradnl" sz="3600" spc="-1" strike="noStrike">
                <a:solidFill>
                  <a:srgbClr val="660033"/>
                </a:solidFill>
                <a:latin typeface="Times New Roman"/>
              </a:rPr>
              <a:t> respiratorias, enterovirus, </a:t>
            </a:r>
            <a:r>
              <a:rPr b="1" lang="es-ES_tradnl" sz="36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s-ES_tradnl" sz="36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s-ES_tradnl" sz="36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s-ES_tradnl" sz="36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s-ES_tradnl" sz="3600" spc="-1" strike="noStrike">
                <a:solidFill>
                  <a:srgbClr val="660033"/>
                </a:solidFill>
                <a:latin typeface="Times New Roman"/>
              </a:rPr>
              <a:t>“pestes”como sarampión, et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5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persistentes latentes:</a:t>
            </a:r>
            <a:r>
              <a:rPr b="1" i="1" lang="es-ES_tradnl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660033"/>
                </a:solidFill>
                <a:latin typeface="Times New Roman"/>
              </a:rPr>
              <a:t>familia</a:t>
            </a:r>
            <a:r>
              <a:rPr b="1" i="1" lang="es-ES_tradnl" sz="3600" spc="-1" strike="noStrike">
                <a:solidFill>
                  <a:srgbClr val="660033"/>
                </a:solidFill>
                <a:latin typeface="Times New Roman"/>
              </a:rPr>
              <a:t> herpesvirida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7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persistentes crónicas:</a:t>
            </a:r>
            <a:r>
              <a:rPr b="1" lang="es-ES_tradnl" sz="3600" spc="-1" strike="noStrike">
                <a:solidFill>
                  <a:srgbClr val="660033"/>
                </a:solidFill>
                <a:latin typeface="Times New Roman"/>
              </a:rPr>
              <a:t> HIV, HBV, HC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7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persistentes lentas:</a:t>
            </a:r>
            <a:r>
              <a:rPr b="1" lang="es-ES_tradnl" sz="3600" spc="-1" strike="noStrike">
                <a:solidFill>
                  <a:srgbClr val="660033"/>
                </a:solidFill>
                <a:latin typeface="Times New Roman"/>
              </a:rPr>
              <a:t> SSPP, Kuru, pr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7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transformantes:</a:t>
            </a:r>
            <a:r>
              <a:rPr b="1" lang="es-ES_tradnl" sz="3600" spc="-1" strike="noStrike">
                <a:solidFill>
                  <a:srgbClr val="660033"/>
                </a:solidFill>
                <a:latin typeface="Times New Roman"/>
              </a:rPr>
              <a:t> papiloma, EBV, et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1981080"/>
          <a:ext cx="9144000" cy="404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9144000" cy="40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457200" y="549360"/>
            <a:ext cx="86868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VIGILANCIA DE VIRUS RESPIRATORIOS EN LACTANTES HOSPITALIZADOS POR INFECCION RESPIRATORIA AGUDA BAJA. </a:t>
            </a:r>
            <a:br>
              <a:rPr sz="2000"/>
            </a:b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 Hospital R. Río. Santiago. 198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 -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2004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31920" y="60958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Yoyo`s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828800" y="-609480"/>
            <a:ext cx="5772240" cy="76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Times New Roman"/>
              </a:rPr>
              <a:t>TIPOS DE LE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33"/>
                </a:solidFill>
                <a:latin typeface="Times New Roman"/>
              </a:rPr>
              <a:t>DIRECTA DEL VIRUS: lisis, sincicios, inclusiones,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33"/>
                </a:solidFill>
                <a:latin typeface="Times New Roman"/>
              </a:rPr>
              <a:t>INDIRECTA o INMUNOALER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660033"/>
                </a:solidFill>
                <a:latin typeface="Times New Roman"/>
              </a:rPr>
              <a:t>LTc, LTh2, IgE, células y citokinas inflamato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PATOGENIA A VARIOS NIVE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33"/>
                </a:solidFill>
                <a:latin typeface="Times New Roman"/>
              </a:rPr>
              <a:t>CELULAR: nada; nuevos antígenos, inclusiones; sincicios, lisis; integración AN, latencia, transformación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33"/>
                </a:solidFill>
                <a:latin typeface="Times New Roman"/>
              </a:rPr>
              <a:t>INDIVIDUO: nada, subclínica, enfermedad aguda, persistente, transformante (cánc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33"/>
                </a:solidFill>
                <a:latin typeface="Times New Roman"/>
              </a:rPr>
              <a:t>POBLACION: nada, casos aislados, infección emergente; endemia, epid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66680"/>
            <a:ext cx="26222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660033"/>
                </a:solidFill>
                <a:latin typeface="Times New Roman"/>
              </a:rPr>
              <a:t>   </a:t>
            </a:r>
            <a:r>
              <a:rPr b="1" lang="es-ES" sz="3200" spc="-1" strike="noStrike">
                <a:solidFill>
                  <a:srgbClr val="660033"/>
                </a:solidFill>
                <a:latin typeface="Times New Roman"/>
              </a:rPr>
              <a:t>VIR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2000 millones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SILVE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serot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genot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ce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dosis infec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VAC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inactiv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atenu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660033"/>
                </a:solidFill>
                <a:latin typeface="Times New Roman"/>
              </a:rPr>
              <a:t>bioingenie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5280" y="1905120"/>
            <a:ext cx="3519720" cy="38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9900"/>
                </a:solidFill>
                <a:latin typeface="Times New Roman"/>
              </a:rPr>
              <a:t>    </a:t>
            </a:r>
            <a:r>
              <a:rPr b="1" lang="es-ES" sz="3200" spc="-1" strike="noStrike">
                <a:solidFill>
                  <a:srgbClr val="009900"/>
                </a:solidFill>
                <a:latin typeface="Times New Roman"/>
              </a:rPr>
              <a:t>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00"/>
                </a:solidFill>
                <a:latin typeface="Times New Roman"/>
              </a:rPr>
              <a:t>       </a:t>
            </a:r>
            <a:r>
              <a:rPr b="1" lang="es-ES" sz="2400" spc="-1" strike="noStrike">
                <a:solidFill>
                  <a:srgbClr val="009900"/>
                </a:solidFill>
                <a:latin typeface="Times New Roman"/>
              </a:rPr>
              <a:t>4600 millones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9900"/>
                </a:solidFill>
                <a:latin typeface="Times New Roman"/>
              </a:rPr>
              <a:t>GEOGRAF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Times New Roman"/>
              </a:rPr>
              <a:t>CLIMA: frío, lluv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Times New Roman"/>
              </a:rPr>
              <a:t>CONTAMINACION AE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Times New Roman"/>
              </a:rPr>
              <a:t>URBANO (70%) - R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Times New Roman"/>
              </a:rPr>
              <a:t>HOSPITAL - COMUN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Times New Roman"/>
              </a:rPr>
              <a:t>JARDIN - COLEG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00"/>
                </a:solidFill>
                <a:latin typeface="Times New Roman"/>
              </a:rPr>
              <a:t>DOMICI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56040" y="981000"/>
            <a:ext cx="3388320" cy="54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HUES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HOMBRE...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y muj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6 millones  añ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enfermedades previas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inmuno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vacu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educación, costu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AN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domé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silves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1080" y="352440"/>
            <a:ext cx="85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Times New Roman"/>
              </a:rPr>
              <a:t>INFECCIONES VIRALES: PATOGEN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TOGENIA  DE INFECCIONES  VI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virus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: resistencia al ambiente, virulencia, vari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fuente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: hombre, ani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vía de transmisión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vertical     : transplacentario, parto, lact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     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horizontal: directo, persona a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                       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indirecto - vehículos: agua, alimentos, moscas                           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         - vectores : insectos, raton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puerta de entrada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: respiratoria, digestiva, piel, sexual, 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parenteral, placenta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6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período de incubación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: de horas a 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diseminación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: local, sangre, ne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órganos blancos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: piel, aparato respiratorio, SNC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7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vía de eliminación</a:t>
            </a:r>
            <a:r>
              <a:rPr b="1" lang="es-ES_tradnl" sz="2800" spc="-1" strike="noStrike">
                <a:solidFill>
                  <a:srgbClr val="660033"/>
                </a:solidFill>
                <a:latin typeface="Times New Roman"/>
              </a:rPr>
              <a:t>: respiratoria, digestiva, sex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0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488960" y="1555920"/>
          <a:ext cx="6156360" cy="47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8960" y="1555920"/>
                    <a:ext cx="6156360" cy="47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759600" y="85680"/>
            <a:ext cx="79218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LAS 10 PRINCIPALES CAUSAS INFECCIOS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DE MUE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84400" y="6350040"/>
            <a:ext cx="3395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ASM  News 1996; 62 (9):45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285680" y="3733920"/>
            <a:ext cx="18608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f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spirato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,4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248520"/>
            <a:ext cx="221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arrea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3,1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920" y="4444920"/>
            <a:ext cx="1456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BC 3,1 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438280"/>
            <a:ext cx="2133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laria  2,1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  Paludism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96960" y="1447920"/>
            <a:ext cx="1405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epatitis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,1 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77360" y="1092240"/>
            <a:ext cx="1406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IV/SI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gt;1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24560" y="1092240"/>
            <a:ext cx="1385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aramp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gt;1 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62880" y="1549440"/>
            <a:ext cx="2798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étanos neonatal 0,5 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75600" y="1854360"/>
            <a:ext cx="2286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oqueluche 0,35M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95200" y="2133720"/>
            <a:ext cx="2700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rasitosis intestina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,165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038400" y="1733400"/>
          <a:ext cx="3359160" cy="16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8400" y="1733400"/>
                    <a:ext cx="3359160" cy="16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291960" y="244440"/>
            <a:ext cx="85269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MUERTES POR ENFERMEDADES INFECCIOSA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ESTIMACIONES 19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28440" y="1235160"/>
            <a:ext cx="3982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uertes totales ( 51,9 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27160" y="1967040"/>
            <a:ext cx="2106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Otras causa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67% </a:t>
            </a:r>
            <a:r>
              <a:rPr b="1" lang="en-US" sz="1800" spc="-1" strike="noStrike">
                <a:solidFill>
                  <a:srgbClr val="fafd00"/>
                </a:solidFill>
                <a:latin typeface="Times New Roman"/>
              </a:rPr>
              <a:t> (34,6 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56000" y="2805120"/>
            <a:ext cx="2496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Enfs. infeccios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33%     (17,3 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15160" y="6310440"/>
            <a:ext cx="3941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SM News 1996; 62 (9): 45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866920" y="3048120"/>
            <a:ext cx="165240" cy="16635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3048120"/>
            <a:ext cx="228600" cy="182880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513240" y="3730680"/>
          <a:ext cx="2700360" cy="307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13240" y="3730680"/>
                    <a:ext cx="270036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3030120" y="3552840"/>
            <a:ext cx="3867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Modo de transm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334120" y="4648320"/>
            <a:ext cx="914400" cy="380880"/>
          </a:xfrm>
          <a:prstGeom prst="line">
            <a:avLst/>
          </a:prstGeom>
          <a:ln w="381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10080" y="4253040"/>
            <a:ext cx="2569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Persona a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( 6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203200" y="5181480"/>
            <a:ext cx="1841400" cy="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480" y="4710240"/>
            <a:ext cx="2283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cecece"/>
                </a:solidFill>
                <a:latin typeface="Times New Roman"/>
              </a:rPr>
              <a:t>Alimentos,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cecece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cecece"/>
                </a:solidFill>
                <a:latin typeface="Times New Roman"/>
              </a:rPr>
              <a:t>(22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885840" y="5416560"/>
            <a:ext cx="1073160" cy="52704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26800" y="5929200"/>
            <a:ext cx="27234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Picadura de ins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(13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45160" y="5410080"/>
            <a:ext cx="596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32680" y="5243400"/>
            <a:ext cx="26640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rdedura 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0.3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19280" y="-531720"/>
            <a:ext cx="5664240" cy="7389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323120" y="3706920"/>
            <a:ext cx="182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A. RODIN (1840-1917)               “ El beso 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453960"/>
            <a:ext cx="8137440" cy="6288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16440"/>
            <a:ext cx="88200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99"/>
                </a:solidFill>
                <a:latin typeface="Times New Roman"/>
              </a:rPr>
              <a:t>Transmisión interespecies y Reservo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539748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141400"/>
                </a:solidFill>
                <a:latin typeface="Arial"/>
              </a:rPr>
              <a:t>, H1N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5440" y="340344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5050"/>
                </a:solidFill>
                <a:latin typeface="Arial Unicode MS"/>
              </a:rPr>
              <a:t>H5N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GENTE versus ENFERMEDAD/SINDROM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459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33"/>
                </a:solidFill>
                <a:latin typeface="Times New Roman"/>
              </a:rPr>
              <a:t>1 agente =1 enferme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660033"/>
                </a:solidFill>
                <a:latin typeface="Times New Roman"/>
              </a:rPr>
              <a:t>sarampión, viruela, varicela, rubéola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33"/>
                </a:solidFill>
                <a:latin typeface="Times New Roman"/>
              </a:rPr>
              <a:t>1 agente = muchas enfermedades</a:t>
            </a:r>
            <a:r>
              <a:rPr b="0" lang="es-ES_tradnl" sz="32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33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660033"/>
                </a:solidFill>
                <a:latin typeface="Times New Roman"/>
              </a:rPr>
              <a:t>enterovirus producen meningitis, exantema, fiebre, diarrea; </a:t>
            </a:r>
            <a:r>
              <a:rPr b="0" i="1" lang="es-ES_tradnl" sz="3200" spc="-1" strike="noStrike">
                <a:solidFill>
                  <a:srgbClr val="660033"/>
                </a:solidFill>
                <a:latin typeface="Times New Roman"/>
              </a:rPr>
              <a:t>S aureus</a:t>
            </a:r>
            <a:r>
              <a:rPr b="0" lang="es-ES_tradnl" sz="3200" spc="-1" strike="noStrike">
                <a:solidFill>
                  <a:srgbClr val="660033"/>
                </a:solidFill>
                <a:latin typeface="Times New Roman"/>
              </a:rPr>
              <a:t> provoca impétigo, neumonía, absceso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1 sindrome = muchos ag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33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660033"/>
                </a:solidFill>
                <a:latin typeface="Times New Roman"/>
              </a:rPr>
              <a:t>diarreas por rotavirus, </a:t>
            </a:r>
            <a:r>
              <a:rPr b="0" i="1" lang="es-ES_tradnl" sz="3200" spc="-1" strike="noStrike">
                <a:solidFill>
                  <a:srgbClr val="660033"/>
                </a:solidFill>
                <a:latin typeface="Times New Roman"/>
              </a:rPr>
              <a:t>E coli, shigella</a:t>
            </a:r>
            <a:r>
              <a:rPr b="0" lang="es-ES_tradnl" sz="3200" spc="-1" strike="noStrike">
                <a:solidFill>
                  <a:srgbClr val="660033"/>
                </a:solidFill>
                <a:latin typeface="Times New Roman"/>
              </a:rPr>
              <a:t>, E histolytica; bronconeumonía por VRS, influenza, </a:t>
            </a:r>
            <a:r>
              <a:rPr b="0" i="1" lang="es-ES_tradnl" sz="3200" spc="-1" strike="noStrike">
                <a:solidFill>
                  <a:srgbClr val="660033"/>
                </a:solidFill>
                <a:latin typeface="Times New Roman"/>
              </a:rPr>
              <a:t>S. pneumoniae, H. Influenzae, S. aureus,</a:t>
            </a:r>
            <a:r>
              <a:rPr b="0" lang="es-ES_tradnl" sz="3200" spc="-1" strike="noStrike">
                <a:solidFill>
                  <a:srgbClr val="660033"/>
                </a:solidFill>
                <a:latin typeface="Times New Roman"/>
              </a:rPr>
              <a:t> etc</a:t>
            </a:r>
            <a:r>
              <a:rPr b="0" lang="es-ES_tradnl" sz="28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00:44:45Z</dcterms:created>
  <dc:creator>Luis Avendaño</dc:creator>
  <dc:description/>
  <dc:language>en-US</dc:language>
  <cp:lastModifiedBy>Facultad de Medicina</cp:lastModifiedBy>
  <dcterms:modified xsi:type="dcterms:W3CDTF">2008-10-22T15:52:10Z</dcterms:modified>
  <cp:revision>199</cp:revision>
  <dc:subject/>
  <dc:title>DESARROLLO DE LA VIROLOGIA</dc:title>
</cp:coreProperties>
</file>