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85BD-F4B0-4799-9582-66A971DBCC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8C54-1F81-4F8D-B746-3E2992FE0B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8C8-D724-4AC0-9967-27A53535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709-337E-4300-99BD-73E70E7C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813-41CB-4545-8345-FA457C9D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691-09BC-405C-BC3C-1F87C99B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277-B71F-43E6-BC75-3232DFD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5C5-FA01-440D-BD4C-BDB3A048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E6F-0BCD-40AA-B519-3A6F5D4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A12-2C65-411E-A340-12A2856F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3A0-D007-4264-844F-615A45AE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E2D-A0F9-49C8-94DE-BBA2AFA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D29-F168-44E0-B823-2DA07BF8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19B-B4A9-41A3-9D07-251CCBE2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77ED-24AC-410C-8FD6-FF2A007F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731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Curso de Obstetricia 1er año -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e07a1"/>
                </a:solidFill>
                <a:latin typeface="Times New Roman"/>
                <a:ea typeface="Arial"/>
              </a:rPr>
              <a:t>¿COMO LOS VIRUS PRODUCEN INFECCIONES Y/O ENFERMEDADE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18880" y="3166560"/>
            <a:ext cx="505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</a:rPr>
              <a:t>Dr. Luis Fidel Avendaño C.</a:t>
            </a:r>
            <a:br>
              <a:rPr sz="3200"/>
            </a:br>
            <a:r>
              <a:rPr b="1" lang="es-ES_tradnl" sz="2800" spc="-1" strike="noStrike">
                <a:solidFill>
                  <a:srgbClr val="3e07a1"/>
                </a:solidFill>
                <a:latin typeface="Times New Roman"/>
              </a:rPr>
              <a:t>lavendan@med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48320"/>
            <a:ext cx="8796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Programa de VIROLOGIA.  ICB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Facultad de Medicin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Universidad de Chile          </a:t>
            </a:r>
            <a:r>
              <a:rPr b="1" lang="en-US" sz="2400" spc="-1" strike="noStrike">
                <a:solidFill>
                  <a:srgbClr val="3e07a1"/>
                </a:solidFill>
                <a:latin typeface="Times New Roman"/>
                <a:ea typeface="Arial"/>
              </a:rPr>
              <a:t>Santiago, 22 Octubre 2008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7200" y="2851200"/>
            <a:ext cx="1738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MAS DE PRESENTACION  DE INFECCIONES V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c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errugas, herpes simple,                               infecciones respiratorias, diarrea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herpes zóst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ner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aricela, saramp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rubéola,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, polio, o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sarampión, varicela; hepatiti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polio, respiratorias, diarre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respiratorias, rubéola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3250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DELOS  de INFECCIONES VI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gud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respiratorias, enterovirus,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“pestes”como sarampión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5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atentes: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familia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herpesvirid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crónic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HIV, HBV, HC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ent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SSPP, Kuru, pr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ransformante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papiloma, EBV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9144000" cy="40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49360"/>
            <a:ext cx="868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VIGILANCIA DE VIRUS RESPIRATORIOS EN LACTANTES HOSPITALIZADOS POR INFECCION RESPIRATORIA AGUDA BAJA. </a:t>
            </a:r>
            <a:br>
              <a:rPr sz="2000"/>
            </a:b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Hospital R. Río. Santiago. 19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1920" y="6095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-609480"/>
            <a:ext cx="57722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Times New Roman"/>
              </a:rPr>
              <a:t>TIPOS DE L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DIRECTA DEL VIRUS: lisis, sincicios, inclusione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RECTA o INMUNOALER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LTc, LTh2, IgE, células y citokinas inflamato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PATOGENIA A VARIOS NIV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CELULAR: nada; nuevos antígenos, inclusiones; sincicios, lisis; integración AN, latencia, transformació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VIDUO: nada, subclínica, enfermedad aguda, persistente, transformante (cán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POBLACION: nada, casos aislados, infección emergente; endemia, epid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26222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660033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20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ILV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er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gen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ce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dosis infe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inact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aten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bio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5280" y="1905120"/>
            <a:ext cx="3519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46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00"/>
                </a:solidFill>
                <a:latin typeface="Times New Roman"/>
              </a:rPr>
              <a:t>GE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LIMA: frío, lluv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ONTAMINACION A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URBANO (70%) -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HOSPITAL -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JARDIN - COLE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DOMICI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56040" y="981000"/>
            <a:ext cx="338832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HUE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OMBRE..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y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6 millones 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fermedades previ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nmuno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vacu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ucación, costu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omé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lv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080" y="35244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INFECCIONES VIRALES: PATOG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OGENIA  DE INFECCIONES  VI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iru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istencia al ambiente, virulencia, vari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uente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hombre,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transmis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ertical     : transplacentario, parto, lac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orizontal: directo, persona 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indirecto - vehículos: agua, alimentos, moscas    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- vectores : insectos, raton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uerta de entrada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piel, sexual,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arenteral, placenta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6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eríodo de incub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de horas a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local, sangre, ne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órganos blanco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piel, aparato respiratorio, SNC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eli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sex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88960" y="1555920"/>
          <a:ext cx="61563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1555920"/>
                    <a:ext cx="61563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59600" y="85680"/>
            <a:ext cx="7921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S 10 PRINCIPALES CAUSAS INFECCI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 M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84400" y="6350040"/>
            <a:ext cx="339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SM  News 1996; 62 (9):4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85680" y="3733920"/>
            <a:ext cx="186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,4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re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,1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44449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BC 3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21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aria  2,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  Paludism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96960" y="1447920"/>
            <a:ext cx="1405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7360" y="1092240"/>
            <a:ext cx="140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V/S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24560" y="1092240"/>
            <a:ext cx="1385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2880" y="1549440"/>
            <a:ext cx="279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étanos neonatal 0,5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5600" y="185436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queluche 0,35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200" y="2133720"/>
            <a:ext cx="2700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sitosis intesti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,165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38400" y="1733400"/>
          <a:ext cx="335916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1733400"/>
                    <a:ext cx="33591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1960" y="244440"/>
            <a:ext cx="8526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ERTES POR ENFERMEDADES INFECCI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STIMACIONES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8440" y="1235160"/>
            <a:ext cx="398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ertes totales ( 51,9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7160" y="1967040"/>
            <a:ext cx="210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tras caus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7%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(34,6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000" y="2805120"/>
            <a:ext cx="249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nfs. infeccios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33%     (17,3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5160" y="6310440"/>
            <a:ext cx="394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SM News 1996; 62 (9): 4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66920" y="3048120"/>
            <a:ext cx="165240" cy="16635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228600" cy="18288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13240" y="3730680"/>
          <a:ext cx="2700360" cy="30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3240" y="3730680"/>
                    <a:ext cx="27003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30120" y="3552840"/>
            <a:ext cx="386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o de trans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34120" y="4648320"/>
            <a:ext cx="914400" cy="3808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10080" y="4253040"/>
            <a:ext cx="256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Persona 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( 6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03200" y="5181480"/>
            <a:ext cx="18414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480" y="4710240"/>
            <a:ext cx="228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Alimentos,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(2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5840" y="5416560"/>
            <a:ext cx="1073160" cy="52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0" y="5929200"/>
            <a:ext cx="272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Picadura de ins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(1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5160" y="5410080"/>
            <a:ext cx="5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2680" y="5243400"/>
            <a:ext cx="266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dedura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0.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664240" cy="73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23120" y="3706920"/>
            <a:ext cx="18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. RODIN (1840-1917)               “ El beso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453960"/>
            <a:ext cx="8137440" cy="628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820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Transmisión interespecies y Reservo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397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41400"/>
                </a:solidFill>
                <a:latin typeface="Arial"/>
              </a:rPr>
              <a:t>, H1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440" y="34034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5050"/>
                </a:solidFill>
                <a:latin typeface="Arial Unicode MS"/>
              </a:rPr>
              <a:t>H5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ENTE versus ENFERMEDAD/SINDRO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1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sarampión, viruela, varicela, rubéol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 muchas enfermedade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enterovirus producen meningitis, exantema, fiebre, diarrea;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 aureu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provoca impétigo, neumonía, absces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 sindrome = much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diarreas por rotavirus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E coli, shigella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, E histolytica; bronconeumonía por VRS, influenza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. pneumoniae, H. Influenzae, S. aureus,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etc</a:t>
            </a:r>
            <a:r>
              <a:rPr b="0" lang="es-ES_tradnl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0:44:45Z</dcterms:created>
  <dc:creator>Luis Avendaño</dc:creator>
  <dc:description/>
  <dc:language>en-US</dc:language>
  <cp:lastModifiedBy>Facultad de Medicina</cp:lastModifiedBy>
  <dcterms:modified xsi:type="dcterms:W3CDTF">2008-10-22T15:52:10Z</dcterms:modified>
  <cp:revision>199</cp:revision>
  <dc:subject/>
  <dc:title>DESARROLLO DE LA VIROLOGIA</dc:title>
</cp:coreProperties>
</file>