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48FF-CD9B-4F7B-9317-E129B41C74D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0186-EB9F-4BEB-AB73-8BF225734AD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012-0704-4504-9850-FF360FCC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C75-FAEC-42FD-AAB2-354E9788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43A-4267-4E1D-B93D-48244257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F6E-62FD-4DA9-8993-A2E530B1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4FB-C3B3-452C-9469-A0C45281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EFD-7CA3-4C5A-88BE-C246B6B6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68A-6C3E-46C9-8870-A05C1732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53E-403D-456D-8FAF-A854E6AD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0ED-4B40-4CFC-83EC-2D724D6D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130-8C4D-4B63-A334-214DF6CD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5ED0-AE72-4ED0-9A1D-EEC22E2F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8C4-7FF2-4424-8059-8361BB57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D7ED-B240-41A9-B9F4-DE546F350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731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e07a1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3e07a1"/>
                </a:solidFill>
                <a:latin typeface="Times New Roman"/>
              </a:rPr>
              <a:t>Curso de Obstetricia 1er año - 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e07a1"/>
                </a:solidFill>
                <a:latin typeface="Times New Roman"/>
                <a:ea typeface="Arial"/>
              </a:rPr>
              <a:t>¿COMO LOS VIRUS PRODUCEN INFECCIONES Y/O ENFERMEDADES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18880" y="3166560"/>
            <a:ext cx="50576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e07a1"/>
                </a:solidFill>
                <a:latin typeface="Times New Roman"/>
              </a:rPr>
              <a:t>Dr. Luis Fidel Avendaño C.</a:t>
            </a:r>
            <a:br>
              <a:rPr sz="3200"/>
            </a:br>
            <a:r>
              <a:rPr b="1" lang="es-ES_tradnl" sz="2800" spc="-1" strike="noStrike">
                <a:solidFill>
                  <a:srgbClr val="3e07a1"/>
                </a:solidFill>
                <a:latin typeface="Times New Roman"/>
              </a:rPr>
              <a:t>lavendan@med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648320"/>
            <a:ext cx="87962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Programa de VIROLOGIA.  ICB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Facultad de Medicin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Universidad de Chile          </a:t>
            </a:r>
            <a:r>
              <a:rPr b="1" lang="en-US" sz="2400" spc="-1" strike="noStrike">
                <a:solidFill>
                  <a:srgbClr val="3e07a1"/>
                </a:solidFill>
                <a:latin typeface="Times New Roman"/>
                <a:ea typeface="Arial"/>
              </a:rPr>
              <a:t>Santiago, 22 Octubre 2008</a:t>
            </a: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937200" y="2851200"/>
            <a:ext cx="1738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MAS DE PRESENTACION  DE INFECCIONES VI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ocalizadas: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verrugas, herpes simple,                               infecciones respiratorias, diarreas,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 herpes zóster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eneralizadas: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varicela, sarampió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rubéola,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hepatitis, polio, ot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línicas: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sarampión, varicela; hepatitis,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polio, respiratorias, diarre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bclínicas: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respiratorias, rubéola,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hep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285840"/>
            <a:ext cx="93250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ODELOS  de INFECCIONES VI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gudas: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 respiratorias, enterovirus, 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“pestes”como sarampión,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5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persistentes latentes:</a:t>
            </a:r>
            <a:r>
              <a:rPr b="1" i="1" lang="es-ES_tradnl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familia</a:t>
            </a:r>
            <a:r>
              <a:rPr b="1" i="1" lang="es-ES_tradnl" sz="3600" spc="-1" strike="noStrike">
                <a:solidFill>
                  <a:srgbClr val="660033"/>
                </a:solidFill>
                <a:latin typeface="Times New Roman"/>
              </a:rPr>
              <a:t> herpesvirida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7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persistentes crónicas: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 HIV, HBV, HC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7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persistentes lentas: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 SSPP, Kuru, pr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7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transformantes: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 papiloma, EBV,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1981080"/>
          <a:ext cx="9144000" cy="40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914400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57200" y="549360"/>
            <a:ext cx="86868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VIGILANCIA DE VIRUS RESPIRATORIOS EN LACTANTES HOSPITALIZADOS POR INFECCION RESPIRATORIA AGUDA BAJA. </a:t>
            </a:r>
            <a:br>
              <a:rPr sz="2000"/>
            </a:b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 Hospital R. Río. Santiago. 198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004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31920" y="6095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Yoyo`s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-609480"/>
            <a:ext cx="577224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Times New Roman"/>
              </a:rPr>
              <a:t>TIPOS DE L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DIRECTA DEL VIRUS: lisis, sincicios, inclusiones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INDIRECTA o INMUNOALER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LTc, LTh2, IgE, células y citokinas inflamato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PATOGENIA A VARIOS NIV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CELULAR: nada; nuevos antígenos, inclusiones; sincicios, lisis; integración AN, latencia, transformación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INDIVIDUO: nada, subclínica, enfermedad aguda, persistente, transformante (cánc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POBLACION: nada, casos aislados, infección emergente; endemia, epid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66680"/>
            <a:ext cx="26222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1" lang="es-ES" sz="3200" spc="-1" strike="noStrike">
                <a:solidFill>
                  <a:srgbClr val="660033"/>
                </a:solidFill>
                <a:latin typeface="Times New Roman"/>
              </a:rPr>
              <a:t>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2000 millone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SILV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serot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genot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ce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dosis infec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VAC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inacti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atenu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bio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5280" y="1905120"/>
            <a:ext cx="351972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4600 millone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9900"/>
                </a:solidFill>
                <a:latin typeface="Times New Roman"/>
              </a:rPr>
              <a:t>GEOGRAF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CLIMA: frío, lluv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CONTAMINACION AE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URBANO (70%) - R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HOSPITAL - COMU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JARDIN - COLE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DOMICI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56040" y="981000"/>
            <a:ext cx="3388320" cy="54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HUES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HOMBRE...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y muj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6 millones 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nfermedades previa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inmuno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vacu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ducación, costu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omé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silv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1080" y="352440"/>
            <a:ext cx="85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INFECCIONES VIRALES: PATOGE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TOGENIA  DE INFECCIONES  VI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irus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resistencia al ambiente, virulencia, vari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fuente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hombre, an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ía de transmisión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vertical     : transplacentario, parto, lact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horizontal: directo, persona a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                 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indirecto - vehículos: agua, alimentos, moscas                          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    - vectores : insectos, raton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puerta de entrada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respiratoria, digestiva, piel, sexual,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parenteral, placenta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6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período de incubación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de horas a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diseminación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local, sangre, ne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órganos blancos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piel, aparato respiratorio, SNC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ía de eliminación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respiratoria, digestiva, sex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88960" y="1555920"/>
          <a:ext cx="6156360" cy="47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1555920"/>
                    <a:ext cx="615636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759600" y="85680"/>
            <a:ext cx="7921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AS 10 PRINCIPALES CAUSAS INFECCIO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E MUE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84400" y="6350040"/>
            <a:ext cx="339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ASM  News 1996; 62 (9):45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85680" y="3733920"/>
            <a:ext cx="1860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pirat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,4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2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arre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3,1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920" y="444492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BC 3,1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438280"/>
            <a:ext cx="2133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laria  2,1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  Paludism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96960" y="1447920"/>
            <a:ext cx="1405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epatiti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,1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77360" y="1092240"/>
            <a:ext cx="1406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V/SI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1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24560" y="1092240"/>
            <a:ext cx="1385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aramp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1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62880" y="1549440"/>
            <a:ext cx="2798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étanos neonatal 0,5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75600" y="1854360"/>
            <a:ext cx="228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queluche 0,35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95200" y="2133720"/>
            <a:ext cx="2700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sitosis intestin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,165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38400" y="1733400"/>
          <a:ext cx="3359160" cy="16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8400" y="1733400"/>
                    <a:ext cx="3359160" cy="16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91960" y="244440"/>
            <a:ext cx="8526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UERTES POR ENFERMEDADES INFECCIOS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ESTIMACIONES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28440" y="1235160"/>
            <a:ext cx="3982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ertes totales ( 51,9 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27160" y="1967040"/>
            <a:ext cx="2106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Otras causa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67%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(34,6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56000" y="2805120"/>
            <a:ext cx="2496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Enfs. infeccios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33%     (17,3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15160" y="6310440"/>
            <a:ext cx="3941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SM News 1996; 62 (9): 45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866920" y="3048120"/>
            <a:ext cx="165240" cy="16635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228600" cy="18288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13240" y="3730680"/>
          <a:ext cx="2700360" cy="30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13240" y="3730680"/>
                    <a:ext cx="270036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030120" y="3552840"/>
            <a:ext cx="3867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odo de trans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334120" y="4648320"/>
            <a:ext cx="914400" cy="38088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10080" y="4253040"/>
            <a:ext cx="256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Persona a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( 6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203200" y="5181480"/>
            <a:ext cx="18414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480" y="4710240"/>
            <a:ext cx="228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Times New Roman"/>
              </a:rPr>
              <a:t>Alimentos,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cecece"/>
                </a:solidFill>
                <a:latin typeface="Times New Roman"/>
              </a:rPr>
              <a:t>(2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885840" y="5416560"/>
            <a:ext cx="1073160" cy="5270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6800" y="5929200"/>
            <a:ext cx="272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Picadura de ins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(13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45160" y="5410080"/>
            <a:ext cx="59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32680" y="5243400"/>
            <a:ext cx="2664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rdedura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0.3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-531720"/>
            <a:ext cx="5664240" cy="73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323120" y="3706920"/>
            <a:ext cx="18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. RODIN (1840-1917)               “ El beso 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453960"/>
            <a:ext cx="8137440" cy="6288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8200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Transmisión interespecies y Reservo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53974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41400"/>
                </a:solidFill>
                <a:latin typeface="Arial"/>
              </a:rPr>
              <a:t>, H1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5440" y="34034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5050"/>
                </a:solidFill>
                <a:latin typeface="Arial Unicode MS"/>
              </a:rPr>
              <a:t>H5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GENTE versus ENFERMEDAD/SINDROM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4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1 agente =1 enferm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sarampión, viruela, varicela, rubéola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1 agente = muchas enfermedades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enterovirus producen meningitis, exantema, fiebre, diarrea; </a:t>
            </a:r>
            <a:r>
              <a:rPr b="0" i="1" lang="es-ES_tradnl" sz="3200" spc="-1" strike="noStrike">
                <a:solidFill>
                  <a:srgbClr val="660033"/>
                </a:solidFill>
                <a:latin typeface="Times New Roman"/>
              </a:rPr>
              <a:t>S aureus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 provoca impétigo, neumonía, absces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 sindrome = muchos a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diarreas por rotavirus, </a:t>
            </a:r>
            <a:r>
              <a:rPr b="0" i="1" lang="es-ES_tradnl" sz="3200" spc="-1" strike="noStrike">
                <a:solidFill>
                  <a:srgbClr val="660033"/>
                </a:solidFill>
                <a:latin typeface="Times New Roman"/>
              </a:rPr>
              <a:t>E coli, shigella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, E histolytica; bronconeumonía por VRS, influenza, </a:t>
            </a:r>
            <a:r>
              <a:rPr b="0" i="1" lang="es-ES_tradnl" sz="3200" spc="-1" strike="noStrike">
                <a:solidFill>
                  <a:srgbClr val="660033"/>
                </a:solidFill>
                <a:latin typeface="Times New Roman"/>
              </a:rPr>
              <a:t>S. pneumoniae, H. Influenzae, S. aureus,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 etc</a:t>
            </a:r>
            <a:r>
              <a:rPr b="0" lang="es-ES_tradnl" sz="28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0:44:45Z</dcterms:created>
  <dc:creator>Luis Avendaño</dc:creator>
  <dc:description/>
  <dc:language>en-US</dc:language>
  <cp:lastModifiedBy>Facultad de Medicina</cp:lastModifiedBy>
  <dcterms:modified xsi:type="dcterms:W3CDTF">2008-10-22T15:52:10Z</dcterms:modified>
  <cp:revision>199</cp:revision>
  <dc:subject/>
  <dc:title>DESARROLLO DE LA VIROLOGIA</dc:title>
</cp:coreProperties>
</file>