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24.png" ContentType="image/png"/>
  <Override PartName="/ppt/media/image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23BAE-F045-4C3F-8C1F-EE0FCDC7E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3B58B-4C42-4DE6-9849-4C3F4777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DB726-7859-41C8-9334-0E10A81F4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6452E-324F-4709-8546-72159D3AE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BFEC-FC7E-447D-A2FC-EF1462108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DDD5-B773-4E5A-92B8-B9E9D699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D5A3-60A0-426D-A7D1-2CC13B80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654B-EA50-4D2B-BD3D-65FE2536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58C8-19D1-4495-BC44-9A0FB93C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E362-9CFF-4F04-90EE-47A0B76B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7503-1D23-42BC-B486-53CC52C9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09991-C677-4336-864D-FCBB0445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B33F-7AA2-402D-A965-0424A124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B5CB-E9C2-469E-AFFE-FA4369E0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E45B-EDCB-431F-885E-07194C55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82BD-C568-4178-A4D2-3131C88E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2D08-F89B-43E3-A785-020C08C7D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29378-650C-4A2B-95D9-D4A1D8FC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69EA2-0C34-48D6-850E-5E538BF3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22D11-0FBB-425E-ACE0-DBA44151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FB89A-A28F-4E69-9851-5F82007E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EA33B-F42D-4BF3-ABA8-A7D266D6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A4C9C-F2D9-4E3D-A59A-138A3F37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19C4D-1451-4F4C-9E35-60B9889F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4F3A-4371-4C36-8273-87C9CEDF0F4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2576-4315-455C-8FBC-B6BA4F829E6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26920" y="2421000"/>
            <a:ext cx="6791400" cy="16786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8a31a"/>
                </a:solidFill>
                <a:latin typeface="Arial"/>
              </a:rPr>
              <a:t>INFECCIONES DE PIEL Y TEJIDOS BLAN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4869000"/>
            <a:ext cx="30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ría Teresa Ulloa F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68160" y="7650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MPÉTI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55640" y="1557360"/>
            <a:ext cx="48243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Tejido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epidermi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Agentes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S. pyogenes , S. aure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Lesión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 sobre piel sana o previamente dañ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948360" y="404640"/>
          <a:ext cx="1733760" cy="23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48360" y="404640"/>
                    <a:ext cx="1733760" cy="23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755640" y="3763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CT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923080" y="4103640"/>
            <a:ext cx="2536560" cy="15573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39640" y="4330800"/>
            <a:ext cx="5400720" cy="18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orma profunda y ulcerada de impétig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Agente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S. pyoge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Lesión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impétigo que atraviesa la epiderm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Generalmente en glúteos de niños y ancian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165640" y="404640"/>
            <a:ext cx="3583080" cy="20941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84360" y="692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LICUL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2133720"/>
            <a:ext cx="8207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- 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Lesión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infección del folículo piloso (bloqueo del folículo o trauma local menor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ápula o pústula con un pelo al centro, rodeada de un halo eritemato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341360"/>
            <a:ext cx="4246560" cy="7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Tejido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folículo pilo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Agentes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S. aureus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BGN,</a:t>
            </a: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 P aeruginosa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3763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URÚN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987640" y="2997360"/>
            <a:ext cx="2138400" cy="21445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50880" y="4365720"/>
            <a:ext cx="8458200" cy="25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Tejido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folículo pilo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Agentes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S. aureu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Lesión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infección del folículo piloso con compromiso subcutáneo (a partir de foliculiti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La manipulación puede provocar bacteremia y complicaciones 2ªri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90520" y="5084640"/>
            <a:ext cx="10296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abs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532480" y="2924280"/>
            <a:ext cx="321624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838080" y="83664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ARONIQU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1628640"/>
            <a:ext cx="8001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Tejido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bordes ungu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Agentes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S. aureus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forma aguda),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 C. albicans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forma cróni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Lesión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infección superficial de los bordes de la uña, aguda o crón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276720" y="3213000"/>
            <a:ext cx="3120840" cy="25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755640" y="83664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RISIP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2577960"/>
            <a:ext cx="632448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Tejido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dermis (con compromiso linfático cutáne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Agente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    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S. pyogenes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Lesión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placa eritematosa, brillante, edematosa (piel de naranja), dolorosa, de bordes netos (rodete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ferentemente en las piernas o en la c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uente en lactantes, niños pequeños y adultos may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692760" y="1566720"/>
          <a:ext cx="227196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2760" y="1566720"/>
                    <a:ext cx="227196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900000" y="11970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ELULI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9640" y="3429000"/>
            <a:ext cx="8210520" cy="25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Tejido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hipodermis (tejido celular subcutáne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Agente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S. pyogenes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S. aure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Lesión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placa eritematosa, edematosa, dolorosa, bordes poco defini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Generalmente existe una puerta de entrada en la piel (traumatismo, furúnculo, úlcer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076720" y="83664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692000" y="2924280"/>
            <a:ext cx="6014520" cy="6300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a31a"/>
                </a:solidFill>
                <a:latin typeface="Arial"/>
              </a:rPr>
              <a:t>INFECCIONES SECUNDA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762120" y="118116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ÚLCE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932360" y="3789360"/>
            <a:ext cx="3168720" cy="2151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971640" y="3716280"/>
            <a:ext cx="3306600" cy="22417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059280" y="1413000"/>
            <a:ext cx="505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ecrosis : nula llegada de AB Colonización polimicrobia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servorio de cepas I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cteremia poco frecu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 veces hay compromiso ós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83664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IE DIABÉ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" y="1916280"/>
            <a:ext cx="7162920" cy="18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-Las muestras deben tomarse por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ahoma"/>
              </a:rPr>
              <a:t>curetaje o biopsia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es-ES_tradnl" sz="1800" spc="-1" strike="noStrike" u="sng">
                <a:solidFill>
                  <a:srgbClr val="9b0986"/>
                </a:solidFill>
                <a:uFillTx/>
                <a:latin typeface="Tahoma"/>
              </a:rPr>
              <a:t>Nunca</a:t>
            </a:r>
            <a:r>
              <a:rPr b="1" lang="es-ES_tradnl" sz="1800" spc="-1" strike="noStrike">
                <a:solidFill>
                  <a:srgbClr val="9b0986"/>
                </a:solidFill>
                <a:latin typeface="Tahoma"/>
              </a:rPr>
              <a:t> tomar muestras superficiales (tórul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-No procesar piezas amput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-Tinción de gram tiene alto V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5405400" y="3141720"/>
            <a:ext cx="305424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762120" y="83664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QUEMAD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2073240"/>
            <a:ext cx="7162920" cy="14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es-ES_tradnl" sz="1800" spc="-1" strike="noStrike">
                <a:solidFill>
                  <a:srgbClr val="9b0986"/>
                </a:solidFill>
                <a:latin typeface="Tahoma"/>
              </a:rPr>
              <a:t>Los cultivos superficiales sólo miden colonización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-Biopsia de tejido profundo: buena mues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gente :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Pseudomonas aeruginosa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063800" y="4437000"/>
            <a:ext cx="7037280" cy="13813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651640" y="692280"/>
            <a:ext cx="1439640" cy="1197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rcRect l="51148" t="33103" r="22307" b="29981"/>
          <a:stretch/>
        </p:blipFill>
        <p:spPr>
          <a:xfrm>
            <a:off x="7164360" y="692280"/>
            <a:ext cx="11732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772280" y="2725560"/>
            <a:ext cx="5695920" cy="5630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a31a"/>
                </a:solidFill>
                <a:latin typeface="Arial"/>
              </a:rPr>
              <a:t>INFECCIONES NECROTIZ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11280" y="893880"/>
            <a:ext cx="3384360" cy="5205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a31a"/>
                </a:solidFill>
                <a:latin typeface="Comic Sans MS"/>
              </a:rPr>
              <a:t>GENERA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700280"/>
            <a:ext cx="8305920" cy="49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umerosas patolog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Gran diversidad (agentes etiológicos, mecanismos, cuadros clínic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ueden ser causadas por: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irus (Herpes viru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cterias (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S. aureus, S. pyogenes,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tr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ongos (Dermatofitos y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andida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ásitos (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S. scabiei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)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tintas clasificaciones: superficiales/profun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imarias/secundarias/necrotiz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39640" y="811080"/>
            <a:ext cx="4680000" cy="45972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a31a"/>
                </a:solidFill>
                <a:latin typeface="Comic Sans MS"/>
              </a:rPr>
              <a:t>FASCEÍTIS NECROTIZ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54120" y="3765600"/>
            <a:ext cx="8381880" cy="16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mienza en un sitio de trauma leve o inaparente con una lesión inicial similar a una quemadura o equímosis, que se extiende rápidamente (24 hr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Mortalidad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35-40%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buClr>
                <a:srgbClr val="9b098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9b0986"/>
                </a:solidFill>
                <a:latin typeface="Tahoma"/>
              </a:rPr>
              <a:t>Toma de muestra</a:t>
            </a:r>
            <a:r>
              <a:rPr b="0" lang="es-ES_tradnl" sz="1400" spc="-1" strike="noStrike">
                <a:solidFill>
                  <a:srgbClr val="9b0986"/>
                </a:solidFill>
                <a:latin typeface="Tahoma"/>
              </a:rPr>
              <a:t>: hemocul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6732720" y="549360"/>
          <a:ext cx="1966680" cy="30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720" y="549360"/>
                    <a:ext cx="196668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685800" y="1628640"/>
            <a:ext cx="5973840" cy="20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Tejido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fascia superficial y profun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Agente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Polimicrobiana (tipo I), </a:t>
            </a: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S. pyogenes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tipo I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Factores de riesgo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DM, CA, ancianos, traumatismo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Lesión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necrosis extensa y destrucción de tejido celular subcutáneo  y fascia y trombosis de vasos subcutáne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4659480" y="4735440"/>
            <a:ext cx="336852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340000" y="765000"/>
            <a:ext cx="2160720" cy="45972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a31a"/>
                </a:solidFill>
                <a:latin typeface="Comic Sans MS"/>
              </a:rPr>
              <a:t>MIOS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685800" y="1484280"/>
            <a:ext cx="8458200" cy="3732120"/>
            <a:chOff x="685800" y="1484280"/>
            <a:chExt cx="8458200" cy="3732120"/>
          </a:xfrm>
        </p:grpSpPr>
        <p:sp>
          <p:nvSpPr>
            <p:cNvPr id="218" name=""/>
            <p:cNvSpPr/>
            <p:nvPr/>
          </p:nvSpPr>
          <p:spPr>
            <a:xfrm>
              <a:off x="685800" y="1484280"/>
              <a:ext cx="8458200" cy="37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buClr>
                  <a:srgbClr val="000000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ahoma"/>
                </a:rPr>
                <a:t>Tejid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: múscul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buClr>
                  <a:srgbClr val="000000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Tahoma"/>
                </a:rPr>
                <a:t>Agente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: 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ahoma"/>
                </a:rPr>
                <a:t>Clostridium perfringens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 (gangrena gaseos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buClr>
                  <a:srgbClr val="000000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Tahoma"/>
                </a:rPr>
                <a:t>Lesión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: infección muy grave, compromiso sistémico, alta mortalid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buClr>
                  <a:srgbClr val="000000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a) </a:t>
              </a:r>
              <a:r>
                <a:rPr b="0" lang="es-ES_tradnl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gangrena gaseosa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Tejido traumatizad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ontaminación con esporas del suel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Invasión del múscul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necrosis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g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24080" y="33116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43600" y="3463920"/>
              <a:ext cx="380880" cy="457200"/>
            </a:xfrm>
            <a:prstGeom prst="downArrow">
              <a:avLst>
                <a:gd name="adj1" fmla="val 50000"/>
                <a:gd name="adj2" fmla="val 30009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15000" y="4149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162920" y="41497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3" name=""/>
            <p:cNvGraphicFramePr/>
            <p:nvPr/>
          </p:nvGraphicFramePr>
          <p:xfrm>
            <a:off x="838080" y="3624120"/>
            <a:ext cx="1828800" cy="1287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8080" y="3624120"/>
                      <a:ext cx="1828800" cy="128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25" name="" descr=""/>
          <p:cNvPicPr/>
          <p:nvPr/>
        </p:nvPicPr>
        <p:blipFill>
          <a:blip r:embed="rId3"/>
          <a:srcRect l="0" t="0" r="0" b="52368"/>
          <a:stretch/>
        </p:blipFill>
        <p:spPr>
          <a:xfrm>
            <a:off x="3635280" y="4508640"/>
            <a:ext cx="5077080" cy="1935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826920" y="4941720"/>
            <a:ext cx="17812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340000" y="765000"/>
            <a:ext cx="2160720" cy="45972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a31a"/>
                </a:solidFill>
                <a:latin typeface="Comic Sans MS"/>
              </a:rPr>
              <a:t>MIOS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2781360"/>
            <a:ext cx="8458200" cy="35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Tejido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múscu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Agente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S. pyogenes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miositis fulminant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Lesión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infección muy grave, compromiso sistémico, alta mort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)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ahoma"/>
              </a:rPr>
              <a:t>miositis fulminante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promete el músculo a partir de un foco contiguo o distante (vía hematógena). Lesión cutánea similar a la fasceitis y necrosis muscular sin g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6227640" y="692280"/>
          <a:ext cx="1967040" cy="30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692280"/>
                    <a:ext cx="196704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11280" y="893880"/>
            <a:ext cx="3384360" cy="5205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a31a"/>
                </a:solidFill>
                <a:latin typeface="Comic Sans MS"/>
              </a:rPr>
              <a:t>Recordemos   ¡¡¡¡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1700280"/>
            <a:ext cx="8305920" cy="49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umerosas patolog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Gran diversidad (agentes etiológicos, mecanismos, cuadros clínic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ueden ser causadas por: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irus (Herpes viru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cterias (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S. aureus, S. pyogenes,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tr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ongos (Dermatofitos y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andida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ásitos (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S. scabiei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)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tintas clasificaciones: superficiales/profun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imarias/secundarias/necrotiz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12000" y="907920"/>
            <a:ext cx="2592360" cy="894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8a31a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f8a31a"/>
                </a:solidFill>
                <a:latin typeface="Tahoma"/>
              </a:rPr>
              <a:t>SUPERFICIALES</a:t>
            </a:r>
            <a:r>
              <a:rPr b="1" lang="es-ES_tradnl" sz="1800" spc="-1" strike="noStrike">
                <a:solidFill>
                  <a:srgbClr val="f8a31a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84880" y="3716280"/>
            <a:ext cx="2174760" cy="10378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buClr>
                <a:srgbClr val="f8a31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8a31a"/>
                </a:solidFill>
                <a:latin typeface="Tahoma"/>
              </a:rPr>
              <a:t>PROFUN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8a31a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651640" y="1773360"/>
            <a:ext cx="3124080" cy="894960"/>
            <a:chOff x="5651640" y="1773360"/>
            <a:chExt cx="3124080" cy="894960"/>
          </a:xfrm>
        </p:grpSpPr>
        <p:sp>
          <p:nvSpPr>
            <p:cNvPr id="112" name=""/>
            <p:cNvSpPr/>
            <p:nvPr/>
          </p:nvSpPr>
          <p:spPr>
            <a:xfrm>
              <a:off x="5651640" y="1773360"/>
              <a:ext cx="3124080" cy="89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Epidermis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Impéti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Dermis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Erisipel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870960" y="200196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0960" y="245916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895480" y="4797360"/>
            <a:ext cx="6248520" cy="1696320"/>
            <a:chOff x="2895480" y="4797360"/>
            <a:chExt cx="6248520" cy="1696320"/>
          </a:xfrm>
        </p:grpSpPr>
        <p:sp>
          <p:nvSpPr>
            <p:cNvPr id="116" name=""/>
            <p:cNvSpPr/>
            <p:nvPr/>
          </p:nvSpPr>
          <p:spPr>
            <a:xfrm>
              <a:off x="2895480" y="4797360"/>
              <a:ext cx="6248520" cy="169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Hipodermis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Celul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Fascia superficial y profunda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Fasceítis necrotiz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Múscul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Mios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43400" y="513720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43600" y="56707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90760" y="62802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590920" y="54936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9280" y="1093680"/>
          <a:ext cx="5329440" cy="381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093680"/>
                    <a:ext cx="532944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62120" y="914400"/>
            <a:ext cx="3449520" cy="520560"/>
          </a:xfrm>
          <a:prstGeom prst="rect">
            <a:avLst/>
          </a:prstGeom>
          <a:gradFill rotWithShape="0">
            <a:gsLst>
              <a:gs pos="0">
                <a:srgbClr val="000039"/>
              </a:gs>
              <a:gs pos="5000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a31a"/>
                </a:solidFill>
                <a:latin typeface="Comic Sans MS"/>
              </a:rPr>
              <a:t>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27240" y="2379600"/>
            <a:ext cx="7016400" cy="3641400"/>
            <a:chOff x="1227240" y="2379600"/>
            <a:chExt cx="7016400" cy="3641400"/>
          </a:xfrm>
        </p:grpSpPr>
        <p:sp>
          <p:nvSpPr>
            <p:cNvPr id="125" name=""/>
            <p:cNvSpPr/>
            <p:nvPr/>
          </p:nvSpPr>
          <p:spPr>
            <a:xfrm>
              <a:off x="5905080" y="4440600"/>
              <a:ext cx="2338560" cy="789840"/>
            </a:xfrm>
            <a:prstGeom prst="rect">
              <a:avLst/>
            </a:prstGeom>
            <a:solidFill>
              <a:srgbClr val="feed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Vari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82800" y="4440600"/>
              <a:ext cx="2222280" cy="789840"/>
            </a:xfrm>
            <a:prstGeom prst="rect">
              <a:avLst/>
            </a:prstGeom>
            <a:solidFill>
              <a:srgbClr val="feed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Característi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27240" y="4440600"/>
              <a:ext cx="2455560" cy="789840"/>
            </a:xfrm>
            <a:prstGeom prst="rect">
              <a:avLst/>
            </a:prstGeom>
            <a:solidFill>
              <a:srgbClr val="feed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ahoma"/>
                </a:rPr>
                <a:t>Cuadro clíni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05080" y="5230800"/>
              <a:ext cx="2338560" cy="789840"/>
            </a:xfrm>
            <a:prstGeom prst="rect">
              <a:avLst/>
            </a:prstGeom>
            <a:solidFill>
              <a:srgbClr val="feed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Vari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82800" y="5230800"/>
              <a:ext cx="2222280" cy="789840"/>
            </a:xfrm>
            <a:prstGeom prst="rect">
              <a:avLst/>
            </a:prstGeom>
            <a:solidFill>
              <a:srgbClr val="feed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Característ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27240" y="5230800"/>
              <a:ext cx="2455560" cy="789840"/>
            </a:xfrm>
            <a:prstGeom prst="rect">
              <a:avLst/>
            </a:prstGeom>
            <a:solidFill>
              <a:srgbClr val="feed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ahoma"/>
                </a:rPr>
                <a:t>Evolució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05080" y="3650400"/>
              <a:ext cx="2338560" cy="789840"/>
            </a:xfrm>
            <a:prstGeom prst="rect">
              <a:avLst/>
            </a:prstGeom>
            <a:solidFill>
              <a:srgbClr val="feed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Mono-polimicrobia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82800" y="3650400"/>
              <a:ext cx="2222280" cy="789840"/>
            </a:xfrm>
            <a:prstGeom prst="rect">
              <a:avLst/>
            </a:prstGeom>
            <a:solidFill>
              <a:srgbClr val="feed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Monomicrobia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27240" y="3650400"/>
              <a:ext cx="2455560" cy="789840"/>
            </a:xfrm>
            <a:prstGeom prst="rect">
              <a:avLst/>
            </a:prstGeom>
            <a:solidFill>
              <a:srgbClr val="feed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ahoma"/>
                </a:rPr>
                <a:t>Etiologí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905080" y="2862360"/>
              <a:ext cx="2338560" cy="788040"/>
            </a:xfrm>
            <a:prstGeom prst="rect">
              <a:avLst/>
            </a:prstGeom>
            <a:solidFill>
              <a:srgbClr val="feed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Daña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82800" y="2862360"/>
              <a:ext cx="2222280" cy="788040"/>
            </a:xfrm>
            <a:prstGeom prst="rect">
              <a:avLst/>
            </a:prstGeom>
            <a:solidFill>
              <a:srgbClr val="feed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Sa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27240" y="2862360"/>
              <a:ext cx="2455560" cy="788040"/>
            </a:xfrm>
            <a:prstGeom prst="rect">
              <a:avLst/>
            </a:prstGeom>
            <a:solidFill>
              <a:srgbClr val="feed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ahoma"/>
                </a:rPr>
                <a:t>Piel afecta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05080" y="2379600"/>
              <a:ext cx="2338560" cy="482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b0986"/>
                  </a:solidFill>
                  <a:latin typeface="Tahoma"/>
                </a:rPr>
                <a:t>SECUNDA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82800" y="2379600"/>
              <a:ext cx="2222280" cy="482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b0986"/>
                  </a:solidFill>
                  <a:latin typeface="Tahoma"/>
                </a:rPr>
                <a:t>PRIMA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27240" y="2379600"/>
              <a:ext cx="2455560" cy="4827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ahoma"/>
                </a:rPr>
                <a:t>CARACTERÍST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27240" y="2379600"/>
              <a:ext cx="7016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27240" y="2862360"/>
              <a:ext cx="701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27240" y="3650400"/>
              <a:ext cx="701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27240" y="5230800"/>
              <a:ext cx="701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27240" y="6021000"/>
              <a:ext cx="7016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27240" y="2379600"/>
              <a:ext cx="0" cy="3641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82800" y="2379600"/>
              <a:ext cx="0" cy="36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05080" y="2379600"/>
              <a:ext cx="0" cy="36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243640" y="2379600"/>
              <a:ext cx="0" cy="3641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27240" y="4440600"/>
              <a:ext cx="701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1476360" y="1916280"/>
          <a:ext cx="6324480" cy="3700440"/>
        </p:xfrm>
        <a:graphic>
          <a:graphicData uri="http://schemas.openxmlformats.org/drawingml/2006/table">
            <a:tbl>
              <a:tblPr/>
              <a:tblGrid>
                <a:gridCol w="2635200"/>
                <a:gridCol w="3689280"/>
              </a:tblGrid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PO DE L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GENTE ETIOLÓG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/>
                    </a:solidFill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péti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. pyogenes, S. aur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liculit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. aureus, Cand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urúncul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. aur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oniqu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. aureus, Cand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cti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. pyoge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risipel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. pyoge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elulit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. pyogenes, S. aureus, 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ros rar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762120" y="1676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19280" y="907920"/>
            <a:ext cx="5759280" cy="520560"/>
          </a:xfrm>
          <a:prstGeom prst="rect">
            <a:avLst/>
          </a:prstGeom>
          <a:gradFill rotWithShape="0">
            <a:gsLst>
              <a:gs pos="0">
                <a:srgbClr val="000039"/>
              </a:gs>
              <a:gs pos="5000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8a31a"/>
                </a:solidFill>
                <a:latin typeface="Comic Sans MS"/>
              </a:rPr>
              <a:t>INFECCIONES PRIM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68360" y="6093000"/>
            <a:ext cx="59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b0986"/>
                </a:solidFill>
                <a:latin typeface="Tahoma"/>
              </a:rPr>
              <a:t>* En general no requieren toma de muestra 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1042920" y="1989000"/>
          <a:ext cx="6858000" cy="3451320"/>
        </p:xfrm>
        <a:graphic>
          <a:graphicData uri="http://schemas.openxmlformats.org/drawingml/2006/table">
            <a:tbl>
              <a:tblPr/>
              <a:tblGrid>
                <a:gridCol w="2365560"/>
                <a:gridCol w="449244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PO DE L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GENTE ETIOLÓG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emadura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. aerugino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rmatitis eczemato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. pyogenes, S. aur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Úlceras crónicas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erobacterias</a:t>
                      </a: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P aeruginosa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anaerobios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rice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. pyogenes, S. aur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u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. pyogenes, S. aureus, 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xtas (aer/ana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1042920" y="558972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* Úlceras de decúbito, varicos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47640" y="1052640"/>
            <a:ext cx="6048720" cy="52056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8a31a"/>
                </a:solidFill>
                <a:latin typeface="Comic Sans MS"/>
              </a:rPr>
              <a:t>INFECCIONES SECUND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042920" y="1027080"/>
            <a:ext cx="6769080" cy="45972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8a31a"/>
                </a:solidFill>
                <a:latin typeface="Comic Sans MS"/>
              </a:rPr>
              <a:t>INFECCIONES NECROTIZ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39640" y="2583000"/>
            <a:ext cx="8280360" cy="3693240"/>
            <a:chOff x="539640" y="2583000"/>
            <a:chExt cx="8280360" cy="3693240"/>
          </a:xfrm>
        </p:grpSpPr>
        <p:sp>
          <p:nvSpPr>
            <p:cNvPr id="159" name=""/>
            <p:cNvSpPr/>
            <p:nvPr/>
          </p:nvSpPr>
          <p:spPr>
            <a:xfrm>
              <a:off x="539640" y="2583000"/>
              <a:ext cx="8136000" cy="3078000"/>
            </a:xfrm>
            <a:prstGeom prst="rect">
              <a:avLst/>
            </a:prstGeom>
            <a:solidFill>
              <a:srgbClr val="feedb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4360" y="2712960"/>
              <a:ext cx="8135640" cy="35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-Cuadros agu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-Destrucción fulminante de tejidos y gran toxicidad sistém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-Alta mortalid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-Etiología: Fasceítis necrotizante (inf sinérgica/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ahoma"/>
                </a:rPr>
                <a:t>S pyogenes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Gangrena de Fournier (anaerobios, BGN, staphylo y enterococo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Miositis (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ahoma"/>
                </a:rPr>
                <a:t>S pyogenes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Gangrena gaseosa (mionecrosis por 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ahoma"/>
                </a:rPr>
                <a:t>C perfringens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14920" y="2738520"/>
            <a:ext cx="7236720" cy="7642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8a31a"/>
                </a:solidFill>
                <a:latin typeface="Arial"/>
              </a:rPr>
              <a:t>INFECCIONES PRIMAR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08000" y="836640"/>
            <a:ext cx="4824720" cy="52056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a31a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8a31a"/>
                </a:solidFill>
                <a:latin typeface="Comic Sans MS"/>
              </a:rPr>
              <a:t>AGENTES ETIOLÓG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16002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os agentes bacterianos más importantes  en estas infecciones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1905120" cy="2006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986360" y="2781360"/>
            <a:ext cx="36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treptococcus pyo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2160" y="5442120"/>
            <a:ext cx="34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taphylococcus aur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rcRect l="0" t="5762" r="0" b="0"/>
          <a:stretch/>
        </p:blipFill>
        <p:spPr>
          <a:xfrm>
            <a:off x="6372360" y="4941720"/>
            <a:ext cx="2592360" cy="1619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340000" y="2421000"/>
            <a:ext cx="2592360" cy="19429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4643280" y="4941720"/>
            <a:ext cx="1686240" cy="16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1T18:51:01Z</dcterms:created>
  <dc:creator>yo</dc:creator>
  <dc:description/>
  <dc:language>en-US</dc:language>
  <cp:lastModifiedBy>Usuario</cp:lastModifiedBy>
  <dcterms:modified xsi:type="dcterms:W3CDTF">2008-09-01T20:37:50Z</dcterms:modified>
  <cp:revision>139</cp:revision>
  <dc:subject/>
  <dc:title>Presentación de PowerPoint</dc:title>
</cp:coreProperties>
</file>