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4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0ED1-6BC9-4DC5-82B9-4BE3B9CD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D2067-6E0B-40CF-9CF6-0987890C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10E21-8746-4AB6-AC59-67BE799C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503A-3DD1-4C86-913A-605FE92C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AE45-F629-48B2-AF22-109E2FC3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6BCA-B3D7-4D8B-B46B-6173B169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C30D-6DBF-47F6-BAC4-7908459F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3E3F-DF65-4A46-AB43-A7A6E250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698B-D3BD-4766-B473-C0D177CE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CCBE-76A9-4065-BBD8-991B7ED0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27CE-54E5-4600-96AF-E57011F7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AB24-6FBC-4FEF-B26E-EBCD3E40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6F2C-6F52-4808-9456-41784707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1806-B61B-4568-9948-68F08298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525C-EBAC-4A41-8FD8-A6A0B6D3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B6FF-CF53-4443-9C08-63C33FEB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E475-6E04-4C63-B1B7-11E672E5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1B50-B852-4195-905F-3FA790F1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F04CF-4EAD-42F7-B1A5-30C5D3A5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015D-F5F6-48F1-B5E7-37264ECF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DFD2-FE4E-4D39-BCE7-536E36E3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8EEE-C7D1-4378-BD6B-A29C6A29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1EA5F-DE89-46AF-96E7-6AEC130C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FA51-8DD2-4F8C-9E33-4732151E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EA42-65DD-48BB-B8AA-069C4F2B161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0ECF-172B-4204-B079-F0DE21D50E5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2421000"/>
            <a:ext cx="6791400" cy="1678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a31a"/>
                </a:solidFill>
                <a:latin typeface="Arial"/>
              </a:rPr>
              <a:t>INFECCIONES DE PIEL Y TEJIDOS BLA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869000"/>
            <a:ext cx="30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ría Teresa Ulloa F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68160" y="765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PÉ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1557360"/>
            <a:ext cx="4824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epidermi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s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pyogenes , S. aur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 sobre piel sana o previamente dañ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948360" y="404640"/>
          <a:ext cx="1733760" cy="23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404640"/>
                    <a:ext cx="173376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755640" y="3763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923080" y="4103640"/>
            <a:ext cx="2536560" cy="1557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9640" y="4330800"/>
            <a:ext cx="5400720" cy="18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orma profunda y ulcerada de impéti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pyoge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impétigo que atraviesa la epider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Generalmente en glúteos de niños y ancian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65640" y="404640"/>
            <a:ext cx="3583080" cy="2094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692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LICUL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13372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- 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infección del folículo piloso (bloqueo del folículo o trauma local menor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ápula o pústula con un pelo al centro, rodeada de un halo eritemato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341360"/>
            <a:ext cx="4246560" cy="7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folículo pilo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s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aureus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BGN,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 P aeruginosa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3763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ÚN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987640" y="2997360"/>
            <a:ext cx="2138400" cy="2144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50880" y="4365720"/>
            <a:ext cx="845820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folículo pilo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s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aure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infección del folículo piloso con compromiso subcutáneo (a partir de foliculiti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a manipulación puede provocar bacteremia y complicaciones 2ªri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90520" y="5084640"/>
            <a:ext cx="1029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abs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532480" y="2924280"/>
            <a:ext cx="32162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38080" y="83664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ONIQU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628640"/>
            <a:ext cx="8001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bordes ungu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gent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aureus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forma aguda),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 C. albicans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forma crón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infección superficial de los bordes de la uña, aguda o cr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312084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5640" y="83664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RISIP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2577960"/>
            <a:ext cx="63244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dermis (con compromiso linfático cután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S. pyogen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placa eritematosa, brillante, edematosa (piel de naranja), dolorosa, de bordes netos (rodete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ferentemente en las piernas o en la c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uente en lactantes, niños pequeños y adultos may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692760" y="1566720"/>
          <a:ext cx="227196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2760" y="1566720"/>
                    <a:ext cx="22719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00000" y="11970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ELUL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3429000"/>
            <a:ext cx="821052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hipodermis (tejido celular subcután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pyogen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aure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placa eritematosa, edematosa, dolorosa, bordes poco defini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eneralmente existe una puerta de entrada en la piel (traumatismo, furúnculo, úlce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92000" y="2924280"/>
            <a:ext cx="6014520" cy="6300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a31a"/>
                </a:solidFill>
                <a:latin typeface="Arial"/>
              </a:rPr>
              <a:t>INFECCIONES SECUND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62120" y="1181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ÚLC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168720" cy="2151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3306600" cy="2241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059280" y="1413000"/>
            <a:ext cx="505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crosis : nula llegada de AB Colonización polimicrobia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ervorio de cepas I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cteremia poco frec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 veces hay compromiso ós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83664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IE DIAB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1916280"/>
            <a:ext cx="716292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Las muestras deben tomarse por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curetaje o biopsi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s-ES_tradnl" sz="1800" spc="-1" strike="noStrike" u="sng">
                <a:solidFill>
                  <a:srgbClr val="9b0986"/>
                </a:solidFill>
                <a:uFillTx/>
                <a:latin typeface="Tahoma"/>
              </a:rPr>
              <a:t>Nunca</a:t>
            </a:r>
            <a:r>
              <a:rPr b="1" lang="es-ES_tradnl" sz="1800" spc="-1" strike="noStrike">
                <a:solidFill>
                  <a:srgbClr val="9b0986"/>
                </a:solidFill>
                <a:latin typeface="Tahoma"/>
              </a:rPr>
              <a:t> tomar muestras superficiales (tórul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No procesar piezas amput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Tinción de gram tiene alto V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405400" y="3141720"/>
            <a:ext cx="305424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83664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QUEMA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073240"/>
            <a:ext cx="716292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s-ES_tradnl" sz="1800" spc="-1" strike="noStrike">
                <a:solidFill>
                  <a:srgbClr val="9b0986"/>
                </a:solidFill>
                <a:latin typeface="Tahoma"/>
              </a:rPr>
              <a:t>Los cultivos superficiales sólo miden colonización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Biopsia de tejido profundo: buena mu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gente :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Pseudomonas aeruginosa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3800" y="4437000"/>
            <a:ext cx="7037280" cy="1381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651640" y="692280"/>
            <a:ext cx="1439640" cy="1197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rcRect l="51148" t="33103" r="22307" b="29981"/>
          <a:stretch/>
        </p:blipFill>
        <p:spPr>
          <a:xfrm>
            <a:off x="7164360" y="692280"/>
            <a:ext cx="1173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772280" y="2725560"/>
            <a:ext cx="5695920" cy="5630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Arial"/>
              </a:rPr>
              <a:t>INFECCIONES NECROTIZ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893880"/>
            <a:ext cx="3384360" cy="5205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GENER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700280"/>
            <a:ext cx="8305920" cy="49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umerosas patolog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ran diversidad (agentes etiológicos, mecanismos, cuadros clín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eden ser causadas por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irus (Herpes vir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cterias (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aureus, S. pyogenes,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t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ongos (Dermatofitos y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andi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ásitos (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scabiei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tintas clasificaciones: superficiales/profu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imarias/secundarias/necrotiz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9640" y="811080"/>
            <a:ext cx="4680000" cy="45972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a31a"/>
                </a:solidFill>
                <a:latin typeface="Comic Sans MS"/>
              </a:rPr>
              <a:t>FASCEÍTIS NECROTIZ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4120" y="3765600"/>
            <a:ext cx="838188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a en un sitio de trauma leve o inaparente con una lesión inicial similar a una quemadura o equímosis, que se extiende rápidamente (24 hr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ortalidad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35-40%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buClr>
                <a:srgbClr val="9b098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b0986"/>
                </a:solidFill>
                <a:latin typeface="Tahoma"/>
              </a:rPr>
              <a:t>Toma de muestra</a:t>
            </a:r>
            <a:r>
              <a:rPr b="0" lang="es-ES_tradnl" sz="1400" spc="-1" strike="noStrike">
                <a:solidFill>
                  <a:srgbClr val="9b0986"/>
                </a:solidFill>
                <a:latin typeface="Tahoma"/>
              </a:rPr>
              <a:t>: hemocul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732720" y="549360"/>
          <a:ext cx="196668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549360"/>
                    <a:ext cx="19666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" y="1628640"/>
            <a:ext cx="597384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fascia superficial y profu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Polimicrobiana (tipo I), </a:t>
            </a: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S. pyogenes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tipo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actores de riesg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DM, CA, ancianos, traumatismo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: necrosis extensa y destrucción de tejido celular subcutáneo  y fascia y trombosis de vasos subcutáne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659480" y="4735440"/>
            <a:ext cx="33685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340000" y="765000"/>
            <a:ext cx="2160720" cy="45972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a31a"/>
                </a:solidFill>
                <a:latin typeface="Comic Sans MS"/>
              </a:rPr>
              <a:t>MIOS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800" y="1484280"/>
            <a:ext cx="8458200" cy="3732120"/>
            <a:chOff x="685800" y="1484280"/>
            <a:chExt cx="8458200" cy="3732120"/>
          </a:xfrm>
        </p:grpSpPr>
        <p:sp>
          <p:nvSpPr>
            <p:cNvPr id="218" name=""/>
            <p:cNvSpPr/>
            <p:nvPr/>
          </p:nvSpPr>
          <p:spPr>
            <a:xfrm>
              <a:off x="685800" y="1484280"/>
              <a:ext cx="845820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Tejid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: múscul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Agente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ahoma"/>
                </a:rPr>
                <a:t>Clostridium perfringen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(gangrena gaseos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Lesión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: infección muy grave, compromiso sistémico, alta morta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) </a:t>
              </a: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gangrena gaseosa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ejido traumatizad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ntaminación con esporas del sue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vasión del músc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necrosi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24080" y="33116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43600" y="346392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15000" y="4149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62920" y="4149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838080" y="3624120"/>
            <a:ext cx="1828800" cy="1287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3624120"/>
                      <a:ext cx="1828800" cy="128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25" name="" descr=""/>
          <p:cNvPicPr/>
          <p:nvPr/>
        </p:nvPicPr>
        <p:blipFill>
          <a:blip r:embed="rId3"/>
          <a:srcRect l="0" t="0" r="0" b="52368"/>
          <a:stretch/>
        </p:blipFill>
        <p:spPr>
          <a:xfrm>
            <a:off x="3635280" y="4508640"/>
            <a:ext cx="5077080" cy="1935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826920" y="4941720"/>
            <a:ext cx="1781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340000" y="765000"/>
            <a:ext cx="2160720" cy="45972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a31a"/>
                </a:solidFill>
                <a:latin typeface="Comic Sans MS"/>
              </a:rPr>
              <a:t>MIOS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2781360"/>
            <a:ext cx="845820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ejid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múscu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gent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pyogenes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miositis fulminan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es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infección muy grave, compromiso sistémico, alta mort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miositis fulminant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romete el músculo a partir de un foco contiguo o distante (vía hematógena). Lesión cutánea similar a la fasceitis y necrosis muscular sin g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227640" y="692280"/>
          <a:ext cx="196704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692280"/>
                    <a:ext cx="196704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11280" y="893880"/>
            <a:ext cx="3384360" cy="5205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Recordemos   ¡¡¡¡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1700280"/>
            <a:ext cx="8305920" cy="49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umerosas patolog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ran diversidad (agentes etiológicos, mecanismos, cuadros clín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eden ser causadas por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irus (Herpes vir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cterias (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aureus, S. pyogenes,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t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ongos (Dermatofitos y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andi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ásitos (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S. scabiei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tintas clasificaciones: superficiales/profu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imarias/secundarias/necrotiz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12000" y="907920"/>
            <a:ext cx="2592360" cy="894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SUPERFICIALES</a:t>
            </a: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84880" y="3716280"/>
            <a:ext cx="2174760" cy="10378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f8a31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PROFU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8a31a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651640" y="1773360"/>
            <a:ext cx="3124080" cy="894960"/>
            <a:chOff x="5651640" y="1773360"/>
            <a:chExt cx="3124080" cy="894960"/>
          </a:xfrm>
        </p:grpSpPr>
        <p:sp>
          <p:nvSpPr>
            <p:cNvPr id="112" name=""/>
            <p:cNvSpPr/>
            <p:nvPr/>
          </p:nvSpPr>
          <p:spPr>
            <a:xfrm>
              <a:off x="5651640" y="1773360"/>
              <a:ext cx="312408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Epidermi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Impéti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Dermi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Erisipe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70960" y="2001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0960" y="2459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895480" y="4797360"/>
            <a:ext cx="6248520" cy="1696320"/>
            <a:chOff x="2895480" y="4797360"/>
            <a:chExt cx="6248520" cy="1696320"/>
          </a:xfrm>
        </p:grpSpPr>
        <p:sp>
          <p:nvSpPr>
            <p:cNvPr id="116" name=""/>
            <p:cNvSpPr/>
            <p:nvPr/>
          </p:nvSpPr>
          <p:spPr>
            <a:xfrm>
              <a:off x="2895480" y="4797360"/>
              <a:ext cx="6248520" cy="16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Hipodermi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Celul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Fascia superficial y profunda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Fasceítis necrotiz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Músc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Microsoft Sans Serif"/>
                </a:rPr>
                <a:t>Mios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3400" y="51372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5670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90760" y="62802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590920" y="549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093680"/>
          <a:ext cx="5329440" cy="381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093680"/>
                    <a:ext cx="532944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914400"/>
            <a:ext cx="3449520" cy="52056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27240" y="2379600"/>
            <a:ext cx="7016400" cy="3641400"/>
            <a:chOff x="1227240" y="2379600"/>
            <a:chExt cx="7016400" cy="3641400"/>
          </a:xfrm>
        </p:grpSpPr>
        <p:sp>
          <p:nvSpPr>
            <p:cNvPr id="125" name=""/>
            <p:cNvSpPr/>
            <p:nvPr/>
          </p:nvSpPr>
          <p:spPr>
            <a:xfrm>
              <a:off x="5905080" y="4440600"/>
              <a:ext cx="2338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82800" y="4440600"/>
              <a:ext cx="222228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aracteríst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27240" y="4440600"/>
              <a:ext cx="2455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ahoma"/>
                </a:rPr>
                <a:t>Cuadro clín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05080" y="5230800"/>
              <a:ext cx="2338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2800" y="5230800"/>
              <a:ext cx="222228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aracteríst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27240" y="5230800"/>
              <a:ext cx="2455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ahoma"/>
                </a:rPr>
                <a:t>Evoluc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05080" y="3650400"/>
              <a:ext cx="2338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Mono-polimicrobia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2800" y="3650400"/>
              <a:ext cx="222228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Monomicrobia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27240" y="3650400"/>
              <a:ext cx="2455560" cy="7898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ahoma"/>
                </a:rPr>
                <a:t>Etiologí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05080" y="2862360"/>
              <a:ext cx="2338560" cy="7880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Dañ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82800" y="2862360"/>
              <a:ext cx="2222280" cy="7880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a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7240" y="2862360"/>
              <a:ext cx="2455560" cy="788040"/>
            </a:xfrm>
            <a:prstGeom prst="rect">
              <a:avLst/>
            </a:prstGeom>
            <a:solidFill>
              <a:srgbClr val="feed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ahoma"/>
                </a:rPr>
                <a:t>Piel afect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05080" y="2379600"/>
              <a:ext cx="2338560" cy="482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b0986"/>
                  </a:solidFill>
                  <a:latin typeface="Tahoma"/>
                </a:rPr>
                <a:t>SECUND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82800" y="2379600"/>
              <a:ext cx="2222280" cy="482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b0986"/>
                  </a:solidFill>
                  <a:latin typeface="Tahoma"/>
                </a:rPr>
                <a:t>PRIM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27240" y="2379600"/>
              <a:ext cx="2455560" cy="48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CARACTERÍST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27240" y="2379600"/>
              <a:ext cx="701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27240" y="2862360"/>
              <a:ext cx="70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27240" y="3650400"/>
              <a:ext cx="70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27240" y="5230800"/>
              <a:ext cx="70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27240" y="6021000"/>
              <a:ext cx="701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27240" y="2379600"/>
              <a:ext cx="0" cy="3641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82800" y="2379600"/>
              <a:ext cx="0" cy="36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05080" y="2379600"/>
              <a:ext cx="0" cy="36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43640" y="2379600"/>
              <a:ext cx="0" cy="3641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27240" y="4440600"/>
              <a:ext cx="70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476360" y="1916280"/>
          <a:ext cx="6324480" cy="3700440"/>
        </p:xfrm>
        <a:graphic>
          <a:graphicData uri="http://schemas.openxmlformats.org/drawingml/2006/table">
            <a:tbl>
              <a:tblPr/>
              <a:tblGrid>
                <a:gridCol w="2635200"/>
                <a:gridCol w="3689280"/>
              </a:tblGrid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L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NTE ETIO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péti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licul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aureus, Can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rúncu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oniqu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aureus, Can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t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isipel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lul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,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os ra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762120" y="1676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19280" y="907920"/>
            <a:ext cx="5759280" cy="52056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a31a"/>
                </a:solidFill>
                <a:latin typeface="Comic Sans MS"/>
              </a:rPr>
              <a:t>INFECCIONES PRIM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6093000"/>
            <a:ext cx="59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b0986"/>
                </a:solidFill>
                <a:latin typeface="Tahoma"/>
              </a:rPr>
              <a:t>* En general no requieren toma de muestra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042920" y="1989000"/>
          <a:ext cx="6858000" cy="3451320"/>
        </p:xfrm>
        <a:graphic>
          <a:graphicData uri="http://schemas.openxmlformats.org/drawingml/2006/table">
            <a:tbl>
              <a:tblPr/>
              <a:tblGrid>
                <a:gridCol w="2365560"/>
                <a:gridCol w="44924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L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NTE ETIO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madur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. aerugin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rmatitis eczemat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lceras crónica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erobacterias</a:t>
                      </a: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P aeruginosa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anaerobios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rice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u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pyogenes, S. aureus, 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tas (aer/ana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edb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042920" y="55897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* Úlceras de decúbito, varicos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1052640"/>
            <a:ext cx="6048720" cy="52056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a31a"/>
                </a:solidFill>
                <a:latin typeface="Comic Sans MS"/>
              </a:rPr>
              <a:t>INFECCIONES SECUND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42920" y="1027080"/>
            <a:ext cx="6769080" cy="45972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a31a"/>
                </a:solidFill>
                <a:latin typeface="Comic Sans MS"/>
              </a:rPr>
              <a:t>INFECCIONES NECROTIZ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9640" y="2583000"/>
            <a:ext cx="8280360" cy="3693240"/>
            <a:chOff x="539640" y="2583000"/>
            <a:chExt cx="8280360" cy="3693240"/>
          </a:xfrm>
        </p:grpSpPr>
        <p:sp>
          <p:nvSpPr>
            <p:cNvPr id="159" name=""/>
            <p:cNvSpPr/>
            <p:nvPr/>
          </p:nvSpPr>
          <p:spPr>
            <a:xfrm>
              <a:off x="539640" y="2583000"/>
              <a:ext cx="8136000" cy="3078000"/>
            </a:xfrm>
            <a:prstGeom prst="rect">
              <a:avLst/>
            </a:prstGeom>
            <a:solidFill>
              <a:srgbClr val="feed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4360" y="2712960"/>
              <a:ext cx="8135640" cy="35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-Cuadros agu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-Destrucción fulminante de tejidos y gran toxicidad sistém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-Alta morta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-Etiología: Fasceítis necrotizante (inf sinérgica/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ahoma"/>
                </a:rPr>
                <a:t>S pyogene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Gangrena de Fournier (anaerobios, BGN, staphylo y enterococ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Miositis 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ahoma"/>
                </a:rPr>
                <a:t>S pyogene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Gangrena gaseosa (mionecrosis por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ahoma"/>
                </a:rPr>
                <a:t>C perfringen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14920" y="2738520"/>
            <a:ext cx="7236720" cy="764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8a31a"/>
                </a:solidFill>
                <a:latin typeface="Arial"/>
              </a:rPr>
              <a:t>INFECCIONES PRIMA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08000" y="836640"/>
            <a:ext cx="4824720" cy="52056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00003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8a31a"/>
                </a:solidFill>
                <a:latin typeface="Comic Sans MS"/>
              </a:rPr>
              <a:t>AGENTES ETI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600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agentes bacterianos más importantes  en estas infeccion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1905120" cy="2006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986360" y="278136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treptococcus pyo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2160" y="544212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taphylococcus aur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0" t="5762" r="0" b="0"/>
          <a:stretch/>
        </p:blipFill>
        <p:spPr>
          <a:xfrm>
            <a:off x="6372360" y="4941720"/>
            <a:ext cx="2592360" cy="161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340000" y="242100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643280" y="4941720"/>
            <a:ext cx="1686240" cy="16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8:51:01Z</dcterms:created>
  <dc:creator>yo</dc:creator>
  <dc:description/>
  <dc:language>en-US</dc:language>
  <cp:lastModifiedBy>Usuario</cp:lastModifiedBy>
  <dcterms:modified xsi:type="dcterms:W3CDTF">2008-09-01T20:37:50Z</dcterms:modified>
  <cp:revision>139</cp:revision>
  <dc:subject/>
  <dc:title>Presentación de PowerPoint</dc:title>
</cp:coreProperties>
</file>