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96FD-289B-45BB-8D50-0FEB0F55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3B4E-F186-40C7-ACF3-7FE3BEA4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59B8-1EFA-4A81-A22E-1FD778FA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3543-B45C-4876-A585-6F32AF2B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A7C5-8B2C-496C-8132-393FFEEA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BEBF-DC3A-454F-97C6-9D3A49CA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F86D-23A7-4B6F-9072-DD6ADE09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14F1-9B61-4A1B-BF8B-EE54041C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F894-3D7E-44DB-A957-CBFF4CE1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78DA-BED9-4E10-8200-402F857F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A4E3-3446-428F-B1DE-33FFFC7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079F-E563-4621-BCB1-FEFF9523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DDD2-704C-40D6-AF44-81DA5FA1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EAFE-FC01-4BDB-92E2-239B38BA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159C-945D-485E-8F80-C3F11ED3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DD89-5280-48F0-896B-1E34F392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EFB0-B73C-4AB2-9D86-6644EEB4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B20D-10BD-46A1-A557-9FCE33CC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CEB0-73A5-4BD4-AB1C-86D41408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6988-FE8A-46C0-9B13-0BBAD677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85AE-EDFD-4B59-AA7B-A3A1DE6A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14AE-6699-427F-BF00-C35F56D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0F96-57FB-4758-871A-9B533EB9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42F0-C31F-429F-988A-33C8EC3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8A84-AE9D-4FB4-9280-FB719C1BF95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6BB3-AE34-4FD1-9179-A14D9D34ED6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2421000"/>
            <a:ext cx="6791400" cy="1678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Arial"/>
              </a:rPr>
              <a:t>INFECCIONES DE PIEL Y TEJIDOS BLA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86900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ía Teresa Ulloa F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68160" y="765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É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1557360"/>
            <a:ext cx="4824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epidermi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 , S. aur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 sobre piel sana o previamente dañ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948360" y="404640"/>
          <a:ext cx="1733760" cy="23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04640"/>
                    <a:ext cx="173376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755640" y="3763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923080" y="4103640"/>
            <a:ext cx="2536560" cy="1557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9640" y="4330800"/>
            <a:ext cx="540072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orma profunda y ulcerada de impéti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mpétigo que atraviesa la epider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Generalmente en glúteos de niños y ancian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65640" y="404640"/>
            <a:ext cx="3583080" cy="2094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692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LICUL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13372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nfección del folículo piloso (bloqueo del folículo o trauma local meno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ápula o pústula con un pelo al centro, rodeada de un halo eritemat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341360"/>
            <a:ext cx="424656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olículo pil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aureus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BGN,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P aeruginosa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763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ÚN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987640" y="2997360"/>
            <a:ext cx="2138400" cy="2144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50880" y="4365720"/>
            <a:ext cx="845820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olículo pil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aure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nfección del folículo piloso con compromiso subcutáneo (a partir de foliculiti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manipulación puede provocar bacteremia y complicaciones 2ªr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90520" y="5084640"/>
            <a:ext cx="1029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abs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532480" y="2924280"/>
            <a:ext cx="32162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38080" y="83664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ONIQU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628640"/>
            <a:ext cx="8001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bordes ungu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orma aguda),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 C. albican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orma crón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infección superficial de los bordes de la uña, aguda o cr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31208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8366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RISIP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577960"/>
            <a:ext cx="63244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dermis (con compromiso linfático cután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S. pyoge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placa eritematosa, brillante, edematosa (piel de naranja), dolorosa, de bordes netos (rodete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ferentemente en las piernas o en la c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uente en lactantes, niños pequeños y adultos may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692760" y="1566720"/>
          <a:ext cx="22719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2760" y="1566720"/>
                    <a:ext cx="22719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00000" y="1197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ELUL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429000"/>
            <a:ext cx="821052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hipodermis (tejido celular subcután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pyoge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placa eritematosa, edematosa, dolorosa, bordes poco defini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eneralmente existe una puerta de entrada en la piel (traumatismo, furúnculo, úlce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92000" y="2924280"/>
            <a:ext cx="6014520" cy="6300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a31a"/>
                </a:solidFill>
                <a:latin typeface="Arial"/>
              </a:rPr>
              <a:t>INFECCIONES SECUND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1181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ÚLC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168720" cy="2151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3306600" cy="2241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59280" y="1413000"/>
            <a:ext cx="505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crosis : nula llegada de AB Colonización polimicrobi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ervorio de cepas I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cteremia poco frec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veces hay compromiso ós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836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IE DIAB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916280"/>
            <a:ext cx="716292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Las muestras deben tomarse por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curetaje o biopsi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ES_tradnl" sz="1800" spc="-1" strike="noStrike" u="sng">
                <a:solidFill>
                  <a:srgbClr val="9b0986"/>
                </a:solidFill>
                <a:uFillTx/>
                <a:latin typeface="Tahoma"/>
              </a:rPr>
              <a:t>Nunca</a:t>
            </a: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 tomar muestras superficiales (tórul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No procesar piezas amput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Tinción de gram tiene alto V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405400" y="3141720"/>
            <a:ext cx="305424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836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MA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073240"/>
            <a:ext cx="716292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Los cultivos superficiales sólo miden colonización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Biopsia de tejido profundo: buen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gente 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Pseudomonas aeruginosa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3800" y="4437000"/>
            <a:ext cx="7037280" cy="1381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651640" y="692280"/>
            <a:ext cx="1439640" cy="1197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rcRect l="51148" t="33103" r="22307" b="29981"/>
          <a:stretch/>
        </p:blipFill>
        <p:spPr>
          <a:xfrm>
            <a:off x="7164360" y="692280"/>
            <a:ext cx="1173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772280" y="2725560"/>
            <a:ext cx="5695920" cy="5630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Arial"/>
              </a:rPr>
              <a:t>INFECCIONES NECROTIZ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893880"/>
            <a:ext cx="338436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GENER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700280"/>
            <a:ext cx="8305920" cy="49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umerosas pat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ran diversidad (agentes etiológicos, mecanismos, cuadros clí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n ser causadas por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rus (Herpes vir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cteria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, S. pyogenes,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t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ngos (Dermatofitos y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andi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ásito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scabiei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tintas clasificaciones: superficiales/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marias/secundarias/necrotiz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9640" y="811080"/>
            <a:ext cx="468000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FASCEÍTIS NECROTIZ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4120" y="3765600"/>
            <a:ext cx="838188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a en un sitio de trauma leve o inaparente con una lesión inicial similar a una quemadura o equímosis, que se extiende rápidamente (24 hr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ortalidad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35-40%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buClr>
                <a:srgbClr val="9b098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b0986"/>
                </a:solidFill>
                <a:latin typeface="Tahoma"/>
              </a:rPr>
              <a:t>Toma de muestra</a:t>
            </a:r>
            <a:r>
              <a:rPr b="0" lang="es-ES_tradnl" sz="1400" spc="-1" strike="noStrike">
                <a:solidFill>
                  <a:srgbClr val="9b0986"/>
                </a:solidFill>
                <a:latin typeface="Tahoma"/>
              </a:rPr>
              <a:t>: hemocul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732720" y="549360"/>
          <a:ext cx="196668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549360"/>
                    <a:ext cx="19666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628640"/>
            <a:ext cx="597384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ascia superficial y profu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Polimicrobiana (tipo I),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tipo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actores de riesg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DM, CA, ancianos, traumatism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necrosis extensa y destrucción de tejido celular subcutáneo  y fascia y trombosis de vasos subcutáne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659480" y="4735440"/>
            <a:ext cx="33685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340000" y="765000"/>
            <a:ext cx="216072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MIOS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800" y="1484280"/>
            <a:ext cx="8458200" cy="3732120"/>
            <a:chOff x="685800" y="1484280"/>
            <a:chExt cx="8458200" cy="3732120"/>
          </a:xfrm>
        </p:grpSpPr>
        <p:sp>
          <p:nvSpPr>
            <p:cNvPr id="218" name=""/>
            <p:cNvSpPr/>
            <p:nvPr/>
          </p:nvSpPr>
          <p:spPr>
            <a:xfrm>
              <a:off x="685800" y="1484280"/>
              <a:ext cx="845820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Tejid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múscul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Agente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Clostridium perfringen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(gangrena gaseos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Lesió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infección muy grave, compromiso sistémico, alta morta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) </a:t>
              </a: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gangrena gaseosa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ejido traumatizad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ntaminación con esporas del sue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vasión del músc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necros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24080" y="3311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43600" y="346392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15000" y="4149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62920" y="4149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838080" y="3624120"/>
            <a:ext cx="1828800" cy="1287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3624120"/>
                      <a:ext cx="1828800" cy="12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25" name="" descr=""/>
          <p:cNvPicPr/>
          <p:nvPr/>
        </p:nvPicPr>
        <p:blipFill>
          <a:blip r:embed="rId3"/>
          <a:srcRect l="0" t="0" r="0" b="52368"/>
          <a:stretch/>
        </p:blipFill>
        <p:spPr>
          <a:xfrm>
            <a:off x="3635280" y="4508640"/>
            <a:ext cx="5077080" cy="1935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1781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340000" y="765000"/>
            <a:ext cx="216072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MIOS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2781360"/>
            <a:ext cx="845820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músc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pyogene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miositis fulminan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infección muy grave, compromiso sistémico, alta mort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miositis fulmina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romete el músculo a partir de un foco contiguo o distante (vía hematógena). Lesión cutánea similar a la fasceitis y necrosis muscular sin 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227640" y="692280"/>
          <a:ext cx="196704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692280"/>
                    <a:ext cx="19670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893880"/>
            <a:ext cx="338436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Recordemos   ¡¡¡¡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1700280"/>
            <a:ext cx="8305920" cy="49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umerosas pat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ran diversidad (agentes etiológicos, mecanismos, cuadros clí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n ser causadas por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rus (Herpes vir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cteria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, S. pyogenes,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t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ngos (Dermatofitos y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andi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ásito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scabiei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tintas clasificaciones: superficiales/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marias/secundarias/necrotiz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12000" y="907920"/>
            <a:ext cx="2592360" cy="894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SUPERFICIALES</a:t>
            </a: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84880" y="3716280"/>
            <a:ext cx="2174760" cy="10378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f8a31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651640" y="1773360"/>
            <a:ext cx="3124080" cy="894960"/>
            <a:chOff x="5651640" y="1773360"/>
            <a:chExt cx="3124080" cy="894960"/>
          </a:xfrm>
        </p:grpSpPr>
        <p:sp>
          <p:nvSpPr>
            <p:cNvPr id="112" name=""/>
            <p:cNvSpPr/>
            <p:nvPr/>
          </p:nvSpPr>
          <p:spPr>
            <a:xfrm>
              <a:off x="5651640" y="1773360"/>
              <a:ext cx="312408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Epi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Impéti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Erisipe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70960" y="2001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960" y="2459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895480" y="4797360"/>
            <a:ext cx="6248520" cy="1696320"/>
            <a:chOff x="2895480" y="4797360"/>
            <a:chExt cx="6248520" cy="1696320"/>
          </a:xfrm>
        </p:grpSpPr>
        <p:sp>
          <p:nvSpPr>
            <p:cNvPr id="116" name=""/>
            <p:cNvSpPr/>
            <p:nvPr/>
          </p:nvSpPr>
          <p:spPr>
            <a:xfrm>
              <a:off x="2895480" y="4797360"/>
              <a:ext cx="6248520" cy="16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Hipo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Celul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Fascia superficial y profunda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Fasceítis necrotiz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Músc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Mios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3400" y="51372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5670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90760" y="6280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590920" y="549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093680"/>
          <a:ext cx="5329440" cy="381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093680"/>
                    <a:ext cx="532944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914400"/>
            <a:ext cx="3449520" cy="52056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27240" y="2379600"/>
            <a:ext cx="7016400" cy="3641400"/>
            <a:chOff x="1227240" y="2379600"/>
            <a:chExt cx="7016400" cy="3641400"/>
          </a:xfrm>
        </p:grpSpPr>
        <p:sp>
          <p:nvSpPr>
            <p:cNvPr id="125" name=""/>
            <p:cNvSpPr/>
            <p:nvPr/>
          </p:nvSpPr>
          <p:spPr>
            <a:xfrm>
              <a:off x="5905080" y="44406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82800" y="44406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aracteríst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27240" y="44406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Cuadro clín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05080" y="52308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2800" y="52308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aracterís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27240" y="52308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ahoma"/>
                </a:rPr>
                <a:t>Evolu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05080" y="36504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Mono-polimicrobia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2800" y="36504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Monomicrobia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27240" y="36504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ahoma"/>
                </a:rPr>
                <a:t>Etiologí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05080" y="2862360"/>
              <a:ext cx="233856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Dañ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82800" y="2862360"/>
              <a:ext cx="222228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a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7240" y="2862360"/>
              <a:ext cx="245556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Piel afect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05080" y="2379600"/>
              <a:ext cx="2338560" cy="482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b0986"/>
                  </a:solidFill>
                  <a:latin typeface="Tahoma"/>
                </a:rPr>
                <a:t>SECUND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82800" y="2379600"/>
              <a:ext cx="2222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b0986"/>
                  </a:solidFill>
                  <a:latin typeface="Tahoma"/>
                </a:rPr>
                <a:t>PRIM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27240" y="2379600"/>
              <a:ext cx="245556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CARACTERÍS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27240" y="2379600"/>
              <a:ext cx="701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286236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27240" y="36504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27240" y="52308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27240" y="6021000"/>
              <a:ext cx="701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27240" y="2379600"/>
              <a:ext cx="0" cy="3641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82800" y="2379600"/>
              <a:ext cx="0" cy="36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05080" y="2379600"/>
              <a:ext cx="0" cy="36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43640" y="2379600"/>
              <a:ext cx="0" cy="3641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27240" y="44406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476360" y="1916280"/>
          <a:ext cx="6324480" cy="3700440"/>
        </p:xfrm>
        <a:graphic>
          <a:graphicData uri="http://schemas.openxmlformats.org/drawingml/2006/table">
            <a:tbl>
              <a:tblPr/>
              <a:tblGrid>
                <a:gridCol w="2635200"/>
                <a:gridCol w="3689280"/>
              </a:tblGrid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L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E ETIO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éti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licu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, Can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rúncu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oniqu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, Can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t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isipe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lu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,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os ra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762120" y="1676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907920"/>
            <a:ext cx="5759280" cy="52056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Comic Sans MS"/>
              </a:rPr>
              <a:t>INFECCIONES PRIM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609300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* En general no requieren toma de muestra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042920" y="1989000"/>
          <a:ext cx="6858000" cy="3451320"/>
        </p:xfrm>
        <a:graphic>
          <a:graphicData uri="http://schemas.openxmlformats.org/drawingml/2006/table">
            <a:tbl>
              <a:tblPr/>
              <a:tblGrid>
                <a:gridCol w="2365560"/>
                <a:gridCol w="44924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L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E ETIO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madu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. aerugin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matitis eczemat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lceras crónica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erobacterias</a:t>
                      </a: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P aeruginosa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anaerobio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rice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u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,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tas (aer/ana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042920" y="5589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* Úlceras de decúbito, varicos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1052640"/>
            <a:ext cx="6048720" cy="52056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Comic Sans MS"/>
              </a:rPr>
              <a:t>INFECCIONES SECUND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42920" y="1027080"/>
            <a:ext cx="676908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a31a"/>
                </a:solidFill>
                <a:latin typeface="Comic Sans MS"/>
              </a:rPr>
              <a:t>INFECCIONES NECROT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9640" y="2583000"/>
            <a:ext cx="8280360" cy="3693240"/>
            <a:chOff x="539640" y="2583000"/>
            <a:chExt cx="8280360" cy="3693240"/>
          </a:xfrm>
        </p:grpSpPr>
        <p:sp>
          <p:nvSpPr>
            <p:cNvPr id="159" name=""/>
            <p:cNvSpPr/>
            <p:nvPr/>
          </p:nvSpPr>
          <p:spPr>
            <a:xfrm>
              <a:off x="539640" y="2583000"/>
              <a:ext cx="8136000" cy="3078000"/>
            </a:xfrm>
            <a:prstGeom prst="rect">
              <a:avLst/>
            </a:prstGeom>
            <a:solidFill>
              <a:srgbClr val="feed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4360" y="2712960"/>
              <a:ext cx="8135640" cy="35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Cuadros agu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Destrucción fulminante de tejidos y gran toxicidad sistém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Alta morta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Etiología: Fasceítis necrotizante (inf sinérgica/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S pyogen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ngrena de Fournier (anaerobios, BGN, staphylo y enterococ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iositis 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S pyogen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ngrena gaseosa (mionecrosis por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C perfringen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4920" y="2738520"/>
            <a:ext cx="7236720" cy="764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8a31a"/>
                </a:solidFill>
                <a:latin typeface="Arial"/>
              </a:rPr>
              <a:t>INFECCIONES PRIM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08000" y="836640"/>
            <a:ext cx="4824720" cy="52056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AGENTES ETI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600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agentes bacterianos más importantes  en estas infeccion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1905120" cy="2006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986360" y="278136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treptococcus pyo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2160" y="544212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taphylococcus aur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5762" r="0" b="0"/>
          <a:stretch/>
        </p:blipFill>
        <p:spPr>
          <a:xfrm>
            <a:off x="6372360" y="4941720"/>
            <a:ext cx="2592360" cy="161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40000" y="242100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643280" y="4941720"/>
            <a:ext cx="1686240" cy="16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8:51:01Z</dcterms:created>
  <dc:creator>yo</dc:creator>
  <dc:description/>
  <dc:language>en-US</dc:language>
  <cp:lastModifiedBy>Usuario</cp:lastModifiedBy>
  <dcterms:modified xsi:type="dcterms:W3CDTF">2008-09-01T20:37:50Z</dcterms:modified>
  <cp:revision>139</cp:revision>
  <dc:subject/>
  <dc:title>Presentación de PowerPoint</dc:title>
</cp:coreProperties>
</file>