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BF1-3E2D-4D27-9D0E-30C9F1BEB9B7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spirados o biopsias: Muestras menos contaminadas con microorganismo de la flora comensal o sometidos a a efectos por el oxigeno y dese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5D3-625B-4EE4-806C-0996C3D5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18B-E0BB-4285-A03F-06858E1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295-EA5E-4E14-8E8F-7AC6EBF1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801-56BD-4CD5-B7ED-DD2F8545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B147-CEA4-4A11-A492-783728E6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76CC-247C-449B-AC52-DDD76FB8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B4FB-D3BE-4B1B-B9CF-510D330C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E2E-2286-4865-8657-18C3267F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6AD9-40D4-4FA6-BDC1-8E208DB7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D100-571B-4E6C-BADC-8BB5AE8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6B62-B8F6-4290-A77A-E8B6967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76D-C97D-4425-80A3-4A68BA9F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98F-AEA1-4B35-9183-F12B821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5B7B-DFC7-4933-827E-4F81A2C9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54D2-FB98-46A5-B65B-C3444597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3B8A-A564-47D8-AF1F-A522403B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66BE-63C6-48C0-A37D-02BBC082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54A-EF86-463F-8F77-86E250E5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D09-F6D4-486E-92E7-0D27760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2F6-37F6-4617-948D-5834C867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B81-33AA-4078-BA20-BA4EE198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733-B509-4FFF-A9E7-24709F9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A24-5423-457E-84F5-97CA118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63A-270B-46D7-B46B-CB5DCC8B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B45-36D4-43B1-92C3-7A98B3FD89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0337-CE90-4589-8ED7-8687D47B9E72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INFECCIONES </a:t>
            </a:r>
            <a:br>
              <a:rPr sz="3200"/>
            </a:b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POR ANAEROBIOS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518148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Mg.Cs.  Carolina Ponce Ol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CARRERA: OBSTETRICI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5720" y="2900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38088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PROGRAMA DE MICROBIOLOGIA Y MIC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FACULTAD DE MEDICINA N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Forman parte de la microbiota normal humana: cavidad oral,  tracto intestinal, tracto genitourinario y cután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Relación anaerobio: aerobio = 1000:1 en tracto G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vitan colonización e infección por microorganismos patógenos desde fuente extern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n la microbiota vaginal predominan Lactobacilos, cocos anaerobios, Bacteroides, Prevotell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295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3446" r="0" b="3014"/>
          <a:stretch/>
        </p:blipFill>
        <p:spPr>
          <a:xfrm>
            <a:off x="1474920" y="1676520"/>
            <a:ext cx="7489800" cy="5065560"/>
          </a:xfrm>
          <a:prstGeom prst="rect">
            <a:avLst/>
          </a:prstGeom>
          <a:ln cap="sq" w="1260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86080" y="1341360"/>
            <a:ext cx="720072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EN LA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De las 100 especies descritas en el humano, menos del 20% son las causantes de la mayoría de las infeccion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oportunistas producen infecciones endógenas mixtas. El cuadro clínico predominante son los absces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provenientes del ambiente exógeno, fundamentalmente bacilos Gram positivos esporulados tipo Clostridium producen cuadros clínicos graves tales como: Botulismo, Tétanos y Gangrena gaseos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4440" y="568440"/>
            <a:ext cx="68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FACTORES DE VIRULENCIA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N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3000" y="1484280"/>
            <a:ext cx="7488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dotoxina (LPS) que es menos potente  que el de bacilos Gram (-). Ej: Fusobacterium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Veillonella 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y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</a:t>
            </a:r>
            <a:r>
              <a:rPr b="0" lang="es-MX" sz="23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ducción de toxinas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lostridium sp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polisacárido capsular. Ej: Bacteroides del grupo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zim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Fibrin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Lip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teasa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olagenasa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em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ialuronid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fimbrias favoreciendo la adherenci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419360" y="50130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499720" y="2645640"/>
            <a:ext cx="23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5400"/>
            <a:ext cx="868680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ONDICIONES QUE FAVORECEN EL CRECIMIENTO DE MICROORGANISMOS</a:t>
            </a:r>
            <a:r>
              <a:rPr b="1" i="1" lang="es-MX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AEROBIOS ESTRICT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7960" y="2057400"/>
            <a:ext cx="6836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H y aumento acidez loc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crosis tisular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oplas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S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angrami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lama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ec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por bacterias aerobias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2680" y="34988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SITU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IONES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LINICAS QUE OCURREN ES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CLASIFICACION DE BACTERIAS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ANAEROBI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8080" y="1305000"/>
            <a:ext cx="776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COCAC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Veillone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opion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lang="es-MX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669960"/>
            <a:ext cx="75438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DIAGNOSTICO PRESUNTIVO DE INFECCION ANAEROBIA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Localización del sitio de  infección contiguo a mucosa con flora anaero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Secreción con mal olor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Necrosis  severa de tejidos, formación de absce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Gas en 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Cultivo aerobi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LOCALIZACIONES MAS FRECUENTES DE LA INFECCION POR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92160" y="1905120"/>
            <a:ext cx="68011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pulm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cere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odontogé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Peritonit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intraabdo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pelv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Infecciones de piel y partes bl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4114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1.- TOMA DE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e obtiene por aspiración de absces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De pulmón, pleura, abdomen, colecciones purulen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Nunca muestras de mucosas (digestiva, genital, farínge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118" t="3031" r="0" b="0"/>
          <a:stretch/>
        </p:blipFill>
        <p:spPr>
          <a:xfrm>
            <a:off x="5419800" y="1981080"/>
            <a:ext cx="3419280" cy="417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2760"/>
            <a:ext cx="792504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993300"/>
                </a:solidFill>
                <a:latin typeface="Arial"/>
              </a:rPr>
              <a:t>2.- TRANSPORTE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teger  a los microorganismos  de los efectos del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0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durante el tiempo que transcurre  entre la extracción y la siembra an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.- TINCION 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4258" t="9367" r="7970" b="13046"/>
          <a:stretch/>
        </p:blipFill>
        <p:spPr>
          <a:xfrm>
            <a:off x="4343400" y="3813120"/>
            <a:ext cx="4191120" cy="27399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BACTERIAS ANAEROBIAS</a:t>
            </a:r>
            <a:br>
              <a:rPr sz="3200"/>
            </a:b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290520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Bacterias que sólo pueden desarrollarse en ausencia de cantidades significativas de O</a:t>
            </a:r>
            <a:r>
              <a:rPr b="1" i="1" lang="es-ES" sz="28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 gaseoso y bajo condiciones de potenciales redox  (Eh) muy reducidos</a:t>
            </a:r>
            <a:r>
              <a:rPr b="1" lang="es-E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3000" y="22622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663300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403848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4.- CUL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iembra de la muestra en medios de cultivo enriquecidos (Vitamina K y Hemin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ultivo en condiciones de anaerobio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7908" t="8895" r="4961" b="15782"/>
          <a:stretch/>
        </p:blipFill>
        <p:spPr>
          <a:xfrm>
            <a:off x="5734080" y="1760400"/>
            <a:ext cx="3105000" cy="37260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295280" y="480060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5.-  </a:t>
            </a: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IDENTIF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6.- ESTUDIO DE SUSCEP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946" t="0" r="0" b="0"/>
          <a:stretch/>
        </p:blipFill>
        <p:spPr>
          <a:xfrm>
            <a:off x="1373040" y="733320"/>
            <a:ext cx="7560000" cy="5743800"/>
          </a:xfrm>
          <a:prstGeom prst="rect">
            <a:avLst/>
          </a:prstGeom>
          <a:ln cap="sq" w="38160">
            <a:solidFill>
              <a:srgbClr val="a50021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438200" y="79056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PROCESAMIENTO DE LA MU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36360" y="1469880"/>
            <a:ext cx="6530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nicilina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ranfeni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indam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M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tronidaz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2680" y="5335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TIMICROBIANOS EN INFECCIONES POR BACTERIAS ANAER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71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RESISTENCIA A LOS ANTIBIO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343400"/>
            <a:ext cx="77724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sencia de betalactamasas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BACILOS GRAM NEGATIV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eneralmente cromosomales constitu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648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6200" y="1981080"/>
            <a:ext cx="691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fermedad inflamatoria pélv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de tejidos blandos o glándu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tuboovár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Periton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cesos pelvi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orto sép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Infección ginecológica – post operatoria DIU</a:t>
            </a:r>
            <a:r>
              <a:rPr b="0" i="1" lang="es-ES_tradnl" sz="2800" spc="-1" strike="noStrike">
                <a:solidFill>
                  <a:srgbClr val="6633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1905120"/>
            <a:ext cx="6912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Las bacterias anaerobias predominantes son: Prevotella, Peptostreptococcus, Porphyromonas y Clostridium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l grupo Bacteroides fragilis se aísla con menor frecuencia  en comparación con las infecciones intraabdom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os procesos asociados a la presencia de dispositivos intrauterinos Actinomyces spp. y Eubacterium nodatum son especies frecuentemente aisla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a vaginosis bacteriana se cultiva con frecuencia Mobiluncus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11320" y="41904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7440" y="155736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Aumento del Nº de bacterias  sobre 1000 UFC/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isbacteri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esaparición de flora lactobaci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obrecrecimiento de bacterias anaerób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7869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Gardnerella vagin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Micoplasma homi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87520" y="1628640"/>
          <a:ext cx="3618000" cy="439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628640"/>
                    <a:ext cx="3618000" cy="4392720"/>
                  </a:xfrm>
                  <a:prstGeom prst="rect">
                    <a:avLst/>
                  </a:prstGeom>
                  <a:ln w="9360">
                    <a:solidFill>
                      <a:srgbClr val="78695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75280" y="1981080"/>
            <a:ext cx="3168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Infección ascendente desde el tracto genital inf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ANAEROBIOS involucr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413000"/>
          <a:ext cx="447516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13000"/>
                    <a:ext cx="4475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193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VIA DE INFECCION Y AGENTES  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5880" y="1752480"/>
            <a:ext cx="2519640" cy="6699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Microorg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cerv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67320" y="1557360"/>
            <a:ext cx="36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hlamydia trachoma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Myco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  </a:t>
            </a: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ANAEROB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6880" y="2997360"/>
            <a:ext cx="1509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Vía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anal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773600"/>
            <a:ext cx="6842160" cy="16941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o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Trompas de Falopio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5760" y="515772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5760" y="5805360"/>
            <a:ext cx="1728720" cy="287640"/>
          </a:xfrm>
          <a:prstGeom prst="rightArrow">
            <a:avLst>
              <a:gd name="adj1" fmla="val 50000"/>
              <a:gd name="adj2" fmla="val 1502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0080" y="2666880"/>
            <a:ext cx="504720" cy="1800360"/>
          </a:xfrm>
          <a:prstGeom prst="downArrow">
            <a:avLst>
              <a:gd name="adj1" fmla="val 50000"/>
              <a:gd name="adj2" fmla="val 89176"/>
            </a:avLst>
          </a:prstGeom>
          <a:solidFill>
            <a:srgbClr val="9933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484280"/>
            <a:ext cx="216000" cy="2021040"/>
          </a:xfrm>
          <a:custGeom>
            <a:avLst/>
            <a:gdLst>
              <a:gd name="textAreaLeft" fmla="*/ 0 w 216000"/>
              <a:gd name="textAreaRight" fmla="*/ 78120 w 21600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1557360"/>
            <a:ext cx="6193080" cy="35892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796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COC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84464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eptostreptococ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565360"/>
            <a:ext cx="74167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CLÍ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663300"/>
                </a:solidFill>
                <a:latin typeface="Arial"/>
              </a:rPr>
              <a:t>Infecciones intraabdominales, </a:t>
            </a:r>
            <a:r>
              <a:rPr b="1" i="1" lang="es-ES" sz="1900" spc="-1" strike="noStrike">
                <a:solidFill>
                  <a:srgbClr val="ff0000"/>
                </a:solidFill>
                <a:latin typeface="Arial"/>
              </a:rPr>
              <a:t>ENDOMETRITIS, ABSCESOS PELVICOS, SALPINGITIS, ABORTO SEPTICO, AMNIONITIS  y CORIOAMNIONIT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6200" y="2060640"/>
            <a:ext cx="678816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Presentan sistemas enzimáticos que solamente funcionan en ausencia de O</a:t>
            </a:r>
            <a:r>
              <a:rPr b="1" i="1" lang="es-E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 por tanto son estrictos en cuanto a las exigenci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Generalmente poseen un metabolismo de tipo fermentativo en el cual sustancias orgánicas son los aceptores final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3357720"/>
            <a:ext cx="6048720" cy="57600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924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Actin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2492280"/>
            <a:ext cx="6913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 CLÍN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clasifica de acuerdo al órgano que afec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Infección pél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Manifestación secundaria  de una actinomicosis abdominal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omo infección primaria en una mujer con D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uede presentarse como una VAGINOSIS  benigna o bien con una gran destrucción de tejido, llevando a ABSCESOS TUBOOVARICOS o obstrucción ure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3200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Mobilun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562120"/>
            <a:ext cx="74880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</a:t>
            </a: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  presentándose  en una  mayor  número en el tracto genital femeni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900" spc="-1" strike="noStrike">
                <a:solidFill>
                  <a:srgbClr val="ff0000"/>
                </a:solidFill>
                <a:latin typeface="Arial"/>
              </a:rPr>
              <a:t>Se ha aislado de de aspirado endometriales de mujeres con enfermedad inflamatoria pelvica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5084640"/>
            <a:ext cx="6840360" cy="576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79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4560" y="1909800"/>
            <a:ext cx="52578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ÉNERO Bac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2668680"/>
            <a:ext cx="7272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Bacteroides fragilis  es el patógeno más importante de este género para el hombre, se asocia fundamentalmente  a infecciones pleuropulmonares, intraabdominales  y GEN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19280" y="2133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rev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6200" y="2708280"/>
            <a:ext cx="7921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  Y ENFERMEDAD INFLAMATORIA PELVIC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997360"/>
            <a:ext cx="6840360" cy="360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</a:rPr>
              <a:t>BACILOS GRAM POSITIVO ANAEROBIOS  ESPORULADOS</a:t>
            </a:r>
            <a:r>
              <a:rPr b="0" i="1" lang="en-US" sz="36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21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Clostr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781360"/>
            <a:ext cx="705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. perfringens se  asocia a mionecrosis relacionado con infecciones uterinas debido a abortos ilegale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NAEROBIOS Y ENFERMEDADES EXOG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Agent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Enfermedad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Fuente de Inf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l. perfringen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  Mionecrosi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bjetos contaminado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deposicione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humanas en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tacto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her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botulinum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Botulismo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 conta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on esp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tetani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Tétanos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Objeto contaminado con Cl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toxigénico en contacto con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heridas preexis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Difficile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Colitis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Diseminación persona 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pseudomembranos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                 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Intoxicación alimentaría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s contami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47920" y="2133720"/>
            <a:ext cx="7467480" cy="7128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447920"/>
            <a:ext cx="74674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71600" y="6477120"/>
            <a:ext cx="7391520" cy="4752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800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6200" y="1773360"/>
            <a:ext cx="6788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os anaerobios  poseen sistemas enzimáticos que solamente funcionan en ausencia total de Oxígeno molecular (O2) logrando  obtener energía libre y sintetizar todos sus componentes estructurales sin la ayuda del O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a vía anaerobia posee un menor rendimiento energético y está sujeta a potenciales REDOX bajos (algunas enzimas solamente operan en estas condiciones) y sin la presencia  de elementos que interfieran el flujo normal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6200" y="2023920"/>
            <a:ext cx="6788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Si bien el O2 es potencialmente tóxico para cualquier forma de vida, los anaerobios son intolerantes al mismo aunque en diferentes g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Existe un espectro que va desde los extremadamente intolerantes (aerointolerantes) hasta los aerotolerantes moderados los cuales pueden sobrevivir a la presencia de O2 durante breves perí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75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.- El 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un poderosos OXIDANTE incompatible con potenciales redox bajos. 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ncentraci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 relativa de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n el aire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melaninogenicus     0,1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 fragilis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  4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,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2.- 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puede interactuar con enzimas y cofactores causando inactivaciones irreversibles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85580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808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2246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.- Producción de sustancias tóxicas derivadas de la reducción parcial d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78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7000" y="171288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808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500280"/>
            <a:ext cx="36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H+ + 2e       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H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2720" y="484344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e       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 baseline="30000">
                <a:solidFill>
                  <a:srgbClr val="663300"/>
                </a:solidFill>
                <a:latin typeface="Arial"/>
                <a:ea typeface="Times New Roman"/>
              </a:rPr>
              <a:t>-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2400" y="371628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508464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2860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t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ó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xico de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H2O2  por ausencia de la enzima ca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72752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de O2- por ausencia de la enzima superóxido dismu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357720"/>
            <a:ext cx="250560" cy="95544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440"/>
              <a:gd name="textAreaBottom" fmla="*/ 930600 h 9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778280"/>
            <a:ext cx="250560" cy="95580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800"/>
              <a:gd name="textAreaBottom" fmla="*/ 9309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6093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O2 + 4H + 4e- --&gt; H2O (reducción complet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11240" y="234936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s la medida en VOLTIOS de la tendencia espontánea a donar o recibir electrones por parte de uno de los integrantes de la parej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Una pareja REDOX posee un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Forma reducida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     Forma oxid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dador de electrones)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receptor de electrones)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Reductor &lt;---&gt; oxidante + electr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n consecuencia cuanto menor sea la cantidad de formas oxidantes menor o más bajo será el potencial REDOX</a:t>
            </a:r>
            <a:r>
              <a:rPr b="1" i="1" lang="es-ES_tradn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7000" y="184464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es Redox  (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1880" y="4114800"/>
            <a:ext cx="766800" cy="0"/>
          </a:xfrm>
          <a:prstGeom prst="line">
            <a:avLst/>
          </a:prstGeom>
          <a:ln cap="sq" w="57240">
            <a:solidFill>
              <a:srgbClr val="d54f41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11240" y="243828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r lo tanto se necesitan cantidades pequeñas de agentes oxidantes como el 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lores de potencial redo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 normal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2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stridium perfringens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aerobios en general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-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92888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ecesitan Potenciales Redox  (Eh) 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2:58:52Z</dcterms:created>
  <dc:creator>.</dc:creator>
  <dc:description/>
  <dc:language>en-US</dc:language>
  <cp:lastModifiedBy>cponce</cp:lastModifiedBy>
  <dcterms:modified xsi:type="dcterms:W3CDTF">2008-09-01T14:11:33Z</dcterms:modified>
  <cp:revision>130</cp:revision>
  <dc:subject/>
  <dc:title>GÉNERO STREPTOCOCCUS</dc:title>
</cp:coreProperties>
</file>