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FB74-174D-4A96-8084-207637723FE6}" type="slidenum"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Aspirados o biopsias: Muestras menos contaminadas con microorganismo de la flora comensal o sometidos a a efectos por el oxigeno y dese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B8DE-DB34-4346-A857-9BD2C93E0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03B9-1C76-4C21-B1F9-AE2D7E0C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1324-0518-46EB-8242-B8AC2F27C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FDFE-D75F-4182-B833-F5F7F1CE5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D4FF-3046-4A3E-BD11-9CD2A01F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3B00-3607-42BD-8CBB-FE3910DF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F2F8-C39E-48B1-964C-9B553CE2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BE26-D8FB-4BC2-B5A3-46B8B987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6BF5-D53B-47AB-9531-EBE31A97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D90B-125A-40DA-A60E-4D5ED7CB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E7A3-0F77-4085-B78D-8E04AEC8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0E04-6EE4-4910-BBBD-AFAEC81E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48DB-2495-4B31-BD89-1C1E5007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E5AB-333B-4B0B-86DA-EA317C6C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CBB0-7DFF-4BE6-B19C-471A8C69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3165-7F1B-41BA-89DD-325D26CB2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7A81-81BE-4553-AD87-4916F9307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F35A-EE9F-4221-BEB2-08F84867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AC92-27AC-447C-BDE5-9F220D3D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C941-D368-4B5D-9B7A-C11925C6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5A1A-B240-4527-B17D-A4A0D80C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14CC-B3CF-4CF2-8443-C10AA151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2DBB-A6AC-4606-9BB4-7ACAE998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9267-4995-4EAB-ADB8-BF171E1E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DE64-5EFE-45CD-B572-A886CB42251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1657-1639-4E29-BA10-56335544E3FD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22860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INFECCIONES </a:t>
            </a:r>
            <a:br>
              <a:rPr sz="3200"/>
            </a:b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POR ANAEROBIOS</a:t>
            </a:r>
            <a:br>
              <a:rPr sz="3200"/>
            </a:b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5181480"/>
            <a:ext cx="4572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993300"/>
                </a:solidFill>
                <a:latin typeface="Arial"/>
              </a:rPr>
              <a:t>Mg.Cs.  Carolina Ponce Ol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993300"/>
                </a:solidFill>
                <a:latin typeface="Arial"/>
              </a:rPr>
              <a:t>CARRERA: OBSTETRICI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993300"/>
                </a:solidFill>
                <a:latin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65720" y="29005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914400" cy="12189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286000" y="380880"/>
            <a:ext cx="525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a50021"/>
                </a:solidFill>
                <a:latin typeface="Arial"/>
              </a:rPr>
              <a:t>PROGRAMA DE MICROBIOLOGIA Y MICOLO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a50021"/>
                </a:solidFill>
                <a:latin typeface="Arial"/>
              </a:rPr>
              <a:t>FACULTAD DE MEDICINA N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a50021"/>
                </a:solidFill>
                <a:latin typeface="Arial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430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BACTERIAS ANAEROBIAS ESTRIC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1447920"/>
            <a:ext cx="70866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3300"/>
                </a:solidFill>
                <a:latin typeface="Arial"/>
              </a:rPr>
              <a:t>ROL COMO MICROBI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9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300" spc="-1" strike="noStrike">
                <a:solidFill>
                  <a:srgbClr val="663300"/>
                </a:solidFill>
                <a:latin typeface="Arial"/>
              </a:rPr>
              <a:t>Forman parte de la microbiota normal humana: cavidad oral,  tracto intestinal, tracto genitourinario y cutáne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9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9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300" spc="-1" strike="noStrike">
                <a:solidFill>
                  <a:srgbClr val="663300"/>
                </a:solidFill>
                <a:latin typeface="Arial"/>
              </a:rPr>
              <a:t>Relación anaerobio: aerobio = 1000:1 en tracto G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9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9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300" spc="-1" strike="noStrike">
                <a:solidFill>
                  <a:srgbClr val="663300"/>
                </a:solidFill>
                <a:latin typeface="Arial"/>
              </a:rPr>
              <a:t>Evitan colonización e infección por microorganismos patógenos desde fuente extern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9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9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300" spc="-1" strike="noStrike">
                <a:solidFill>
                  <a:srgbClr val="663300"/>
                </a:solidFill>
                <a:latin typeface="Arial"/>
              </a:rPr>
              <a:t>En la microbiota vaginal predominan Lactobacilos, cocos anaerobios, Bacteroides, Prevotell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430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BACTERIAS ANAEROBIAS ESTRIC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1295280"/>
            <a:ext cx="7086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ROL COMO MICROBI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3446" r="0" b="3014"/>
          <a:stretch/>
        </p:blipFill>
        <p:spPr>
          <a:xfrm>
            <a:off x="1474920" y="1676520"/>
            <a:ext cx="7489800" cy="5065560"/>
          </a:xfrm>
          <a:prstGeom prst="rect">
            <a:avLst/>
          </a:prstGeom>
          <a:ln cap="sq" w="1260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86080" y="1341360"/>
            <a:ext cx="7200720" cy="53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3300"/>
                </a:solidFill>
                <a:latin typeface="Arial"/>
              </a:rPr>
              <a:t>ROL EN LA ENFERM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buClr>
                <a:srgbClr val="66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300" spc="-1" strike="noStrike">
                <a:solidFill>
                  <a:srgbClr val="663300"/>
                </a:solidFill>
                <a:latin typeface="Arial"/>
              </a:rPr>
              <a:t>De las 100 especies descritas en el humano, menos del 20% son las causantes de la mayoría de las infeccione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buClr>
                <a:srgbClr val="66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buClr>
                <a:srgbClr val="66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300" spc="-1" strike="noStrike">
                <a:solidFill>
                  <a:srgbClr val="663300"/>
                </a:solidFill>
                <a:latin typeface="Arial"/>
              </a:rPr>
              <a:t>Patógenos oportunistas producen infecciones endógenas mixtas. El cuadro clínico predominante son los absceso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buClr>
                <a:srgbClr val="66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300" spc="-1" strike="noStrike">
                <a:solidFill>
                  <a:srgbClr val="663300"/>
                </a:solidFill>
                <a:latin typeface="Arial"/>
              </a:rPr>
              <a:t>Patógenos provenientes del ambiente exógeno, fundamentalmente bacilos Gram positivos esporulados tipo Clostridium producen cuadros clínicos graves tales como: Botulismo, Tétanos y Gangrena gaseos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84440" y="568440"/>
            <a:ext cx="683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BACTERIAS ANAEROBIAS ESTRIC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8763120" cy="11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a50021"/>
                </a:solidFill>
                <a:latin typeface="Arial"/>
              </a:rPr>
              <a:t>FACTORES DE VIRULENCIA </a:t>
            </a:r>
            <a:br>
              <a:rPr sz="2800"/>
            </a:br>
            <a:r>
              <a:rPr b="1" i="1" lang="es-MX" sz="2800" spc="-1" strike="noStrike">
                <a:solidFill>
                  <a:srgbClr val="a50021"/>
                </a:solidFill>
                <a:latin typeface="Arial"/>
              </a:rPr>
              <a:t>EN ANAEROBIOS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03000" y="1484280"/>
            <a:ext cx="7488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Presencia de endotoxina (LPS) que es menos potente  que el de bacilos Gram (-). Ej: Fusobacterium</a:t>
            </a:r>
            <a:r>
              <a:rPr b="0" i="1" lang="es-MX" sz="23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Veillonella </a:t>
            </a:r>
            <a:r>
              <a:rPr b="0" i="1" lang="es-MX" sz="2300" spc="-1" strike="noStrike">
                <a:solidFill>
                  <a:srgbClr val="663300"/>
                </a:solidFill>
                <a:latin typeface="Arial"/>
              </a:rPr>
              <a:t>y 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Bacteroides</a:t>
            </a:r>
            <a:r>
              <a:rPr b="0" lang="es-MX" sz="23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Producción de toxinas 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Clostridium sp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Presencia de polisacárido capsular. Ej: Bacteroides del grupo fragili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Presencia de enzimas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Fibrinolisin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Lipas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Proteasa 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Bacteroides fragili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Colagenasa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Peptostreptococcu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Hemolisin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Hialuronidas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          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Presencia de fimbrias favoreciendo la adherenci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4419360" y="501300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5499720" y="2645640"/>
            <a:ext cx="23328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455400"/>
            <a:ext cx="8686800" cy="122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a50021"/>
                </a:solidFill>
                <a:latin typeface="Arial"/>
                <a:ea typeface="Times New Roman"/>
              </a:rPr>
              <a:t>CONDICIONES QUE FAVORECEN EL CRECIMIENTO DE MICROORGANISMOS</a:t>
            </a:r>
            <a:r>
              <a:rPr b="1" i="1" lang="es-MX" sz="28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r>
              <a:rPr b="1" i="1" lang="es-CL" sz="2800" spc="-1" strike="noStrike">
                <a:solidFill>
                  <a:srgbClr val="a50021"/>
                </a:solidFill>
                <a:latin typeface="Arial"/>
                <a:ea typeface="Times New Roman"/>
              </a:rPr>
              <a:t>ANAEROBIOS ESTRICTOS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67960" y="2057400"/>
            <a:ext cx="6836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D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isminuci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ó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n  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Potencial redo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D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isminuci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ó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n  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p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H y aumento acidez loc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N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ecrosis tisular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N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eoplas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S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angramient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I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nflamaci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ó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I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nfecci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ó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n por bacterias aerobias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52680" y="349884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SITUA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CIONES 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CLINICAS QUE OCURREN ESTAS COND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80010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a50021"/>
                </a:solidFill>
                <a:latin typeface="Arial"/>
              </a:rPr>
              <a:t>CLASIFICACION DE BACTERIAS </a:t>
            </a:r>
            <a:br>
              <a:rPr sz="2800"/>
            </a:br>
            <a:r>
              <a:rPr b="1" i="1" lang="es-MX" sz="2800" spc="-1" strike="noStrike">
                <a:solidFill>
                  <a:srgbClr val="a50021"/>
                </a:solidFill>
                <a:latin typeface="Arial"/>
              </a:rPr>
              <a:t>ANAEROBIAS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8080" y="1305000"/>
            <a:ext cx="77659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1800" spc="-1" strike="noStrike">
                <a:solidFill>
                  <a:srgbClr val="663300"/>
                </a:solidFill>
                <a:latin typeface="Arial"/>
              </a:rPr>
              <a:t>A)</a:t>
            </a:r>
            <a:r>
              <a:rPr b="1" i="1" lang="es-MX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800" spc="-1" strike="noStrike">
                <a:solidFill>
                  <a:srgbClr val="663300"/>
                </a:solidFill>
                <a:latin typeface="Arial"/>
              </a:rPr>
              <a:t>COCAC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Gram (+): no esporulados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: 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Peptostreptococcu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Gram (-) : no esporulados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: 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Veillonel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1800" spc="-1" strike="noStrike">
                <a:solidFill>
                  <a:srgbClr val="663300"/>
                </a:solidFill>
                <a:latin typeface="Arial"/>
              </a:rPr>
              <a:t>B) </a:t>
            </a:r>
            <a:r>
              <a:rPr b="1" i="1" lang="es-MX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800" spc="-1" strike="noStrike">
                <a:solidFill>
                  <a:srgbClr val="663300"/>
                </a:solidFill>
                <a:latin typeface="Arial"/>
              </a:rPr>
              <a:t>BACI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Gram (+):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esporulados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: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Clostridiu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no esporulados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: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Actinomy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Mobiluncu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Lactobacillu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Propionobacteriu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Bifidobacteriu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Gram (-) :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no esporulados  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: 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Bacteroides grupo fragil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Prevotell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Porphyromon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Fusobacterium</a:t>
            </a:r>
            <a:r>
              <a:rPr b="1" lang="es-MX" sz="19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669960"/>
            <a:ext cx="75438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a50021"/>
                </a:solidFill>
                <a:latin typeface="Arial"/>
              </a:rPr>
              <a:t>DIAGNOSTICO PRESUNTIVO DE INFECCION ANAEROBIA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73911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Localización del sitio de  infección contiguo a mucosa con flora anaero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Secreción con mal olor (5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Necrosis  severa de tejidos, formación de absce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Gas en el tej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Cultivo aerobio neg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5331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a50021"/>
                </a:solidFill>
                <a:latin typeface="Arial"/>
              </a:rPr>
              <a:t>LOCALIZACIONES MAS FRECUENTES DE LA INFECCION POR ANAEROBIOS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92160" y="1905120"/>
            <a:ext cx="680112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Absceso pulmo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Absceso cereb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Abscesos odontogé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Peritonit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Abscesos intraabdom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Endometr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Abscesos pelvi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Infecciones de piel y partes blan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3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a50021"/>
                </a:solidFill>
                <a:latin typeface="Arial"/>
              </a:rPr>
              <a:t>ETAPAS DEL ESTUDIO MICROBIOLOGICO DE BACTERIAS ANAEROBIAS ESTRICTAS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41148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a50021"/>
                </a:solidFill>
                <a:latin typeface="Arial"/>
              </a:rPr>
              <a:t>1.- TOMA DE MUEST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60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600" indent="-67680" algn="just">
              <a:lnSpc>
                <a:spcPct val="90000"/>
              </a:lnSpc>
              <a:buClr>
                <a:srgbClr val="99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Se obtiene por aspiración de absceso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600" indent="-67680" algn="just">
              <a:lnSpc>
                <a:spcPct val="90000"/>
              </a:lnSpc>
              <a:buClr>
                <a:srgbClr val="99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De pulmón, pleura, abdomen, colecciones purulent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600" indent="-67680" algn="just">
              <a:lnSpc>
                <a:spcPct val="90000"/>
              </a:lnSpc>
              <a:buClr>
                <a:srgbClr val="99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Nunca muestras de mucosas (digestiva, genital, faríngea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8118" t="3031" r="0" b="0"/>
          <a:stretch/>
        </p:blipFill>
        <p:spPr>
          <a:xfrm>
            <a:off x="5419800" y="1981080"/>
            <a:ext cx="3419280" cy="417996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302760"/>
            <a:ext cx="7925040" cy="13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a50021"/>
                </a:solidFill>
                <a:latin typeface="Arial"/>
              </a:rPr>
              <a:t>ETAPAS DEL ESTUDIO MICROBIOLOGICO DE BACTERIAS ANAEROBIAS ESTRICTAS</a:t>
            </a:r>
            <a:r>
              <a:rPr b="1" lang="es-MX" sz="28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993300"/>
                </a:solidFill>
                <a:latin typeface="Arial"/>
              </a:rPr>
              <a:t>2.- TRANSPORTE DE LA MUEST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oteger  a los microorganismos  de los efectos del </a:t>
            </a:r>
            <a:r>
              <a:rPr b="1" i="1" lang="es-CL" sz="2000" spc="-1" strike="noStrike">
                <a:solidFill>
                  <a:srgbClr val="663300"/>
                </a:solidFill>
                <a:latin typeface="Arial"/>
                <a:ea typeface="Times New Roman"/>
              </a:rPr>
              <a:t>0</a:t>
            </a:r>
            <a:r>
              <a:rPr b="1" i="1" lang="es-CL" sz="20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  </a:t>
            </a:r>
            <a:r>
              <a:rPr b="1" i="1" lang="es-CL" sz="2000" spc="-1" strike="noStrike">
                <a:solidFill>
                  <a:srgbClr val="663300"/>
                </a:solidFill>
                <a:latin typeface="Arial"/>
                <a:ea typeface="Times New Roman"/>
              </a:rPr>
              <a:t>durante el tiempo que transcurre  entre la extracción y la siembra anaerób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663300"/>
                </a:solidFill>
                <a:latin typeface="Arial"/>
              </a:rPr>
              <a:t>3</a:t>
            </a:r>
            <a:r>
              <a:rPr b="1" i="1" lang="es-MX" sz="2200" spc="-1" strike="noStrike">
                <a:solidFill>
                  <a:srgbClr val="a50021"/>
                </a:solidFill>
                <a:latin typeface="Arial"/>
              </a:rPr>
              <a:t>.- TINCION 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14258" t="9367" r="7970" b="13046"/>
          <a:stretch/>
        </p:blipFill>
        <p:spPr>
          <a:xfrm>
            <a:off x="4343400" y="3813120"/>
            <a:ext cx="4191120" cy="273996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a50021"/>
                </a:solidFill>
                <a:latin typeface="Arial"/>
              </a:rPr>
              <a:t>BACTERIAS ANAEROBIAS</a:t>
            </a:r>
            <a:br>
              <a:rPr sz="3200"/>
            </a:br>
            <a:r>
              <a:rPr b="1" i="1" lang="es-ES" sz="3200" spc="-1" strike="noStrike">
                <a:solidFill>
                  <a:srgbClr val="a50021"/>
                </a:solidFill>
                <a:latin typeface="Arial"/>
              </a:rPr>
              <a:t>ESTRICTAS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2905200"/>
            <a:ext cx="7315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663300"/>
                </a:solidFill>
                <a:latin typeface="Arial"/>
              </a:rPr>
              <a:t>Bacterias que sólo pueden desarrollarse en ausencia de cantidades significativas de O</a:t>
            </a:r>
            <a:r>
              <a:rPr b="1" i="1" lang="es-ES" sz="2800" spc="-1" strike="noStrike" baseline="-25000">
                <a:solidFill>
                  <a:srgbClr val="663300"/>
                </a:solidFill>
                <a:latin typeface="Arial"/>
              </a:rPr>
              <a:t>2</a:t>
            </a:r>
            <a:r>
              <a:rPr b="1" i="1" lang="es-ES" sz="2800" spc="-1" strike="noStrike">
                <a:solidFill>
                  <a:srgbClr val="663300"/>
                </a:solidFill>
                <a:latin typeface="Arial"/>
              </a:rPr>
              <a:t> gaseoso y bajo condiciones de potenciales redox  (Eh) muy reducidos</a:t>
            </a:r>
            <a:r>
              <a:rPr b="1" lang="es-ES" sz="2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13000" y="226224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663300"/>
                </a:solidFill>
                <a:latin typeface="Arial"/>
              </a:rPr>
              <a:t>DEFIN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a50021"/>
                </a:solidFill>
                <a:latin typeface="Arial"/>
              </a:rPr>
              <a:t>ETAPAS DEL ESTUDIO MICROBIOLOGICO DE BACTERIAS ANAEROBIAS ESTRICTAS</a:t>
            </a:r>
            <a:r>
              <a:rPr b="1" lang="es-MX" sz="28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4038480" cy="38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663300"/>
                </a:solidFill>
                <a:latin typeface="Arial"/>
              </a:rPr>
              <a:t>4.- CULTIV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300240" algn="just">
              <a:lnSpc>
                <a:spcPct val="110000"/>
              </a:lnSpc>
              <a:spcBef>
                <a:spcPts val="476"/>
              </a:spcBef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Siembra de la muestra en medios de cultivo enriquecidos (Vitamina K y Hemina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0" algn="just">
              <a:lnSpc>
                <a:spcPct val="11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300240" algn="just">
              <a:lnSpc>
                <a:spcPct val="110000"/>
              </a:lnSpc>
              <a:spcBef>
                <a:spcPts val="476"/>
              </a:spcBef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Cultivo en condiciones de anaerobios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0" algn="just">
              <a:lnSpc>
                <a:spcPct val="11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47908" t="8895" r="4961" b="15782"/>
          <a:stretch/>
        </p:blipFill>
        <p:spPr>
          <a:xfrm>
            <a:off x="5734080" y="1760400"/>
            <a:ext cx="3105000" cy="372600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1295280" y="4800600"/>
            <a:ext cx="63248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5.-  </a:t>
            </a:r>
            <a:r>
              <a:rPr b="1" i="1" lang="es-MX" sz="2200" spc="-1" strike="noStrike">
                <a:solidFill>
                  <a:srgbClr val="663300"/>
                </a:solidFill>
                <a:latin typeface="Arial"/>
              </a:rPr>
              <a:t>IDENTIFICA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663300"/>
                </a:solidFill>
                <a:latin typeface="Arial"/>
              </a:rPr>
              <a:t>6.- ESTUDIO DE SUSCEPT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946" t="0" r="0" b="0"/>
          <a:stretch/>
        </p:blipFill>
        <p:spPr>
          <a:xfrm>
            <a:off x="1373040" y="733320"/>
            <a:ext cx="7560000" cy="5743800"/>
          </a:xfrm>
          <a:prstGeom prst="rect">
            <a:avLst/>
          </a:prstGeom>
          <a:ln cap="sq" w="38160">
            <a:solidFill>
              <a:srgbClr val="a50021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1438200" y="79056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a50021"/>
                </a:solidFill>
                <a:latin typeface="Arial"/>
              </a:rPr>
              <a:t>PROCESAMIENTO DE LA MUES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936360" y="1469880"/>
            <a:ext cx="6530760" cy="24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52560" indent="-28584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P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enicilina  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C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loranfeni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C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lindamic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M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etronidaz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82680" y="5335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a50021"/>
                </a:solidFill>
                <a:latin typeface="Arial"/>
                <a:ea typeface="Times New Roman"/>
              </a:rPr>
              <a:t>ANTIMICROBIANOS EN INFECCIONES POR BACTERIAS ANAEROB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426708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3809880"/>
            <a:ext cx="71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RESISTENCIA A LOS ANTIBIO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4343400"/>
            <a:ext cx="7772400" cy="21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cc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esencia de betalactamasas 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actero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cc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0000"/>
                </a:solidFill>
                <a:latin typeface="Arial"/>
              </a:rPr>
              <a:t>BACILOS GRAM NEGATIV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Fusobacte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orphyrom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evot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eneralmente cromosomales constitu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62720" y="4648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430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INFECCIONES POR BACTERIAS ANAEROBIAS DEL TRACTO GENITAL FEMEN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46200" y="1981080"/>
            <a:ext cx="6912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</a:rPr>
              <a:t>Vaginosis bacteri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</a:rPr>
              <a:t>Enfermedad inflamatoria pélv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</a:rPr>
              <a:t>Absceso de tejidos blandos o glándul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</a:rPr>
              <a:t>Endometrit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</a:rPr>
              <a:t>Salpingit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</a:rPr>
              <a:t>Absceso tuboovár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</a:rPr>
              <a:t>Peritonit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</a:rPr>
              <a:t>Abcesos pelvian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</a:rPr>
              <a:t>Aborto sépt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</a:rPr>
              <a:t>Infección ginecológica – post operatoria DIU</a:t>
            </a:r>
            <a:r>
              <a:rPr b="0" i="1" lang="es-ES_tradnl" sz="2800" spc="-1" strike="noStrike">
                <a:solidFill>
                  <a:srgbClr val="663300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430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INFECCIONES POR BACTERIAS ANAEROBIAS DEL TRACTO GENITAL FEMEN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46200" y="1905120"/>
            <a:ext cx="6912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Las bacterias anaerobias predominantes son: Prevotella, Peptostreptococcus, Porphyromonas y Clostridium sp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El grupo Bacteroides fragilis se aísla con menor frecuencia  en comparación con las infecciones intraabdomin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En los procesos asociados a la presencia de dispositivos intrauterinos Actinomyces spp. y Eubacterium nodatum son especies frecuentemente aislad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En la vaginosis bacteriana se cultiva con frecuencia Mobiluncus sp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011320" y="419040"/>
            <a:ext cx="576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VAGINOSIS BACTERI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67440" y="1557360"/>
            <a:ext cx="367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663300"/>
                </a:solidFill>
                <a:latin typeface="Arial"/>
              </a:rPr>
              <a:t>Aumento del Nº de bacterias  sobre 1000 UFC/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663300"/>
                </a:solidFill>
                <a:latin typeface="Arial"/>
              </a:rPr>
              <a:t>Disbacterio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88920" algn="just">
              <a:lnSpc>
                <a:spcPct val="10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663300"/>
                </a:solidFill>
                <a:latin typeface="Arial"/>
              </a:rPr>
              <a:t>Desaparición de flora lactobaci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8892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Sobrecrecimiento de bacterias anaerób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Bactero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Peptostreptococc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Prevote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Fusobacter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88920" algn="just">
              <a:lnSpc>
                <a:spcPct val="100000"/>
              </a:lnSpc>
              <a:buClr>
                <a:srgbClr val="7869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88920" algn="just">
              <a:lnSpc>
                <a:spcPct val="10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663300"/>
                </a:solidFill>
                <a:latin typeface="Arial"/>
              </a:rPr>
              <a:t>Gardnerella vaginal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88920" algn="just">
              <a:lnSpc>
                <a:spcPct val="10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663300"/>
                </a:solidFill>
                <a:latin typeface="Arial"/>
              </a:rPr>
              <a:t>Micoplasma homin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487520" y="1628640"/>
          <a:ext cx="3618000" cy="4392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7520" y="1628640"/>
                    <a:ext cx="3618000" cy="4392720"/>
                  </a:xfrm>
                  <a:prstGeom prst="rect">
                    <a:avLst/>
                  </a:prstGeom>
                  <a:ln w="9360">
                    <a:solidFill>
                      <a:srgbClr val="78695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14400" y="1522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ENFERMEDAD INFLAMATORIA  PELV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75280" y="1981080"/>
            <a:ext cx="316872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Infección ascendente desde el tracto genital inferi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 u="sng">
                <a:solidFill>
                  <a:srgbClr val="993300"/>
                </a:solidFill>
                <a:uFillTx/>
                <a:latin typeface="Arial"/>
              </a:rPr>
              <a:t>ANAEROBIOS involucrad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480" indent="-27144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 u="sng">
                <a:solidFill>
                  <a:srgbClr val="993300"/>
                </a:solidFill>
                <a:uFillTx/>
                <a:latin typeface="Arial"/>
              </a:rPr>
              <a:t>Peptostreptococc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480" indent="-27144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 u="sng">
                <a:solidFill>
                  <a:srgbClr val="993300"/>
                </a:solidFill>
                <a:uFillTx/>
                <a:latin typeface="Arial"/>
              </a:rPr>
              <a:t>Bactero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480" indent="-27144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 u="sng">
                <a:solidFill>
                  <a:srgbClr val="993300"/>
                </a:solidFill>
                <a:uFillTx/>
                <a:latin typeface="Arial"/>
              </a:rPr>
              <a:t>Prevote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480" indent="-27144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 u="sng">
                <a:solidFill>
                  <a:srgbClr val="993300"/>
                </a:solidFill>
                <a:uFillTx/>
                <a:latin typeface="Arial"/>
              </a:rPr>
              <a:t>Fusobacter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447920" y="1413000"/>
          <a:ext cx="4475160" cy="4680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413000"/>
                    <a:ext cx="447516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219320" y="2286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VIA DE INFECCION Y AGENTES  ENFERMEDAD INFLAMATORIA  PELV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85880" y="1752480"/>
            <a:ext cx="2519640" cy="66996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Microorganism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endocervix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67320" y="1557360"/>
            <a:ext cx="36003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Neisseria gonorrho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Chlamydia trachoma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Mycoplas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a5002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 u="sng">
                <a:solidFill>
                  <a:srgbClr val="a50021"/>
                </a:solidFill>
                <a:uFillTx/>
                <a:latin typeface="Arial"/>
              </a:rPr>
              <a:t>  </a:t>
            </a:r>
            <a:r>
              <a:rPr b="1" lang="es-ES_tradnl" sz="2100" spc="-1" strike="noStrike" u="sng">
                <a:solidFill>
                  <a:srgbClr val="a50021"/>
                </a:solidFill>
                <a:uFillTx/>
                <a:latin typeface="Arial"/>
              </a:rPr>
              <a:t>ANAEROBI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66880" y="2997360"/>
            <a:ext cx="150948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Vía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canal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4773600"/>
            <a:ext cx="6842160" cy="169416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Endometrio 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Endometrit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Trompas de Falopio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Salpingit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95760" y="5157720"/>
            <a:ext cx="1728720" cy="287280"/>
          </a:xfrm>
          <a:prstGeom prst="rightArrow">
            <a:avLst>
              <a:gd name="adj1" fmla="val 50000"/>
              <a:gd name="adj2" fmla="val 15043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95760" y="5805360"/>
            <a:ext cx="1728720" cy="287640"/>
          </a:xfrm>
          <a:prstGeom prst="rightArrow">
            <a:avLst>
              <a:gd name="adj1" fmla="val 50000"/>
              <a:gd name="adj2" fmla="val 15025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610080" y="2666880"/>
            <a:ext cx="504720" cy="1800360"/>
          </a:xfrm>
          <a:prstGeom prst="downArrow">
            <a:avLst>
              <a:gd name="adj1" fmla="val 50000"/>
              <a:gd name="adj2" fmla="val 89176"/>
            </a:avLst>
          </a:prstGeom>
          <a:solidFill>
            <a:srgbClr val="993300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1484280"/>
            <a:ext cx="216000" cy="2021040"/>
          </a:xfrm>
          <a:custGeom>
            <a:avLst/>
            <a:gdLst>
              <a:gd name="textAreaLeft" fmla="*/ 0 w 216000"/>
              <a:gd name="textAreaRight" fmla="*/ 78120 w 216000"/>
              <a:gd name="textAreaTop" fmla="*/ 52560 h 2021040"/>
              <a:gd name="textAreaBottom" fmla="*/ 196848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2640" y="473040"/>
            <a:ext cx="84582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a50021"/>
                </a:solidFill>
                <a:latin typeface="Arial"/>
              </a:rPr>
              <a:t>CLASIFICACION DE BACTERIAS ANAEROBIAS</a:t>
            </a:r>
            <a:endParaRPr b="0" lang="en-US" sz="2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1267920"/>
            <a:ext cx="77724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A)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CO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+): no 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Peptostreptococ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-) : no 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Veillon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)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ACI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+)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Clostri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no espolur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Actinomy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Mobilun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Lactobacil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opionobacterium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ifidobacte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-) 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no esporulados 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acteroides grupo fragi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evot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Fusobacterium</a:t>
            </a:r>
            <a:r>
              <a:rPr b="1" i="1" lang="es-MX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orphyrom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24000" y="1557360"/>
            <a:ext cx="6193080" cy="358920"/>
          </a:xfrm>
          <a:prstGeom prst="rect">
            <a:avLst/>
          </a:prstGeom>
          <a:noFill/>
          <a:ln cap="sq" w="12600">
            <a:solidFill>
              <a:srgbClr val="d54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0796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a50021"/>
                </a:solidFill>
                <a:latin typeface="Arial"/>
              </a:rPr>
              <a:t>COCOS GRAM POSITIVOS ANAEROBIOS NO ESPORULADOS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79600" y="1844640"/>
            <a:ext cx="77724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663300"/>
                </a:solidFill>
                <a:latin typeface="Arial"/>
              </a:rPr>
              <a:t>GENERO Peptostreptococ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76360" y="2565360"/>
            <a:ext cx="741672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cc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CUADROS CLÍN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 algn="just">
              <a:lnSpc>
                <a:spcPct val="100000"/>
              </a:lnSpc>
              <a:spcBef>
                <a:spcPts val="1188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663300"/>
                </a:solidFill>
                <a:latin typeface="Arial"/>
              </a:rPr>
              <a:t>Infecciones intraabdominales, </a:t>
            </a:r>
            <a:r>
              <a:rPr b="1" i="1" lang="es-ES" sz="1900" spc="-1" strike="noStrike">
                <a:solidFill>
                  <a:srgbClr val="ff0000"/>
                </a:solidFill>
                <a:latin typeface="Arial"/>
              </a:rPr>
              <a:t>ENDOMETRITIS, ABSCESOS PELVICOS, SALPINGITIS, ABORTO SEPTICO, AMNIONITIS  y CORIOAMNIONITI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a50021"/>
                </a:solidFill>
                <a:latin typeface="Arial"/>
              </a:rPr>
              <a:t>METABOLISMO DE LAS BACTERIAS ANAEROBIAS ESTRICTAS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16200" y="2060640"/>
            <a:ext cx="6788160" cy="32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663300"/>
                </a:solidFill>
                <a:latin typeface="Arial"/>
              </a:rPr>
              <a:t>Presentan sistemas enzimáticos que solamente funcionan en ausencia de O</a:t>
            </a:r>
            <a:r>
              <a:rPr b="1" i="1" lang="es-ES" sz="2400" spc="-1" strike="noStrike" baseline="-25000">
                <a:solidFill>
                  <a:srgbClr val="663300"/>
                </a:solidFill>
                <a:latin typeface="Arial"/>
              </a:rPr>
              <a:t>2</a:t>
            </a:r>
            <a:r>
              <a:rPr b="1" i="1" lang="es-ES" sz="2400" spc="-1" strike="noStrike">
                <a:solidFill>
                  <a:srgbClr val="663300"/>
                </a:solidFill>
                <a:latin typeface="Arial"/>
              </a:rPr>
              <a:t> por tanto son estrictos en cuanto a las exigencias ambient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3300"/>
                </a:solidFill>
                <a:latin typeface="Arial"/>
              </a:rPr>
              <a:t>Generalmente poseen un metabolismo de tipo fermentativo en el cual sustancias orgánicas son los aceptores finales de electr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2640" y="473040"/>
            <a:ext cx="84582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a50021"/>
                </a:solidFill>
                <a:latin typeface="Arial"/>
              </a:rPr>
              <a:t>CLASIFICACION DE BACTERIAS ANAEROBIAS</a:t>
            </a:r>
            <a:endParaRPr b="0" lang="en-US" sz="2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71600" y="1267920"/>
            <a:ext cx="77724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A)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CO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+): no 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Peptostreptococ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-) : no 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Veillon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)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ACI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+)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Clostri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no espolur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Actinomy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Mobilun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Lactobacil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opionobacterium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ifidobacte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-) 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no esporulados 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acteroides grupo fragi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evot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Fusobacterium</a:t>
            </a:r>
            <a:r>
              <a:rPr b="1" i="1" lang="es-MX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orphyrom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68360" y="3357720"/>
            <a:ext cx="6048720" cy="576000"/>
          </a:xfrm>
          <a:prstGeom prst="rect">
            <a:avLst/>
          </a:prstGeom>
          <a:noFill/>
          <a:ln cap="sq" w="12600">
            <a:solidFill>
              <a:srgbClr val="d54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19240" y="33300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a50021"/>
                </a:solidFill>
                <a:latin typeface="Arial"/>
              </a:rPr>
              <a:t>BACILOS GRAM POSITIVOS ANAEROBIOS NO ESPORULADOS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03280" y="177336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663300"/>
                </a:solidFill>
                <a:latin typeface="Arial"/>
              </a:rPr>
              <a:t>GENERO Actinomy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35280" y="2492280"/>
            <a:ext cx="691344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CUADROS  CLÍNIC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Se clasifica de acuerdo al órgano que afec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Infección pélv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 algn="just">
              <a:lnSpc>
                <a:spcPct val="100000"/>
              </a:lnSpc>
              <a:spcBef>
                <a:spcPts val="125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Manifestación secundaria  de una actinomicosis abdominal o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como infección primaria en una mujer con DI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 algn="just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Puede presentarse como una VAGINOSIS  benigna o bien con una gran destrucción de tejido, llevando a ABSCESOS TUBOOVARICOS o obstrucción uret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32000" y="177336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663300"/>
                </a:solidFill>
                <a:latin typeface="Arial"/>
              </a:rPr>
              <a:t>GENERO Mobilun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4160" y="33300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a50021"/>
                </a:solidFill>
                <a:latin typeface="Arial"/>
              </a:rPr>
              <a:t>BACILOS GRAM POSITIVOS ANAEROBIOS NO ESPORULADOS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32000" y="2562120"/>
            <a:ext cx="7488000" cy="23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6720" indent="-20952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CUADRO CLINIC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 algn="just">
              <a:lnSpc>
                <a:spcPct val="100000"/>
              </a:lnSpc>
              <a:spcBef>
                <a:spcPts val="125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Se asocia a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VAGINOSIS BACTERIANA</a:t>
            </a: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  presentándose  en una  mayor  número en el tracto genital femenin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 algn="just">
              <a:lnSpc>
                <a:spcPct val="100000"/>
              </a:lnSpc>
              <a:spcBef>
                <a:spcPts val="1188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900" spc="-1" strike="noStrike">
                <a:solidFill>
                  <a:srgbClr val="ff0000"/>
                </a:solidFill>
                <a:latin typeface="Arial"/>
              </a:rPr>
              <a:t>Se ha aislado de de aspirado endometriales de mujeres con enfermedad inflamatoria pelvica</a:t>
            </a:r>
            <a:r>
              <a:rPr b="1" lang="es-CL" sz="19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spcBef>
                <a:spcPts val="1188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473040"/>
            <a:ext cx="84582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a50021"/>
                </a:solidFill>
                <a:latin typeface="Arial"/>
              </a:rPr>
              <a:t>CLASIFICACION DE BACTERIAS ANAEROBIAS</a:t>
            </a:r>
            <a:endParaRPr b="0" lang="en-US" sz="2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1267920"/>
            <a:ext cx="77724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A)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CO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+): no 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Peptostreptococ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-) : no 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Veillon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)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ACI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+)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Clostri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no espolur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Actinomy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Mobilun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Lactobacil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opionobacterium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ifidobacte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-) 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no esporulados 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acteroides grupo fragi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evot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Fusobacterium</a:t>
            </a:r>
            <a:r>
              <a:rPr b="1" i="1" lang="es-MX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orphyrom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95640" y="5084640"/>
            <a:ext cx="6840360" cy="576360"/>
          </a:xfrm>
          <a:prstGeom prst="rect">
            <a:avLst/>
          </a:prstGeom>
          <a:noFill/>
          <a:ln cap="sq" w="12600">
            <a:solidFill>
              <a:srgbClr val="d54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079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a50021"/>
                </a:solidFill>
                <a:latin typeface="Arial"/>
              </a:rPr>
              <a:t>BACILOS GRAM NEGATIVOS ANAEROBIOS NO ESPORULADOS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74560" y="1909800"/>
            <a:ext cx="52578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663300"/>
                </a:solidFill>
                <a:latin typeface="Arial"/>
              </a:rPr>
              <a:t>GÉNERO Bactero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32000" y="2668680"/>
            <a:ext cx="72723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6720" indent="-20952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CUADRO CLI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 algn="just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Bacteroides fragilis  es el patógeno más importante de este género para el hombre, se asocia fundamentalmente  a infecciones pleuropulmonares, intraabdominales  y GENI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619280" y="213372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663300"/>
                </a:solidFill>
                <a:latin typeface="Arial"/>
              </a:rPr>
              <a:t>GENERO Prevot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46200" y="2708280"/>
            <a:ext cx="7921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6720" indent="-209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136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CUADRO CLINIC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spcBef>
                <a:spcPts val="125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17136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Se asocia a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VAGINOSIS BACTERIANA  Y ENFERMEDAD INFLAMATORIA PELVICA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a50021"/>
                </a:solidFill>
                <a:latin typeface="Arial"/>
              </a:rPr>
              <a:t>BACILOS GRAM NEGATIVOS ANAEROBIOS NO ESPORULADOS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2640" y="473040"/>
            <a:ext cx="84582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a50021"/>
                </a:solidFill>
                <a:latin typeface="Arial"/>
              </a:rPr>
              <a:t>CLASIFICACION DE BACTERIAS ANAEROBIAS</a:t>
            </a:r>
            <a:endParaRPr b="0" lang="en-US" sz="2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600" y="1267920"/>
            <a:ext cx="77724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A)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CO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+): no 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Peptostreptococ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-) : no 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Veillon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)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ACI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+)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Clostri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no espolur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Actinomy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Mobilun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Lactobacil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opionobacterium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ifidobacte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-) 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no esporulados 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acteroides grupo fragi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evot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Fusobacterium</a:t>
            </a:r>
            <a:r>
              <a:rPr b="1" i="1" lang="es-MX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orphyrom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95640" y="2997360"/>
            <a:ext cx="6840360" cy="360360"/>
          </a:xfrm>
          <a:prstGeom prst="rect">
            <a:avLst/>
          </a:prstGeom>
          <a:noFill/>
          <a:ln cap="sq" w="12600">
            <a:solidFill>
              <a:srgbClr val="d54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21932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50021"/>
                </a:solidFill>
                <a:latin typeface="Arial"/>
              </a:rPr>
              <a:t>BACILOS GRAM POSITIVO ANAEROBIOS  ESPORULADOS</a:t>
            </a:r>
            <a:r>
              <a:rPr b="0" i="1" lang="en-US" sz="3600" spc="-1" strike="noStrike">
                <a:solidFill>
                  <a:srgbClr val="a50021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19280" y="213372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663300"/>
                </a:solidFill>
                <a:latin typeface="Arial"/>
              </a:rPr>
              <a:t>GENERO Clostri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47640" y="2781360"/>
            <a:ext cx="7056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6720" indent="-209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CUADRO CLINIC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 algn="just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C. perfringens se  asocia a mionecrosis relacionado con infecciones uterinas debido a abortos ilegales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ANAEROBIOS Y ENFERMEDADES EXOGE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3880" y="1600200"/>
            <a:ext cx="7620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Agentes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       Enfermedades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    Fuente de Inf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Cl. perfringens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         Mionecrosis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Objetos contaminados 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con deposiciones 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humanas en 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contacto 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con her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Otr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Cl. botulinum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        Botulismo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Alimento conta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con espo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Cl. tetani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         Tétanos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Objeto contaminado con Cl 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toxigénico en contacto con 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heridas preexist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Cl. Difficile         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             Colitis 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Diseminación persona a 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   pseudomembranosa 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perso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                                          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Intoxicación alimentaría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            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Alimentos contamin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447920" y="2133720"/>
            <a:ext cx="7467480" cy="71280"/>
          </a:xfrm>
          <a:prstGeom prst="line">
            <a:avLst/>
          </a:prstGeom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47920" y="1447920"/>
            <a:ext cx="7467480" cy="0"/>
          </a:xfrm>
          <a:prstGeom prst="line">
            <a:avLst/>
          </a:prstGeom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371600" y="6477120"/>
            <a:ext cx="7391520" cy="47520"/>
          </a:xfrm>
          <a:prstGeom prst="line">
            <a:avLst/>
          </a:prstGeom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80060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404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a50021"/>
                </a:solidFill>
                <a:latin typeface="Arial"/>
              </a:rPr>
              <a:t>METABOLISMO DE LAS BACTERIAS ANAEROBIAS ESTRICTAS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16200" y="1773360"/>
            <a:ext cx="678816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Los anaerobios  poseen sistemas enzimáticos que solamente funcionan en ausencia total de Oxígeno molecular (O2) logrando  obtener energía libre y sintetizar todos sus componentes estructurales sin la ayuda del O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La vía anaerobia posee un menor rendimiento energético y está sujeta a potenciales REDOX bajos (algunas enzimas solamente operan en estas condiciones) y sin la presencia  de elementos que interfieran el flujo normal de electr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404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a50021"/>
                </a:solidFill>
                <a:latin typeface="Arial"/>
              </a:rPr>
              <a:t>METABOLISMO DE LAS BACTERIAS ANAEROBIAS ESTRICTAS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16200" y="2023920"/>
            <a:ext cx="678816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3300"/>
                </a:solidFill>
                <a:latin typeface="Arial"/>
              </a:rPr>
              <a:t>Si bien el O2 es potencialmente tóxico para cualquier forma de vida, los anaerobios son intolerantes al mismo aunque en diferentes gra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3300"/>
                </a:solidFill>
                <a:latin typeface="Arial"/>
              </a:rPr>
              <a:t>Existe un espectro que va desde los extremadamente intolerantes (aerointolerantes) hasta los aerotolerantes moderados los cuales pueden sobrevivir a la presencia de O2 durante breves perío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99640" y="2420640"/>
            <a:ext cx="77583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1.- El O</a:t>
            </a:r>
            <a:r>
              <a:rPr b="1" i="1" lang="es-MX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 es un poderosos OXIDANTE incompatible con potenciales redox bajos. C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oncentraci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ó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n relativa de 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O</a:t>
            </a:r>
            <a:r>
              <a:rPr b="1" i="1" lang="es-CL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 en el aire 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5880" indent="20952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B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acteroides melaninogenicus     0,1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5880" indent="20952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B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acteroides  fragilis    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     4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,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5880" indent="0" algn="just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5880" indent="0" algn="just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2.- El 0</a:t>
            </a:r>
            <a:r>
              <a:rPr b="1" i="1" lang="es-MX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 puede interactuar con enzimas y cofactores causando inactivaciones irreversibles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67000" y="1855800"/>
            <a:ext cx="8001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E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l O</a:t>
            </a:r>
            <a:r>
              <a:rPr b="1" i="1" lang="es-CL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 es potencialmente tóxico debido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47640" y="38088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a50021"/>
                </a:solidFill>
                <a:latin typeface="Arial"/>
              </a:rPr>
              <a:t>METABOLISMO DE LAS BACTERIAS ANAEROBIAS ESTRIC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90360" y="22464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3.- Producción de sustancias tóxicas derivadas de la reducción parcial del 0</a:t>
            </a:r>
            <a:r>
              <a:rPr b="1" i="1" lang="es-MX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478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67000" y="1712880"/>
            <a:ext cx="8001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E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l O</a:t>
            </a:r>
            <a:r>
              <a:rPr b="1" i="1" lang="es-CL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 es potencialmente tóxico debido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380880"/>
            <a:ext cx="74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a50021"/>
                </a:solidFill>
                <a:latin typeface="Arial"/>
              </a:rPr>
              <a:t>METABOLISMO DE LAS BACTERIAS ANAEROBIAS ESTRIC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3500280"/>
            <a:ext cx="367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0</a:t>
            </a:r>
            <a:r>
              <a:rPr b="1" i="1" lang="es-CL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 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+ 2H+ + 2e          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H</a:t>
            </a:r>
            <a:r>
              <a:rPr b="1" i="1" lang="es-MX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O</a:t>
            </a:r>
            <a:r>
              <a:rPr b="1" i="1" lang="es-MX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2720" y="4843440"/>
            <a:ext cx="388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0</a:t>
            </a:r>
            <a:r>
              <a:rPr b="1" i="1" lang="es-CL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 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+ 2e           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O</a:t>
            </a:r>
            <a:r>
              <a:rPr b="1" i="1" lang="es-MX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</a:t>
            </a:r>
            <a:r>
              <a:rPr b="1" i="1" lang="es-MX" sz="2400" spc="-1" strike="noStrike" baseline="30000">
                <a:solidFill>
                  <a:srgbClr val="663300"/>
                </a:solidFill>
                <a:latin typeface="Arial"/>
                <a:ea typeface="Times New Roman"/>
              </a:rPr>
              <a:t>-</a:t>
            </a:r>
            <a:r>
              <a:rPr b="1" i="1" lang="es-MX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 </a:t>
            </a:r>
            <a:r>
              <a:rPr b="1" i="1" lang="es-MX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2400" y="3716280"/>
            <a:ext cx="380880" cy="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11640" y="5084640"/>
            <a:ext cx="380880" cy="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3286080"/>
            <a:ext cx="367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717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663300"/>
                </a:solidFill>
                <a:latin typeface="Arial"/>
              </a:rPr>
              <a:t>Efecto t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ó</a:t>
            </a:r>
            <a:r>
              <a:rPr b="1" i="1" lang="es-CL" sz="2000" spc="-1" strike="noStrike">
                <a:solidFill>
                  <a:srgbClr val="663300"/>
                </a:solidFill>
                <a:latin typeface="Arial"/>
              </a:rPr>
              <a:t>xico de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 H2O2  por ausencia de la enzima catal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92720" y="4727520"/>
            <a:ext cx="345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717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663300"/>
                </a:solidFill>
                <a:latin typeface="Arial"/>
              </a:rPr>
              <a:t>Efecto de O2- por ausencia de la enzima superóxido dismut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51640" y="3357720"/>
            <a:ext cx="250560" cy="955440"/>
          </a:xfrm>
          <a:custGeom>
            <a:avLst/>
            <a:gdLst>
              <a:gd name="textAreaLeft" fmla="*/ 0 w 250560"/>
              <a:gd name="textAreaRight" fmla="*/ 90360 w 250560"/>
              <a:gd name="textAreaTop" fmla="*/ 24840 h 955440"/>
              <a:gd name="textAreaBottom" fmla="*/ 930600 h 95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51640" y="4778280"/>
            <a:ext cx="250560" cy="955800"/>
          </a:xfrm>
          <a:custGeom>
            <a:avLst/>
            <a:gdLst>
              <a:gd name="textAreaLeft" fmla="*/ 0 w 250560"/>
              <a:gd name="textAreaRight" fmla="*/ 90360 w 250560"/>
              <a:gd name="textAreaTop" fmla="*/ 24840 h 955800"/>
              <a:gd name="textAreaBottom" fmla="*/ 930960 h 9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609300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663300"/>
                </a:solidFill>
                <a:latin typeface="Arial"/>
              </a:rPr>
              <a:t>O2 + 4H + 4e- --&gt; H2O (reducción completa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11240" y="2349360"/>
            <a:ext cx="79041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lvl="1" marL="683640" indent="-349920" algn="just">
              <a:lnSpc>
                <a:spcPct val="90000"/>
              </a:lnSpc>
              <a:spcBef>
                <a:spcPts val="275"/>
              </a:spcBef>
              <a:buClr>
                <a:srgbClr val="6633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Es la medida en VOLTIOS de la tendencia espontánea a donar o recibir electrones por parte de uno de los integrantes de la parej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6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640" indent="-349920" algn="just">
              <a:lnSpc>
                <a:spcPct val="90000"/>
              </a:lnSpc>
              <a:spcBef>
                <a:spcPts val="275"/>
              </a:spcBef>
              <a:buClr>
                <a:srgbClr val="6633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Una pareja REDOX posee una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6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   </a:t>
            </a: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Forma reducida</a:t>
            </a: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        Forma oxidan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6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ES_tradnl" sz="1800" spc="-1" strike="noStrike">
                <a:solidFill>
                  <a:srgbClr val="663300"/>
                </a:solidFill>
                <a:latin typeface="Arial"/>
                <a:ea typeface="Times New Roman"/>
              </a:rPr>
              <a:t> </a:t>
            </a:r>
            <a:r>
              <a:rPr b="1" i="1" lang="es-ES_tradnl" sz="1800" spc="-1" strike="noStrike">
                <a:solidFill>
                  <a:srgbClr val="663300"/>
                </a:solidFill>
                <a:latin typeface="Arial"/>
                <a:ea typeface="Times New Roman"/>
              </a:rPr>
              <a:t>(dador de electrones) </a:t>
            </a:r>
            <a:r>
              <a:rPr b="1" i="1" lang="es-ES_tradnl" sz="18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ES_tradnl" sz="18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ES_tradnl" sz="1800" spc="-1" strike="noStrike">
                <a:solidFill>
                  <a:srgbClr val="663300"/>
                </a:solidFill>
                <a:latin typeface="Arial"/>
                <a:ea typeface="Times New Roman"/>
              </a:rPr>
              <a:t>(receptor de electrones)</a:t>
            </a: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6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640" indent="0" algn="ctr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Reductor &lt;---&gt; oxidante + electr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640" indent="0" algn="ctr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640" indent="-349920" algn="just">
              <a:lnSpc>
                <a:spcPct val="90000"/>
              </a:lnSpc>
              <a:spcBef>
                <a:spcPts val="300"/>
              </a:spcBef>
              <a:buClr>
                <a:srgbClr val="6633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En consecuencia cuanto menor sea la cantidad de formas oxidantes menor o más bajo será el potencial REDOX</a:t>
            </a:r>
            <a:r>
              <a:rPr b="1" i="1" lang="es-ES_tradn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67000" y="1844640"/>
            <a:ext cx="800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Potenciales Redox  (E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76360" y="404640"/>
            <a:ext cx="76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a50021"/>
                </a:solidFill>
                <a:latin typeface="Arial"/>
              </a:rPr>
              <a:t>METABOLISMO DE LAS BACTERIAS ANAEROBIAS ESTRIC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71880" y="4114800"/>
            <a:ext cx="766800" cy="0"/>
          </a:xfrm>
          <a:prstGeom prst="line">
            <a:avLst/>
          </a:prstGeom>
          <a:ln cap="sq" w="57240">
            <a:solidFill>
              <a:srgbClr val="d54f41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11240" y="2438280"/>
            <a:ext cx="79041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880200" indent="-450720" algn="just">
              <a:lnSpc>
                <a:spcPct val="100000"/>
              </a:lnSpc>
              <a:spcBef>
                <a:spcPts val="300"/>
              </a:spcBef>
              <a:buClr>
                <a:srgbClr val="6633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Por lo tanto se necesitan cantidades pequeñas de agentes oxidantes como el 0</a:t>
            </a:r>
            <a:r>
              <a:rPr b="1" i="1" lang="es-CL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2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200" indent="-450720" algn="just">
              <a:lnSpc>
                <a:spcPct val="100000"/>
              </a:lnSpc>
              <a:spcBef>
                <a:spcPts val="300"/>
              </a:spcBef>
              <a:buClr>
                <a:srgbClr val="6633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V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alores de potencial redo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250560" algn="just">
              <a:lnSpc>
                <a:spcPct val="100000"/>
              </a:lnSpc>
              <a:spcBef>
                <a:spcPts val="3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Potencial Redox normal  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+ 220 m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250560" algn="just">
              <a:lnSpc>
                <a:spcPct val="100000"/>
              </a:lnSpc>
              <a:spcBef>
                <a:spcPts val="3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C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lostridium perfringens  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+ 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  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30 m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250560" algn="just">
              <a:lnSpc>
                <a:spcPct val="100000"/>
              </a:lnSpc>
              <a:spcBef>
                <a:spcPts val="3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A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naerobios en general   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- 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   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10 m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67000" y="1928880"/>
            <a:ext cx="800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Necesitan Potenciales Redox  (Eh) ba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76360" y="404640"/>
            <a:ext cx="76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a50021"/>
                </a:solidFill>
                <a:latin typeface="Arial"/>
              </a:rPr>
              <a:t>METABOLISMO DE LAS BACTERIAS ANAEROBIAS ESTRIC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0T22:58:52Z</dcterms:created>
  <dc:creator>.</dc:creator>
  <dc:description/>
  <dc:language>en-US</dc:language>
  <cp:lastModifiedBy>cponce</cp:lastModifiedBy>
  <dcterms:modified xsi:type="dcterms:W3CDTF">2008-09-01T14:11:33Z</dcterms:modified>
  <cp:revision>130</cp:revision>
  <dc:subject/>
  <dc:title>GÉNERO STREPTOCOCCUS</dc:title>
</cp:coreProperties>
</file>