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18D0-4DE4-4C07-83DF-AC69D99DAFB6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spirados o biopsias: Muestras menos contaminadas con microorganismo de la flora comensal o sometidos a a efectos por el oxigeno y dese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5CE-6C7D-4D98-9919-3E18DEE4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FC4-B1A9-4E89-9005-DF3DD20D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D1E-AABF-4720-BB72-55682E0D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DD0-7505-4FB3-884E-C79D9BBB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46C6-F255-4363-AE52-9FAAC601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4924-A749-444E-9B9E-657F7D5A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8418-75D0-422E-8CC3-75674BA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3780-962F-4E2E-BF94-3F74792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9010-7C08-4D35-9A71-4F44E0C3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BFC4-CD84-4249-9D7F-E6F453FD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52CD-CE82-478D-A079-6241380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5BF-6F27-4739-B6C7-6A029EA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9794-0D04-4DD8-89A6-7420A13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78BA-B429-4441-B836-32A7692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9BDB-6A81-451B-A4A0-D34D71F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796E-7CB8-4FA8-835A-42D4630D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2614-8991-4423-B6B2-D9115EDB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8D8-1727-4771-8EE5-49E24FCF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ECD-1132-4E8B-8912-14F5F19B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045-F876-4838-BFB7-FDDD2D42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AEC-F5D2-44FA-BD4E-E68F9D6E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640-AC9E-457F-B3CD-0C4756F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B4D-AA63-400D-A37D-3EAD5E2B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2DF-225F-47EA-B065-363EFAAE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1566-A01F-47EA-96F4-BD41CCCAC1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E0D-EDEC-4015-931B-92CDC8148D44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INFECCIONES </a:t>
            </a:r>
            <a:br>
              <a:rPr sz="3200"/>
            </a:b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POR ANAEROBIOS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518148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Mg.Cs.  Carolina Ponce Ol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CARRERA: OBSTETRICI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33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5720" y="2900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91440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38088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PROGRAMA DE MICROBIOLOGIA Y MIC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FACULTAD DE MEDICINA N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a50021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Forman parte de la microbiota normal humana: cavidad oral,  tracto intestinal, tracto genitourinario y cután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Relación anaerobio: aerobio = 1000:1 en tracto G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vitan colonización e infección por microorganismos patógenos desde fuente extern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En la microbiota vaginal predominan Lactobacilos, cocos anaerobios, Bacteroides, Prevotell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1295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ROL COMO MICROBI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3446" r="0" b="3014"/>
          <a:stretch/>
        </p:blipFill>
        <p:spPr>
          <a:xfrm>
            <a:off x="1474920" y="1676520"/>
            <a:ext cx="7489800" cy="5065560"/>
          </a:xfrm>
          <a:prstGeom prst="rect">
            <a:avLst/>
          </a:prstGeom>
          <a:ln cap="sq" w="1260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86080" y="1341360"/>
            <a:ext cx="720072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ROL EN LA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De las 100 especies descritas en el humano, menos del 20% son las causantes de la mayoría de las infeccion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oportunistas producen infecciones endógenas mixtas. El cuadro clínico predominante son los absces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buClr>
                <a:srgbClr val="66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663300"/>
                </a:solidFill>
                <a:latin typeface="Arial"/>
              </a:rPr>
              <a:t>Patógenos provenientes del ambiente exógeno, fundamentalmente bacilos Gram positivos esporulados tipo Clostridium producen cuadros clínicos graves tales como: Botulismo, Tétanos y Gangrena gaseos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84440" y="568440"/>
            <a:ext cx="68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ACTERIAS ANAEROBIAS ESTRIC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FACTORES DE VIRULENCIA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N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03000" y="1484280"/>
            <a:ext cx="7488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dotoxina (LPS) que es menos potente  que el de bacilos Gram (-). Ej: Fusobacterium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Veillonella </a:t>
            </a:r>
            <a:r>
              <a:rPr b="0" i="1" lang="es-MX" sz="2300" spc="-1" strike="noStrike">
                <a:solidFill>
                  <a:srgbClr val="663300"/>
                </a:solidFill>
                <a:latin typeface="Arial"/>
              </a:rPr>
              <a:t>y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</a:t>
            </a:r>
            <a:r>
              <a:rPr b="0" lang="es-MX" sz="23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ducción de toxinas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lostridium sp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polisacárido capsular. Ej: Bacteroides del grupo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enzima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Fibrin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Lip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oteasa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Bacteroides fragil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Colagenasa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emolis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Hialuronidas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</a:rPr>
              <a:t>Presencia de fimbrias favoreciendo la adherenci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419360" y="50130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499720" y="2645640"/>
            <a:ext cx="233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5400"/>
            <a:ext cx="868680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CONDICIONES QUE FAVORECEN EL CRECIMIENTO DE MICROORGANISMOS</a:t>
            </a:r>
            <a:r>
              <a:rPr b="1" i="1" lang="es-MX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AEROBIOS ESTRICT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7960" y="2057400"/>
            <a:ext cx="6836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D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sminu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 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H y aumento acidez loc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crosis tisular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eoplas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S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angramien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lama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I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fecci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n por bacterias aerobias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2680" y="34988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SITU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IONES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LINICAS QUE OCURREN ES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CLASIFICACION DE BACTERIAS </a:t>
            </a:r>
            <a:br>
              <a:rPr sz="2800"/>
            </a:b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ANAEROBI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8080" y="1305000"/>
            <a:ext cx="776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COCAC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eptostreptococ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Veillone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opion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lang="es-MX" sz="19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669960"/>
            <a:ext cx="75438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DIAGNOSTICO PRESUNTIVO DE INFECCION ANAEROBIA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Localización del sitio de  infección contiguo a mucosa con flora anaero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Secreción con mal olor (5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Necrosis  severa de tejidos, formación de absce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Gas en el tej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Cultivo aerobio neg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LOCALIZACIONES MAS FRECUENTES DE LA INFECCION POR ANAEROBI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92160" y="1905120"/>
            <a:ext cx="680112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pulm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 cere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odontogé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Peritonit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intraabdo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Abscesos pelv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Infecciones de piel y partes bl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4114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1.- TOMA DE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e obtiene por aspiración de absces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De pulmón, pleura, abdomen, colecciones purulen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600" indent="-67680" algn="just">
              <a:lnSpc>
                <a:spcPct val="90000"/>
              </a:lnSpc>
              <a:buClr>
                <a:srgbClr val="99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Nunca muestras de mucosas (digestiva, genital, farínge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118" t="3031" r="0" b="0"/>
          <a:stretch/>
        </p:blipFill>
        <p:spPr>
          <a:xfrm>
            <a:off x="5419800" y="1981080"/>
            <a:ext cx="3419280" cy="4179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2760"/>
            <a:ext cx="7925040" cy="13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993300"/>
                </a:solidFill>
                <a:latin typeface="Arial"/>
              </a:rPr>
              <a:t>2.- TRANSPORTE DE LA M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teger  a los microorganismos  de los efectos del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0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 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durante el tiempo que transcurre  entre la extracción y la siembra an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i="1" lang="es-MX" sz="2200" spc="-1" strike="noStrike">
                <a:solidFill>
                  <a:srgbClr val="a50021"/>
                </a:solidFill>
                <a:latin typeface="Arial"/>
              </a:rPr>
              <a:t>.- TINCION 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4258" t="9367" r="7970" b="13046"/>
          <a:stretch/>
        </p:blipFill>
        <p:spPr>
          <a:xfrm>
            <a:off x="4343400" y="3813120"/>
            <a:ext cx="4191120" cy="27399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BACTERIAS ANAEROBIAS</a:t>
            </a:r>
            <a:br>
              <a:rPr sz="3200"/>
            </a:b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290520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Bacterias que sólo pueden desarrollarse en ausencia de cantidades significativas de O</a:t>
            </a:r>
            <a:r>
              <a:rPr b="1" i="1" lang="es-ES" sz="28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800" spc="-1" strike="noStrike">
                <a:solidFill>
                  <a:srgbClr val="663300"/>
                </a:solidFill>
                <a:latin typeface="Arial"/>
              </a:rPr>
              <a:t> gaseoso y bajo condiciones de potenciales redox  (Eh) muy reducidos</a:t>
            </a:r>
            <a:r>
              <a:rPr b="1" lang="es-E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13000" y="22622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663300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a50021"/>
                </a:solidFill>
                <a:latin typeface="Arial"/>
              </a:rPr>
              <a:t>ETAPAS DEL ESTUDIO MICROBIOLOGICO DE BACTERIAS ANAEROBIAS ESTRICTAS</a:t>
            </a: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4038480" cy="38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4.- CUL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Siembra de la muestra en medios de cultivo enriquecidos (Vitamina K y Hemin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300240" algn="just">
              <a:lnSpc>
                <a:spcPct val="110000"/>
              </a:lnSpc>
              <a:spcBef>
                <a:spcPts val="476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900" spc="-1" strike="noStrike">
                <a:solidFill>
                  <a:srgbClr val="663300"/>
                </a:solidFill>
                <a:latin typeface="Arial"/>
              </a:rPr>
              <a:t>Cultivo en condiciones de anaerobio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47908" t="8895" r="4961" b="15782"/>
          <a:stretch/>
        </p:blipFill>
        <p:spPr>
          <a:xfrm>
            <a:off x="5734080" y="1760400"/>
            <a:ext cx="3105000" cy="372600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295280" y="4800600"/>
            <a:ext cx="6324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5.-  </a:t>
            </a: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IDENTIF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663300"/>
                </a:solidFill>
                <a:latin typeface="Arial"/>
              </a:rPr>
              <a:t>6.- ESTUDIO DE SUSCEP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946" t="0" r="0" b="0"/>
          <a:stretch/>
        </p:blipFill>
        <p:spPr>
          <a:xfrm>
            <a:off x="1373040" y="733320"/>
            <a:ext cx="7560000" cy="5743800"/>
          </a:xfrm>
          <a:prstGeom prst="rect">
            <a:avLst/>
          </a:prstGeom>
          <a:ln cap="sq" w="38160">
            <a:solidFill>
              <a:srgbClr val="a50021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438200" y="79056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a50021"/>
                </a:solidFill>
                <a:latin typeface="Arial"/>
              </a:rPr>
              <a:t>PROCESAMIENTO DE LA MU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36360" y="1469880"/>
            <a:ext cx="6530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nicilina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ranfeni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indam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a50021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M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tronidaz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2680" y="5335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ANTIMICROBIANOS EN INFECCIONES POR BACTERIAS ANAER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71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</a:rPr>
              <a:t>RESISTENCIA A LOS ANTIBIO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343400"/>
            <a:ext cx="77724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sencia de betalactamasas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00"/>
                </a:solidFill>
                <a:latin typeface="Arial"/>
              </a:rPr>
              <a:t>BACILOS GRAM NEGATIV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eneralmente cromosomales constitu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648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6200" y="1981080"/>
            <a:ext cx="6912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fermedad inflamatoria pélv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de tejidos blandos o glándu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sceso tuboovár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Periton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cesos pelvia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Aborto sép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</a:rPr>
              <a:t>Infección ginecológica – post operatoria DIU</a:t>
            </a:r>
            <a:r>
              <a:rPr b="0" i="1" lang="es-ES_tradnl" sz="2800" spc="-1" strike="noStrike">
                <a:solidFill>
                  <a:srgbClr val="6633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NFECCIONES POR BACTERIAS ANAEROBIAS DEL TRACTO GENITAL FEME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1905120"/>
            <a:ext cx="6912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Las bacterias anaerobias predominantes son: Prevotella, Peptostreptococcus, Porphyromonas y Clostridium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l grupo Bacteroides fragilis se aísla con menor frecuencia  en comparación con las infecciones intraabdom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os procesos asociados a la presencia de dispositivos intrauterinos Actinomyces spp. y Eubacterium nodatum son especies frecuentemente aisla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En la vaginosis bacteriana se cultiva con frecuencia Mobiluncus s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11320" y="419040"/>
            <a:ext cx="576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VAGINOSIS BACTER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7440" y="155736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Aumento del Nº de bacterias  sobre 1000 UFC/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isbacteri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Desaparición de flora lactobaci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obrecrecimiento de bacterias anaerób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7869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Gardnerella vagin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8892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</a:rPr>
              <a:t>Micoplasma homi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87520" y="1628640"/>
          <a:ext cx="3618000" cy="439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628640"/>
                    <a:ext cx="3618000" cy="4392720"/>
                  </a:xfrm>
                  <a:prstGeom prst="rect">
                    <a:avLst/>
                  </a:prstGeom>
                  <a:ln w="9360">
                    <a:solidFill>
                      <a:srgbClr val="78695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144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75280" y="1981080"/>
            <a:ext cx="3168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Infección ascendente desde el tracto genital inf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ANAEROBIOS involucr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eptostreptococ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Bacter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Prevo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27144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993300"/>
                </a:solidFill>
                <a:uFillTx/>
                <a:latin typeface="Arial"/>
              </a:rPr>
              <a:t>Fusobacter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413000"/>
          <a:ext cx="447516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13000"/>
                    <a:ext cx="4475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193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VIA DE INFECCION Y AGENTES  ENFERMEDAD INFLAMATORIA  PELV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5880" y="1752480"/>
            <a:ext cx="2519640" cy="6699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Microorganism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cervi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67320" y="1557360"/>
            <a:ext cx="36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Neisseria gonorrho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hlamydia trachoma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Mycoplas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  </a:t>
            </a:r>
            <a:r>
              <a:rPr b="1" lang="es-ES_tradnl" sz="2100" spc="-1" strike="noStrike" u="sng">
                <a:solidFill>
                  <a:srgbClr val="a50021"/>
                </a:solidFill>
                <a:uFillTx/>
                <a:latin typeface="Arial"/>
              </a:rPr>
              <a:t>ANAEROB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66880" y="2997360"/>
            <a:ext cx="15094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Vía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canal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773600"/>
            <a:ext cx="6842160" cy="16941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o 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Endometr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Trompas de Falopio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663300"/>
                </a:solidFill>
                <a:latin typeface="Arial"/>
              </a:rPr>
              <a:t>Salpingit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95760" y="515772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5760" y="5805360"/>
            <a:ext cx="1728720" cy="287640"/>
          </a:xfrm>
          <a:prstGeom prst="rightArrow">
            <a:avLst>
              <a:gd name="adj1" fmla="val 50000"/>
              <a:gd name="adj2" fmla="val 1502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0080" y="2666880"/>
            <a:ext cx="504720" cy="1800360"/>
          </a:xfrm>
          <a:prstGeom prst="downArrow">
            <a:avLst>
              <a:gd name="adj1" fmla="val 50000"/>
              <a:gd name="adj2" fmla="val 89176"/>
            </a:avLst>
          </a:prstGeom>
          <a:solidFill>
            <a:srgbClr val="9933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1484280"/>
            <a:ext cx="216000" cy="2021040"/>
          </a:xfrm>
          <a:custGeom>
            <a:avLst/>
            <a:gdLst>
              <a:gd name="textAreaLeft" fmla="*/ 0 w 216000"/>
              <a:gd name="textAreaRight" fmla="*/ 78120 w 216000"/>
              <a:gd name="textAreaTop" fmla="*/ 52560 h 2021040"/>
              <a:gd name="textAreaBottom" fmla="*/ 196848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1557360"/>
            <a:ext cx="6193080" cy="35892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796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COC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84464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eptostreptococ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565360"/>
            <a:ext cx="741672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CLÍ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663300"/>
                </a:solidFill>
                <a:latin typeface="Arial"/>
              </a:rPr>
              <a:t>Infecciones intraabdominales, </a:t>
            </a:r>
            <a:r>
              <a:rPr b="1" i="1" lang="es-ES" sz="1900" spc="-1" strike="noStrike">
                <a:solidFill>
                  <a:srgbClr val="ff0000"/>
                </a:solidFill>
                <a:latin typeface="Arial"/>
              </a:rPr>
              <a:t>ENDOMETRITIS, ABSCESOS PELVICOS, SALPINGITIS, ABORTO SEPTICO, AMNIONITIS  y CORIOAMNIONIT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6200" y="2060640"/>
            <a:ext cx="678816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Presentan sistemas enzimáticos que solamente funcionan en ausencia de O</a:t>
            </a:r>
            <a:r>
              <a:rPr b="1" i="1" lang="es-E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 por tanto son estrictos en cuanto a las exigencias ambien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Generalmente poseen un metabolismo de tipo fermentativo en el cual sustancias orgánicas son los aceptores final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3357720"/>
            <a:ext cx="6048720" cy="57600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924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Actin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2492280"/>
            <a:ext cx="69134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S  CLÍN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clasifica de acuerdo al órgano que afec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Infección pélv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Manifestación secundaria  de una actinomicosis abdominal 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omo infección primaria en una mujer con D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uede presentarse como una VAGINOSIS  benigna o bien con una gran destrucción de tejido, llevando a ABSCESOS TUBOOVARICOS o obstrucción ure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32000" y="177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Mobilun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33300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POSI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562120"/>
            <a:ext cx="74880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</a:t>
            </a: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  presentándose  en una  mayor  número en el tracto genital femeni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900" spc="-1" strike="noStrike">
                <a:solidFill>
                  <a:srgbClr val="ff0000"/>
                </a:solidFill>
                <a:latin typeface="Arial"/>
              </a:rPr>
              <a:t>Se ha aislado de de aspirado endometriales de mujeres con enfermedad inflamatoria pelvica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5084640"/>
            <a:ext cx="6840360" cy="576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79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74560" y="1909800"/>
            <a:ext cx="52578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ÉNERO Bac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2668680"/>
            <a:ext cx="7272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Bacteroides fragilis  es el patógeno más importante de este género para el hombre, se asocia fundamentalmente  a infecciones pleuropulmonares, intraabdominales  y GEN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19280" y="2133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Prev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46200" y="2708280"/>
            <a:ext cx="7921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713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Se asocia a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VAGINOSIS BACTERIANA  Y ENFERMEDAD INFLAMATORIA PELVICA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50021"/>
                </a:solidFill>
                <a:latin typeface="Arial"/>
              </a:rPr>
              <a:t>BACILOS GRAM NEGATIVOS ANAEROBIOS NO ESPORULADOS</a:t>
            </a:r>
            <a:endParaRPr b="0" lang="en-US" sz="2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47304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a50021"/>
                </a:solidFill>
                <a:latin typeface="Arial"/>
              </a:rPr>
              <a:t>CLASIFICACION DE BACTERIAS ANAEROBIAS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)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O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Peptostreptococ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 no 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Veillo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)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I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+)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esporul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Clostri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lurados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Actinomy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Mobilun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Lactobacil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opionobacterium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ifido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Gram (-) :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no esporulados 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Bacteroides grupo frag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rev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Fusobacterium</a:t>
            </a:r>
            <a:r>
              <a:rPr b="1" i="1" lang="es-MX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831960"/>
                <a:tab algn="l" pos="1039680"/>
                <a:tab algn="l" pos="1247760"/>
                <a:tab algn="l" pos="1455840"/>
                <a:tab algn="l" pos="1663560"/>
                <a:tab algn="l" pos="1871640"/>
                <a:tab algn="l" pos="2079720"/>
                <a:tab algn="l" pos="2287440"/>
                <a:tab algn="l" pos="249552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</a:tabLst>
            </a:pP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Porphyrom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2997360"/>
            <a:ext cx="6840360" cy="360360"/>
          </a:xfrm>
          <a:prstGeom prst="rect">
            <a:avLst/>
          </a:prstGeom>
          <a:noFill/>
          <a:ln cap="sq" w="1260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50021"/>
                </a:solidFill>
                <a:latin typeface="Arial"/>
              </a:rPr>
              <a:t>BACILOS GRAM POSITIVO ANAEROBIOS  ESPORULADOS</a:t>
            </a:r>
            <a:r>
              <a:rPr b="0" i="1" lang="en-US" sz="36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21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63300"/>
                </a:solidFill>
                <a:latin typeface="Arial"/>
              </a:rPr>
              <a:t>GENERO Clostr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781360"/>
            <a:ext cx="705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663300"/>
                </a:solidFill>
                <a:latin typeface="Arial"/>
              </a:rPr>
              <a:t>CUADRO CLI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. perfringens se  asocia a mionecrosis relacionado con infecciones uterinas debido a abortos ilegale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NAEROBIOS Y ENFERMEDADES EXOG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Agent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Enfermedade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Fuente de Inf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l. perfringen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         Mionecrosis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bjetos contaminado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deposiciones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humanas en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tacto 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con her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33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botulinum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Botulismo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 conta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on esp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tetani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Tétanos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Objeto contaminado con Cl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toxigénico en contacto con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heridas preexis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Cl. Difficile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Colitis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Diseminación persona 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pseudomembranosa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                  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Intoxicación alimentaría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993300"/>
                </a:solidFill>
                <a:latin typeface="Arial"/>
              </a:rPr>
              <a:t>Alimentos contami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47920" y="2133720"/>
            <a:ext cx="7467480" cy="7128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447920"/>
            <a:ext cx="7467480" cy="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371600" y="6477120"/>
            <a:ext cx="7391520" cy="47520"/>
          </a:xfrm>
          <a:prstGeom prst="line">
            <a:avLst/>
          </a:prstGeom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800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16200" y="1773360"/>
            <a:ext cx="6788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os anaerobios  poseen sistemas enzimáticos que solamente funcionan en ausencia total de Oxígeno molecular (O2) logrando  obtener energía libre y sintetizar todos sus componentes estructurales sin la ayuda del O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La vía anaerobia posee un menor rendimiento energético y está sujeta a potenciales REDOX bajos (algunas enzimas solamente operan en estas condiciones) y sin la presencia  de elementos que interfieran el flujo normal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6200" y="2023920"/>
            <a:ext cx="67881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Si bien el O2 es potencialmente tóxico para cualquier forma de vida, los anaerobios son intolerantes al mismo aunque en diferentes gr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3300"/>
                </a:solidFill>
                <a:latin typeface="Arial"/>
              </a:rPr>
              <a:t>Existe un espectro que va desde los extremadamente intolerantes (aerointolerantes) hasta los aerotolerantes moderados los cuales pueden sobrevivir a la presencia de O2 durante breves perí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75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.- El 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un poderosos OXIDANTE incompatible con potenciales redox bajos. 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ncentraci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ó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 relativa de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n el aire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melaninogenicus     0,1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209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B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cteroides  fragilis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  4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,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588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2.- 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puede interactuar con enzimas y cofactores causando inactivaciones irreversibles</a:t>
            </a:r>
            <a:r>
              <a:rPr b="1" i="1" lang="es-MX" sz="23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7000" y="185580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808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2246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.- Producción de sustancias tóxicas derivadas de la reducción parcial del 0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78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67000" y="171288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E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 O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es potencialmente tóxico 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808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500280"/>
            <a:ext cx="36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H+ + 2e       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H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2720" y="484344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e        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O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</a:t>
            </a:r>
            <a:r>
              <a:rPr b="1" i="1" lang="es-MX" sz="2400" spc="-1" strike="noStrike" baseline="30000">
                <a:solidFill>
                  <a:srgbClr val="663300"/>
                </a:solidFill>
                <a:latin typeface="Arial"/>
                <a:ea typeface="Times New Roman"/>
              </a:rPr>
              <a:t>-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2400" y="371628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508464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2860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t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ó</a:t>
            </a: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xico de</a:t>
            </a:r>
            <a:r>
              <a:rPr b="1" i="1" lang="es-MX" sz="2000" spc="-1" strike="noStrike">
                <a:solidFill>
                  <a:srgbClr val="663300"/>
                </a:solidFill>
                <a:latin typeface="Arial"/>
              </a:rPr>
              <a:t> H2O2  por ausencia de la enzima ca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72752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663300"/>
                </a:solidFill>
                <a:latin typeface="Arial"/>
              </a:rPr>
              <a:t>Efecto de O2- por ausencia de la enzima superóxido dismu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3357720"/>
            <a:ext cx="250560" cy="95544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440"/>
              <a:gd name="textAreaBottom" fmla="*/ 930600 h 95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778280"/>
            <a:ext cx="250560" cy="955800"/>
          </a:xfrm>
          <a:custGeom>
            <a:avLst/>
            <a:gdLst>
              <a:gd name="textAreaLeft" fmla="*/ 0 w 250560"/>
              <a:gd name="textAreaRight" fmla="*/ 90360 w 250560"/>
              <a:gd name="textAreaTop" fmla="*/ 24840 h 955800"/>
              <a:gd name="textAreaBottom" fmla="*/ 9309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6093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663300"/>
                </a:solidFill>
                <a:latin typeface="Arial"/>
              </a:rPr>
              <a:t>O2 + 4H + 4e- --&gt; H2O (reducción complet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11240" y="234936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s la medida en VOLTIOS de la tendencia espontánea a donar o recibir electrones por parte de uno de los integrantes de la parej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275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Una pareja REDOX posee un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Forma reducida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       Forma oxidan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dador de electrones) 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ES_tradnl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(receptor de electrones)</a:t>
            </a: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Reductor &lt;---&gt; oxidante + electr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640" indent="-349920" algn="just">
              <a:lnSpc>
                <a:spcPct val="9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663300"/>
                </a:solidFill>
                <a:latin typeface="Arial"/>
                <a:ea typeface="Times New Roman"/>
              </a:rPr>
              <a:t>En consecuencia cuanto menor sea la cantidad de formas oxidantes menor o más bajo será el potencial REDOX</a:t>
            </a:r>
            <a:r>
              <a:rPr b="1" i="1" lang="es-ES_tradn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7000" y="184464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es Redox  (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1880" y="4114800"/>
            <a:ext cx="766800" cy="0"/>
          </a:xfrm>
          <a:prstGeom prst="line">
            <a:avLst/>
          </a:prstGeom>
          <a:ln cap="sq" w="57240">
            <a:solidFill>
              <a:srgbClr val="d54f41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11240" y="2438280"/>
            <a:ext cx="7904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r lo tanto se necesitan cantidades pequeñas de agentes oxidantes como el 0</a:t>
            </a:r>
            <a:r>
              <a:rPr b="1" i="1" lang="es-CL" sz="2400" spc="-1" strike="noStrike" baseline="-25000">
                <a:solidFill>
                  <a:srgbClr val="663300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200" indent="-45072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lores de potencial redo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Potencial Redox normal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22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C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lostridium perfringens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+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3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250560" algn="just">
              <a:lnSpc>
                <a:spcPct val="100000"/>
              </a:lnSpc>
              <a:spcBef>
                <a:spcPts val="3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A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aerobios en general  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	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- 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   </a:t>
            </a:r>
            <a:r>
              <a:rPr b="1" i="1" lang="es-CL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10 m</a:t>
            </a: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7000" y="192888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Necesitan Potenciales Redox  (Eh) 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404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a50021"/>
                </a:solidFill>
                <a:latin typeface="Arial"/>
              </a:rPr>
              <a:t>METABOLISMO DE LAS BACTERIAS ANAEROBIAS ESTRI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2:58:52Z</dcterms:created>
  <dc:creator>.</dc:creator>
  <dc:description/>
  <dc:language>en-US</dc:language>
  <cp:lastModifiedBy>cponce</cp:lastModifiedBy>
  <dcterms:modified xsi:type="dcterms:W3CDTF">2008-09-01T14:11:33Z</dcterms:modified>
  <cp:revision>130</cp:revision>
  <dc:subject/>
  <dc:title>GÉNERO STREPTOCOCCUS</dc:title>
</cp:coreProperties>
</file>