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9A51-5F58-430A-862D-91641A29BC19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spirados o biopsias: Muestras menos contaminadas con microorganismo de la flora comensal o sometidos a a efectos por el oxigeno y dese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0FD-AE66-4CC2-9095-7CCE5BBA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F1F-5ECC-4212-A137-718FBFC2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50B-CC04-404E-BD64-268B030C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9E0-FCE9-4233-B140-73A5B1EC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FC40-31DB-4885-BDC0-64BCF884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629F-FD20-4EB9-886E-2466A9FA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310B-86DD-49EE-BACD-B9BF9F90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2D4B-8986-4579-BFBF-97BECAF4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088B-C767-44F3-983F-D809CA0C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ACFE-F89F-472F-955D-488C14AF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4C4C-16DB-457C-A5CE-2EC03A47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415-0799-47A1-9070-CEF1151A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5EC4-4DAB-408F-A6DC-6645B372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B0EF-89FF-4B80-827C-77D6B5BD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F27D-29EC-4E54-BB22-5456C0F2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A2E0-9822-4CB2-B9E5-4CC7B629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B285-6DD5-4198-A28F-E2374096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B56-21DB-46BF-832B-5693D7A4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59F-C62D-429F-ABC1-63876ECA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A3D-AC41-4402-B280-58E7E6EF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A0D-9D80-4D7B-AA9C-63E9F8FB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F95-EB88-46E7-B924-CDB111F6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A35-0FA2-4FFD-9595-3232765D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528-E187-46E4-97F3-34B45F48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F93B-5A0D-4742-B03A-C8CD8B61F1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A9B3-D160-4011-AF19-0039DE2CD97F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INFECCIONES </a:t>
            </a:r>
            <a:br>
              <a:rPr sz="3200"/>
            </a:b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POR ANAEROBIOS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518148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Mg.Cs.  Carolina Ponce Ol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CARRERA: OBSTETRICI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5720" y="2900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914400" cy="1218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0" y="38088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PROGRAMA DE MICROBIOLOGIA Y MIC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FACULTAD DE MEDICINA N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ROL COMO MICROBI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Forman parte de la microbiota normal humana: cavidad oral,  tracto intestinal, tracto genitourinario y cután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Relación anaerobio: aerobio = 1000:1 en tracto G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Evitan colonización e infección por microorganismos patógenos desde fuente extern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En la microbiota vaginal predominan Lactobacilos, cocos anaerobios, Bacteroides, Prevotell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2952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ROL COMO MICROBI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3446" r="0" b="3014"/>
          <a:stretch/>
        </p:blipFill>
        <p:spPr>
          <a:xfrm>
            <a:off x="1474920" y="1676520"/>
            <a:ext cx="7489800" cy="5065560"/>
          </a:xfrm>
          <a:prstGeom prst="rect">
            <a:avLst/>
          </a:prstGeom>
          <a:ln cap="sq" w="1260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86080" y="1341360"/>
            <a:ext cx="720072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ROL EN LA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De las 100 especies descritas en el humano, menos del 20% son las causantes de la mayoría de las infeccion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Patógenos oportunistas producen infecciones endógenas mixtas. El cuadro clínico predominante son los absces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Patógenos provenientes del ambiente exógeno, fundamentalmente bacilos Gram positivos esporulados tipo Clostridium producen cuadros clínicos graves tales como: Botulismo, Tétanos y Gangrena gaseos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84440" y="568440"/>
            <a:ext cx="68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8763120" cy="11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FACTORES DE VIRULENCIA </a:t>
            </a:r>
            <a:br>
              <a:rPr sz="2800"/>
            </a:b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N ANAEROBI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03000" y="1484280"/>
            <a:ext cx="7488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endotoxina (LPS) que es menos potente  que el de bacilos Gram (-). Ej: Fusobacterium</a:t>
            </a:r>
            <a:r>
              <a:rPr b="0" i="1" lang="es-MX" sz="23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Veillonella </a:t>
            </a:r>
            <a:r>
              <a:rPr b="0" i="1" lang="es-MX" sz="2300" spc="-1" strike="noStrike">
                <a:solidFill>
                  <a:srgbClr val="663300"/>
                </a:solidFill>
                <a:latin typeface="Arial"/>
              </a:rPr>
              <a:t>y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Bacteroides</a:t>
            </a:r>
            <a:r>
              <a:rPr b="0" lang="es-MX" sz="23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oducción de toxinas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Clostridium sp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polisacárido capsular. Ej: Bacteroides del grupo fragil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enzim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Fibrinolis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Lipas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oteasa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Bacteroides fragil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Colagenasa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eptostreptococc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Hemolis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Hialuronidas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fimbrias favoreciendo la adherenci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419360" y="50130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499720" y="2645640"/>
            <a:ext cx="233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5400"/>
            <a:ext cx="868680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CONDICIONES QUE FAVORECEN EL CRECIMIENTO DE MICROORGANISMOS</a:t>
            </a:r>
            <a:r>
              <a:rPr b="1" i="1" lang="es-MX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ANAEROBIOS ESTRICT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7960" y="2057400"/>
            <a:ext cx="6836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D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sminu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 redo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D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sminu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p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H y aumento acidez loc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ecrosis tisular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eoplas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S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angramien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flama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fec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por bacterias aerobias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52680" y="34988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SITUA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IONES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LINICAS QUE OCURREN ES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CLASIFICACION DE BACTERIAS </a:t>
            </a:r>
            <a:br>
              <a:rPr sz="2800"/>
            </a:b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ANAEROBIA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8080" y="1305000"/>
            <a:ext cx="776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COCAC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eptostreptococc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Veillone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ropionobacter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lang="es-MX" sz="19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669960"/>
            <a:ext cx="75438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DIAGNOSTICO PRESUNTIVO DE INFECCION ANAEROBIA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Localización del sitio de  infección contiguo a mucosa con flora anaero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Secreción con mal olor (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Necrosis  severa de tejidos, formación de absce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Gas en el tej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Cultivo aerobio 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LOCALIZACIONES MAS FRECUENTES DE LA INFECCION POR ANAEROBI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92160" y="1905120"/>
            <a:ext cx="68011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 pulm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 cere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odontogé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Peritonit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intraabdo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pelv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Infecciones de piel y partes bl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4114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a50021"/>
                </a:solidFill>
                <a:latin typeface="Arial"/>
              </a:rPr>
              <a:t>1.- TOMA DE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Se obtiene por aspiración de absces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De pulmón, pleura, abdomen, colecciones purulen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Nunca muestras de mucosas (digestiva, genital, farínge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118" t="3031" r="0" b="0"/>
          <a:stretch/>
        </p:blipFill>
        <p:spPr>
          <a:xfrm>
            <a:off x="5419800" y="1981080"/>
            <a:ext cx="3419280" cy="4179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302760"/>
            <a:ext cx="792504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r>
              <a:rPr b="1" lang="es-MX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993300"/>
                </a:solidFill>
                <a:latin typeface="Arial"/>
              </a:rPr>
              <a:t>2.- TRANSPORTE DE LA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teger  a los microorganismos  de los efectos del 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0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 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durante el tiempo que transcurre  entre la extracción y la siembra anaer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i="1" lang="es-MX" sz="2200" spc="-1" strike="noStrike">
                <a:solidFill>
                  <a:srgbClr val="a50021"/>
                </a:solidFill>
                <a:latin typeface="Arial"/>
              </a:rPr>
              <a:t>.- TINCION 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4258" t="9367" r="7970" b="13046"/>
          <a:stretch/>
        </p:blipFill>
        <p:spPr>
          <a:xfrm>
            <a:off x="4343400" y="3813120"/>
            <a:ext cx="4191120" cy="27399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BACTERIAS ANAEROBIAS</a:t>
            </a:r>
            <a:br>
              <a:rPr sz="3200"/>
            </a:b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290520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3300"/>
                </a:solidFill>
                <a:latin typeface="Arial"/>
              </a:rPr>
              <a:t>Bacterias que sólo pueden desarrollarse en ausencia de cantidades significativas de O</a:t>
            </a:r>
            <a:r>
              <a:rPr b="1" i="1" lang="es-ES" sz="28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663300"/>
                </a:solidFill>
                <a:latin typeface="Arial"/>
              </a:rPr>
              <a:t> gaseoso y bajo condiciones de potenciales redox  (Eh) muy reducidos</a:t>
            </a:r>
            <a:r>
              <a:rPr b="1" lang="es-E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13000" y="22622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663300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r>
              <a:rPr b="1" lang="es-MX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4038480" cy="38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4.- CUL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00240" algn="just">
              <a:lnSpc>
                <a:spcPct val="110000"/>
              </a:lnSpc>
              <a:spcBef>
                <a:spcPts val="476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Siembra de la muestra en medios de cultivo enriquecidos (Vitamina K y Hemin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00240" algn="just">
              <a:lnSpc>
                <a:spcPct val="110000"/>
              </a:lnSpc>
              <a:spcBef>
                <a:spcPts val="476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Cultivo en condiciones de anaerobio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47908" t="8895" r="4961" b="15782"/>
          <a:stretch/>
        </p:blipFill>
        <p:spPr>
          <a:xfrm>
            <a:off x="5734080" y="1760400"/>
            <a:ext cx="3105000" cy="37260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295280" y="4800600"/>
            <a:ext cx="63248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5.-  </a:t>
            </a: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IDENTIF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6.- ESTUDIO DE SUSCEP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946" t="0" r="0" b="0"/>
          <a:stretch/>
        </p:blipFill>
        <p:spPr>
          <a:xfrm>
            <a:off x="1373040" y="733320"/>
            <a:ext cx="7560000" cy="5743800"/>
          </a:xfrm>
          <a:prstGeom prst="rect">
            <a:avLst/>
          </a:prstGeom>
          <a:ln cap="sq" w="38160">
            <a:solidFill>
              <a:srgbClr val="a50021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438200" y="79056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PROCESAMIENTO DE LA MU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36360" y="1469880"/>
            <a:ext cx="6530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nicilina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oranfeni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indam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M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tronidaz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2680" y="5335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ANTIMICROBIANOS EN INFECCIONES POR BACTERIAS ANAER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9880"/>
            <a:ext cx="71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RESISTENCIA A LOS ANTIBIO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343400"/>
            <a:ext cx="77724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sencia de betalactamasas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BACILOS GRAM NEGATIV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eneralmente cromosomales constitu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4648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NFECCIONES POR BACTERIAS ANAEROBIAS DEL TRACTO GENITAL FEME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6200" y="1981080"/>
            <a:ext cx="6912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Vaginosis bacteri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Enfermedad inflamatoria pélv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sceso de tejidos blandos o glándu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Salping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sceso tuboovár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Periton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cesos pelvia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orto sép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Infección ginecológica – post operatoria DIU</a:t>
            </a:r>
            <a:r>
              <a:rPr b="0" i="1" lang="es-ES_tradnl" sz="2800" spc="-1" strike="noStrike">
                <a:solidFill>
                  <a:srgbClr val="6633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NFECCIONES POR BACTERIAS ANAEROBIAS DEL TRACTO GENITAL FEME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6200" y="1905120"/>
            <a:ext cx="6912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Las bacterias anaerobias predominantes son: Prevotella, Peptostreptococcus, Porphyromonas y Clostridium s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l grupo Bacteroides fragilis se aísla con menor frecuencia  en comparación con las infecciones intraabdom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n los procesos asociados a la presencia de dispositivos intrauterinos Actinomyces spp. y Eubacterium nodatum son especies frecuentemente aisla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n la vaginosis bacteriana se cultiva con frecuencia Mobiluncus s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11320" y="419040"/>
            <a:ext cx="576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VAGINOSIS BACTER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67440" y="1557360"/>
            <a:ext cx="36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Aumento del Nº de bacterias  sobre 1000 UFC/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Disbacteri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Desaparición de flora lactobaci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obrecrecimiento de bacterias anaerób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Bacte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eptostreptococ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evo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sobac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7869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Gardnerella vagin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Micoplasma homi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87520" y="1628640"/>
          <a:ext cx="3618000" cy="439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7520" y="1628640"/>
                    <a:ext cx="3618000" cy="4392720"/>
                  </a:xfrm>
                  <a:prstGeom prst="rect">
                    <a:avLst/>
                  </a:prstGeom>
                  <a:ln w="9360">
                    <a:solidFill>
                      <a:srgbClr val="78695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14400" y="152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ENFERMEDAD INFLAMATORIA  PEL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75280" y="1981080"/>
            <a:ext cx="3168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Infección ascendente desde el tracto genital inf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ANAEROBIOS involucr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Peptostreptococ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Bacte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Prevo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Fusobac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47920" y="1413000"/>
          <a:ext cx="447516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13000"/>
                    <a:ext cx="44751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193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VIA DE INFECCION Y AGENTES  ENFERMEDAD INFLAMATORIA  PEL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85880" y="1752480"/>
            <a:ext cx="2519640" cy="6699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Microorganism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cervi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67320" y="1557360"/>
            <a:ext cx="360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Neisseria gonorrho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Chlamydia trachoma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Mycoplas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 u="sng">
                <a:solidFill>
                  <a:srgbClr val="a50021"/>
                </a:solidFill>
                <a:uFillTx/>
                <a:latin typeface="Arial"/>
              </a:rPr>
              <a:t>  </a:t>
            </a:r>
            <a:r>
              <a:rPr b="1" lang="es-ES_tradnl" sz="2100" spc="-1" strike="noStrike" u="sng">
                <a:solidFill>
                  <a:srgbClr val="a50021"/>
                </a:solidFill>
                <a:uFillTx/>
                <a:latin typeface="Arial"/>
              </a:rPr>
              <a:t>ANAEROB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66880" y="2997360"/>
            <a:ext cx="1509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Vía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canal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773600"/>
            <a:ext cx="6842160" cy="16941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metrio 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Trompas de Falopio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Salpingit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5760" y="5157720"/>
            <a:ext cx="1728720" cy="287280"/>
          </a:xfrm>
          <a:prstGeom prst="rightArrow">
            <a:avLst>
              <a:gd name="adj1" fmla="val 50000"/>
              <a:gd name="adj2" fmla="val 15043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5760" y="5805360"/>
            <a:ext cx="1728720" cy="287640"/>
          </a:xfrm>
          <a:prstGeom prst="rightArrow">
            <a:avLst>
              <a:gd name="adj1" fmla="val 50000"/>
              <a:gd name="adj2" fmla="val 1502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0080" y="2666880"/>
            <a:ext cx="504720" cy="1800360"/>
          </a:xfrm>
          <a:prstGeom prst="downArrow">
            <a:avLst>
              <a:gd name="adj1" fmla="val 50000"/>
              <a:gd name="adj2" fmla="val 89176"/>
            </a:avLst>
          </a:prstGeom>
          <a:solidFill>
            <a:srgbClr val="9933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1484280"/>
            <a:ext cx="216000" cy="2021040"/>
          </a:xfrm>
          <a:custGeom>
            <a:avLst/>
            <a:gdLst>
              <a:gd name="textAreaLeft" fmla="*/ 0 w 216000"/>
              <a:gd name="textAreaRight" fmla="*/ 78120 w 216000"/>
              <a:gd name="textAreaTop" fmla="*/ 52560 h 2021040"/>
              <a:gd name="textAreaBottom" fmla="*/ 196848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1557360"/>
            <a:ext cx="6193080" cy="35892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796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COC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9600" y="184464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Peptostreptococ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565360"/>
            <a:ext cx="741672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S CLÍ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188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663300"/>
                </a:solidFill>
                <a:latin typeface="Arial"/>
              </a:rPr>
              <a:t>Infecciones intraabdominales, </a:t>
            </a:r>
            <a:r>
              <a:rPr b="1" i="1" lang="es-ES" sz="1900" spc="-1" strike="noStrike">
                <a:solidFill>
                  <a:srgbClr val="ff0000"/>
                </a:solidFill>
                <a:latin typeface="Arial"/>
              </a:rPr>
              <a:t>ENDOMETRITIS, ABSCESOS PELVICOS, SALPINGITIS, ABORTO SEPTICO, AMNIONITIS  y CORIOAMNIONIT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6200" y="2060640"/>
            <a:ext cx="678816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Presentan sistemas enzimáticos que solamente funcionan en ausencia de O</a:t>
            </a:r>
            <a:r>
              <a:rPr b="1" i="1" lang="es-E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 por tanto son estrictos en cuanto a las exigencias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Generalmente poseen un metabolismo de tipo fermentativo en el cual sustancias orgánicas son los aceptores finales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3357720"/>
            <a:ext cx="6048720" cy="57600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9240" y="333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17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Actin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2492280"/>
            <a:ext cx="69134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S  CLÍN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clasifica de acuerdo al órgano que afec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Infección pélv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Manifestación secundaria  de una actinomicosis abdominal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omo infección primaria en una mujer con D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uede presentarse como una VAGINOSIS  benigna o bien con una gran destrucción de tejido, llevando a ABSCESOS TUBOOVARICOS o obstrucción ure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32000" y="17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Mobilun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333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2562120"/>
            <a:ext cx="748800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asocia 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VAGINOSIS BACTERIANA</a:t>
            </a: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  presentándose  en una  mayor  número en el tracto genital femeni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18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900" spc="-1" strike="noStrike">
                <a:solidFill>
                  <a:srgbClr val="ff0000"/>
                </a:solidFill>
                <a:latin typeface="Arial"/>
              </a:rPr>
              <a:t>Se ha aislado de de aspirado endometriales de mujeres con enfermedad inflamatoria pelvica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18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5084640"/>
            <a:ext cx="6840360" cy="57636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79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NEGA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74560" y="1909800"/>
            <a:ext cx="52578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ÉNERO Bac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2668680"/>
            <a:ext cx="7272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Bacteroides fragilis  es el patógeno más importante de este género para el hombre, se asocia fundamentalmente  a infecciones pleuropulmonares, intraabdominales  y GENI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19280" y="2133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Prev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46200" y="2708280"/>
            <a:ext cx="7921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3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713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asocia 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VAGINOSIS BACTERIANA  Y ENFERMEDAD INFLAMATORIA PELVIC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NEGA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95640" y="2997360"/>
            <a:ext cx="6840360" cy="36036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50021"/>
                </a:solidFill>
                <a:latin typeface="Arial"/>
              </a:rPr>
              <a:t>BACILOS GRAM POSITIVO ANAEROBIOS  ESPORULADOS</a:t>
            </a:r>
            <a:r>
              <a:rPr b="0" i="1" lang="en-US" sz="36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2133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Clostr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2781360"/>
            <a:ext cx="705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. perfringens se  asocia a mionecrosis relacionado con infecciones uterinas debido a abortos ilegales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NAEROBIOS Y ENFERMEDADES EXOG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160020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Agente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   Enfermedade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Fuente de Inf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l. perfringen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     Mionecrosi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Objetos contaminados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 deposiciones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humanas en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tacto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 her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botulinum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Botulismo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Alimento conta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on esp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tetani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Tétanos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Objeto contaminado con Cl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toxigénico en contacto con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heridas preexis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Difficile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 Colitis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Diseminación persona a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pseudomembranosa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                     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Intoxicación alimentaría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Alimentos contami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447920" y="2133720"/>
            <a:ext cx="7467480" cy="7128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447920"/>
            <a:ext cx="74674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371600" y="6477120"/>
            <a:ext cx="7391520" cy="4752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8006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16200" y="1773360"/>
            <a:ext cx="6788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Los anaerobios  poseen sistemas enzimáticos que solamente funcionan en ausencia total de Oxígeno molecular (O2) logrando  obtener energía libre y sintetizar todos sus componentes estructurales sin la ayuda del O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La vía anaerobia posee un menor rendimiento energético y está sujeta a potenciales REDOX bajos (algunas enzimas solamente operan en estas condiciones) y sin la presencia  de elementos que interfieran el flujo normal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6200" y="2023920"/>
            <a:ext cx="67881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Si bien el O2 es potencialmente tóxico para cualquier forma de vida, los anaerobios son intolerantes al mismo aunque en diferentes g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Existe un espectro que va desde los extremadamente intolerantes (aerointolerantes) hasta los aerotolerantes moderados los cuales pueden sobrevivir a la presencia de O2 durante breves perí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75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1.- El 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un poderosos OXIDANTE incompatible con potenciales redox bajos. 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ncentraci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 relativa de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n el aire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209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B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cteroides melaninogenicus     0,1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209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B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cteroides  fragilis 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   4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,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2.- El 0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puede interactuar con enzimas y cofactores causando inactivaciones irreversibles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7000" y="185580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 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potencialmente tóxico 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3808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2246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3.- Producción de sustancias tóxicas derivadas de la reducción parcial del 0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78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67000" y="171288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 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potencialmente tóxico 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808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500280"/>
            <a:ext cx="36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H+ + 2e        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H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2720" y="484344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e        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 baseline="30000">
                <a:solidFill>
                  <a:srgbClr val="663300"/>
                </a:solidFill>
                <a:latin typeface="Arial"/>
                <a:ea typeface="Times New Roman"/>
              </a:rPr>
              <a:t>-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2400" y="371628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508464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28608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Efecto t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ó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xico de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H2O2  por ausencia de la enzima ca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472752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Efecto de O2- por ausencia de la enzima superóxido dismu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3357720"/>
            <a:ext cx="250560" cy="955440"/>
          </a:xfrm>
          <a:custGeom>
            <a:avLst/>
            <a:gdLst>
              <a:gd name="textAreaLeft" fmla="*/ 0 w 250560"/>
              <a:gd name="textAreaRight" fmla="*/ 90360 w 250560"/>
              <a:gd name="textAreaTop" fmla="*/ 24840 h 955440"/>
              <a:gd name="textAreaBottom" fmla="*/ 930600 h 9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778280"/>
            <a:ext cx="250560" cy="955800"/>
          </a:xfrm>
          <a:custGeom>
            <a:avLst/>
            <a:gdLst>
              <a:gd name="textAreaLeft" fmla="*/ 0 w 250560"/>
              <a:gd name="textAreaRight" fmla="*/ 90360 w 250560"/>
              <a:gd name="textAreaTop" fmla="*/ 24840 h 955800"/>
              <a:gd name="textAreaBottom" fmla="*/ 930960 h 9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6093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O2 + 4H + 4e- --&gt; H2O (reducción complet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11240" y="2349360"/>
            <a:ext cx="790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683640" indent="-349920" algn="just">
              <a:lnSpc>
                <a:spcPct val="90000"/>
              </a:lnSpc>
              <a:spcBef>
                <a:spcPts val="275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Es la medida en VOLTIOS de la tendencia espontánea a donar o recibir electrones por parte de uno de los integrantes de la parej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-349920" algn="just">
              <a:lnSpc>
                <a:spcPct val="90000"/>
              </a:lnSpc>
              <a:spcBef>
                <a:spcPts val="275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Una pareja REDOX posee un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  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Forma reducida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       Forma oxida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(dador de electrones) 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(receptor de electrones)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Reductor &lt;---&gt; oxidante + electr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-349920" algn="just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En consecuencia cuanto menor sea la cantidad de formas oxidantes menor o más bajo será el potencial REDOX</a:t>
            </a:r>
            <a:r>
              <a:rPr b="1" i="1" lang="es-ES_tradn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67000" y="1844640"/>
            <a:ext cx="800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es Redox  (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404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1880" y="4114800"/>
            <a:ext cx="766800" cy="0"/>
          </a:xfrm>
          <a:prstGeom prst="line">
            <a:avLst/>
          </a:prstGeom>
          <a:ln cap="sq" w="57240">
            <a:solidFill>
              <a:srgbClr val="d54f41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11240" y="2438280"/>
            <a:ext cx="790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880200" indent="-45072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r lo tanto se necesitan cantidades pequeñas de agentes oxidantes como el 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2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200" indent="-45072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lores de potencial redo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 Redox normal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2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ostridium perfringens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3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aerobios en general 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-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1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7000" y="1928880"/>
            <a:ext cx="800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ecesitan Potenciales Redox  (Eh) 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404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2:58:52Z</dcterms:created>
  <dc:creator>.</dc:creator>
  <dc:description/>
  <dc:language>en-US</dc:language>
  <cp:lastModifiedBy>cponce</cp:lastModifiedBy>
  <dcterms:modified xsi:type="dcterms:W3CDTF">2008-09-01T14:11:33Z</dcterms:modified>
  <cp:revision>130</cp:revision>
  <dc:subject/>
  <dc:title>GÉNERO STREPTOCOCCUS</dc:title>
</cp:coreProperties>
</file>